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1908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397AC2EA-C166-432C-AC39-BAAD4825C61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42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.09.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86600"/>
            <a:ext cx="3321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       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18432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ff3535"/>
                </a:solidFill>
                <a:latin typeface="Arial"/>
              </a:rPr>
              <a:t>R/3 und Internet – eine starke Kombin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3.0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ktronische Geschäftsdokumente - Kun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f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zifikationen (Pflichtenheft, Dokumente, Prüfspezifikation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Angeb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Dokumente (Produktkataloge, Prospekte, Spezifikationen, ...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Wareneingang (bei materiellen Güter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Ergebnisse (Prüfberichte, Dokumente, Projektentwürfe, 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Rechnungsprüfung - Zah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ktronische Geschäftsdokumente -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openTR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m Bundesverband für Materialwirtschaft und Einkauf und vielen großen Firm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37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9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hal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eit 7.9.2001 (Version 1.0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REQUEST FOR QUOTATIO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ORDERCHANG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ORDERRESPONS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DISPATCHNOTIFICATIO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RECEIPTACKNOWLEDGEMEN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eaeaea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hierarch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kataloge -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BMEca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Version 1.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n Bundesverband für Materialwirtschaft und Einkauf und vielen großen Firm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t kompatibel zu openTRAN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9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 für die Beschreibung und den Austausch v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katalogen im E-Bus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eaeaea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klassifik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klas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kmalsle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lagwo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klassifikation - Standardvorschl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eCl@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m Institut der deutschen Wirtschaf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ildet Beschaffungsmärkte für Einkäufer ab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unterstützt Ingenieure bei der Entwicklung, Planung und Instandhaltu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t kompatibel zu openTRANS und BMEc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37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9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hal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eit Mai 20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ierstufiger hierarchischer Klassifikationsschlüss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chlagwortregister mit 14 000 Begriff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Merkmalsleisten zur Beschreibung von Materialien und Dienstleistung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eaeaea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/3 im We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b - Business Connector –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b – Webserver – (Non R/3-)  ERP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b - 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wicklungen von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anforderungen im Intra- und Internet an R/3-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pplungen Lieferanten und Kunden mit R/3- und Non-R/3-Syste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andelshaus - Produktionsbetrie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inik – Pharmaherstell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inik – Großhändler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tragserfassungssystem für Dienstleistungslabor mit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iertem 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pplung zu externen Katalogen (z.B. ABD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2895480" y="1219320"/>
          <a:ext cx="49532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219320"/>
                    <a:ext cx="49532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914256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Auftrags - LI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40600" y="1673280"/>
            <a:ext cx="1650960" cy="84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04240" y="1843200"/>
            <a:ext cx="178272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unde (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3680" y="3316320"/>
            <a:ext cx="2514600" cy="31971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609720" y="4791240"/>
            <a:ext cx="35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793680" y="4275000"/>
            <a:ext cx="3009600" cy="496440"/>
            <a:chOff x="3793680" y="4275000"/>
            <a:chExt cx="3009600" cy="496440"/>
          </a:xfrm>
        </p:grpSpPr>
        <p:sp>
          <p:nvSpPr>
            <p:cNvPr id="118" name=""/>
            <p:cNvSpPr/>
            <p:nvPr/>
          </p:nvSpPr>
          <p:spPr>
            <a:xfrm>
              <a:off x="3794040" y="432432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93680" y="4275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40880" y="4343400"/>
              <a:ext cx="246240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ben - Liefe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687680" y="4577400"/>
            <a:ext cx="16412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328560" y="4791240"/>
            <a:ext cx="2350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36600" y="4545000"/>
            <a:ext cx="3636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36240" y="451008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406520" y="2305080"/>
            <a:ext cx="0" cy="9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06520" y="2305080"/>
            <a:ext cx="571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785400" y="1819440"/>
            <a:ext cx="385200" cy="496440"/>
            <a:chOff x="3785400" y="1819440"/>
            <a:chExt cx="385200" cy="496440"/>
          </a:xfrm>
        </p:grpSpPr>
        <p:sp>
          <p:nvSpPr>
            <p:cNvPr id="128" name=""/>
            <p:cNvSpPr/>
            <p:nvPr/>
          </p:nvSpPr>
          <p:spPr>
            <a:xfrm>
              <a:off x="3786120" y="1868400"/>
              <a:ext cx="365040" cy="4118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85400" y="181944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838080" y="1752480"/>
            <a:ext cx="630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60199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03520" y="5707440"/>
            <a:ext cx="16430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49200" y="5699160"/>
            <a:ext cx="3654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48840" y="566424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714840" y="2838600"/>
            <a:ext cx="501480" cy="496440"/>
            <a:chOff x="3714840" y="2838600"/>
            <a:chExt cx="501480" cy="496440"/>
          </a:xfrm>
        </p:grpSpPr>
        <p:sp>
          <p:nvSpPr>
            <p:cNvPr id="136" name=""/>
            <p:cNvSpPr/>
            <p:nvPr/>
          </p:nvSpPr>
          <p:spPr>
            <a:xfrm>
              <a:off x="3790800" y="2838600"/>
              <a:ext cx="425520" cy="43128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14840" y="2838600"/>
              <a:ext cx="47664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543800" y="2514600"/>
            <a:ext cx="0" cy="151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28600" y="2884320"/>
            <a:ext cx="257364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ftragneh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IN00307_" descr=""/>
          <p:cNvPicPr/>
          <p:nvPr/>
        </p:nvPicPr>
        <p:blipFill>
          <a:blip r:embed="rId3"/>
          <a:stretch/>
        </p:blipFill>
        <p:spPr>
          <a:xfrm>
            <a:off x="6934320" y="4114800"/>
            <a:ext cx="1255680" cy="1036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79480" y="3758040"/>
            <a:ext cx="151776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- 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237680" y="3705120"/>
            <a:ext cx="385200" cy="496440"/>
            <a:chOff x="1237680" y="3705120"/>
            <a:chExt cx="385200" cy="496440"/>
          </a:xfrm>
        </p:grpSpPr>
        <p:sp>
          <p:nvSpPr>
            <p:cNvPr id="143" name=""/>
            <p:cNvSpPr/>
            <p:nvPr/>
          </p:nvSpPr>
          <p:spPr>
            <a:xfrm>
              <a:off x="1238400" y="3740040"/>
              <a:ext cx="363240" cy="4100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37680" y="370512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V="1">
            <a:off x="1414440" y="3603600"/>
            <a:ext cx="0" cy="176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666880" y="2743200"/>
            <a:ext cx="472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2895480"/>
            <a:ext cx="1992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4191120"/>
            <a:ext cx="0" cy="385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4952880"/>
            <a:ext cx="0" cy="77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1600" y="1828800"/>
            <a:ext cx="267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tragsbestäti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219320"/>
            <a:ext cx="1101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809160" y="1143000"/>
            <a:ext cx="385200" cy="522000"/>
            <a:chOff x="3809160" y="1143000"/>
            <a:chExt cx="385200" cy="522000"/>
          </a:xfrm>
        </p:grpSpPr>
        <p:sp>
          <p:nvSpPr>
            <p:cNvPr id="155" name=""/>
            <p:cNvSpPr/>
            <p:nvPr/>
          </p:nvSpPr>
          <p:spPr>
            <a:xfrm>
              <a:off x="3809880" y="1198800"/>
              <a:ext cx="365040" cy="46620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09160" y="1143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8458200" y="2514600"/>
            <a:ext cx="0" cy="304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381880" y="2514240"/>
            <a:ext cx="0" cy="30481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9520" y="4952880"/>
            <a:ext cx="3644280" cy="496440"/>
            <a:chOff x="3809520" y="4952880"/>
            <a:chExt cx="3644280" cy="496440"/>
          </a:xfrm>
        </p:grpSpPr>
        <p:sp>
          <p:nvSpPr>
            <p:cNvPr id="160" name=""/>
            <p:cNvSpPr/>
            <p:nvPr/>
          </p:nvSpPr>
          <p:spPr>
            <a:xfrm>
              <a:off x="3809880" y="500220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09520" y="495288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55640" y="5021280"/>
              <a:ext cx="309816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gebnis - Übermittl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H="1">
            <a:off x="3580920" y="55627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in Ihre Projekte einbeziehen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jwConsulting hat Erfahrungen und praxiserprobte Lösungen be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rogrammierung benutzerfreundlicher Browsermask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kundenindividuellen Programmierung von Webserver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Kopplung von R/3 Systemen mit Webservern und der dafü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twendigen Stammdatensynchronisatio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Kopplung von R/3-Systemen mit R/3- und anderen ERP-System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ttels XML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Einbeziehung von externen Produktkatalogen u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Berücksichtigung von Standar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wäre Ihr Vorteil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Nutzung von Browsern als Front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kannte Oberfläche, kein Lernaufwand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Softwarewartung für die Clients (Browser gehören zum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überflüssigen Nutzerlizenz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Nutzung von standardisierten XML-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itersparnis und Qualitätsgewinn durch Wegfall des manuell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aufwande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bindung von beliebig vielen Systemen ohne Anpassungsaufw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Standardisierung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teuren Konverterlösung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eiswertes und einfaches Übertragungsmedium Internet (kein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leitungen o.ä.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ff3535"/>
                </a:solidFill>
                <a:latin typeface="Arial"/>
              </a:rPr>
              <a:t>R/3 und Internet – eine starke Kombin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3.0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eaeaea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deutung von X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XML allein verändert nicht das E-Business, a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ML ist die Basis für den standardisierten Datenaustausch zwischen Geschäftseinheiten, Firmen, öffentlichen Einrichtungen und Institut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ML ist nicht nur maschinenlesbar, sondern kann auch von Browse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isualisiert werd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ML ist erweiterbar und sehr flexibel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ML wird auch zunehmend zum Interface in und zwischen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systemen (z.B. auch über XML-RFC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wendungsgebiete im E-Business (Auswah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ff3535"/>
                </a:solidFill>
                <a:latin typeface="Arial"/>
              </a:rPr>
              <a:t>Austausch von Dokum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schäftsdokumenten (Anforderungen, Bestellungen, Lieferavis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forderungen (Spezifikationen, Ausschreibungen, Pflichtenheft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katalogen, Preislist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daten (Gebrauchsanweisungen, Bedienungshinweisen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ungsbeilagen, Anwendungsdokumentation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beitsergebnissen (Forschungsberichten, Analyseergebnissen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zepten, Konfiguration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ff3535"/>
                </a:solidFill>
                <a:latin typeface="Arial"/>
              </a:rPr>
              <a:t>zwischen Mensch-Rechner und Rechner-Rechn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e kommt man zu standardisierten Schnittstellen mit XML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Gegenwärtiger St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nuelle Schnittstellen ( Brief, Telefon, Fax, remote Druc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dividuelle Formate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DOCs (R/3 – R/3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DI Konve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Nutzung des Intra- bzw. Internets mit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inition der Schnittstellen unter Berücksichtigung von Standard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openTRANS,...) mit Unterstützung von </a:t>
            </a:r>
            <a:r>
              <a:rPr b="0" lang="de-DE" sz="1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nsulting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atz des Business Connectors für R/3 Kopplung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bserver mit Open Source Tools und </a:t>
            </a:r>
            <a:r>
              <a:rPr b="0" lang="de-DE" sz="1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d-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pplung R/3 mit Webservern mit </a:t>
            </a:r>
            <a:r>
              <a:rPr b="0" lang="de-DE" sz="1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d-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- Standardfamil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CS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S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SL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p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li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poi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SA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eaeaea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ktronische Geschäftsdokumente - Liefer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Anf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Spezifikationen (Pflichtenheft, Dokumente, Prüfspezifikation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geb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e (Produktkataloge, Prospekte, Spezifikationen, ...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Auftra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eferschein (bei materiellen Güter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gebnisse (Prüfberichte, Dokumente, Projektentwürfe, 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0-01-20T10:19:05Z</cp:lastPrinted>
  <dcterms:modified xsi:type="dcterms:W3CDTF">2001-09-12T12:42:30Z</dcterms:modified>
  <cp:revision>542</cp:revision>
  <dc:subject/>
  <dc:title>Kein Folientitel</dc:title>
</cp:coreProperties>
</file>