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62A5A755-0190-4036-A1D9-67956062D17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.09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R/3 und Internet – eine starke Komb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Kun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f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zifikationen (Pflichtenheft, Dokumente, Prüfspezifik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ngeb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okumente (Produktkataloge, Prospekte, Spezifikationen, ...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Wareneingang (bei materiellen Güter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Ergebnisse (Prüfberichte, Dokumente, Projektentwürfe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Rechnungsprüfung - Zah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openTR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7.9.2001 (Version 1.0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REQUEST FOR QUOT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CHANG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RESPON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ISPATCHNOTIFIC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RECEIPTACKNOWLEDGEMEN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hierarch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kataloge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BMEca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Version 1.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für die Beschreibung und den Austausch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n im E-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sle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agwo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klassifikation - Standardvorsch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eCl@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Institut der deutschen Wirtschaf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ildet Beschaffungsmärkte für Einkäufer ab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unterstützt Ingenieure bei der Entwicklung, Planung und Instandhalt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BMEc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Mai 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ierstufiger hierarchischer Klassifikationsschlüss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chlagwortregister mit 14 000 Begriff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erkmalsleisten zur Beschreibung von Materialien und Dienstleist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 - Business Connector –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 – Webserver – (Non R/3-)  ERP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 -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anforderungen im Intra- und Internet an R/3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en Lieferanten und Kunden mit R/3- und Non-R/3-Syste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ndelshaus - Produktionsbetrie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inik – Pharmaherstel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inik – Großhändler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serfassungssystem für Dienstleistungslabor mit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iertem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zu externen Katalogen (z.B. AB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uftrags - LI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18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28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36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N00307_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43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55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60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jwConsulting hat Erfahrungen und praxiserprobte Lösungen b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ogrammierung benutzerfreundlicher Browsermask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undenindividuellen Programmierung von Webserver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pplung von R/3 Systemen mit Webservern und der da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n Stammdatensynchronisatio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pplung von R/3-Systemen mit R/3- und anderen ERP-System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tels XML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Einbeziehung von externen Produktkatalogen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Berücksichtigung von Standar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von Browsern als Front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kannte Oberfläche, kein Lernaufwand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Softwarewartung für die Clients (Browser gehören zu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überflüssigen Nutzerlizenz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von standardisierten XML-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ersparnis und Qualitätsgewinn durch Wegfall des manuell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aufwande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bindung von beliebig vielen Systemen ohne Anpassungs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Standardisierung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teuren Konverterlös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iswertes und einfaches Übertragungsmedium Internet (ke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leitungen o.ä.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R/3 und Internet – eine starke Komb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XML allein verändert nicht das E-Business, a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die Basis für den standardisierten Datenaustausch zwischen Geschäftseinheiten, Firmen, öffentlichen Einrichtungen und Institut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nicht nur maschinenlesbar, sondern kann auch von Brows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sualisiert werd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erweiterbar und sehr flexibel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wird auch zunehmend zum Interface in und zwischen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systemen (z.B. auch über XML-RFC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wendungsgebiete im E-Business (Auswah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535"/>
                </a:solidFill>
                <a:latin typeface="Arial"/>
              </a:rPr>
              <a:t>Austausch von Dokum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chäftsdokumenten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forderungen (Spezifikationen, Ausschreibungen, Pflichtenheft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katalogen, Preislist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daten (Gebrauchsanweisungen, Bedienungshinweisen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ungsbeilagen, Anwendungsdokument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beitsergebnissen (Forschungsberichten, Analyseergebnissen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zepten, Konfigur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535"/>
                </a:solidFill>
                <a:latin typeface="Arial"/>
              </a:rPr>
              <a:t>zwischen Mensch-Rechner und Rechner-Rechn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kommt man zu standardisierten Schnittstellen mit XM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Gegenwärtiger St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nuelle Schnittstellen ( Brief, Telefon, Fax, remote Dru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ividuelle Format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DOCs (R/3 – R/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I Konve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des Intra- bzw. Internets mit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der Schnittstellen unter Berücksichtigung von Standard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openTRANS,...) mit Unterstützung von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sulting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 des Business Connectors für R/3 Koppl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server mit Open Source Tools und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R/3 mit Webservern mit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- Standardfamil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C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A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Liefer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nf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Spezifikationen (Pflichtenheft, Dokumente, Prüfspezifik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eb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(Produktkataloge, Prospekte, Spezifikationen, ...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uftr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schein (bei materiellen Güter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ebnisse (Prüfberichte, Dokumente, Projektentwürfe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9-12T12:42:30Z</dcterms:modified>
  <cp:revision>542</cp:revision>
  <dc:subject/>
  <dc:title>Kein Folientitel</dc:title>
</cp:coreProperties>
</file>