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17F5-9C64-4D01-B64A-010BCC44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516-A889-40A0-83A8-7DA6CA44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E0A7-8256-45AA-891B-001FF453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C2B6-4F14-49BF-AB1B-F116E4A0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0D1-9E4C-4E71-B6F1-191B59AF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232-4A75-4D1C-A640-F16DF516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E42-176F-448C-9D36-9715F748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1B0-7DDE-4B0D-8355-61B0C317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AEF-623E-4D48-B227-8B3AE04D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980-3F90-42CA-99ED-D755C6C1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191-D549-4374-9172-5B446274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885-A0C8-4374-9AD4-3C2AE4FF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22E7A12-1C4F-4167-9BD9-EB92D08987E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95280"/>
            <a:ext cx="80010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ffcc66"/>
                </a:solidFill>
                <a:latin typeface="Braggadocio"/>
              </a:rPr>
              <a:t>eb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20D-253D-4DB2-87A2-6AFEBDFB39B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2E3-F66E-4F52-B2DB-67BB9A9BCF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73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74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80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86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92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98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104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10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16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22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34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40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46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52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58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64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70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76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83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89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200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206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11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16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22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02280" y="3143160"/>
              <a:ext cx="2941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AP R/3,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dd-Ons u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eb-Applik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79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86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92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23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049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as SAP R/3-System,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kundenindividuelle 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F54-0CAC-497A-9D7D-35F16445B7E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C32-E1FE-4AA5-A992-AF3D48BC0C7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838080"/>
            <a:ext cx="80010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ffcc66"/>
                </a:solidFill>
                <a:latin typeface="Braggadocio"/>
              </a:rPr>
              <a:t>eb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AP R/3 Worksho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3. September 2001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6C8-7DE8-44A0-85AC-AB7E5FA3BC0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forderungssystem im Intranet mit Anbindung an SAP R/3 - am Beispiel von Materialanforderungen im Klinikum -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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fordern von Material mit und ohne Stamm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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tung von Anforderungen in der Dis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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lieferung erstellen im SAP R/3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2B-Kopplu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Kunde und Lieferant via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2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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keiten der Real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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pplung SAP-System mit SAP-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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pplung SAP-System mit non-SAP-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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monstration am Beispiel einer 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DC8-7FD4-40A7-84E4-1CA1D20ABC5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ten- und Dokumentenmanagement mit XML  -  XML verändert das Internet und die SAP R/3-Wel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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sgebi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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gration nach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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ML als Infrastruktur im eBus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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ktische Erfah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14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328-D3D5-4C58-B71B-ECA31A5C42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1. Juli 1996 von Dr. Jochen Winkler gegründ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 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 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7C2-3D56-41C6-AA97-DC7CFA9AEE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z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295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nehmensausrich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BBD8-3682-4C05-BFD6-8469893620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EA2-550D-4F1F-A7D8-442B7FFF24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zupharma GmbH &amp; Co., Gerli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55A-7F8B-4D10-92F4-369C869649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in gemeinsames Chemie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iertes 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planung, -durchführung und -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herstell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spcBef>
                <a:spcPts val="40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Coatings &amp; Colorants und GB High Performance Po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M für Lackrohsto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MS für Technische Kunststo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295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/2001 - Chem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45B0-1F12-4F30-B726-ADE0F533C5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3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zneimittel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, Radebeul und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M / LIMS, Materialwirtscha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gmentierung (System-Splitting bei Unternehmens- restrukturierungen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066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/2001 - Pha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F96-C701-4754-B28E-80299B540E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1-09-10T09:59:43Z</dcterms:modified>
  <cp:revision>85</cp:revision>
  <dc:subject/>
  <dc:title>Kein Folientitel</dc:title>
</cp:coreProperties>
</file>