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1D1-44F6-4722-A2B9-0F45DE33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D00-E13E-4CF6-B4BD-D8159F72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8FF-ACFB-4DED-965B-067BB729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683-B9BB-4E9B-B7AF-DAD9BCE2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E9A-5A62-4EDF-991B-A1D0D7D2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58A-9CD5-481C-A53E-9CECD342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F28-74C3-4A66-BE54-9C903264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713-CBDD-4CF9-B408-F2927583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396-D063-4FAB-8FE7-4924651E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ED4-D042-41FF-B7BD-DB1FBE80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591-EEF6-4FD1-BC54-26DDBE30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2A5-123E-4B5D-9834-EB15FC98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FD7FA7D-73D0-458C-A9E2-F3B022C2F2E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95280"/>
            <a:ext cx="80010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ffcc66"/>
                </a:solidFill>
                <a:latin typeface="Braggadocio"/>
              </a:rPr>
              <a:t>eb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053-379E-4212-BECF-06F49F67D11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2D2-9E7B-4702-BEDD-4CA35A3A0B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73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74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80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86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92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98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04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10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16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22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34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40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46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52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58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64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70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76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83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89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200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06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11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16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22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79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86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92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23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as SAP R/3-System,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E5F-0B5F-4555-AC37-631FA75A141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43C-B82A-4A51-846D-9C8EAF4979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838080"/>
            <a:ext cx="80010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ffcc66"/>
                </a:solidFill>
                <a:latin typeface="Braggadocio"/>
              </a:rPr>
              <a:t>eb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AP R/3 Worksho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3. September 2001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3F5-3233-4DF0-86CE-014B7D11BC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forderungssystem im Intranet mit Anbindung an SAP R/3 - am Beispiel von Materialanforderungen im Klinikum -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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ordern von Material mit und ohne Stamm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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tung von Anforderungen in der Dis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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lieferung erstellen im SAP R/3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2B-Koppl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Kunde und Lieferant via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2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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keiten der Re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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pplung SAP-System mit SAP-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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pplung SAP-System mit non-SAP-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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monstration am Beispiel einer 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198-4883-4358-92F4-E6008DE11D8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n- und Dokumentenmanagement mit XML  -  XML verändert das Internet und die SAP R/3-Wel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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gebi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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gration nach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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 als Infrastruktur im e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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Erfah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B63-3BDA-4D10-ABEE-977169A706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 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 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78F-A7E3-4840-A924-92B7881232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95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BC3-8FD9-40DF-B8EF-84B4CFD695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BF6-316E-479B-BBED-3CE54D1CD9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pharma GmbH &amp; Co., Gerli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C04-6147-4FB2-8AF0-780FC5BD27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in gemeinsames Chemie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iertes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planung, -durchführung und -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herstell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spcBef>
                <a:spcPts val="40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 und GB High Performance Po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M für Lackrohsto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MS für Technische Kunststo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95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/2001 - Chem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3F4-6251-411D-8830-735A8C049B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zneimittel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, Radebeul und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M / LIMS, Materialwirtscha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gmentierung (System-Splitting bei Unternehmens- restrukturierungen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066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/2001 - Pha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F7D-F1D3-452A-B082-41EAB4087C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1-09-10T09:59:43Z</dcterms:modified>
  <cp:revision>85</cp:revision>
  <dc:subject/>
  <dc:title>Kein Folientitel</dc:title>
</cp:coreProperties>
</file>