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440" y="137160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09C38E0-02D1-4D52-825C-9BD094D7CB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3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8720" y="7101000"/>
            <a:ext cx="1275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as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49640" y="7101000"/>
            <a:ext cx="3020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forderungssystem im Intranet mit Kopplung an SAP R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maske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zeitnah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utomatisch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ingabe" descr=""/>
          <p:cNvPicPr/>
          <p:nvPr/>
        </p:nvPicPr>
        <p:blipFill>
          <a:blip r:embed="rId1"/>
          <a:stretch/>
        </p:blipFill>
        <p:spPr>
          <a:xfrm>
            <a:off x="1405080" y="1447920"/>
            <a:ext cx="709596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l" descr=""/>
          <p:cNvPicPr/>
          <p:nvPr/>
        </p:nvPicPr>
        <p:blipFill>
          <a:blip r:embed="rId1"/>
          <a:stretch/>
        </p:blipFill>
        <p:spPr>
          <a:xfrm>
            <a:off x="1511280" y="1523880"/>
            <a:ext cx="688176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ichtung_übersicht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ichtung" descr=""/>
          <p:cNvPicPr/>
          <p:nvPr/>
        </p:nvPicPr>
        <p:blipFill>
          <a:blip r:embed="rId1"/>
          <a:stretch/>
        </p:blipFill>
        <p:spPr>
          <a:xfrm>
            <a:off x="1728720" y="152388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ieferung_übersicht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ieferung_detail" descr=""/>
          <p:cNvPicPr/>
          <p:nvPr/>
        </p:nvPicPr>
        <p:blipFill>
          <a:blip r:embed="rId1"/>
          <a:stretch/>
        </p:blipFill>
        <p:spPr>
          <a:xfrm>
            <a:off x="1728720" y="152388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Anforder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Bestellung von Materialien und Dienstleistungen, z.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üromater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satzte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raturen, Instandhal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Bestandsbuch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ine doppelte Datenerfas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wicklung der Anforderungen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iteinspa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igender Bedarf der Unternehmen, interne Prozesse über das Intranet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fache Datenerfassung beim Anforder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mobiler Datenerfassungsgerät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eigerung der Datenqualitä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omplette Verarbeitungslogik und Datenhaltung liegt auf dem Intranet-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andard-Browser als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Administration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 Lizenzkos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ist Mas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terialstamm (Auszu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auskatalo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terne Kataloge (z.B. ABD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nutzerstamm nur im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wegungs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steuert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Datenübernah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lege ( Kopf- und Positionsdaten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Übersicht IT - Syste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ntranet2" descr=""/>
          <p:cNvPicPr/>
          <p:nvPr/>
        </p:nvPicPr>
        <p:blipFill>
          <a:blip r:embed="rId1"/>
          <a:stretch/>
        </p:blipFill>
        <p:spPr>
          <a:xfrm>
            <a:off x="1447920" y="1522440"/>
            <a:ext cx="70102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ispiel Materialanforderung Lagerartik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formular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manuell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2T07:47:25Z</dcterms:modified>
  <cp:revision>158</cp:revision>
  <dc:subject/>
  <dc:title>Kein Folientitel</dc:title>
</cp:coreProperties>
</file>