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6440" y="137160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E1E0F92-BE57-44E4-A099-B64E672713B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24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 13.09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8720" y="7101000"/>
            <a:ext cx="1275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reas Kutschenbau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49640" y="7101000"/>
            <a:ext cx="3020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forderungssystem im Intranet mit Kopplung an SAP R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5918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Ing. Andreas Kutschenbaue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3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 per Intran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74780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smaske ausfüll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zeitnah an das Lager schick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Disponent sichtet Anforder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wird kommissionie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wird ausgeliefe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utomatische Bestandsbuchung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ntranet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ntranet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ntranet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eingabe" descr=""/>
          <p:cNvPicPr/>
          <p:nvPr/>
        </p:nvPicPr>
        <p:blipFill>
          <a:blip r:embed="rId1"/>
          <a:stretch/>
        </p:blipFill>
        <p:spPr>
          <a:xfrm>
            <a:off x="1405080" y="1447920"/>
            <a:ext cx="709596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ntranet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ntranet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ml" descr=""/>
          <p:cNvPicPr/>
          <p:nvPr/>
        </p:nvPicPr>
        <p:blipFill>
          <a:blip r:embed="rId1"/>
          <a:stretch/>
        </p:blipFill>
        <p:spPr>
          <a:xfrm>
            <a:off x="1511280" y="1523880"/>
            <a:ext cx="6881760" cy="51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sichtung_übersicht" descr=""/>
          <p:cNvPicPr/>
          <p:nvPr/>
        </p:nvPicPr>
        <p:blipFill>
          <a:blip r:embed="rId1"/>
          <a:stretch/>
        </p:blipFill>
        <p:spPr>
          <a:xfrm>
            <a:off x="1728720" y="1600200"/>
            <a:ext cx="64468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ichtung" descr=""/>
          <p:cNvPicPr/>
          <p:nvPr/>
        </p:nvPicPr>
        <p:blipFill>
          <a:blip r:embed="rId1"/>
          <a:stretch/>
        </p:blipFill>
        <p:spPr>
          <a:xfrm>
            <a:off x="1728720" y="1523880"/>
            <a:ext cx="64468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lieferung_übersicht" descr=""/>
          <p:cNvPicPr/>
          <p:nvPr/>
        </p:nvPicPr>
        <p:blipFill>
          <a:blip r:embed="rId1"/>
          <a:stretch/>
        </p:blipFill>
        <p:spPr>
          <a:xfrm>
            <a:off x="1728720" y="1600200"/>
            <a:ext cx="64468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ieferung_detail" descr=""/>
          <p:cNvPicPr/>
          <p:nvPr/>
        </p:nvPicPr>
        <p:blipFill>
          <a:blip r:embed="rId1"/>
          <a:stretch/>
        </p:blipFill>
        <p:spPr>
          <a:xfrm>
            <a:off x="1728720" y="1523880"/>
            <a:ext cx="64468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205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 Anforderung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 Bestellung von Materialien und Dienstleistungen, z.B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üromateria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satzte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araturen, Instandhalt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Bestandsbuchu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440000"/>
            <a:ext cx="952524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 Kata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e Kata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ine doppelte Datenerfass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ringer Schulungsaufw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wicklung der Anforderungen in Echtz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chvollziehbarkeit aller Transak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iteinsparu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5918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Ing. Andreas Kutschenbaue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3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teigender Bedarf der Unternehmen, interne Prozesse über das Intranet abzuwick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Einfache Datenerfassung beim Anforder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Einsatz mobiler Datenerfassungsgeräte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Sehr kurze Reaktionszei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Verfügbarkeit Tag und Nach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Steigerung der Datenqualitä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omplette Verarbeitungslogik und Datenhaltung liegt auf dem Intranet-Serv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tandard-Browser als Cli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ringer Administrationsaufwan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ringe Lizenzkos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ringer Schulungsaufwan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RP - System (z.B. SAP R/3) ist Mast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terialstamm (Auszug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Hauskatalo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xterne Kataloge (z.B. ABDA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enutzerstamm nur im Intran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ewegungsdat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RP - System (z.B. SAP R/3) steuert   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Datenübernahm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elege ( Kopf- und Positionsdaten 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Übersicht IT - Syste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intranet2" descr=""/>
          <p:cNvPicPr/>
          <p:nvPr/>
        </p:nvPicPr>
        <p:blipFill>
          <a:blip r:embed="rId1"/>
          <a:stretch/>
        </p:blipFill>
        <p:spPr>
          <a:xfrm>
            <a:off x="1447920" y="1522440"/>
            <a:ext cx="701028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eispiel Materialanforderung Lagerartik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nforderung per Papi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nforderung per Intran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 per Papi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74780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sformular ausfüll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an das Lager schick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Disponent sichtet Anforder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wird kommissionie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wird ausgeliefe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manuelle Bestandsbuchung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1-09-12T07:47:25Z</dcterms:modified>
  <cp:revision>158</cp:revision>
  <dc:subject/>
  <dc:title>Kein Folientitel</dc:title>
</cp:coreProperties>
</file>