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4.png" ContentType="image/png"/>
  <Override PartName="/ppt/media/image6.wmf" ContentType="image/x-wmf"/>
  <Override PartName="/ppt/media/image3.png" ContentType="image/png"/>
  <Override PartName="/ppt/media/image11.wmf" ContentType="image/x-wmf"/>
  <Override PartName="/ppt/media/image12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907588" cy="7621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845640" y="487080"/>
            <a:ext cx="5195880" cy="399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7640" y="4571640"/>
            <a:ext cx="5046480" cy="4049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03880" y="9142560"/>
            <a:ext cx="1353960" cy="29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1908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479DFA56-C809-4D84-AFF6-7C285F764D9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1420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.06.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7086600"/>
            <a:ext cx="33210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r. J. Winkler       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184320" cy="21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ff"/>
                </a:solidFill>
                <a:latin typeface="Arial"/>
              </a:rPr>
              <a:t>Defektur und </a:t>
            </a:r>
            <a:r>
              <a:rPr b="0" lang="de-DE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ff"/>
                </a:solidFill>
                <a:latin typeface="Arial"/>
              </a:rPr>
              <a:t>ChemoTherapi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25.06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sicht logistische K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1600200"/>
            <a:ext cx="82548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nka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1600200"/>
            <a:ext cx="63504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z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5909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D20052_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05120" y="1143000"/>
            <a:ext cx="1400040" cy="1019160"/>
          </a:xfrm>
          <a:prstGeom prst="rect">
            <a:avLst/>
          </a:prstGeom>
          <a:ln w="0">
            <a:noFill/>
          </a:ln>
        </p:spPr>
      </p:pic>
      <p:pic>
        <p:nvPicPr>
          <p:cNvPr id="95" name="BD06507_" descr=""/>
          <p:cNvPicPr/>
          <p:nvPr/>
        </p:nvPicPr>
        <p:blipFill>
          <a:blip r:embed="rId2"/>
          <a:stretch/>
        </p:blipFill>
        <p:spPr>
          <a:xfrm>
            <a:off x="6781680" y="1143000"/>
            <a:ext cx="1219320" cy="942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191120" y="21337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the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29120" y="30862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409720" y="2133720"/>
            <a:ext cx="121932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257440" y="1828800"/>
            <a:ext cx="762120" cy="4572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1828800"/>
            <a:ext cx="838080" cy="4572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sicht logistische K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1600200"/>
            <a:ext cx="82548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nka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1600200"/>
            <a:ext cx="63504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z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5909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BD20052_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1400040" cy="1019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3882960"/>
            <a:ext cx="9906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BD06507_" descr=""/>
          <p:cNvPicPr/>
          <p:nvPr/>
        </p:nvPicPr>
        <p:blipFill>
          <a:blip r:embed="rId2"/>
          <a:stretch/>
        </p:blipFill>
        <p:spPr>
          <a:xfrm>
            <a:off x="6781680" y="1143000"/>
            <a:ext cx="1219320" cy="942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362320" y="2362320"/>
            <a:ext cx="4762440" cy="220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21337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the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D00395_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3962520" y="3048120"/>
            <a:ext cx="1346040" cy="1117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029120" y="30862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409720" y="2133720"/>
            <a:ext cx="121932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257440" y="1828800"/>
            <a:ext cx="762120" cy="4572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1828800"/>
            <a:ext cx="838080" cy="4572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sicht logistische K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1600200"/>
            <a:ext cx="82548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nka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9920" y="1600200"/>
            <a:ext cx="63504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z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5909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BD20052_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1400040" cy="1019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3882960"/>
            <a:ext cx="9906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D06507_" descr=""/>
          <p:cNvPicPr/>
          <p:nvPr/>
        </p:nvPicPr>
        <p:blipFill>
          <a:blip r:embed="rId2"/>
          <a:stretch/>
        </p:blipFill>
        <p:spPr>
          <a:xfrm>
            <a:off x="6781680" y="1143000"/>
            <a:ext cx="1219320" cy="9428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362320" y="2362320"/>
            <a:ext cx="4762440" cy="220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95880" y="22860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the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BD00395_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3962520" y="3048120"/>
            <a:ext cx="1346040" cy="1117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029120" y="30862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D06539_" descr=""/>
          <p:cNvPicPr/>
          <p:nvPr/>
        </p:nvPicPr>
        <p:blipFill>
          <a:blip r:embed="rId4"/>
          <a:stretch/>
        </p:blipFill>
        <p:spPr>
          <a:xfrm>
            <a:off x="3733920" y="4800600"/>
            <a:ext cx="1847880" cy="1447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867280" y="502920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38480" y="50292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409720" y="2133720"/>
            <a:ext cx="121932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029200" y="1828800"/>
            <a:ext cx="990720" cy="121932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1905120"/>
            <a:ext cx="943200" cy="11430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4191120"/>
            <a:ext cx="1143000" cy="83808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971800" y="4191120"/>
            <a:ext cx="1324080" cy="83808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erbeispiel  Chemotherapiebehandlung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ereinfach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219320"/>
            <a:ext cx="8077320" cy="12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   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usterfrau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Vorname: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nna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eb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6.07.1921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eschlecht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ibli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Körpergewicht: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80kg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Körpergröße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80cm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Körperoberfläche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,996m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inrichtung:                            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Uniklinikum Bonn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Station: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NK15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ehandlungsbeginn: 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01.04.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ehandlungsschema:            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IMVP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371600"/>
            <a:ext cx="86868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09480" y="2590920"/>
          <a:ext cx="8991720" cy="4373280"/>
        </p:xfrm>
        <a:graphic>
          <a:graphicData uri="http://schemas.openxmlformats.org/drawingml/2006/table">
            <a:tbl>
              <a:tblPr/>
              <a:tblGrid>
                <a:gridCol w="561960"/>
                <a:gridCol w="963720"/>
                <a:gridCol w="1765440"/>
                <a:gridCol w="1123920"/>
                <a:gridCol w="723960"/>
                <a:gridCol w="722160"/>
                <a:gridCol w="882720"/>
                <a:gridCol w="852480"/>
                <a:gridCol w="1395360"/>
              </a:tblGrid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ksto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er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n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z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-Me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ägerlös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.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oposidphosph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m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Cl 0,9% 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.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osfam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m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Cl 0,9% 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.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oposidphosph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m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Cl 0,9% 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.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osfam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m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Cl 0,9% 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.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oposidphosph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m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Cl 0,9% 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.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trexat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m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Cl 0,9% 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.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osfam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m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Cl 0,9% 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ionsp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295280"/>
            <a:ext cx="8077320" cy="43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roduktionsplan wird aus der Menge der herzustellenden Zubereitungen automatisch ermitte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tusverwaltung steuert den Produktions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lektionen  (nach Datum, Station, Wirkstoff , Patient, .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leichtern da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fin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rtierung    (nach Datum/Wirkstoff, Station, Patient, ...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853452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stell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3002040"/>
            <a:ext cx="78487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1752480"/>
            <a:ext cx="43434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rstellungsprotoko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tike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für ein Etiket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257480"/>
            <a:ext cx="8763120" cy="5105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Uniklinikum Bonn – Apothe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Zentrale Zytostatikazuberei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2209680"/>
            <a:ext cx="7162560" cy="48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tion: ONK15                                                                             Patient-Nr.  50000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usterfrau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na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b. 16.7.19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rapieschema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MVP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KOF: 1,996m²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KGR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80,0cm              KG: 80 k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hemadosis pro m²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Körperoberfläche 100,00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toposidphosphat 180 m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(=90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fus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NaCl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0,9%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50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erapietag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02.02.2000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altbar bis: 04.02.200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mperatur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-8°C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aumbedingung: Lichtgeschütz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erst: Hb+Ri+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uberID: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0000400003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657600"/>
            <a:ext cx="716256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19920" y="5929200"/>
            <a:ext cx="1371600" cy="190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90720" y="4419720"/>
            <a:ext cx="7162560" cy="0"/>
          </a:xfrm>
          <a:prstGeom prst="line">
            <a:avLst/>
          </a:prstGeom>
          <a:ln w="3240">
            <a:solidFill>
              <a:srgbClr val="a7b5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Abrechnung pro Zeitra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er Mona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2120" y="1143000"/>
          <a:ext cx="5181480" cy="2133720"/>
        </p:xfrm>
        <a:graphic>
          <a:graphicData uri="http://schemas.openxmlformats.org/drawingml/2006/table">
            <a:tbl>
              <a:tblPr/>
              <a:tblGrid>
                <a:gridCol w="890640"/>
                <a:gridCol w="1538280"/>
                <a:gridCol w="890280"/>
                <a:gridCol w="18622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s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brauchsmate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K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000,00 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,4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K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000,00 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,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T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0,00 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5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m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000,00 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2133720" y="3809880"/>
            <a:ext cx="2438280" cy="19051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3809880"/>
            <a:ext cx="80010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den Kosten sind die Zubereitungen und  die Trägerlösungen enthalten. Sie werden direkt als Verbrauch auf die Kostenstelle der Station gebuch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Abrechnung pro Zeitra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er Mona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5800" y="1219320"/>
          <a:ext cx="6603840" cy="3024000"/>
        </p:xfrm>
        <a:graphic>
          <a:graphicData uri="http://schemas.openxmlformats.org/drawingml/2006/table">
            <a:tbl>
              <a:tblPr/>
              <a:tblGrid>
                <a:gridCol w="1981080"/>
                <a:gridCol w="1320840"/>
                <a:gridCol w="1650960"/>
                <a:gridCol w="1650960"/>
              </a:tblGrid>
              <a:tr h="26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brauchsmate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ra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qua ad   50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00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0 D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qua ad 500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00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,00 D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flexbeutel 250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00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 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,00 D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flexbeutel 500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00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,00 D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ndschu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 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00 D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m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0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,00 D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rit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0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00 D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mme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0,00 D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685800" y="4572000"/>
            <a:ext cx="65530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Summe der Verbrauchmaterialien wird ermitte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 Umlagerung aus den Apothekenlager in d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ytoherstellung 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P-Bestand - Zählstandsermittlung im Lage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Abrechnung pro Zeitra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er Mona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5800" y="1371600"/>
          <a:ext cx="5181480" cy="2133720"/>
        </p:xfrm>
        <a:graphic>
          <a:graphicData uri="http://schemas.openxmlformats.org/drawingml/2006/table">
            <a:tbl>
              <a:tblPr/>
              <a:tblGrid>
                <a:gridCol w="890640"/>
                <a:gridCol w="1538280"/>
                <a:gridCol w="890280"/>
                <a:gridCol w="18622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s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brauchsmate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K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000,00 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,4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3,51 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K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000,00 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,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9,19 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T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0,00 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5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,30 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m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000,00 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3,51 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85800" y="3809880"/>
          <a:ext cx="6603840" cy="3024000"/>
        </p:xfrm>
        <a:graphic>
          <a:graphicData uri="http://schemas.openxmlformats.org/drawingml/2006/table">
            <a:tbl>
              <a:tblPr/>
              <a:tblGrid>
                <a:gridCol w="1981080"/>
                <a:gridCol w="1320840"/>
                <a:gridCol w="1650960"/>
                <a:gridCol w="1650960"/>
              </a:tblGrid>
              <a:tr h="26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brauchsmate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ra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qua ad   50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00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0 D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qua ad 500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00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,00 D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flexbeutel 250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00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 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,00 D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flexbeutel 500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00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,00 D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ndschu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 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00 D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m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0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,00 D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rit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0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00 D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mme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0,00 D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7467480" y="6629400"/>
            <a:ext cx="76212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8229600" y="1219320"/>
            <a:ext cx="0" cy="541008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657600" y="1219320"/>
            <a:ext cx="457200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1219320"/>
            <a:ext cx="0" cy="4572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1905120"/>
            <a:ext cx="609480" cy="0"/>
          </a:xfrm>
          <a:prstGeom prst="line">
            <a:avLst/>
          </a:prstGeom>
          <a:ln w="64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2362320"/>
            <a:ext cx="609480" cy="0"/>
          </a:xfrm>
          <a:prstGeom prst="line">
            <a:avLst/>
          </a:prstGeom>
          <a:ln w="64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2895480"/>
            <a:ext cx="609480" cy="0"/>
          </a:xfrm>
          <a:prstGeom prst="line">
            <a:avLst/>
          </a:prstGeom>
          <a:ln w="64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fekturen und Rezeptu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emotherap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100160"/>
            <a:ext cx="9162720" cy="1101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a7b5cb"/>
                </a:solidFill>
                <a:latin typeface="Arial Rounded MT Bold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60240" y="423720"/>
          <a:ext cx="8750520" cy="3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423720"/>
                    <a:ext cx="875052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12920" y="1100160"/>
            <a:ext cx="9162720" cy="1101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a7b5cb"/>
                </a:solidFill>
                <a:latin typeface="Arial Rounded MT Bold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60240" y="423720"/>
          <a:ext cx="8750520" cy="3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423720"/>
                    <a:ext cx="875052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100160"/>
            <a:ext cx="9162720" cy="1101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a7b5cb"/>
                </a:solidFill>
                <a:latin typeface="Arial Rounded MT Bold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60240" y="423720"/>
          <a:ext cx="8750520" cy="3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423720"/>
                    <a:ext cx="875052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12920" y="1100160"/>
            <a:ext cx="9162720" cy="1101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a7b5cb"/>
                </a:solidFill>
                <a:latin typeface="Arial Rounded MT Bold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60240" y="423720"/>
          <a:ext cx="8750520" cy="3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423720"/>
                    <a:ext cx="875052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12920" y="1100160"/>
            <a:ext cx="9162720" cy="1101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a7b5cb"/>
                </a:solidFill>
                <a:latin typeface="Arial Rounded MT Bold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60240" y="423720"/>
          <a:ext cx="8750520" cy="3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423720"/>
                    <a:ext cx="875052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2920" y="1100160"/>
            <a:ext cx="9162720" cy="1101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a7b5cb"/>
                </a:solidFill>
                <a:latin typeface="Arial Rounded MT Bold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60240" y="423720"/>
          <a:ext cx="8750520" cy="3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423720"/>
                    <a:ext cx="875052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2920" y="1100160"/>
            <a:ext cx="9162720" cy="1101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a7b5cb"/>
                </a:solidFill>
                <a:latin typeface="Arial Rounded MT Bold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60240" y="423720"/>
          <a:ext cx="8750520" cy="3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423720"/>
                    <a:ext cx="875052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2920" y="1100160"/>
            <a:ext cx="9162720" cy="1101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a7b5cb"/>
                </a:solidFill>
                <a:latin typeface="Arial Rounded MT Bold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660240" y="423720"/>
          <a:ext cx="8750520" cy="3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423720"/>
                    <a:ext cx="875052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wert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rkstoffverbrauch pro Pati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Überprüfung der Grenzdosis pro Pati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ientenanaly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stenanaly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rkstoffverbrauch pro S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sanaly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ltbarkeitskontro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tz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llständige Integration in das R/3 (Releasewechselsich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öhere Qualitä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SO 9000, GLP, TF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atientenbind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fallsdatenkontrol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öhere Sicherheit für Patie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cherheitsche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einfachte Arbeitabläu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ersonalisierte Menüs und Mask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arcodetechni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besserte Transparenz der Logis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ursachungsgerechte Kostenzuord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atientenbezo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ationsbezo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fekturen und Rezeptu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Chemotherap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ff"/>
                </a:solidFill>
                <a:latin typeface="Arial"/>
              </a:rPr>
              <a:t>Defekturen und </a:t>
            </a:r>
            <a:r>
              <a:rPr b="0" lang="de-DE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ff"/>
                </a:solidFill>
                <a:latin typeface="Arial"/>
              </a:rPr>
              <a:t>Chemotherapi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25.06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 flipH="1">
            <a:off x="0" y="677880"/>
            <a:ext cx="9323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480" y="7207200"/>
            <a:ext cx="1406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12920" y="169920"/>
          <a:ext cx="1382400" cy="46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169920"/>
                    <a:ext cx="13824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-330120" y="-254160"/>
            <a:ext cx="10566360" cy="81280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 flipH="1">
            <a:off x="0" y="677880"/>
            <a:ext cx="9323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480" y="7207200"/>
            <a:ext cx="1406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12920" y="169920"/>
          <a:ext cx="1382400" cy="46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169920"/>
                    <a:ext cx="13824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-330120" y="-254160"/>
            <a:ext cx="10566360" cy="81280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2660760" y="0"/>
          <a:ext cx="5143320" cy="762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0760" y="0"/>
                    <a:ext cx="5143320" cy="762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Defekturen und Rezeptu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emotherap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otherapie – Neue Konze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motherapi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oh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AP Modul PP-P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mmdaten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P-Integration nur für Module MM und FI/CO  (Einkauf/Verbrauch/Bestandsführung/Kostennachwei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swertungssystem (Einrichtung/Station/Patient/Wirkstoff/Datum/Sortieru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sicht logistische K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9920" y="1600200"/>
            <a:ext cx="63504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z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5909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882960"/>
            <a:ext cx="9906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BD06507_" descr=""/>
          <p:cNvPicPr/>
          <p:nvPr/>
        </p:nvPicPr>
        <p:blipFill>
          <a:blip r:embed="rId1"/>
          <a:stretch/>
        </p:blipFill>
        <p:spPr>
          <a:xfrm>
            <a:off x="6781680" y="1143000"/>
            <a:ext cx="1219320" cy="942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191120" y="21337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the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29120" y="30862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409720" y="2133720"/>
            <a:ext cx="121932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257440" y="1828800"/>
            <a:ext cx="762120" cy="4572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0-01-20T10:19:05Z</cp:lastPrinted>
  <dcterms:modified xsi:type="dcterms:W3CDTF">2001-06-21T08:43:11Z</dcterms:modified>
  <cp:revision>472</cp:revision>
  <dc:subject/>
  <dc:title>Kein Folientitel</dc:title>
</cp:coreProperties>
</file>