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3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D69A0E9-4B37-4794-9ABC-DA55B506FFD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9880" y="7101000"/>
            <a:ext cx="741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Mai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160" y="7101000"/>
            <a:ext cx="1771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Physiker Steffen Roschek</a:t>
            </a:r>
            <a:br>
              <a:rPr sz="2400"/>
            </a:br>
            <a:r>
              <a:rPr b="1" lang="de-DE" sz="22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0.05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423720"/>
            <a:ext cx="91440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137160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295280" y="228600"/>
          <a:ext cx="7239240" cy="71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723924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1295280"/>
            <a:ext cx="8001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vor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aufbereitung und - an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scheidung über Projekt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s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 / Systemprof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 un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mar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 / Systemfreigabe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scheidung über Marktein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rkteinführungsph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merzielle Erfolgskontro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439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bildung von Formularen und vordefinierten Berich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9906120" cy="76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906120" cy="76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906120" cy="762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7034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p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160" y="1192320"/>
            <a:ext cx="9397800" cy="100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-Projekt-Map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160" y="3394080"/>
            <a:ext cx="2876400" cy="33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list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reibunge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ich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Wo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56080" y="3394080"/>
            <a:ext cx="2876400" cy="33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echn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S Exce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3394080"/>
            <a:ext cx="2793960" cy="32353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Form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bild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AM Windows u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220824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74640" y="2878200"/>
            <a:ext cx="8242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852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37600" y="2886120"/>
            <a:ext cx="0" cy="49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16120" y="2443320"/>
            <a:ext cx="2224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en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137160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71800" y="609480"/>
            <a:ext cx="990576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76480" y="2476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76480" y="2471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0"/>
            <a:ext cx="8915400" cy="1270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5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(I)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0" y="0"/>
            <a:ext cx="990612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7800" y="-360"/>
            <a:ext cx="9328320" cy="932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kostenplanung und - budgeti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-1080" y="7385040"/>
            <a:ext cx="230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552440" y="1123920"/>
            <a:ext cx="2016360" cy="966960"/>
          </a:xfrm>
          <a:prstGeom prst="rightArrow">
            <a:avLst>
              <a:gd name="adj1" fmla="val 75000"/>
              <a:gd name="adj2" fmla="val 104272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A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567560" y="2774880"/>
            <a:ext cx="2014560" cy="968400"/>
          </a:xfrm>
          <a:prstGeom prst="rightArrow">
            <a:avLst>
              <a:gd name="adj1" fmla="val 75000"/>
              <a:gd name="adj2" fmla="val 104024"/>
            </a:avLst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ctr">
            <a:noAutofit/>
          </a:bodyPr>
          <a:p>
            <a:pPr algn="r"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-Le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8400" y="108432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5760" y="24145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1947960"/>
            <a:ext cx="28800" cy="84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592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9576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03800" y="26082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82680" y="2602080"/>
            <a:ext cx="24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01880" y="2602080"/>
            <a:ext cx="24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95760" y="2592360"/>
            <a:ext cx="24098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044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64508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433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60530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0440" y="6045120"/>
            <a:ext cx="206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69278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044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044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4313160"/>
            <a:ext cx="1570320" cy="40248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9536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520" y="4624560"/>
            <a:ext cx="1450080" cy="34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256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9536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95360" y="55864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9536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95360" y="620568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644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808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9536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5360" y="708012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56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3680" y="2795760"/>
            <a:ext cx="2173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56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000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152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160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6848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7496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7496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7496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6848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7496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848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848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6848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86280" y="4273560"/>
            <a:ext cx="16603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679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3760" y="48308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967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9240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3760" y="53672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3760" y="624060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86280" y="6556320"/>
            <a:ext cx="16603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79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3760" y="711504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9240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0352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78680" y="2836800"/>
            <a:ext cx="20246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78400" y="3352680"/>
            <a:ext cx="2347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713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11440" y="2803680"/>
            <a:ext cx="216864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78320" y="3554280"/>
            <a:ext cx="0" cy="7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84800" y="464508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84800" y="5433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84800" y="60530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78320" y="6045120"/>
            <a:ext cx="206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84800" y="69278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8320" y="431316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8320" y="5187960"/>
            <a:ext cx="0" cy="85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78320" y="60609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94320" y="4273560"/>
            <a:ext cx="16621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74520" y="431316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13600" y="483084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3320" y="4624560"/>
            <a:ext cx="14500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2240" y="4281480"/>
            <a:ext cx="1657440" cy="72396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13600" y="53672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13600" y="6240600"/>
            <a:ext cx="2332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94320" y="6556320"/>
            <a:ext cx="16621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74520" y="6597720"/>
            <a:ext cx="1570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3600" y="711504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02240" y="6562800"/>
            <a:ext cx="1657440" cy="72684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13360" y="2795760"/>
            <a:ext cx="2171520" cy="730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85640" y="2836800"/>
            <a:ext cx="20397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eitsgrupp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86440" y="3352680"/>
            <a:ext cx="2332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77960" y="314784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19840" y="2803680"/>
            <a:ext cx="2168280" cy="7254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5240" y="1233360"/>
            <a:ext cx="2360520" cy="730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5600" y="1273320"/>
            <a:ext cx="222120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-Budget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78400" y="1792440"/>
            <a:ext cx="234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60200" y="1587600"/>
            <a:ext cx="14043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AP R/3-I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3160" y="1239840"/>
            <a:ext cx="2354040" cy="7272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7800" y="228600"/>
            <a:ext cx="9328320" cy="838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klassifizierung und - recher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5280" y="254160"/>
          <a:ext cx="1419120" cy="84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4160"/>
                    <a:ext cx="14191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43040" y="6942240"/>
            <a:ext cx="20635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4720" y="6942240"/>
            <a:ext cx="3136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2040" y="4346640"/>
            <a:ext cx="243684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040" y="4346640"/>
            <a:ext cx="243684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5000" y="4443480"/>
            <a:ext cx="20930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en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29160" y="4346640"/>
            <a:ext cx="3033720" cy="29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37080" y="509112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36240" y="5091120"/>
            <a:ext cx="12654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Zuord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39120" y="5340240"/>
            <a:ext cx="8416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k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89360" y="5340240"/>
            <a:ext cx="1122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-4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33360" y="5591160"/>
            <a:ext cx="86616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a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07000" y="5591160"/>
            <a:ext cx="999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37080" y="6094440"/>
            <a:ext cx="3679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49920" y="6094440"/>
            <a:ext cx="21571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rkmals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38400" y="636912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54760" y="6369120"/>
            <a:ext cx="399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34800" y="6600960"/>
            <a:ext cx="973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.-G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42000" y="6600960"/>
            <a:ext cx="5508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38400" y="68245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94080" y="6824520"/>
            <a:ext cx="2991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29160" y="4346640"/>
            <a:ext cx="2793960" cy="635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12480" y="4443480"/>
            <a:ext cx="21859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ssifiz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910560" y="4346640"/>
            <a:ext cx="2596680" cy="2985840"/>
            <a:chOff x="6910560" y="4346640"/>
            <a:chExt cx="2596680" cy="2985840"/>
          </a:xfrm>
        </p:grpSpPr>
        <p:sp>
          <p:nvSpPr>
            <p:cNvPr id="273" name=""/>
            <p:cNvSpPr/>
            <p:nvPr/>
          </p:nvSpPr>
          <p:spPr>
            <a:xfrm>
              <a:off x="6910560" y="4346640"/>
              <a:ext cx="2596680" cy="29858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14880" y="515772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12960" y="5157720"/>
              <a:ext cx="118008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che d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09000" y="5410080"/>
              <a:ext cx="16023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14880" y="6161400"/>
              <a:ext cx="367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12240" y="6161400"/>
              <a:ext cx="178992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ktsuche ü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08640" y="6415200"/>
              <a:ext cx="1929960" cy="34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e Einstiegskla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10560" y="4346640"/>
              <a:ext cx="2596680" cy="6346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59040" y="4443120"/>
              <a:ext cx="1875240" cy="432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000" rIns="99000" tIns="48600" bIns="48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bjektsuch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41240" y="1347840"/>
            <a:ext cx="2913120" cy="201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9880" y="1973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48160" y="197316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0600" y="219564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44200" y="219564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2760" y="2419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41320" y="2419200"/>
            <a:ext cx="9028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1680" y="26449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47800" y="2644920"/>
            <a:ext cx="595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1240" y="1347840"/>
            <a:ext cx="291312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7760" y="1433520"/>
            <a:ext cx="21538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kmalpfle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1240" y="2951280"/>
            <a:ext cx="291312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1520" y="2938320"/>
            <a:ext cx="137664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erkm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41800" y="1347840"/>
            <a:ext cx="3629160" cy="215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50440" y="194616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92920" y="194616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2960" y="1946160"/>
            <a:ext cx="136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1160" y="21654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71480" y="21654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52960" y="239220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54880" y="239220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51880" y="261612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08640" y="261612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47920" y="28400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76760" y="2840040"/>
            <a:ext cx="2491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1347840"/>
            <a:ext cx="3629160" cy="6033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22040" y="1433520"/>
            <a:ext cx="24955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 FEA-47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41800" y="3090960"/>
            <a:ext cx="3629160" cy="407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43880" y="3078000"/>
            <a:ext cx="185832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igenscha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7320" y="5235480"/>
            <a:ext cx="1728720" cy="182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8120" y="5761080"/>
            <a:ext cx="9990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sp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9560" y="5985000"/>
            <a:ext cx="11480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chgebi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71720" y="6210360"/>
            <a:ext cx="14727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ktgrup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9920" y="6434280"/>
            <a:ext cx="1265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we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320" y="6657840"/>
            <a:ext cx="6436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57320" y="5235480"/>
            <a:ext cx="1728720" cy="547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7560" y="5111640"/>
            <a:ext cx="1889280" cy="5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8160" y="5191200"/>
            <a:ext cx="181116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8600" bIns="48600" anchor="t">
            <a:spAutoFit/>
          </a:bodyPr>
          <a:p>
            <a:pPr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Klasse Projek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6680" y="3506760"/>
            <a:ext cx="701640" cy="687240"/>
          </a:xfrm>
          <a:custGeom>
            <a:avLst/>
            <a:gdLst/>
            <a:ahLst/>
            <a:rect l="l" t="t" r="r" b="b"/>
            <a:pathLst>
              <a:path w="408" h="390">
                <a:moveTo>
                  <a:pt x="206" y="389"/>
                </a:moveTo>
                <a:lnTo>
                  <a:pt x="407" y="196"/>
                </a:lnTo>
                <a:lnTo>
                  <a:pt x="308" y="196"/>
                </a:lnTo>
                <a:lnTo>
                  <a:pt x="308" y="0"/>
                </a:lnTo>
                <a:lnTo>
                  <a:pt x="102" y="0"/>
                </a:lnTo>
                <a:lnTo>
                  <a:pt x="102" y="196"/>
                </a:lnTo>
                <a:lnTo>
                  <a:pt x="0" y="196"/>
                </a:lnTo>
                <a:lnTo>
                  <a:pt x="206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35640" y="3506760"/>
            <a:ext cx="704520" cy="687240"/>
          </a:xfrm>
          <a:custGeom>
            <a:avLst/>
            <a:gdLst/>
            <a:ahLst/>
            <a:rect l="l" t="t" r="r" b="b"/>
            <a:pathLst>
              <a:path w="410" h="390">
                <a:moveTo>
                  <a:pt x="205" y="389"/>
                </a:moveTo>
                <a:lnTo>
                  <a:pt x="409" y="196"/>
                </a:lnTo>
                <a:lnTo>
                  <a:pt x="307" y="196"/>
                </a:lnTo>
                <a:lnTo>
                  <a:pt x="307" y="0"/>
                </a:lnTo>
                <a:lnTo>
                  <a:pt x="101" y="0"/>
                </a:lnTo>
                <a:lnTo>
                  <a:pt x="101" y="196"/>
                </a:lnTo>
                <a:lnTo>
                  <a:pt x="0" y="196"/>
                </a:lnTo>
                <a:lnTo>
                  <a:pt x="205" y="389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54160" y="5670720"/>
            <a:ext cx="782640" cy="479160"/>
          </a:xfrm>
          <a:custGeom>
            <a:avLst/>
            <a:gdLst/>
            <a:ahLst/>
            <a:rect l="l" t="t" r="r" b="b"/>
            <a:pathLst>
              <a:path w="455" h="272">
                <a:moveTo>
                  <a:pt x="229" y="0"/>
                </a:moveTo>
                <a:lnTo>
                  <a:pt x="229" y="68"/>
                </a:lnTo>
                <a:lnTo>
                  <a:pt x="0" y="68"/>
                </a:lnTo>
                <a:lnTo>
                  <a:pt x="0" y="203"/>
                </a:lnTo>
                <a:lnTo>
                  <a:pt x="229" y="203"/>
                </a:lnTo>
                <a:lnTo>
                  <a:pt x="229" y="271"/>
                </a:lnTo>
                <a:lnTo>
                  <a:pt x="454" y="137"/>
                </a:lnTo>
                <a:lnTo>
                  <a:pt x="229" y="0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änzende Strukturen und Funktion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1440000"/>
            <a:ext cx="853416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informations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n SAP R/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848360" cy="3665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838080" y="1143000"/>
            <a:ext cx="7688520" cy="5976360"/>
            <a:chOff x="838080" y="1143000"/>
            <a:chExt cx="7688520" cy="5976360"/>
          </a:xfrm>
        </p:grpSpPr>
        <p:sp>
          <p:nvSpPr>
            <p:cNvPr id="332" name=""/>
            <p:cNvSpPr/>
            <p:nvPr/>
          </p:nvSpPr>
          <p:spPr>
            <a:xfrm>
              <a:off x="914400" y="6562800"/>
              <a:ext cx="1905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2680" y="6562800"/>
              <a:ext cx="28958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5440" y="1623600"/>
              <a:ext cx="6997680" cy="515628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6263280"/>
              <a:ext cx="1905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6720" y="6263280"/>
              <a:ext cx="28954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828960" y="3123360"/>
              <a:ext cx="1928880" cy="1858320"/>
              <a:chOff x="3828960" y="3123360"/>
              <a:chExt cx="1928880" cy="18583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3828960" y="3123360"/>
                <a:ext cx="1928880" cy="1858320"/>
                <a:chOff x="3828960" y="3123360"/>
                <a:chExt cx="1928880" cy="185832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4800600" y="3862800"/>
                  <a:ext cx="957240" cy="1109160"/>
                  <a:chOff x="4800600" y="3862800"/>
                  <a:chExt cx="957240" cy="11091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4800600" y="3862800"/>
                    <a:ext cx="89856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684">
                        <a:moveTo>
                          <a:pt x="565" y="0"/>
                        </a:moveTo>
                        <a:lnTo>
                          <a:pt x="0" y="449"/>
                        </a:lnTo>
                        <a:lnTo>
                          <a:pt x="0" y="683"/>
                        </a:lnTo>
                        <a:lnTo>
                          <a:pt x="565" y="228"/>
                        </a:lnTo>
                        <a:lnTo>
                          <a:pt x="565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800600" y="3862800"/>
                    <a:ext cx="957240" cy="11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3" h="711">
                        <a:moveTo>
                          <a:pt x="602" y="0"/>
                        </a:moveTo>
                        <a:lnTo>
                          <a:pt x="0" y="466"/>
                        </a:lnTo>
                        <a:lnTo>
                          <a:pt x="0" y="710"/>
                        </a:lnTo>
                        <a:lnTo>
                          <a:pt x="602" y="238"/>
                        </a:lnTo>
                        <a:lnTo>
                          <a:pt x="602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3828960" y="3123360"/>
                  <a:ext cx="1928880" cy="1476000"/>
                </a:xfrm>
                <a:custGeom>
                  <a:avLst/>
                  <a:gdLst/>
                  <a:ahLst/>
                  <a:rect l="l" t="t" r="r" b="b"/>
                  <a:pathLst>
                    <a:path w="1215" h="946">
                      <a:moveTo>
                        <a:pt x="605" y="945"/>
                      </a:moveTo>
                      <a:lnTo>
                        <a:pt x="1214" y="474"/>
                      </a:lnTo>
                      <a:lnTo>
                        <a:pt x="605" y="0"/>
                      </a:lnTo>
                      <a:lnTo>
                        <a:pt x="0" y="474"/>
                      </a:lnTo>
                      <a:lnTo>
                        <a:pt x="605" y="945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828960" y="3862800"/>
                  <a:ext cx="966960" cy="1118880"/>
                </a:xfrm>
                <a:custGeom>
                  <a:avLst/>
                  <a:gdLst/>
                  <a:ahLst/>
                  <a:rect l="l" t="t" r="r" b="b"/>
                  <a:pathLst>
                    <a:path w="609" h="717">
                      <a:moveTo>
                        <a:pt x="0" y="0"/>
                      </a:moveTo>
                      <a:lnTo>
                        <a:pt x="608" y="465"/>
                      </a:lnTo>
                      <a:lnTo>
                        <a:pt x="608" y="716"/>
                      </a:lnTo>
                      <a:lnTo>
                        <a:pt x="0" y="2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"/>
              <p:cNvSpPr/>
              <p:nvPr/>
            </p:nvSpPr>
            <p:spPr>
              <a:xfrm>
                <a:off x="4343040" y="3605040"/>
                <a:ext cx="85824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P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4197240" y="1143000"/>
              <a:ext cx="1090800" cy="1158840"/>
              <a:chOff x="4197240" y="1143000"/>
              <a:chExt cx="1090800" cy="11588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197240" y="1143000"/>
                <a:ext cx="1090800" cy="1158840"/>
                <a:chOff x="4197240" y="1143000"/>
                <a:chExt cx="1090800" cy="115884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4745160" y="1604520"/>
                  <a:ext cx="542880" cy="690840"/>
                  <a:chOff x="4745160" y="1604520"/>
                  <a:chExt cx="542880" cy="6908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745160" y="1604520"/>
                    <a:ext cx="509400" cy="66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45160" y="16045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4197240" y="114300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97240" y="16045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4458960" y="1428480"/>
                <a:ext cx="54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F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242120" y="4604040"/>
              <a:ext cx="1090800" cy="1159200"/>
              <a:chOff x="7242120" y="4604040"/>
              <a:chExt cx="1090800" cy="115920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7242120" y="4604040"/>
                <a:ext cx="1090800" cy="1159200"/>
                <a:chOff x="7242120" y="4604040"/>
                <a:chExt cx="1090800" cy="115920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7790040" y="5065920"/>
                  <a:ext cx="542880" cy="690840"/>
                  <a:chOff x="7790040" y="5065920"/>
                  <a:chExt cx="542880" cy="69084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7790040" y="506592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790040" y="50659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7242120" y="4604040"/>
                  <a:ext cx="1090800" cy="92052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242120" y="50659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7377480" y="4888080"/>
                <a:ext cx="792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C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265800" y="1508040"/>
              <a:ext cx="1090800" cy="1158840"/>
              <a:chOff x="6265800" y="1508040"/>
              <a:chExt cx="1090800" cy="115884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6265800" y="1508040"/>
                <a:ext cx="1090800" cy="1158840"/>
                <a:chOff x="6265800" y="1508040"/>
                <a:chExt cx="1090800" cy="115884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6813720" y="1969560"/>
                  <a:ext cx="542880" cy="690840"/>
                  <a:chOff x="6813720" y="1969560"/>
                  <a:chExt cx="542880" cy="69084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6813720" y="196956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813720" y="196956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6" name=""/>
                <p:cNvSpPr/>
                <p:nvPr/>
              </p:nvSpPr>
              <p:spPr>
                <a:xfrm>
                  <a:off x="6265800" y="150804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65800" y="196956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6481440" y="1793520"/>
                <a:ext cx="6325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I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435800" y="2795400"/>
              <a:ext cx="1090800" cy="1158840"/>
              <a:chOff x="7435800" y="2795400"/>
              <a:chExt cx="1090800" cy="11588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7435800" y="2795400"/>
                <a:ext cx="1090800" cy="1158840"/>
                <a:chOff x="7435800" y="2795400"/>
                <a:chExt cx="1090800" cy="115884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7983360" y="3256920"/>
                  <a:ext cx="543240" cy="690840"/>
                  <a:chOff x="7983360" y="3256920"/>
                  <a:chExt cx="543240" cy="69084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7983360" y="3256920"/>
                    <a:ext cx="50976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983360" y="3256920"/>
                    <a:ext cx="54324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7435800" y="2795400"/>
                  <a:ext cx="1090800" cy="92016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35800" y="3256920"/>
                  <a:ext cx="54756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7583040" y="3079080"/>
                <a:ext cx="769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141640" y="1470600"/>
              <a:ext cx="1038240" cy="1300680"/>
              <a:chOff x="2141640" y="1470600"/>
              <a:chExt cx="1038240" cy="13006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2664000" y="1988280"/>
                <a:ext cx="515880" cy="778320"/>
                <a:chOff x="2664000" y="1988280"/>
                <a:chExt cx="515880" cy="7783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664000" y="198828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664000" y="198828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2141640" y="147060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41640" y="198828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42440" y="1746360"/>
                <a:ext cx="836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Q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549760" y="5928840"/>
              <a:ext cx="1090800" cy="1159200"/>
              <a:chOff x="5549760" y="5928840"/>
              <a:chExt cx="1090800" cy="115920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549760" y="5928840"/>
                <a:ext cx="1090800" cy="1159200"/>
                <a:chOff x="5549760" y="5928840"/>
                <a:chExt cx="1090800" cy="115920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6097680" y="6390720"/>
                  <a:ext cx="542880" cy="690840"/>
                  <a:chOff x="6097680" y="6390720"/>
                  <a:chExt cx="542880" cy="6908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6097680" y="6390720"/>
                    <a:ext cx="509400" cy="66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426">
                        <a:moveTo>
                          <a:pt x="320" y="0"/>
                        </a:moveTo>
                        <a:lnTo>
                          <a:pt x="0" y="279"/>
                        </a:lnTo>
                        <a:lnTo>
                          <a:pt x="0" y="425"/>
                        </a:lnTo>
                        <a:lnTo>
                          <a:pt x="320" y="142"/>
                        </a:lnTo>
                        <a:lnTo>
                          <a:pt x="320" y="0"/>
                        </a:lnTo>
                      </a:path>
                    </a:pathLst>
                  </a:custGeom>
                  <a:solidFill>
                    <a:srgbClr val="ff4c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097680" y="6390720"/>
                    <a:ext cx="542880" cy="6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443">
                        <a:moveTo>
                          <a:pt x="341" y="0"/>
                        </a:moveTo>
                        <a:lnTo>
                          <a:pt x="0" y="290"/>
                        </a:lnTo>
                        <a:lnTo>
                          <a:pt x="0" y="442"/>
                        </a:lnTo>
                        <a:lnTo>
                          <a:pt x="341" y="148"/>
                        </a:lnTo>
                        <a:lnTo>
                          <a:pt x="341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>
                  <a:off x="5549760" y="5928840"/>
                  <a:ext cx="1090800" cy="920520"/>
                </a:xfrm>
                <a:custGeom>
                  <a:avLst/>
                  <a:gdLst/>
                  <a:ahLst/>
                  <a:rect l="l" t="t" r="r" b="b"/>
                  <a:pathLst>
                    <a:path w="687" h="590">
                      <a:moveTo>
                        <a:pt x="342" y="589"/>
                      </a:moveTo>
                      <a:lnTo>
                        <a:pt x="686" y="296"/>
                      </a:lnTo>
                      <a:lnTo>
                        <a:pt x="342" y="0"/>
                      </a:lnTo>
                      <a:lnTo>
                        <a:pt x="0" y="296"/>
                      </a:lnTo>
                      <a:lnTo>
                        <a:pt x="342" y="589"/>
                      </a:lnTo>
                    </a:path>
                  </a:pathLst>
                </a:custGeom>
                <a:solidFill>
                  <a:srgbClr val="ff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549760" y="6390720"/>
                  <a:ext cx="547920" cy="697320"/>
                </a:xfrm>
                <a:custGeom>
                  <a:avLst/>
                  <a:gdLst/>
                  <a:ahLst/>
                  <a:rect l="l" t="t" r="r" b="b"/>
                  <a:pathLst>
                    <a:path w="345" h="447">
                      <a:moveTo>
                        <a:pt x="0" y="0"/>
                      </a:moveTo>
                      <a:lnTo>
                        <a:pt x="344" y="290"/>
                      </a:lnTo>
                      <a:lnTo>
                        <a:pt x="344" y="446"/>
                      </a:lnTo>
                      <a:lnTo>
                        <a:pt x="0" y="14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00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5708160" y="6212880"/>
                <a:ext cx="747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E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884160" y="3027960"/>
              <a:ext cx="1038240" cy="1300680"/>
              <a:chOff x="884160" y="3027960"/>
              <a:chExt cx="1038240" cy="130068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1406520" y="3545640"/>
                <a:ext cx="515880" cy="778320"/>
                <a:chOff x="1406520" y="3545640"/>
                <a:chExt cx="515880" cy="7783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406520" y="354564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406520" y="354564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884160" y="302796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84160" y="354564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85680" y="3300480"/>
                <a:ext cx="7909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P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1298520" y="4944600"/>
              <a:ext cx="1038240" cy="1300680"/>
              <a:chOff x="1298520" y="4944600"/>
              <a:chExt cx="1038240" cy="13006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820880" y="5462280"/>
                <a:ext cx="515880" cy="778320"/>
                <a:chOff x="1820880" y="5462280"/>
                <a:chExt cx="515880" cy="7783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820880" y="5462280"/>
                  <a:ext cx="488880" cy="747000"/>
                </a:xfrm>
                <a:custGeom>
                  <a:avLst/>
                  <a:gdLst/>
                  <a:ahLst/>
                  <a:rect l="l" t="t" r="r" b="b"/>
                  <a:pathLst>
                    <a:path w="308" h="479">
                      <a:moveTo>
                        <a:pt x="307" y="0"/>
                      </a:moveTo>
                      <a:lnTo>
                        <a:pt x="0" y="315"/>
                      </a:lnTo>
                      <a:lnTo>
                        <a:pt x="0" y="478"/>
                      </a:lnTo>
                      <a:lnTo>
                        <a:pt x="307" y="159"/>
                      </a:lnTo>
                      <a:lnTo>
                        <a:pt x="307" y="0"/>
                      </a:lnTo>
                    </a:path>
                  </a:pathLst>
                </a:custGeom>
                <a:solidFill>
                  <a:srgbClr val="db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820880" y="5462280"/>
                  <a:ext cx="515880" cy="778320"/>
                </a:xfrm>
                <a:custGeom>
                  <a:avLst/>
                  <a:gdLst/>
                  <a:ahLst/>
                  <a:rect l="l" t="t" r="r" b="b"/>
                  <a:pathLst>
                    <a:path w="325" h="499">
                      <a:moveTo>
                        <a:pt x="324" y="0"/>
                      </a:moveTo>
                      <a:lnTo>
                        <a:pt x="0" y="327"/>
                      </a:lnTo>
                      <a:lnTo>
                        <a:pt x="0" y="498"/>
                      </a:lnTo>
                      <a:lnTo>
                        <a:pt x="324" y="166"/>
                      </a:lnTo>
                      <a:lnTo>
                        <a:pt x="324" y="0"/>
                      </a:lnTo>
                    </a:path>
                  </a:pathLst>
                </a:custGeom>
                <a:noFill/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1298520" y="4944600"/>
                <a:ext cx="1038240" cy="1029600"/>
              </a:xfrm>
              <a:custGeom>
                <a:avLst/>
                <a:gdLst/>
                <a:ahLst/>
                <a:rect l="l" t="t" r="r" b="b"/>
                <a:pathLst>
                  <a:path w="654" h="660">
                    <a:moveTo>
                      <a:pt x="327" y="659"/>
                    </a:moveTo>
                    <a:lnTo>
                      <a:pt x="653" y="332"/>
                    </a:lnTo>
                    <a:lnTo>
                      <a:pt x="327" y="0"/>
                    </a:lnTo>
                    <a:lnTo>
                      <a:pt x="0" y="332"/>
                    </a:lnTo>
                    <a:lnTo>
                      <a:pt x="327" y="659"/>
                    </a:lnTo>
                  </a:path>
                </a:pathLst>
              </a:custGeom>
              <a:solidFill>
                <a:srgbClr val="ade53a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98520" y="5462280"/>
                <a:ext cx="519120" cy="783000"/>
              </a:xfrm>
              <a:custGeom>
                <a:avLst/>
                <a:gdLst/>
                <a:ahLst/>
                <a:rect l="l" t="t" r="r" b="b"/>
                <a:pathLst>
                  <a:path w="327" h="502">
                    <a:moveTo>
                      <a:pt x="0" y="0"/>
                    </a:moveTo>
                    <a:lnTo>
                      <a:pt x="326" y="326"/>
                    </a:lnTo>
                    <a:lnTo>
                      <a:pt x="326" y="501"/>
                    </a:lnTo>
                    <a:lnTo>
                      <a:pt x="0" y="1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9826"/>
              </a:solidFill>
              <a:ln cap="rnd" w="25560">
                <a:solidFill>
                  <a:srgbClr val="617a9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399680" y="5218920"/>
                <a:ext cx="8582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M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3282840" y="5827680"/>
              <a:ext cx="1042920" cy="1291680"/>
              <a:chOff x="3282840" y="5827680"/>
              <a:chExt cx="1042920" cy="129168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3282840" y="5827680"/>
                <a:ext cx="1042920" cy="1291680"/>
                <a:chOff x="3282840" y="5827680"/>
                <a:chExt cx="1042920" cy="12916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282840" y="5827680"/>
                  <a:ext cx="1042920" cy="1020600"/>
                </a:xfrm>
                <a:custGeom>
                  <a:avLst/>
                  <a:gdLst/>
                  <a:ahLst/>
                  <a:rect l="l" t="t" r="r" b="b"/>
                  <a:pathLst>
                    <a:path w="657" h="654">
                      <a:moveTo>
                        <a:pt x="327" y="653"/>
                      </a:moveTo>
                      <a:lnTo>
                        <a:pt x="0" y="325"/>
                      </a:lnTo>
                      <a:lnTo>
                        <a:pt x="327" y="0"/>
                      </a:lnTo>
                      <a:lnTo>
                        <a:pt x="656" y="325"/>
                      </a:lnTo>
                      <a:lnTo>
                        <a:pt x="327" y="653"/>
                      </a:lnTo>
                    </a:path>
                  </a:pathLst>
                </a:custGeom>
                <a:solidFill>
                  <a:srgbClr val="d8d8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3282840" y="6345720"/>
                  <a:ext cx="525600" cy="773640"/>
                  <a:chOff x="3282840" y="6345720"/>
                  <a:chExt cx="525600" cy="7736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3282840" y="6345720"/>
                    <a:ext cx="493920" cy="74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478">
                        <a:moveTo>
                          <a:pt x="0" y="159"/>
                        </a:moveTo>
                        <a:lnTo>
                          <a:pt x="0" y="0"/>
                        </a:lnTo>
                        <a:lnTo>
                          <a:pt x="310" y="316"/>
                        </a:lnTo>
                        <a:lnTo>
                          <a:pt x="310" y="477"/>
                        </a:lnTo>
                        <a:lnTo>
                          <a:pt x="0" y="159"/>
                        </a:lnTo>
                      </a:path>
                    </a:pathLst>
                  </a:custGeom>
                  <a:solidFill>
                    <a:srgbClr val="b2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282840" y="6345720"/>
                    <a:ext cx="525600" cy="77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496">
                        <a:moveTo>
                          <a:pt x="0" y="166"/>
                        </a:moveTo>
                        <a:lnTo>
                          <a:pt x="0" y="0"/>
                        </a:lnTo>
                        <a:lnTo>
                          <a:pt x="330" y="327"/>
                        </a:lnTo>
                        <a:lnTo>
                          <a:pt x="330" y="495"/>
                        </a:lnTo>
                        <a:lnTo>
                          <a:pt x="0" y="166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617a9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2" name=""/>
                <p:cNvSpPr/>
                <p:nvPr/>
              </p:nvSpPr>
              <p:spPr>
                <a:xfrm>
                  <a:off x="3807000" y="6345720"/>
                  <a:ext cx="518760" cy="759600"/>
                </a:xfrm>
                <a:custGeom>
                  <a:avLst/>
                  <a:gdLst/>
                  <a:ahLst/>
                  <a:rect l="l" t="t" r="r" b="b"/>
                  <a:pathLst>
                    <a:path w="327" h="487">
                      <a:moveTo>
                        <a:pt x="326" y="161"/>
                      </a:moveTo>
                      <a:lnTo>
                        <a:pt x="326" y="0"/>
                      </a:lnTo>
                      <a:lnTo>
                        <a:pt x="0" y="325"/>
                      </a:lnTo>
                      <a:lnTo>
                        <a:pt x="0" y="486"/>
                      </a:lnTo>
                      <a:lnTo>
                        <a:pt x="326" y="161"/>
                      </a:lnTo>
                    </a:path>
                  </a:pathLst>
                </a:custGeom>
                <a:solidFill>
                  <a:srgbClr val="ffff00"/>
                </a:solidFill>
                <a:ln cap="rnd" w="25560">
                  <a:solidFill>
                    <a:srgbClr val="617a9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3452040" y="6087960"/>
                <a:ext cx="7696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H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 flipH="1" rot="16200000">
              <a:off x="4523040" y="2643840"/>
              <a:ext cx="508680" cy="190440"/>
            </a:xfrm>
            <a:prstGeom prst="rightArrow">
              <a:avLst>
                <a:gd name="adj1" fmla="val 50000"/>
                <a:gd name="adj2" fmla="val 1335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rot="18480000">
              <a:off x="5728320" y="2843640"/>
              <a:ext cx="508320" cy="190440"/>
            </a:xfrm>
            <a:prstGeom prst="rightArrow">
              <a:avLst>
                <a:gd name="adj1" fmla="val 50000"/>
                <a:gd name="adj2" fmla="val 1334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rot="20280000">
              <a:off x="6465240" y="3805200"/>
              <a:ext cx="517320" cy="187200"/>
            </a:xfrm>
            <a:prstGeom prst="rightArrow">
              <a:avLst>
                <a:gd name="adj1" fmla="val 50000"/>
                <a:gd name="adj2" fmla="val 1381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1980000">
              <a:off x="6334560" y="4583880"/>
              <a:ext cx="517680" cy="187200"/>
            </a:xfrm>
            <a:prstGeom prst="rightArrow">
              <a:avLst>
                <a:gd name="adj1" fmla="val 50000"/>
                <a:gd name="adj2" fmla="val 138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3840000">
              <a:off x="5159160" y="5434200"/>
              <a:ext cx="508320" cy="190440"/>
            </a:xfrm>
            <a:prstGeom prst="rightArrow">
              <a:avLst>
                <a:gd name="adj1" fmla="val 50000"/>
                <a:gd name="adj2" fmla="val 1334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7260000">
              <a:off x="3975120" y="5397120"/>
              <a:ext cx="508680" cy="190800"/>
            </a:xfrm>
            <a:prstGeom prst="rightArrow">
              <a:avLst>
                <a:gd name="adj1" fmla="val 50000"/>
                <a:gd name="adj2" fmla="val 13331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8220000">
              <a:off x="2652480" y="4690800"/>
              <a:ext cx="517320" cy="187560"/>
            </a:xfrm>
            <a:prstGeom prst="rightArrow">
              <a:avLst>
                <a:gd name="adj1" fmla="val 50000"/>
                <a:gd name="adj2" fmla="val 13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11160000">
              <a:off x="2559240" y="3755160"/>
              <a:ext cx="517320" cy="187200"/>
            </a:xfrm>
            <a:prstGeom prst="rightArrow">
              <a:avLst>
                <a:gd name="adj1" fmla="val 50000"/>
                <a:gd name="adj2" fmla="val 1381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3500000">
              <a:off x="3499200" y="2860560"/>
              <a:ext cx="517680" cy="187200"/>
            </a:xfrm>
            <a:prstGeom prst="rightArrow">
              <a:avLst>
                <a:gd name="adj1" fmla="val 50000"/>
                <a:gd name="adj2" fmla="val 138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080" y="1440000"/>
            <a:ext cx="86868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is SAP R/3 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änzende Funktionalitä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 Abbildung von Proje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ücksichtigung anwenderspezifischen Anford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0" lang="de-DE" sz="20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RezepturVerwaltung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0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ichtlin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beschreib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planung und –budget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orga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lauf und –term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essourc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steuerung  und -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dokumentation und -reche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bschluß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PS für die F &amp; E Projek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Physiker Steffen Roschek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0.05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5000"/>
          </a:bodyPr>
          <a:p>
            <a:pPr marL="176760" indent="0">
              <a:lnSpc>
                <a:spcPct val="90000"/>
              </a:lnSpc>
              <a:spcBef>
                <a:spcPts val="726"/>
              </a:spcBef>
              <a:spcAft>
                <a:spcPts val="3626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Arial"/>
              </a:rPr>
              <a:t>Projektbestandtei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richtlin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planung und –budget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beschreib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ko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blauf und –termi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ressourc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steuerung  und -kontrol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dokumentation und -recher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bschluß und 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760" indent="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400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rbemerk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19320"/>
            <a:ext cx="8915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 der heutigen DV-Landschaft stehen den F&amp;E-Teams meist nur Module der Bürokommunikation zur Verfü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it Defiziten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ä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sierung der Routineablä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sinhalte und –aktualität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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jektaus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ösungsvorschl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spcAft>
                <a:spcPts val="250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S (Projektsystem)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44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änzende Strukturen und Funktio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440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ringer Einarbeitungsaufw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284400">
              <a:spcBef>
                <a:spcPts val="451"/>
              </a:spcBef>
              <a:spcAft>
                <a:spcPts val="2251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mogene Benutzeroberfläche (eigene Mask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bindung v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Rezeptu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in alle SAP R/3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, Release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Vorbemerk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blau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ko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dokumentation und -recher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Projekt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Integration in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dddddd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truktu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erteilung in Unterprojekte (mehrstufig mög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Word, Excel oder Graf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truktur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5120" y="1600200"/>
          <a:ext cx="613548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613548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08-22T07:43:11Z</cp:lastPrinted>
  <dcterms:modified xsi:type="dcterms:W3CDTF">2001-05-13T20:17:00Z</dcterms:modified>
  <cp:revision>173</cp:revision>
  <dc:subject/>
  <dc:title>SAP R/3 PS für die F &amp; E Projekte </dc:title>
</cp:coreProperties>
</file>