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3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61C6478-A894-4EB8-990C-C84898E29DE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69880" y="7101000"/>
            <a:ext cx="7416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Mai 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6560" y="7101000"/>
            <a:ext cx="932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160" y="7101000"/>
            <a:ext cx="17715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AP R/3 PS für die F &amp; E Projek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AP R/3 PS für die F &amp; E Projek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-Physiker Steffen Roschek</a:t>
            </a:r>
            <a:br>
              <a:rPr sz="2400"/>
            </a:br>
            <a:r>
              <a:rPr b="1" lang="de-DE" sz="22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0.05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423720"/>
            <a:ext cx="91440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1371600"/>
            <a:ext cx="990576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295280" y="228600"/>
          <a:ext cx="7239240" cy="71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"/>
                    <a:ext cx="7239240" cy="71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76280" indent="-4762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1295280"/>
            <a:ext cx="80010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vorp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jektaufbereitung und - an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scheidung über Projektdurch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7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wicklungsp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- / Systemprof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eit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wicklung und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mar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- / Systemfreigabeber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scheidung über Marktein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arkteinführungsp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mmerzielle Erfolgskontro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838080"/>
            <a:ext cx="92203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762120"/>
            <a:ext cx="25146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6934320"/>
            <a:ext cx="92199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Entwicklung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58723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439640"/>
            <a:ext cx="8534160" cy="5265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sammenspiel von Status und Meilenstei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bildung von Formularen und vordefinierten Berich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chtigung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iggerung von Workflowaufga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 bestimmter Pers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legen eines Prüfauftrages im 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0"/>
          <a:ext cx="9906120" cy="760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0"/>
          <a:ext cx="9906120" cy="760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906120" cy="762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7800" y="228600"/>
            <a:ext cx="9328320" cy="7034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p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80" y="7207200"/>
            <a:ext cx="140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95280" y="254160"/>
          <a:ext cx="1419120" cy="84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4160"/>
                    <a:ext cx="14191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743040" y="6942240"/>
            <a:ext cx="2063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4160" y="1192320"/>
            <a:ext cx="9397800" cy="100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EA-Projekt-Map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4160" y="3394080"/>
            <a:ext cx="2876400" cy="33116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u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liste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reibunge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rich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S Wor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56080" y="3394080"/>
            <a:ext cx="2876400" cy="33116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e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rechn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ti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fi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S Exce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3394080"/>
            <a:ext cx="2793960" cy="32353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f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che Form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bild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CAM Windows u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220824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74640" y="2878200"/>
            <a:ext cx="8242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68520" y="2886120"/>
            <a:ext cx="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2886120"/>
            <a:ext cx="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37600" y="2886120"/>
            <a:ext cx="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16120" y="2443320"/>
            <a:ext cx="2224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umentena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1371600"/>
            <a:ext cx="990576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71800" y="609480"/>
            <a:ext cx="990576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76480" y="2476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76480" y="2471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0"/>
            <a:ext cx="8915400" cy="1270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melden Sonderprobe</a:t>
            </a:r>
            <a:br>
              <a:rPr sz="25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auswahl (I)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0" b="19230"/>
          <a:stretch/>
        </p:blipFill>
        <p:spPr>
          <a:xfrm>
            <a:off x="0" y="0"/>
            <a:ext cx="990612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7800" y="-360"/>
            <a:ext cx="9328320" cy="9320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kostenplanung und - budgetier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480" y="7207200"/>
            <a:ext cx="140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95280" y="254160"/>
          <a:ext cx="1419120" cy="84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4160"/>
                    <a:ext cx="14191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-1080" y="7385040"/>
            <a:ext cx="2307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3040" y="6942240"/>
            <a:ext cx="2063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552440" y="1123920"/>
            <a:ext cx="2016360" cy="966960"/>
          </a:xfrm>
          <a:prstGeom prst="rightArrow">
            <a:avLst>
              <a:gd name="adj1" fmla="val 75000"/>
              <a:gd name="adj2" fmla="val 104272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r"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A-Lei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567560" y="2774880"/>
            <a:ext cx="2014560" cy="968400"/>
          </a:xfrm>
          <a:prstGeom prst="rightArrow">
            <a:avLst>
              <a:gd name="adj1" fmla="val 75000"/>
              <a:gd name="adj2" fmla="val 104024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r"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G-Lei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78400" y="108432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95760" y="241452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86040" y="1947960"/>
            <a:ext cx="28800" cy="84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85920" y="260820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95760" y="260820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03800" y="260820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82680" y="2602080"/>
            <a:ext cx="240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76200" y="2592360"/>
            <a:ext cx="24098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01880" y="2602080"/>
            <a:ext cx="240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95760" y="2592360"/>
            <a:ext cx="24098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0440" y="3554280"/>
            <a:ext cx="0" cy="74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464508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4338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60530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0440" y="6045120"/>
            <a:ext cx="206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69278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0440" y="431316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18796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0440" y="60609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6440" y="4273560"/>
            <a:ext cx="16603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2560" y="4313160"/>
            <a:ext cx="1570320" cy="40248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9536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9536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7520" y="4624560"/>
            <a:ext cx="1450080" cy="340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2560" y="4281480"/>
            <a:ext cx="1657440" cy="72396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9536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9536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95360" y="558648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9536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9536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95360" y="620568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6440" y="6556320"/>
            <a:ext cx="16603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8080" y="659772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9536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9536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5360" y="708012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2560" y="6562800"/>
            <a:ext cx="1657440" cy="72684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3680" y="2795760"/>
            <a:ext cx="21733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9560" y="2836800"/>
            <a:ext cx="20246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eitsgrupp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7000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7000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1520" y="314784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1600" y="2803680"/>
            <a:ext cx="2168640" cy="7254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68480" y="3554280"/>
            <a:ext cx="0" cy="74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74960" y="464508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74960" y="5433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74960" y="60530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68480" y="6045120"/>
            <a:ext cx="206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74960" y="6927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8480" y="431316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8480" y="518796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68480" y="60609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86280" y="4273560"/>
            <a:ext cx="16603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67920" y="431316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3760" y="48308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3760" y="48308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96720" y="4624560"/>
            <a:ext cx="14500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92400" y="4281480"/>
            <a:ext cx="1657440" cy="72396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3760" y="53672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3760" y="53672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3760" y="53672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3760" y="624060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3760" y="624060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3760" y="624060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86280" y="6556320"/>
            <a:ext cx="16603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67920" y="659772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3760" y="71150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3760" y="71150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3760" y="71150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92400" y="6562800"/>
            <a:ext cx="1657440" cy="72684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03520" y="2795760"/>
            <a:ext cx="21715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78680" y="2836800"/>
            <a:ext cx="20246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eitsgrupp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78400" y="335268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78400" y="335268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71360" y="314784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11440" y="2803680"/>
            <a:ext cx="2168640" cy="7254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78320" y="3554280"/>
            <a:ext cx="0" cy="74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84800" y="464508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84800" y="5433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84800" y="60530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78320" y="6045120"/>
            <a:ext cx="206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84800" y="6927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78320" y="431316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78320" y="518796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78320" y="60609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94320" y="4273560"/>
            <a:ext cx="16621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74520" y="431316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1360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1360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03320" y="4624560"/>
            <a:ext cx="14500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02240" y="4281480"/>
            <a:ext cx="1657440" cy="72396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1360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1360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1360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1360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1360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94320" y="6556320"/>
            <a:ext cx="16621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74520" y="659772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1360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1360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1360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02240" y="6562800"/>
            <a:ext cx="1657440" cy="72684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13360" y="2795760"/>
            <a:ext cx="21715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85640" y="2836800"/>
            <a:ext cx="203976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eitsgruppe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8644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8644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77960" y="314784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19840" y="2803680"/>
            <a:ext cx="2168280" cy="7254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05240" y="1233360"/>
            <a:ext cx="23605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5600" y="1273320"/>
            <a:ext cx="222120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Budget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78400" y="17924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78400" y="17924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60200" y="158760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13160" y="1239840"/>
            <a:ext cx="2354040" cy="7272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7800" y="228600"/>
            <a:ext cx="9328320" cy="838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jektklassifizierung und - recherch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480" y="7207200"/>
            <a:ext cx="140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95280" y="254160"/>
          <a:ext cx="1419120" cy="84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4160"/>
                    <a:ext cx="14191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43040" y="6942240"/>
            <a:ext cx="2063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2040" y="4346640"/>
            <a:ext cx="2436840" cy="29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040" y="4346640"/>
            <a:ext cx="2436840" cy="635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55000" y="4443480"/>
            <a:ext cx="209304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lassenpfle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29160" y="4346640"/>
            <a:ext cx="3033720" cy="29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37080" y="5091120"/>
            <a:ext cx="3679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36240" y="5091120"/>
            <a:ext cx="12654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Zuord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39120" y="5340240"/>
            <a:ext cx="8416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k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89360" y="5340240"/>
            <a:ext cx="11221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-47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33360" y="5591160"/>
            <a:ext cx="8661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as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07000" y="5591160"/>
            <a:ext cx="999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37080" y="6094440"/>
            <a:ext cx="3679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49920" y="6094440"/>
            <a:ext cx="21571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erkmalsbewer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38400" y="636912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54760" y="6369120"/>
            <a:ext cx="3999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34800" y="6600960"/>
            <a:ext cx="973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.-G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42000" y="6600960"/>
            <a:ext cx="5508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38400" y="682452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94080" y="6824520"/>
            <a:ext cx="2991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29160" y="4346640"/>
            <a:ext cx="2793960" cy="635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12480" y="4443480"/>
            <a:ext cx="218592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lassifizi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910560" y="4346640"/>
            <a:ext cx="2596680" cy="2985840"/>
            <a:chOff x="6910560" y="4346640"/>
            <a:chExt cx="2596680" cy="2985840"/>
          </a:xfrm>
        </p:grpSpPr>
        <p:sp>
          <p:nvSpPr>
            <p:cNvPr id="273" name=""/>
            <p:cNvSpPr/>
            <p:nvPr/>
          </p:nvSpPr>
          <p:spPr>
            <a:xfrm>
              <a:off x="6910560" y="4346640"/>
              <a:ext cx="2596680" cy="29858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14880" y="5157720"/>
              <a:ext cx="36792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12960" y="5157720"/>
              <a:ext cx="118008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che d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09000" y="5410080"/>
              <a:ext cx="160236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instiegskla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14880" y="6161400"/>
              <a:ext cx="36792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12240" y="6161400"/>
              <a:ext cx="178992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jektsuche ü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08640" y="6415200"/>
              <a:ext cx="192996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e Einstiegskla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10560" y="4346640"/>
              <a:ext cx="2596680" cy="6346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59040" y="4443120"/>
              <a:ext cx="1875240" cy="432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Objektsuch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41240" y="1347840"/>
            <a:ext cx="2913120" cy="201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9880" y="1973160"/>
            <a:ext cx="9990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sp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48160" y="1973160"/>
            <a:ext cx="6436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0600" y="219564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44200" y="2195640"/>
            <a:ext cx="9028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2760" y="2419200"/>
            <a:ext cx="14727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ktgrup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41320" y="2419200"/>
            <a:ext cx="9028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1680" y="264492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47800" y="2644920"/>
            <a:ext cx="595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1240" y="1347840"/>
            <a:ext cx="2913120" cy="603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67760" y="1433520"/>
            <a:ext cx="215388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rkmalpfle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41240" y="2951280"/>
            <a:ext cx="2913120" cy="40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1520" y="2938320"/>
            <a:ext cx="137664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erkm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41800" y="1347840"/>
            <a:ext cx="3629160" cy="215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50440" y="1946160"/>
            <a:ext cx="9990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sp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92920" y="194616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42960" y="1946160"/>
            <a:ext cx="1369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1160" y="216540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71480" y="216540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52960" y="2392200"/>
            <a:ext cx="14727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ktgrup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54880" y="239220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51880" y="261612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08640" y="261612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47920" y="2840040"/>
            <a:ext cx="6436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76760" y="284004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1800" y="1347840"/>
            <a:ext cx="3629160" cy="603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22040" y="1433520"/>
            <a:ext cx="249552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 FEA-47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41800" y="3090960"/>
            <a:ext cx="3629160" cy="40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43880" y="3078000"/>
            <a:ext cx="185832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igenschaf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57320" y="5235480"/>
            <a:ext cx="1728720" cy="182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68120" y="5761080"/>
            <a:ext cx="9990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sp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69560" y="598500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71720" y="6210360"/>
            <a:ext cx="14727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ktgrup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9920" y="643428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66320" y="6657840"/>
            <a:ext cx="6436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57320" y="5235480"/>
            <a:ext cx="1728720" cy="5479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17560" y="5111640"/>
            <a:ext cx="1889280" cy="54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8160" y="5191200"/>
            <a:ext cx="181116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Klasse Projek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6680" y="3506760"/>
            <a:ext cx="701640" cy="687240"/>
          </a:xfrm>
          <a:custGeom>
            <a:avLst/>
            <a:gdLst/>
            <a:ahLst/>
            <a:rect l="l" t="t" r="r" b="b"/>
            <a:pathLst>
              <a:path w="408" h="390">
                <a:moveTo>
                  <a:pt x="206" y="389"/>
                </a:moveTo>
                <a:lnTo>
                  <a:pt x="407" y="196"/>
                </a:lnTo>
                <a:lnTo>
                  <a:pt x="308" y="196"/>
                </a:lnTo>
                <a:lnTo>
                  <a:pt x="308" y="0"/>
                </a:lnTo>
                <a:lnTo>
                  <a:pt x="102" y="0"/>
                </a:lnTo>
                <a:lnTo>
                  <a:pt x="102" y="196"/>
                </a:lnTo>
                <a:lnTo>
                  <a:pt x="0" y="196"/>
                </a:lnTo>
                <a:lnTo>
                  <a:pt x="206" y="389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35640" y="3506760"/>
            <a:ext cx="704520" cy="687240"/>
          </a:xfrm>
          <a:custGeom>
            <a:avLst/>
            <a:gdLst/>
            <a:ahLst/>
            <a:rect l="l" t="t" r="r" b="b"/>
            <a:pathLst>
              <a:path w="410" h="390">
                <a:moveTo>
                  <a:pt x="205" y="389"/>
                </a:moveTo>
                <a:lnTo>
                  <a:pt x="409" y="196"/>
                </a:lnTo>
                <a:lnTo>
                  <a:pt x="307" y="196"/>
                </a:lnTo>
                <a:lnTo>
                  <a:pt x="307" y="0"/>
                </a:lnTo>
                <a:lnTo>
                  <a:pt x="101" y="0"/>
                </a:lnTo>
                <a:lnTo>
                  <a:pt x="101" y="196"/>
                </a:lnTo>
                <a:lnTo>
                  <a:pt x="0" y="196"/>
                </a:lnTo>
                <a:lnTo>
                  <a:pt x="205" y="389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54160" y="5670720"/>
            <a:ext cx="782640" cy="479160"/>
          </a:xfrm>
          <a:custGeom>
            <a:avLst/>
            <a:gdLst/>
            <a:ahLst/>
            <a:rect l="l" t="t" r="r" b="b"/>
            <a:pathLst>
              <a:path w="455" h="272">
                <a:moveTo>
                  <a:pt x="229" y="0"/>
                </a:moveTo>
                <a:lnTo>
                  <a:pt x="229" y="68"/>
                </a:lnTo>
                <a:lnTo>
                  <a:pt x="0" y="68"/>
                </a:lnTo>
                <a:lnTo>
                  <a:pt x="0" y="203"/>
                </a:lnTo>
                <a:lnTo>
                  <a:pt x="229" y="203"/>
                </a:lnTo>
                <a:lnTo>
                  <a:pt x="229" y="271"/>
                </a:lnTo>
                <a:lnTo>
                  <a:pt x="454" y="137"/>
                </a:lnTo>
                <a:lnTo>
                  <a:pt x="229" y="0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gänzende Strukturen und Funktion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uswert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90720" y="1440000"/>
            <a:ext cx="853416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S-Standardauswert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informations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satzauswertungen über eigene Strukt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zeptur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üfergebn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gleiche mit Wettbewerberprodu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Weitere Möglichk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in SAP R/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76160" y="1447920"/>
            <a:ext cx="7848360" cy="36655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838080" y="1143000"/>
            <a:ext cx="7688520" cy="5976360"/>
            <a:chOff x="838080" y="1143000"/>
            <a:chExt cx="7688520" cy="5976360"/>
          </a:xfrm>
        </p:grpSpPr>
        <p:sp>
          <p:nvSpPr>
            <p:cNvPr id="332" name=""/>
            <p:cNvSpPr/>
            <p:nvPr/>
          </p:nvSpPr>
          <p:spPr>
            <a:xfrm>
              <a:off x="914400" y="6562800"/>
              <a:ext cx="1905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6562800"/>
              <a:ext cx="28958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25440" y="1623600"/>
              <a:ext cx="6997680" cy="515628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8080" y="6263280"/>
              <a:ext cx="1905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6720" y="6263280"/>
              <a:ext cx="28954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3828960" y="3123360"/>
              <a:ext cx="1928880" cy="1858320"/>
              <a:chOff x="3828960" y="3123360"/>
              <a:chExt cx="1928880" cy="185832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3828960" y="3123360"/>
                <a:ext cx="1928880" cy="1858320"/>
                <a:chOff x="3828960" y="3123360"/>
                <a:chExt cx="1928880" cy="185832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4800600" y="3862800"/>
                  <a:ext cx="957240" cy="1109160"/>
                  <a:chOff x="4800600" y="3862800"/>
                  <a:chExt cx="957240" cy="110916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4800600" y="3862800"/>
                    <a:ext cx="898560" cy="10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6" h="684">
                        <a:moveTo>
                          <a:pt x="565" y="0"/>
                        </a:moveTo>
                        <a:lnTo>
                          <a:pt x="0" y="449"/>
                        </a:lnTo>
                        <a:lnTo>
                          <a:pt x="0" y="683"/>
                        </a:lnTo>
                        <a:lnTo>
                          <a:pt x="565" y="228"/>
                        </a:lnTo>
                        <a:lnTo>
                          <a:pt x="565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4800600" y="3862800"/>
                    <a:ext cx="957240" cy="1109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3" h="711">
                        <a:moveTo>
                          <a:pt x="602" y="0"/>
                        </a:moveTo>
                        <a:lnTo>
                          <a:pt x="0" y="466"/>
                        </a:lnTo>
                        <a:lnTo>
                          <a:pt x="0" y="710"/>
                        </a:lnTo>
                        <a:lnTo>
                          <a:pt x="602" y="238"/>
                        </a:lnTo>
                        <a:lnTo>
                          <a:pt x="602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" name=""/>
                <p:cNvSpPr/>
                <p:nvPr/>
              </p:nvSpPr>
              <p:spPr>
                <a:xfrm>
                  <a:off x="3828960" y="3123360"/>
                  <a:ext cx="1928880" cy="1476000"/>
                </a:xfrm>
                <a:custGeom>
                  <a:avLst/>
                  <a:gdLst/>
                  <a:ahLst/>
                  <a:rect l="l" t="t" r="r" b="b"/>
                  <a:pathLst>
                    <a:path w="1215" h="946">
                      <a:moveTo>
                        <a:pt x="605" y="945"/>
                      </a:moveTo>
                      <a:lnTo>
                        <a:pt x="1214" y="474"/>
                      </a:lnTo>
                      <a:lnTo>
                        <a:pt x="605" y="0"/>
                      </a:lnTo>
                      <a:lnTo>
                        <a:pt x="0" y="474"/>
                      </a:lnTo>
                      <a:lnTo>
                        <a:pt x="605" y="945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828960" y="3862800"/>
                  <a:ext cx="966960" cy="1118880"/>
                </a:xfrm>
                <a:custGeom>
                  <a:avLst/>
                  <a:gdLst/>
                  <a:ahLst/>
                  <a:rect l="l" t="t" r="r" b="b"/>
                  <a:pathLst>
                    <a:path w="609" h="717">
                      <a:moveTo>
                        <a:pt x="0" y="0"/>
                      </a:moveTo>
                      <a:lnTo>
                        <a:pt x="608" y="465"/>
                      </a:lnTo>
                      <a:lnTo>
                        <a:pt x="608" y="716"/>
                      </a:lnTo>
                      <a:lnTo>
                        <a:pt x="0" y="2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" name=""/>
              <p:cNvSpPr/>
              <p:nvPr/>
            </p:nvSpPr>
            <p:spPr>
              <a:xfrm>
                <a:off x="4343040" y="3605040"/>
                <a:ext cx="85824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PS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4197240" y="1143000"/>
              <a:ext cx="1090800" cy="1158840"/>
              <a:chOff x="4197240" y="1143000"/>
              <a:chExt cx="1090800" cy="115884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4197240" y="1143000"/>
                <a:ext cx="1090800" cy="1158840"/>
                <a:chOff x="4197240" y="1143000"/>
                <a:chExt cx="1090800" cy="115884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4745160" y="1604520"/>
                  <a:ext cx="542880" cy="690840"/>
                  <a:chOff x="4745160" y="1604520"/>
                  <a:chExt cx="542880" cy="69084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745160" y="1604520"/>
                    <a:ext cx="509400" cy="66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426">
                        <a:moveTo>
                          <a:pt x="320" y="0"/>
                        </a:moveTo>
                        <a:lnTo>
                          <a:pt x="0" y="279"/>
                        </a:lnTo>
                        <a:lnTo>
                          <a:pt x="0" y="425"/>
                        </a:lnTo>
                        <a:lnTo>
                          <a:pt x="320" y="142"/>
                        </a:lnTo>
                        <a:lnTo>
                          <a:pt x="320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45160" y="1604520"/>
                    <a:ext cx="542880" cy="6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443">
                        <a:moveTo>
                          <a:pt x="341" y="0"/>
                        </a:moveTo>
                        <a:lnTo>
                          <a:pt x="0" y="290"/>
                        </a:lnTo>
                        <a:lnTo>
                          <a:pt x="0" y="442"/>
                        </a:lnTo>
                        <a:lnTo>
                          <a:pt x="341" y="148"/>
                        </a:lnTo>
                        <a:lnTo>
                          <a:pt x="3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0" name=""/>
                <p:cNvSpPr/>
                <p:nvPr/>
              </p:nvSpPr>
              <p:spPr>
                <a:xfrm>
                  <a:off x="4197240" y="1143000"/>
                  <a:ext cx="1090800" cy="920160"/>
                </a:xfrm>
                <a:custGeom>
                  <a:avLst/>
                  <a:gdLst/>
                  <a:ahLst/>
                  <a:rect l="l" t="t" r="r" b="b"/>
                  <a:pathLst>
                    <a:path w="687" h="590">
                      <a:moveTo>
                        <a:pt x="342" y="589"/>
                      </a:moveTo>
                      <a:lnTo>
                        <a:pt x="686" y="296"/>
                      </a:lnTo>
                      <a:lnTo>
                        <a:pt x="342" y="0"/>
                      </a:lnTo>
                      <a:lnTo>
                        <a:pt x="0" y="296"/>
                      </a:lnTo>
                      <a:lnTo>
                        <a:pt x="342" y="589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197240" y="1604520"/>
                  <a:ext cx="547920" cy="697320"/>
                </a:xfrm>
                <a:custGeom>
                  <a:avLst/>
                  <a:gdLst/>
                  <a:ahLst/>
                  <a:rect l="l" t="t" r="r" b="b"/>
                  <a:pathLst>
                    <a:path w="345" h="447">
                      <a:moveTo>
                        <a:pt x="0" y="0"/>
                      </a:moveTo>
                      <a:lnTo>
                        <a:pt x="344" y="290"/>
                      </a:lnTo>
                      <a:lnTo>
                        <a:pt x="344" y="446"/>
                      </a:lnTo>
                      <a:lnTo>
                        <a:pt x="0" y="1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4458960" y="1428480"/>
                <a:ext cx="5425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F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7242120" y="4604040"/>
              <a:ext cx="1090800" cy="1159200"/>
              <a:chOff x="7242120" y="4604040"/>
              <a:chExt cx="1090800" cy="115920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7242120" y="4604040"/>
                <a:ext cx="1090800" cy="1159200"/>
                <a:chOff x="7242120" y="4604040"/>
                <a:chExt cx="1090800" cy="1159200"/>
              </a:xfrm>
            </p:grpSpPr>
            <p:grpSp>
              <p:nvGrpSpPr>
                <p:cNvPr id="355" name=""/>
                <p:cNvGrpSpPr/>
                <p:nvPr/>
              </p:nvGrpSpPr>
              <p:grpSpPr>
                <a:xfrm>
                  <a:off x="7790040" y="5065920"/>
                  <a:ext cx="542880" cy="690840"/>
                  <a:chOff x="7790040" y="5065920"/>
                  <a:chExt cx="542880" cy="69084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7790040" y="5065920"/>
                    <a:ext cx="509400" cy="66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426">
                        <a:moveTo>
                          <a:pt x="320" y="0"/>
                        </a:moveTo>
                        <a:lnTo>
                          <a:pt x="0" y="279"/>
                        </a:lnTo>
                        <a:lnTo>
                          <a:pt x="0" y="425"/>
                        </a:lnTo>
                        <a:lnTo>
                          <a:pt x="320" y="142"/>
                        </a:lnTo>
                        <a:lnTo>
                          <a:pt x="320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7790040" y="5065920"/>
                    <a:ext cx="542880" cy="6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443">
                        <a:moveTo>
                          <a:pt x="341" y="0"/>
                        </a:moveTo>
                        <a:lnTo>
                          <a:pt x="0" y="290"/>
                        </a:lnTo>
                        <a:lnTo>
                          <a:pt x="0" y="442"/>
                        </a:lnTo>
                        <a:lnTo>
                          <a:pt x="341" y="148"/>
                        </a:lnTo>
                        <a:lnTo>
                          <a:pt x="3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8" name=""/>
                <p:cNvSpPr/>
                <p:nvPr/>
              </p:nvSpPr>
              <p:spPr>
                <a:xfrm>
                  <a:off x="7242120" y="4604040"/>
                  <a:ext cx="1090800" cy="920520"/>
                </a:xfrm>
                <a:custGeom>
                  <a:avLst/>
                  <a:gdLst/>
                  <a:ahLst/>
                  <a:rect l="l" t="t" r="r" b="b"/>
                  <a:pathLst>
                    <a:path w="687" h="590">
                      <a:moveTo>
                        <a:pt x="342" y="589"/>
                      </a:moveTo>
                      <a:lnTo>
                        <a:pt x="686" y="296"/>
                      </a:lnTo>
                      <a:lnTo>
                        <a:pt x="342" y="0"/>
                      </a:lnTo>
                      <a:lnTo>
                        <a:pt x="0" y="296"/>
                      </a:lnTo>
                      <a:lnTo>
                        <a:pt x="342" y="589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242120" y="5065920"/>
                  <a:ext cx="547920" cy="697320"/>
                </a:xfrm>
                <a:custGeom>
                  <a:avLst/>
                  <a:gdLst/>
                  <a:ahLst/>
                  <a:rect l="l" t="t" r="r" b="b"/>
                  <a:pathLst>
                    <a:path w="345" h="447">
                      <a:moveTo>
                        <a:pt x="0" y="0"/>
                      </a:moveTo>
                      <a:lnTo>
                        <a:pt x="344" y="290"/>
                      </a:lnTo>
                      <a:lnTo>
                        <a:pt x="344" y="446"/>
                      </a:lnTo>
                      <a:lnTo>
                        <a:pt x="0" y="1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>
                <a:off x="7377480" y="4888080"/>
                <a:ext cx="7927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C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265800" y="1508040"/>
              <a:ext cx="1090800" cy="1158840"/>
              <a:chOff x="6265800" y="1508040"/>
              <a:chExt cx="1090800" cy="1158840"/>
            </a:xfrm>
          </p:grpSpPr>
          <p:grpSp>
            <p:nvGrpSpPr>
              <p:cNvPr id="362" name=""/>
              <p:cNvGrpSpPr/>
              <p:nvPr/>
            </p:nvGrpSpPr>
            <p:grpSpPr>
              <a:xfrm>
                <a:off x="6265800" y="1508040"/>
                <a:ext cx="1090800" cy="1158840"/>
                <a:chOff x="6265800" y="1508040"/>
                <a:chExt cx="1090800" cy="1158840"/>
              </a:xfrm>
            </p:grpSpPr>
            <p:grpSp>
              <p:nvGrpSpPr>
                <p:cNvPr id="363" name=""/>
                <p:cNvGrpSpPr/>
                <p:nvPr/>
              </p:nvGrpSpPr>
              <p:grpSpPr>
                <a:xfrm>
                  <a:off x="6813720" y="1969560"/>
                  <a:ext cx="542880" cy="690840"/>
                  <a:chOff x="6813720" y="1969560"/>
                  <a:chExt cx="542880" cy="69084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6813720" y="1969560"/>
                    <a:ext cx="509400" cy="66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426">
                        <a:moveTo>
                          <a:pt x="320" y="0"/>
                        </a:moveTo>
                        <a:lnTo>
                          <a:pt x="0" y="279"/>
                        </a:lnTo>
                        <a:lnTo>
                          <a:pt x="0" y="425"/>
                        </a:lnTo>
                        <a:lnTo>
                          <a:pt x="320" y="142"/>
                        </a:lnTo>
                        <a:lnTo>
                          <a:pt x="320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6813720" y="1969560"/>
                    <a:ext cx="542880" cy="6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443">
                        <a:moveTo>
                          <a:pt x="341" y="0"/>
                        </a:moveTo>
                        <a:lnTo>
                          <a:pt x="0" y="290"/>
                        </a:lnTo>
                        <a:lnTo>
                          <a:pt x="0" y="442"/>
                        </a:lnTo>
                        <a:lnTo>
                          <a:pt x="341" y="148"/>
                        </a:lnTo>
                        <a:lnTo>
                          <a:pt x="3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6" name=""/>
                <p:cNvSpPr/>
                <p:nvPr/>
              </p:nvSpPr>
              <p:spPr>
                <a:xfrm>
                  <a:off x="6265800" y="1508040"/>
                  <a:ext cx="1090800" cy="920160"/>
                </a:xfrm>
                <a:custGeom>
                  <a:avLst/>
                  <a:gdLst/>
                  <a:ahLst/>
                  <a:rect l="l" t="t" r="r" b="b"/>
                  <a:pathLst>
                    <a:path w="687" h="590">
                      <a:moveTo>
                        <a:pt x="342" y="589"/>
                      </a:moveTo>
                      <a:lnTo>
                        <a:pt x="686" y="296"/>
                      </a:lnTo>
                      <a:lnTo>
                        <a:pt x="342" y="0"/>
                      </a:lnTo>
                      <a:lnTo>
                        <a:pt x="0" y="296"/>
                      </a:lnTo>
                      <a:lnTo>
                        <a:pt x="342" y="589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265800" y="1969560"/>
                  <a:ext cx="547920" cy="697320"/>
                </a:xfrm>
                <a:custGeom>
                  <a:avLst/>
                  <a:gdLst/>
                  <a:ahLst/>
                  <a:rect l="l" t="t" r="r" b="b"/>
                  <a:pathLst>
                    <a:path w="345" h="447">
                      <a:moveTo>
                        <a:pt x="0" y="0"/>
                      </a:moveTo>
                      <a:lnTo>
                        <a:pt x="344" y="290"/>
                      </a:lnTo>
                      <a:lnTo>
                        <a:pt x="344" y="446"/>
                      </a:lnTo>
                      <a:lnTo>
                        <a:pt x="0" y="1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>
                <a:off x="6481440" y="1793520"/>
                <a:ext cx="6325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I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7435800" y="2795400"/>
              <a:ext cx="1090800" cy="1158840"/>
              <a:chOff x="7435800" y="2795400"/>
              <a:chExt cx="1090800" cy="115884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7435800" y="2795400"/>
                <a:ext cx="1090800" cy="1158840"/>
                <a:chOff x="7435800" y="2795400"/>
                <a:chExt cx="1090800" cy="115884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7983360" y="3256920"/>
                  <a:ext cx="543240" cy="690840"/>
                  <a:chOff x="7983360" y="3256920"/>
                  <a:chExt cx="543240" cy="69084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7983360" y="3256920"/>
                    <a:ext cx="509760" cy="66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426">
                        <a:moveTo>
                          <a:pt x="320" y="0"/>
                        </a:moveTo>
                        <a:lnTo>
                          <a:pt x="0" y="279"/>
                        </a:lnTo>
                        <a:lnTo>
                          <a:pt x="0" y="425"/>
                        </a:lnTo>
                        <a:lnTo>
                          <a:pt x="320" y="142"/>
                        </a:lnTo>
                        <a:lnTo>
                          <a:pt x="320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7983360" y="3256920"/>
                    <a:ext cx="543240" cy="6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443">
                        <a:moveTo>
                          <a:pt x="341" y="0"/>
                        </a:moveTo>
                        <a:lnTo>
                          <a:pt x="0" y="290"/>
                        </a:lnTo>
                        <a:lnTo>
                          <a:pt x="0" y="442"/>
                        </a:lnTo>
                        <a:lnTo>
                          <a:pt x="341" y="148"/>
                        </a:lnTo>
                        <a:lnTo>
                          <a:pt x="3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4" name=""/>
                <p:cNvSpPr/>
                <p:nvPr/>
              </p:nvSpPr>
              <p:spPr>
                <a:xfrm>
                  <a:off x="7435800" y="2795400"/>
                  <a:ext cx="1090800" cy="920160"/>
                </a:xfrm>
                <a:custGeom>
                  <a:avLst/>
                  <a:gdLst/>
                  <a:ahLst/>
                  <a:rect l="l" t="t" r="r" b="b"/>
                  <a:pathLst>
                    <a:path w="687" h="590">
                      <a:moveTo>
                        <a:pt x="342" y="589"/>
                      </a:moveTo>
                      <a:lnTo>
                        <a:pt x="686" y="296"/>
                      </a:lnTo>
                      <a:lnTo>
                        <a:pt x="342" y="0"/>
                      </a:lnTo>
                      <a:lnTo>
                        <a:pt x="0" y="296"/>
                      </a:lnTo>
                      <a:lnTo>
                        <a:pt x="342" y="589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435800" y="3256920"/>
                  <a:ext cx="547560" cy="697320"/>
                </a:xfrm>
                <a:custGeom>
                  <a:avLst/>
                  <a:gdLst/>
                  <a:ahLst/>
                  <a:rect l="l" t="t" r="r" b="b"/>
                  <a:pathLst>
                    <a:path w="345" h="447">
                      <a:moveTo>
                        <a:pt x="0" y="0"/>
                      </a:moveTo>
                      <a:lnTo>
                        <a:pt x="344" y="290"/>
                      </a:lnTo>
                      <a:lnTo>
                        <a:pt x="344" y="446"/>
                      </a:lnTo>
                      <a:lnTo>
                        <a:pt x="0" y="1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>
                <a:off x="7583040" y="3079080"/>
                <a:ext cx="7696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A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2141640" y="1470600"/>
              <a:ext cx="1038240" cy="1300680"/>
              <a:chOff x="2141640" y="1470600"/>
              <a:chExt cx="1038240" cy="130068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2664000" y="1988280"/>
                <a:ext cx="515880" cy="778320"/>
                <a:chOff x="2664000" y="1988280"/>
                <a:chExt cx="515880" cy="7783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2664000" y="1988280"/>
                  <a:ext cx="488880" cy="747000"/>
                </a:xfrm>
                <a:custGeom>
                  <a:avLst/>
                  <a:gdLst/>
                  <a:ahLst/>
                  <a:rect l="l" t="t" r="r" b="b"/>
                  <a:pathLst>
                    <a:path w="308" h="479">
                      <a:moveTo>
                        <a:pt x="307" y="0"/>
                      </a:moveTo>
                      <a:lnTo>
                        <a:pt x="0" y="315"/>
                      </a:lnTo>
                      <a:lnTo>
                        <a:pt x="0" y="478"/>
                      </a:lnTo>
                      <a:lnTo>
                        <a:pt x="307" y="159"/>
                      </a:lnTo>
                      <a:lnTo>
                        <a:pt x="307" y="0"/>
                      </a:lnTo>
                    </a:path>
                  </a:pathLst>
                </a:custGeom>
                <a:solidFill>
                  <a:srgbClr val="db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664000" y="1988280"/>
                  <a:ext cx="515880" cy="778320"/>
                </a:xfrm>
                <a:custGeom>
                  <a:avLst/>
                  <a:gdLst/>
                  <a:ahLst/>
                  <a:rect l="l" t="t" r="r" b="b"/>
                  <a:pathLst>
                    <a:path w="325" h="499">
                      <a:moveTo>
                        <a:pt x="324" y="0"/>
                      </a:moveTo>
                      <a:lnTo>
                        <a:pt x="0" y="327"/>
                      </a:lnTo>
                      <a:lnTo>
                        <a:pt x="0" y="498"/>
                      </a:lnTo>
                      <a:lnTo>
                        <a:pt x="324" y="166"/>
                      </a:lnTo>
                      <a:lnTo>
                        <a:pt x="324" y="0"/>
                      </a:lnTo>
                    </a:path>
                  </a:pathLst>
                </a:custGeom>
                <a:noFill/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2141640" y="1470600"/>
                <a:ext cx="1038240" cy="1029600"/>
              </a:xfrm>
              <a:custGeom>
                <a:avLst/>
                <a:gdLst/>
                <a:ahLst/>
                <a:rect l="l" t="t" r="r" b="b"/>
                <a:pathLst>
                  <a:path w="654" h="660">
                    <a:moveTo>
                      <a:pt x="327" y="659"/>
                    </a:moveTo>
                    <a:lnTo>
                      <a:pt x="653" y="332"/>
                    </a:lnTo>
                    <a:lnTo>
                      <a:pt x="327" y="0"/>
                    </a:lnTo>
                    <a:lnTo>
                      <a:pt x="0" y="332"/>
                    </a:lnTo>
                    <a:lnTo>
                      <a:pt x="327" y="659"/>
                    </a:lnTo>
                  </a:path>
                </a:pathLst>
              </a:custGeom>
              <a:solidFill>
                <a:srgbClr val="ade53a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41640" y="1988280"/>
                <a:ext cx="519120" cy="783000"/>
              </a:xfrm>
              <a:custGeom>
                <a:avLst/>
                <a:gdLst/>
                <a:ahLst/>
                <a:rect l="l" t="t" r="r" b="b"/>
                <a:pathLst>
                  <a:path w="327" h="502">
                    <a:moveTo>
                      <a:pt x="0" y="0"/>
                    </a:moveTo>
                    <a:lnTo>
                      <a:pt x="326" y="326"/>
                    </a:lnTo>
                    <a:lnTo>
                      <a:pt x="326" y="501"/>
                    </a:lnTo>
                    <a:lnTo>
                      <a:pt x="0" y="1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9826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242440" y="1746360"/>
                <a:ext cx="8366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Q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5549760" y="5928840"/>
              <a:ext cx="1090800" cy="1159200"/>
              <a:chOff x="5549760" y="5928840"/>
              <a:chExt cx="1090800" cy="115920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5549760" y="5928840"/>
                <a:ext cx="1090800" cy="1159200"/>
                <a:chOff x="5549760" y="5928840"/>
                <a:chExt cx="1090800" cy="1159200"/>
              </a:xfrm>
            </p:grpSpPr>
            <p:grpSp>
              <p:nvGrpSpPr>
                <p:cNvPr id="386" name=""/>
                <p:cNvGrpSpPr/>
                <p:nvPr/>
              </p:nvGrpSpPr>
              <p:grpSpPr>
                <a:xfrm>
                  <a:off x="6097680" y="6390720"/>
                  <a:ext cx="542880" cy="690840"/>
                  <a:chOff x="6097680" y="6390720"/>
                  <a:chExt cx="542880" cy="69084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>
                    <a:off x="6097680" y="6390720"/>
                    <a:ext cx="509400" cy="66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426">
                        <a:moveTo>
                          <a:pt x="320" y="0"/>
                        </a:moveTo>
                        <a:lnTo>
                          <a:pt x="0" y="279"/>
                        </a:lnTo>
                        <a:lnTo>
                          <a:pt x="0" y="425"/>
                        </a:lnTo>
                        <a:lnTo>
                          <a:pt x="320" y="142"/>
                        </a:lnTo>
                        <a:lnTo>
                          <a:pt x="320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6097680" y="6390720"/>
                    <a:ext cx="542880" cy="6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443">
                        <a:moveTo>
                          <a:pt x="341" y="0"/>
                        </a:moveTo>
                        <a:lnTo>
                          <a:pt x="0" y="290"/>
                        </a:lnTo>
                        <a:lnTo>
                          <a:pt x="0" y="442"/>
                        </a:lnTo>
                        <a:lnTo>
                          <a:pt x="341" y="148"/>
                        </a:lnTo>
                        <a:lnTo>
                          <a:pt x="3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9" name=""/>
                <p:cNvSpPr/>
                <p:nvPr/>
              </p:nvSpPr>
              <p:spPr>
                <a:xfrm>
                  <a:off x="5549760" y="5928840"/>
                  <a:ext cx="1090800" cy="920520"/>
                </a:xfrm>
                <a:custGeom>
                  <a:avLst/>
                  <a:gdLst/>
                  <a:ahLst/>
                  <a:rect l="l" t="t" r="r" b="b"/>
                  <a:pathLst>
                    <a:path w="687" h="590">
                      <a:moveTo>
                        <a:pt x="342" y="589"/>
                      </a:moveTo>
                      <a:lnTo>
                        <a:pt x="686" y="296"/>
                      </a:lnTo>
                      <a:lnTo>
                        <a:pt x="342" y="0"/>
                      </a:lnTo>
                      <a:lnTo>
                        <a:pt x="0" y="296"/>
                      </a:lnTo>
                      <a:lnTo>
                        <a:pt x="342" y="589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549760" y="6390720"/>
                  <a:ext cx="547920" cy="697320"/>
                </a:xfrm>
                <a:custGeom>
                  <a:avLst/>
                  <a:gdLst/>
                  <a:ahLst/>
                  <a:rect l="l" t="t" r="r" b="b"/>
                  <a:pathLst>
                    <a:path w="345" h="447">
                      <a:moveTo>
                        <a:pt x="0" y="0"/>
                      </a:moveTo>
                      <a:lnTo>
                        <a:pt x="344" y="290"/>
                      </a:lnTo>
                      <a:lnTo>
                        <a:pt x="344" y="446"/>
                      </a:lnTo>
                      <a:lnTo>
                        <a:pt x="0" y="1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5708160" y="6212880"/>
                <a:ext cx="7470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E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884160" y="3027960"/>
              <a:ext cx="1038240" cy="1300680"/>
              <a:chOff x="884160" y="3027960"/>
              <a:chExt cx="1038240" cy="130068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1406520" y="3545640"/>
                <a:ext cx="515880" cy="778320"/>
                <a:chOff x="1406520" y="3545640"/>
                <a:chExt cx="515880" cy="7783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1406520" y="3545640"/>
                  <a:ext cx="488880" cy="747000"/>
                </a:xfrm>
                <a:custGeom>
                  <a:avLst/>
                  <a:gdLst/>
                  <a:ahLst/>
                  <a:rect l="l" t="t" r="r" b="b"/>
                  <a:pathLst>
                    <a:path w="308" h="479">
                      <a:moveTo>
                        <a:pt x="307" y="0"/>
                      </a:moveTo>
                      <a:lnTo>
                        <a:pt x="0" y="315"/>
                      </a:lnTo>
                      <a:lnTo>
                        <a:pt x="0" y="478"/>
                      </a:lnTo>
                      <a:lnTo>
                        <a:pt x="307" y="159"/>
                      </a:lnTo>
                      <a:lnTo>
                        <a:pt x="307" y="0"/>
                      </a:lnTo>
                    </a:path>
                  </a:pathLst>
                </a:custGeom>
                <a:solidFill>
                  <a:srgbClr val="db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406520" y="3545640"/>
                  <a:ext cx="515880" cy="778320"/>
                </a:xfrm>
                <a:custGeom>
                  <a:avLst/>
                  <a:gdLst/>
                  <a:ahLst/>
                  <a:rect l="l" t="t" r="r" b="b"/>
                  <a:pathLst>
                    <a:path w="325" h="499">
                      <a:moveTo>
                        <a:pt x="324" y="0"/>
                      </a:moveTo>
                      <a:lnTo>
                        <a:pt x="0" y="327"/>
                      </a:lnTo>
                      <a:lnTo>
                        <a:pt x="0" y="498"/>
                      </a:lnTo>
                      <a:lnTo>
                        <a:pt x="324" y="166"/>
                      </a:lnTo>
                      <a:lnTo>
                        <a:pt x="324" y="0"/>
                      </a:lnTo>
                    </a:path>
                  </a:pathLst>
                </a:custGeom>
                <a:noFill/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884160" y="3027960"/>
                <a:ext cx="1038240" cy="1029600"/>
              </a:xfrm>
              <a:custGeom>
                <a:avLst/>
                <a:gdLst/>
                <a:ahLst/>
                <a:rect l="l" t="t" r="r" b="b"/>
                <a:pathLst>
                  <a:path w="654" h="660">
                    <a:moveTo>
                      <a:pt x="327" y="659"/>
                    </a:moveTo>
                    <a:lnTo>
                      <a:pt x="653" y="332"/>
                    </a:lnTo>
                    <a:lnTo>
                      <a:pt x="327" y="0"/>
                    </a:lnTo>
                    <a:lnTo>
                      <a:pt x="0" y="332"/>
                    </a:lnTo>
                    <a:lnTo>
                      <a:pt x="327" y="659"/>
                    </a:lnTo>
                  </a:path>
                </a:pathLst>
              </a:custGeom>
              <a:solidFill>
                <a:srgbClr val="ade53a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84160" y="3545640"/>
                <a:ext cx="519120" cy="783000"/>
              </a:xfrm>
              <a:custGeom>
                <a:avLst/>
                <a:gdLst/>
                <a:ahLst/>
                <a:rect l="l" t="t" r="r" b="b"/>
                <a:pathLst>
                  <a:path w="327" h="502">
                    <a:moveTo>
                      <a:pt x="0" y="0"/>
                    </a:moveTo>
                    <a:lnTo>
                      <a:pt x="326" y="326"/>
                    </a:lnTo>
                    <a:lnTo>
                      <a:pt x="326" y="501"/>
                    </a:lnTo>
                    <a:lnTo>
                      <a:pt x="0" y="1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9826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985680" y="3300480"/>
                <a:ext cx="7909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P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1298520" y="4944600"/>
              <a:ext cx="1038240" cy="1300680"/>
              <a:chOff x="1298520" y="4944600"/>
              <a:chExt cx="1038240" cy="130068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1820880" y="5462280"/>
                <a:ext cx="515880" cy="778320"/>
                <a:chOff x="1820880" y="5462280"/>
                <a:chExt cx="515880" cy="7783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820880" y="5462280"/>
                  <a:ext cx="488880" cy="747000"/>
                </a:xfrm>
                <a:custGeom>
                  <a:avLst/>
                  <a:gdLst/>
                  <a:ahLst/>
                  <a:rect l="l" t="t" r="r" b="b"/>
                  <a:pathLst>
                    <a:path w="308" h="479">
                      <a:moveTo>
                        <a:pt x="307" y="0"/>
                      </a:moveTo>
                      <a:lnTo>
                        <a:pt x="0" y="315"/>
                      </a:lnTo>
                      <a:lnTo>
                        <a:pt x="0" y="478"/>
                      </a:lnTo>
                      <a:lnTo>
                        <a:pt x="307" y="159"/>
                      </a:lnTo>
                      <a:lnTo>
                        <a:pt x="307" y="0"/>
                      </a:lnTo>
                    </a:path>
                  </a:pathLst>
                </a:custGeom>
                <a:solidFill>
                  <a:srgbClr val="db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820880" y="5462280"/>
                  <a:ext cx="515880" cy="778320"/>
                </a:xfrm>
                <a:custGeom>
                  <a:avLst/>
                  <a:gdLst/>
                  <a:ahLst/>
                  <a:rect l="l" t="t" r="r" b="b"/>
                  <a:pathLst>
                    <a:path w="325" h="499">
                      <a:moveTo>
                        <a:pt x="324" y="0"/>
                      </a:moveTo>
                      <a:lnTo>
                        <a:pt x="0" y="327"/>
                      </a:lnTo>
                      <a:lnTo>
                        <a:pt x="0" y="498"/>
                      </a:lnTo>
                      <a:lnTo>
                        <a:pt x="324" y="166"/>
                      </a:lnTo>
                      <a:lnTo>
                        <a:pt x="324" y="0"/>
                      </a:lnTo>
                    </a:path>
                  </a:pathLst>
                </a:custGeom>
                <a:noFill/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1298520" y="4944600"/>
                <a:ext cx="1038240" cy="1029600"/>
              </a:xfrm>
              <a:custGeom>
                <a:avLst/>
                <a:gdLst/>
                <a:ahLst/>
                <a:rect l="l" t="t" r="r" b="b"/>
                <a:pathLst>
                  <a:path w="654" h="660">
                    <a:moveTo>
                      <a:pt x="327" y="659"/>
                    </a:moveTo>
                    <a:lnTo>
                      <a:pt x="653" y="332"/>
                    </a:lnTo>
                    <a:lnTo>
                      <a:pt x="327" y="0"/>
                    </a:lnTo>
                    <a:lnTo>
                      <a:pt x="0" y="332"/>
                    </a:lnTo>
                    <a:lnTo>
                      <a:pt x="327" y="659"/>
                    </a:lnTo>
                  </a:path>
                </a:pathLst>
              </a:custGeom>
              <a:solidFill>
                <a:srgbClr val="ade53a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298520" y="5462280"/>
                <a:ext cx="519120" cy="783000"/>
              </a:xfrm>
              <a:custGeom>
                <a:avLst/>
                <a:gdLst/>
                <a:ahLst/>
                <a:rect l="l" t="t" r="r" b="b"/>
                <a:pathLst>
                  <a:path w="327" h="502">
                    <a:moveTo>
                      <a:pt x="0" y="0"/>
                    </a:moveTo>
                    <a:lnTo>
                      <a:pt x="326" y="326"/>
                    </a:lnTo>
                    <a:lnTo>
                      <a:pt x="326" y="501"/>
                    </a:lnTo>
                    <a:lnTo>
                      <a:pt x="0" y="1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9826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399680" y="5218920"/>
                <a:ext cx="8582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M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3282840" y="5827680"/>
              <a:ext cx="1042920" cy="1291680"/>
              <a:chOff x="3282840" y="5827680"/>
              <a:chExt cx="1042920" cy="129168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3282840" y="5827680"/>
                <a:ext cx="1042920" cy="1291680"/>
                <a:chOff x="3282840" y="5827680"/>
                <a:chExt cx="1042920" cy="12916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3282840" y="5827680"/>
                  <a:ext cx="1042920" cy="1020600"/>
                </a:xfrm>
                <a:custGeom>
                  <a:avLst/>
                  <a:gdLst/>
                  <a:ahLst/>
                  <a:rect l="l" t="t" r="r" b="b"/>
                  <a:pathLst>
                    <a:path w="657" h="654">
                      <a:moveTo>
                        <a:pt x="327" y="653"/>
                      </a:moveTo>
                      <a:lnTo>
                        <a:pt x="0" y="325"/>
                      </a:lnTo>
                      <a:lnTo>
                        <a:pt x="327" y="0"/>
                      </a:lnTo>
                      <a:lnTo>
                        <a:pt x="656" y="325"/>
                      </a:lnTo>
                      <a:lnTo>
                        <a:pt x="327" y="653"/>
                      </a:lnTo>
                    </a:path>
                  </a:pathLst>
                </a:custGeom>
                <a:solidFill>
                  <a:srgbClr val="d8d8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3282840" y="6345720"/>
                  <a:ext cx="525600" cy="773640"/>
                  <a:chOff x="3282840" y="6345720"/>
                  <a:chExt cx="525600" cy="77364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3282840" y="6345720"/>
                    <a:ext cx="493920" cy="74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478">
                        <a:moveTo>
                          <a:pt x="0" y="159"/>
                        </a:moveTo>
                        <a:lnTo>
                          <a:pt x="0" y="0"/>
                        </a:lnTo>
                        <a:lnTo>
                          <a:pt x="310" y="316"/>
                        </a:lnTo>
                        <a:lnTo>
                          <a:pt x="310" y="477"/>
                        </a:lnTo>
                        <a:lnTo>
                          <a:pt x="0" y="159"/>
                        </a:lnTo>
                      </a:path>
                    </a:pathLst>
                  </a:custGeom>
                  <a:solidFill>
                    <a:srgbClr val="b2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3282840" y="6345720"/>
                    <a:ext cx="525600" cy="773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1" h="496">
                        <a:moveTo>
                          <a:pt x="0" y="166"/>
                        </a:moveTo>
                        <a:lnTo>
                          <a:pt x="0" y="0"/>
                        </a:lnTo>
                        <a:lnTo>
                          <a:pt x="330" y="327"/>
                        </a:lnTo>
                        <a:lnTo>
                          <a:pt x="330" y="495"/>
                        </a:lnTo>
                        <a:lnTo>
                          <a:pt x="0" y="166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2" name=""/>
                <p:cNvSpPr/>
                <p:nvPr/>
              </p:nvSpPr>
              <p:spPr>
                <a:xfrm>
                  <a:off x="3807000" y="6345720"/>
                  <a:ext cx="518760" cy="759600"/>
                </a:xfrm>
                <a:custGeom>
                  <a:avLst/>
                  <a:gdLst/>
                  <a:ahLst/>
                  <a:rect l="l" t="t" r="r" b="b"/>
                  <a:pathLst>
                    <a:path w="327" h="487">
                      <a:moveTo>
                        <a:pt x="326" y="161"/>
                      </a:moveTo>
                      <a:lnTo>
                        <a:pt x="326" y="0"/>
                      </a:lnTo>
                      <a:lnTo>
                        <a:pt x="0" y="325"/>
                      </a:lnTo>
                      <a:lnTo>
                        <a:pt x="0" y="486"/>
                      </a:lnTo>
                      <a:lnTo>
                        <a:pt x="326" y="161"/>
                      </a:lnTo>
                    </a:path>
                  </a:pathLst>
                </a:custGeom>
                <a:solidFill>
                  <a:srgbClr val="ffff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3452040" y="6087960"/>
                <a:ext cx="7696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H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 flipH="1" rot="16200000">
              <a:off x="4523040" y="2643840"/>
              <a:ext cx="508680" cy="190440"/>
            </a:xfrm>
            <a:prstGeom prst="rightArrow">
              <a:avLst>
                <a:gd name="adj1" fmla="val 50000"/>
                <a:gd name="adj2" fmla="val 1335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rot="18480000">
              <a:off x="5728320" y="2843640"/>
              <a:ext cx="508320" cy="190440"/>
            </a:xfrm>
            <a:prstGeom prst="rightArrow">
              <a:avLst>
                <a:gd name="adj1" fmla="val 50000"/>
                <a:gd name="adj2" fmla="val 13347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rot="20280000">
              <a:off x="6465240" y="3805200"/>
              <a:ext cx="517320" cy="187200"/>
            </a:xfrm>
            <a:prstGeom prst="rightArrow">
              <a:avLst>
                <a:gd name="adj1" fmla="val 50000"/>
                <a:gd name="adj2" fmla="val 13818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1980000">
              <a:off x="6334560" y="4583880"/>
              <a:ext cx="517680" cy="187200"/>
            </a:xfrm>
            <a:prstGeom prst="rightArrow">
              <a:avLst>
                <a:gd name="adj1" fmla="val 50000"/>
                <a:gd name="adj2" fmla="val 13828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3840000">
              <a:off x="5159160" y="5434200"/>
              <a:ext cx="508320" cy="190440"/>
            </a:xfrm>
            <a:prstGeom prst="rightArrow">
              <a:avLst>
                <a:gd name="adj1" fmla="val 50000"/>
                <a:gd name="adj2" fmla="val 13347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7260000">
              <a:off x="3975120" y="5397120"/>
              <a:ext cx="508680" cy="190800"/>
            </a:xfrm>
            <a:prstGeom prst="rightArrow">
              <a:avLst>
                <a:gd name="adj1" fmla="val 50000"/>
                <a:gd name="adj2" fmla="val 133314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8220000">
              <a:off x="2652480" y="4690800"/>
              <a:ext cx="517320" cy="187560"/>
            </a:xfrm>
            <a:prstGeom prst="rightArrow">
              <a:avLst>
                <a:gd name="adj1" fmla="val 50000"/>
                <a:gd name="adj2" fmla="val 13792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11160000">
              <a:off x="2559240" y="3755160"/>
              <a:ext cx="517320" cy="187200"/>
            </a:xfrm>
            <a:prstGeom prst="rightArrow">
              <a:avLst>
                <a:gd name="adj1" fmla="val 50000"/>
                <a:gd name="adj2" fmla="val 13818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3500000">
              <a:off x="3499200" y="2860560"/>
              <a:ext cx="517680" cy="187200"/>
            </a:xfrm>
            <a:prstGeom prst="rightArrow">
              <a:avLst>
                <a:gd name="adj1" fmla="val 50000"/>
                <a:gd name="adj2" fmla="val 13828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Weitere Möglichk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505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66ff"/>
                </a:solidFill>
                <a:latin typeface="Arial"/>
              </a:rPr>
              <a:t>Forschung&amp;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38080" y="1440000"/>
            <a:ext cx="86868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is SAP R/3 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gänzende Funktionalitä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exible Abbildung von Proje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ücksichtigung anwenderspezifischen Anforder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der </a:t>
            </a:r>
            <a:r>
              <a:rPr b="0" lang="de-DE" sz="2000" spc="-1" strike="noStrike">
                <a:solidFill>
                  <a:srgbClr val="ff2929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RezepturVerwaltung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000" spc="-1" strike="noStrike">
                <a:solidFill>
                  <a:srgbClr val="ff2929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tatransaktionen über PS und eigene Strukt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ken sind auf Anwender zugeschnit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505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66ff"/>
                </a:solidFill>
                <a:latin typeface="Arial"/>
              </a:rPr>
              <a:t>Forschung&amp;Entwickl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676160" y="1523520"/>
            <a:ext cx="7848360" cy="541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richtlin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beschrei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planung und –budget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orga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ablauf und –termin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ressourc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steuerung  und -kontro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dokumentation und -recher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abschluß und -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auswer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AP R/3 PS für die F &amp; E Projek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-Physiker Steffen Roschek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0.05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rbemerk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5000"/>
          </a:bodyPr>
          <a:p>
            <a:pPr marL="176760" indent="0">
              <a:lnSpc>
                <a:spcPct val="90000"/>
              </a:lnSpc>
              <a:spcBef>
                <a:spcPts val="726"/>
              </a:spcBef>
              <a:spcAft>
                <a:spcPts val="3626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Arial"/>
              </a:rPr>
              <a:t>Projektbestandteil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richtlini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planung und –budgeti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organi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beschreib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kos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ablauf und –termi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ressourc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steuerung  und -kontrol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dokumentation und -recher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abschluß und -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4000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rbemerk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219320"/>
            <a:ext cx="89154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 der heutigen DV-Landschaft stehen den F&amp;E-Teams meist nur Module der Bürokommunikation zur Verfü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it Defiziten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ä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sierung der Routineabläu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sinhalte und –aktualitä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auswert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ösungsvorschla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40000"/>
              </a:lnSpc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 Modul PS (Projektsystem) im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ung des Standards durch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Forschung&amp;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44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gänzende Strukturen und Funktion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440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ringer Einarbeitungsaufw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4400">
              <a:spcBef>
                <a:spcPts val="451"/>
              </a:spcBef>
              <a:spcAft>
                <a:spcPts val="2251"/>
              </a:spcAft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mogene Benutzeroberfläche (eigene Mask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bindung von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Rezeptur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in alle SAP R/3 Mo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, Releasesicher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truktur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bildung der Struktur durch PSP-Elemen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erteilung in Unterprojekte (mehrstufig möglic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Rezept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Dokumen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.B. Word, Excel oder Grafi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truktur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905120" y="1600200"/>
          <a:ext cx="613548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00200"/>
                    <a:ext cx="613548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Steffen Roschek</dc:creator>
  <dc:description/>
  <dc:language>en-US</dc:language>
  <cp:lastModifiedBy>Dr. Jochen Winkler</cp:lastModifiedBy>
  <cp:lastPrinted>2000-08-22T07:43:11Z</cp:lastPrinted>
  <dcterms:modified xsi:type="dcterms:W3CDTF">2001-05-13T20:17:00Z</dcterms:modified>
  <cp:revision>173</cp:revision>
  <dc:subject/>
  <dc:title>SAP R/3 PS für die F &amp; E Projekte </dc:title>
</cp:coreProperties>
</file>