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93457D5-4DFD-4EA2-A31E-2BB747E0A7E6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8528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705720" y="624852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 </a:t>
            </a: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Braggadocio"/>
              </a:rPr>
              <a:t>C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onsulting</a:t>
            </a:r>
            <a:br>
              <a:rPr sz="3100"/>
            </a:b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für den Degussa-Konzern</a:t>
            </a:r>
            <a:br>
              <a:rPr sz="3100"/>
            </a:b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ücksichtigung von Nachweis- 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immungsgrenzen bei der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arallele Erfassung von eigenen Meßwerten und Werten aus Lieferantenzertifik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ssung von qualitativen Ergebnissen zu quantitativen Merkmale mit automatischer Folgea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dundanzfrei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ntrale Datenh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ltweit zentrale Verwaltung mit standort-spezifischen Anpassungsmöglich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versendung bei relevanten Än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ahme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aktuellen Bestände bei Spezifikations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Freigabe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,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Validierung von Ergebnissen und 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-1882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/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zum Stoff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 ,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gru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Spezifikationsverarb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toff / Spezifikation zum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FE-Info über alle verfügbaren Spezifikationen in all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Verwendbarkeitsprüfung von Chargen in der Lieferung unter Berücksichtigung von Mindestrestlaufzeiten und Rekla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2952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9543"/>
          <a:stretch/>
        </p:blipFill>
        <p:spPr>
          <a:xfrm>
            <a:off x="304920" y="1066680"/>
            <a:ext cx="861048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0490"/>
          <a:stretch/>
        </p:blipFill>
        <p:spPr>
          <a:xfrm>
            <a:off x="380880" y="10666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380880" y="1066680"/>
            <a:ext cx="838224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eingabe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8595"/>
          <a:stretch/>
        </p:blipFill>
        <p:spPr>
          <a:xfrm>
            <a:off x="380880" y="1066680"/>
            <a:ext cx="845820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80880" y="6858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lektionsmas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8810"/>
          <a:stretch/>
        </p:blipFill>
        <p:spPr>
          <a:xfrm>
            <a:off x="554040" y="1295280"/>
            <a:ext cx="803448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 </a:t>
            </a: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</a:t>
            </a:r>
            <a:br>
              <a:rPr sz="3100"/>
            </a:b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für den Degussa-Konzern</a:t>
            </a:r>
            <a:br>
              <a:rPr sz="3100"/>
            </a:b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 wenn die angebotenen Funktionen, das Systemhandling und die Flexibilität den Anforderungen genüg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s LIMS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Standardlösung + extern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 wenn das Standard ERP-System den Anforderungen nicht genüg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n Problem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dimensionale Ergebniserfassung (Werte, Berichte,                Spektr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, nicht in SAP zu führenden Materialien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von Frei- und / Schnellbewitterungen sowie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integrierte Abwicklung für Dienstleistungslabore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1998-06-23T09:46:52Z</cp:lastPrinted>
  <dcterms:modified xsi:type="dcterms:W3CDTF">2001-05-14T10:29:47Z</dcterms:modified>
  <cp:revision>200</cp:revision>
  <dc:subject/>
  <dc:title>Intergriertes SAP R/3 LIMS</dc:title>
</cp:coreProperties>
</file>