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752A39D-D7D2-4BB3-A5A6-C1DF091763E9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705720" y="624852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 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Braggadocio"/>
              </a:rPr>
              <a:t>C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onsulting</a:t>
            </a:r>
            <a:br>
              <a:rPr sz="3100"/>
            </a:b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für den Degussa-Konzern</a:t>
            </a:r>
            <a:br>
              <a:rPr sz="3100"/>
            </a:b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ß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 von qualitativen Ergebnissen zu quantitativen Merkmale mit automatischer Folgea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dundanzfrei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ntrale Datenh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Validierung von Ergebnissen und 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88280" indent="-1882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8280" indent="-1882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1886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28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zum Stoff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grup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Spezifikationsverarbei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toff / Spezifikation zum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FE-Info über alle verfügbaren Spezifikationen in all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Verwendbarkeitsprüfung von Chargen in der Lieferung unter Berücksichtigung von Mindestrestlaufzeiten und Rekla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29528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9543"/>
          <a:stretch/>
        </p:blipFill>
        <p:spPr>
          <a:xfrm>
            <a:off x="304920" y="1066680"/>
            <a:ext cx="861048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0490"/>
          <a:stretch/>
        </p:blipFill>
        <p:spPr>
          <a:xfrm>
            <a:off x="380880" y="10666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380880" y="1066680"/>
            <a:ext cx="8382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8595"/>
          <a:stretch/>
        </p:blipFill>
        <p:spPr>
          <a:xfrm>
            <a:off x="380880" y="1066680"/>
            <a:ext cx="84582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lektionsmas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8810"/>
          <a:stretch/>
        </p:blipFill>
        <p:spPr>
          <a:xfrm>
            <a:off x="554040" y="1295280"/>
            <a:ext cx="80344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SAP R/3 QM 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Workshop </a:t>
            </a:r>
            <a:br>
              <a:rPr sz="3100"/>
            </a:b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er</a:t>
            </a:r>
            <a:br>
              <a:rPr sz="3100"/>
            </a:br>
            <a:r>
              <a:rPr b="0" lang="de-DE" sz="31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Consulting</a:t>
            </a:r>
            <a:br>
              <a:rPr sz="3100"/>
            </a:b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 Black"/>
              </a:rPr>
              <a:t>für den Degussa-Konzern</a:t>
            </a:r>
            <a:br>
              <a:rPr sz="3100"/>
            </a:br>
            <a:br>
              <a:rPr sz="2000"/>
            </a:br>
            <a:br>
              <a:rPr sz="20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1500"/>
            </a:b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25.01.2001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ie angebotenen Funktionen, das Systemhandling und die Flexibilität den Anforderungen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as Standard ERP-System den Anforderungen nicht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dimensionale Ergebniserfassung (Werte, Berichte,                Spektr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,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von Frei- und / Schnellbewitterungen sowie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integr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1998-06-23T09:46:52Z</cp:lastPrinted>
  <dcterms:modified xsi:type="dcterms:W3CDTF">2001-05-14T10:29:47Z</dcterms:modified>
  <cp:revision>200</cp:revision>
  <dc:subject/>
  <dc:title>Intergriertes SAP R/3 LIMS</dc:title>
</cp:coreProperties>
</file>