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28796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28796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7784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287960"/>
            <a:ext cx="25023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8796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7840"/>
            <a:ext cx="379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287960"/>
            <a:ext cx="77724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20400" y="704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Standortservices 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18600" y="704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Standortservices 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2200" y="2165400"/>
            <a:ext cx="6172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SAP R/3 bei Goldschmid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M-Modul inklusive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320" y="3809520"/>
            <a:ext cx="44197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hard Gerh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ldschmidt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sches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ldschmidtstr.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127 E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4800600"/>
          <a:ext cx="2128680" cy="16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00600"/>
                    <a:ext cx="21286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orderungen für die Verwaltung von Qualitätsdaten im neuen SAP R/3-System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Essen werden die komplexen Aufgaben bisher durch eine Kombination von R/2 und QLS-LIMS gelöst.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er Datenaustausch zwischen R/2 und LIMS erfolgt in Essen bisher stündlich, zu den Comet-Systemen täglic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Die bisherigen Möglichkeiten gehen weit über die Standard-SAP hinaus und sollen erhalten blei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cc"/>
                </a:solidFill>
                <a:uFillTx/>
                <a:latin typeface="Arial"/>
              </a:rPr>
              <a:t>Zusätz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oll durch das neue System erreicht werd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fassung aller einzelnen Systeme in einem einheitliche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l-Time Zugriff auf all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führung der Historiendaten der verschiedenen Al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rne graphische Oberfläche mit vereinfachter Bedien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2560" y="9907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 1: Prüfplän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2560" y="1676520"/>
            <a:ext cx="777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jeden zu produzierenden </a:t>
            </a: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tof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wird ein Standardprüfplan aufgestellt, der etwa 75 % aller  potenziell anforderbaren Prüfungen umfa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Der Standardprüfplan kann interne Spezifikationen (alleine Freigabe-relevant FR*) und Teile von unterschiedlichen Kundenspezifikationen umf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54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Z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meidung von teuren und zeitaufwendigen Prüfungen, die nicht für jeden Kunden/jede Verwendung benöti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54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sulta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sparung von Prüf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54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tof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stellt eine Zusammenfassung eines chemisch identischen Produktes dar, unabhängig von der Verpackung. D.h. ein Material, welches unter verschiedenen Namen vermarktet wird (unterschiedliche SAP Materialnummern) und/oder in unterschiedlichen Gebinden eingelagert ist, wird als ein Stoff behand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2560" y="4648320"/>
            <a:ext cx="7775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4572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usprüfung gemäß Standardprüf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1752480"/>
            <a:ext cx="3429000" cy="1739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Nichteinhaltung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 manu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erwendungsentscheid (Sonderfreigabe, andere Verwendung, Abfall) und Dokumentation einer möglichen Korrekturmaß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895480"/>
            <a:ext cx="3657600" cy="17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utomati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Bei Einhaltung aller Vorgaben des Standardprüf-planes wird der Stoff im Status „Freier Bestand“ geführt  und (in verschiedenen Verpackungen) eingelager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4876920"/>
            <a:ext cx="4267440" cy="1618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 alle Parameter des Standardprüfplanes geprüft sind erfolgt ein automatischer Abgleich mit allen vorhandene Kundenspezifik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e für Freigabeentscheid entsprechend Standardprüfplan (rein QM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747800"/>
          <a:ext cx="7763040" cy="251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47800"/>
                    <a:ext cx="77630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78000" y="4305240"/>
          <a:ext cx="7842240" cy="255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" y="4305240"/>
                    <a:ext cx="784224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6200000">
            <a:off x="-1171800" y="3989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: Freigaberele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952880" y="3200400"/>
            <a:ext cx="304920" cy="685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4419720"/>
            <a:ext cx="304920" cy="685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5257800"/>
            <a:ext cx="3049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2817720"/>
          <a:ext cx="7070760" cy="172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7720"/>
                    <a:ext cx="707076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pezifikationsstati (Stoffsicht, QM+ andere SAP Module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72200" y="18288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: Standardspezifi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1...Kn: Spezifikation für Kundengruppe und Produkt =  f(Kunde, Produk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1...Kn: unterscheiden sich durch unterschiedliche zusätzliche Parameter im Vergleich zu S und/oder anderen Grenz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alls keine Kundenspezifikation vorliegt, gilt Standard-spezifi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 (frei): alle Anforderungen erfüll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 (blockiert): mindestens eine Grenzwertverle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 (unfrei): mindestens ein Parameter wurde noch nicht geprüf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: reserviert für Kunde während Nachprüf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Kunde xy möchte Produkt abc2 kaufen: xy hat  Spezifi-kation K4 vereinbart: relevant nur markierte 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1827360"/>
          <a:ext cx="6014880" cy="387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27360"/>
                    <a:ext cx="60148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pezifikationsstati (Vertriebssicht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200" y="1904760"/>
            <a:ext cx="769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unde xy möchte Produkt abc2 kaufen: xy hat  Spezifikation K4 vereinb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12720" y="2440080"/>
          <a:ext cx="6015240" cy="259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440080"/>
                    <a:ext cx="601524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486400" y="3809880"/>
            <a:ext cx="274320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ht in Liste enthalten, da für anderen Kunden reserv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533412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iebsmitarbeiter wählt manuell aus, welche Charge Kunde bekommt, bzw. ob unfreie Probe zunächst geprüf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 2: Abrechnung von Forschungsanalytik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verzeichnis mit Vorschlagspreisen muss hinterlegt s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gültige Preise müssen für einzelne Bestimmung manuell änderbar s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preisvereinbarungen mit 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ch nicht abrechenbare Analysen sollen erfasst s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batte müssen berücksichtigt werden kön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größere Analysenser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bhängigkeit vom Umsatz in einem definierbaren Zeitraum (z.B. für das laufende Jah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ektiv für bestimmte 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Beispiel 3: Unterstützung Qualitäts Managemen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256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kung von Dokumenten entsprechend QM-definiertem Ablauf z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abe von neuen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abe von neuen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 Informationen (elektronische Unterschrift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ierung von Werksprüfzeugni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-Stamm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 4: Retour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256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ourenprüfplan (üblicherweise unterschiedlich zu Standardprüfpl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keit der Blockierung von noch nicht verkaufter Lagerware (weltweit). Soll manuell erfol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er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 erneuter Freigabe, Verhinderung der erneuten Auslieferung der gleichen Charge an den gleichen Kun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meln der Informationen über Retouren zur späteren statistischen Auswe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 5: Rohstoffein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auf Einhalt der Lieferbedingungen und Dokumentation i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zeitpu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m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enbegleitpap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chtige und intakte Geb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enahmeplan (Mischprob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argennummerver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ikettend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legen von Prüfaufträgen im System entsprechend Prüf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sentsc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ng in Lieferanten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990360"/>
            <a:ext cx="7013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ngssituation SAP - QM -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ätsdaten-Verwaltung in unterschiedlichen Systemen (SAP R/2, SAP R/3, Comet, QLS-LI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S-LIMS als flexibles work-around zum bestehenden SAP R/2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elvorstellung / besondere Heraus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S Anforderungen Qualitäts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S Anforderungen für Forschungsanaly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 bei Goldschmidt‘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hafte Problem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plän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4320">
              <a:lnSpc>
                <a:spcPct val="90000"/>
              </a:lnSpc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752480"/>
            <a:ext cx="822960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ispiel 6: Prüfdatenspeich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-SAP: Ergebnisse bei einzelnen Char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n verschiedenen Verpackungen müssen die Daten n mal im System sein (eventuell durch kopieren). Auch beim Umfüllen in eine andere Verpackung müssen Daten kop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Auftreten eines Qualitätsproblem ist es schwierig, alle anderen Teilchargen, die aus der gleichen Produktion stammen zu erkennen und eventuell zu spe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sere Lösung: LIMS-Stoff (Menge von Materialnumm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 werden nur einmal im System hinterlegt (geringere Redunda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sistenz der Daten muss nicht ständig überprüf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Zusammenfass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ierendes, flexibles LIMS außerhalb SAP, über Batch-Schnittstelle mit SAP R/2 verbun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abe: in Zukunft möglichst alle relevanten Unternehmensdaten in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lobalen SAP R/3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QM-Modul von SAP nicht vergleichbar mit bei Goldschmidt bestehenden 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W-LIMS in Ausprägung bei der Sivento als einzige akzeptable Basis für ein LIMS innerhalb SAP identifiz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setzung der Wunschvorstellungen erscheint  mit JW-LIMS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895480"/>
            <a:ext cx="2438280" cy="38124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276720"/>
            <a:ext cx="2438280" cy="838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Goldschmidt im Degussa-Konzer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94" idx="0"/>
          </p:cNvCxnSpPr>
          <p:nvPr/>
        </p:nvCxnSpPr>
        <p:spPr>
          <a:xfrm rot="5400000">
            <a:off x="1856880" y="1143000"/>
            <a:ext cx="143280" cy="2410560"/>
          </a:xfrm>
          <a:prstGeom prst="bentConnector3">
            <a:avLst>
              <a:gd name="adj1" fmla="val 49874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95" name=""/>
          <p:cNvGrpSpPr/>
          <p:nvPr/>
        </p:nvGrpSpPr>
        <p:grpSpPr>
          <a:xfrm>
            <a:off x="533520" y="2419200"/>
            <a:ext cx="1828440" cy="457200"/>
            <a:chOff x="533520" y="2419200"/>
            <a:chExt cx="1828440" cy="457200"/>
          </a:xfrm>
        </p:grpSpPr>
        <p:sp>
          <p:nvSpPr>
            <p:cNvPr id="96" name=""/>
            <p:cNvSpPr/>
            <p:nvPr/>
          </p:nvSpPr>
          <p:spPr>
            <a:xfrm>
              <a:off x="914400" y="24192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tr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241920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95480" y="1743120"/>
            <a:ext cx="2285280" cy="533520"/>
            <a:chOff x="2895480" y="1743120"/>
            <a:chExt cx="2285280" cy="533520"/>
          </a:xfrm>
        </p:grpSpPr>
        <p:sp>
          <p:nvSpPr>
            <p:cNvPr id="98" name=""/>
            <p:cNvSpPr/>
            <p:nvPr/>
          </p:nvSpPr>
          <p:spPr>
            <a:xfrm>
              <a:off x="3371400" y="1743120"/>
              <a:ext cx="18093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1743120"/>
              <a:ext cx="475920" cy="533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" name=""/>
          <p:cNvCxnSpPr>
            <a:stCxn id="93" idx="2"/>
            <a:endCxn id="100" idx="0"/>
          </p:cNvCxnSpPr>
          <p:nvPr/>
        </p:nvCxnSpPr>
        <p:spPr>
          <a:xfrm rot="5400000">
            <a:off x="2847240" y="2133360"/>
            <a:ext cx="143280" cy="429480"/>
          </a:xfrm>
          <a:prstGeom prst="bentConnector3">
            <a:avLst>
              <a:gd name="adj1" fmla="val 4987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2"/>
            <a:endCxn id="102" idx="0"/>
          </p:cNvCxnSpPr>
          <p:nvPr/>
        </p:nvCxnSpPr>
        <p:spPr>
          <a:xfrm flipH="1" rot="16200000">
            <a:off x="3837960" y="1571400"/>
            <a:ext cx="143280" cy="1553400"/>
          </a:xfrm>
          <a:prstGeom prst="bentConnector3">
            <a:avLst>
              <a:gd name="adj1" fmla="val 4987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3" idx="2"/>
            <a:endCxn id="104" idx="0"/>
          </p:cNvCxnSpPr>
          <p:nvPr/>
        </p:nvCxnSpPr>
        <p:spPr>
          <a:xfrm flipH="1" rot="16200000">
            <a:off x="4829400" y="580680"/>
            <a:ext cx="143280" cy="3534480"/>
          </a:xfrm>
          <a:prstGeom prst="bentConnector3">
            <a:avLst>
              <a:gd name="adj1" fmla="val 49874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6477120" y="2419200"/>
            <a:ext cx="1828440" cy="457200"/>
            <a:chOff x="6477120" y="2419200"/>
            <a:chExt cx="1828440" cy="457200"/>
          </a:xfrm>
        </p:grpSpPr>
        <p:sp>
          <p:nvSpPr>
            <p:cNvPr id="106" name=""/>
            <p:cNvSpPr/>
            <p:nvPr/>
          </p:nvSpPr>
          <p:spPr>
            <a:xfrm>
              <a:off x="6858000" y="24192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7120" y="241920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858000" y="3562200"/>
            <a:ext cx="1447560" cy="304920"/>
            <a:chOff x="6858000" y="3562200"/>
            <a:chExt cx="1447560" cy="304920"/>
          </a:xfrm>
        </p:grpSpPr>
        <p:sp>
          <p:nvSpPr>
            <p:cNvPr id="108" name=""/>
            <p:cNvSpPr/>
            <p:nvPr/>
          </p:nvSpPr>
          <p:spPr>
            <a:xfrm>
              <a:off x="7159320" y="35622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ligomers &amp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lic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0" y="35622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4" idx="2"/>
            <a:endCxn id="109" idx="1"/>
          </p:cNvCxnSpPr>
          <p:nvPr/>
        </p:nvCxnSpPr>
        <p:spPr>
          <a:xfrm flipH="1" rot="16200000">
            <a:off x="6342480" y="3200040"/>
            <a:ext cx="83916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11" name=""/>
          <p:cNvGrpSpPr/>
          <p:nvPr/>
        </p:nvGrpSpPr>
        <p:grpSpPr>
          <a:xfrm>
            <a:off x="6858000" y="3257640"/>
            <a:ext cx="1447560" cy="304560"/>
            <a:chOff x="6858000" y="3257640"/>
            <a:chExt cx="1447560" cy="304560"/>
          </a:xfrm>
        </p:grpSpPr>
        <p:sp>
          <p:nvSpPr>
            <p:cNvPr id="112" name=""/>
            <p:cNvSpPr/>
            <p:nvPr/>
          </p:nvSpPr>
          <p:spPr>
            <a:xfrm>
              <a:off x="7159320" y="32576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e Special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0" y="32576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" name=""/>
          <p:cNvCxnSpPr>
            <a:stCxn id="104" idx="2"/>
            <a:endCxn id="113" idx="1"/>
          </p:cNvCxnSpPr>
          <p:nvPr/>
        </p:nvCxnSpPr>
        <p:spPr>
          <a:xfrm flipH="1" rot="16200000">
            <a:off x="6495120" y="304776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15" name=""/>
          <p:cNvGrpSpPr/>
          <p:nvPr/>
        </p:nvGrpSpPr>
        <p:grpSpPr>
          <a:xfrm>
            <a:off x="6858000" y="2952720"/>
            <a:ext cx="1447560" cy="304920"/>
            <a:chOff x="6858000" y="2952720"/>
            <a:chExt cx="1447560" cy="304920"/>
          </a:xfrm>
        </p:grpSpPr>
        <p:sp>
          <p:nvSpPr>
            <p:cNvPr id="116" name=""/>
            <p:cNvSpPr/>
            <p:nvPr/>
          </p:nvSpPr>
          <p:spPr>
            <a:xfrm>
              <a:off x="7159320" y="29527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erabsorb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0" y="29527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8" name=""/>
          <p:cNvCxnSpPr>
            <a:stCxn id="104" idx="2"/>
            <a:endCxn id="117" idx="1"/>
          </p:cNvCxnSpPr>
          <p:nvPr/>
        </p:nvCxnSpPr>
        <p:spPr>
          <a:xfrm flipH="1" rot="16200000">
            <a:off x="6647400" y="289512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19" name=""/>
          <p:cNvGrpSpPr/>
          <p:nvPr/>
        </p:nvGrpSpPr>
        <p:grpSpPr>
          <a:xfrm>
            <a:off x="914400" y="3267000"/>
            <a:ext cx="1447560" cy="304920"/>
            <a:chOff x="914400" y="3267000"/>
            <a:chExt cx="1447560" cy="304920"/>
          </a:xfrm>
        </p:grpSpPr>
        <p:sp>
          <p:nvSpPr>
            <p:cNvPr id="120" name=""/>
            <p:cNvSpPr/>
            <p:nvPr/>
          </p:nvSpPr>
          <p:spPr>
            <a:xfrm>
              <a:off x="1215720" y="32670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oA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32670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" name=""/>
          <p:cNvCxnSpPr>
            <a:stCxn id="94" idx="2"/>
            <a:endCxn id="121" idx="1"/>
          </p:cNvCxnSpPr>
          <p:nvPr/>
        </p:nvCxnSpPr>
        <p:spPr>
          <a:xfrm flipH="1" rot="16200000">
            <a:off x="546480" y="3052440"/>
            <a:ext cx="54396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23" name=""/>
          <p:cNvGrpSpPr/>
          <p:nvPr/>
        </p:nvGrpSpPr>
        <p:grpSpPr>
          <a:xfrm>
            <a:off x="914400" y="3876840"/>
            <a:ext cx="1447560" cy="304560"/>
            <a:chOff x="914400" y="3876840"/>
            <a:chExt cx="1447560" cy="304560"/>
          </a:xfrm>
        </p:grpSpPr>
        <p:sp>
          <p:nvSpPr>
            <p:cNvPr id="124" name=""/>
            <p:cNvSpPr/>
            <p:nvPr/>
          </p:nvSpPr>
          <p:spPr>
            <a:xfrm>
              <a:off x="1215720" y="38768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xtur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14400" y="38768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6" name=""/>
          <p:cNvCxnSpPr>
            <a:stCxn id="94" idx="2"/>
            <a:endCxn id="125" idx="1"/>
          </p:cNvCxnSpPr>
          <p:nvPr/>
        </p:nvCxnSpPr>
        <p:spPr>
          <a:xfrm flipH="1" rot="16200000">
            <a:off x="241920" y="3357360"/>
            <a:ext cx="11534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27" name=""/>
          <p:cNvGrpSpPr/>
          <p:nvPr/>
        </p:nvGrpSpPr>
        <p:grpSpPr>
          <a:xfrm>
            <a:off x="914400" y="3571920"/>
            <a:ext cx="1447560" cy="304920"/>
            <a:chOff x="914400" y="3571920"/>
            <a:chExt cx="1447560" cy="304920"/>
          </a:xfrm>
        </p:grpSpPr>
        <p:sp>
          <p:nvSpPr>
            <p:cNvPr id="128" name=""/>
            <p:cNvSpPr/>
            <p:nvPr/>
          </p:nvSpPr>
          <p:spPr>
            <a:xfrm>
              <a:off x="1215720" y="35719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ed Addi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5719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0" name=""/>
          <p:cNvCxnSpPr>
            <a:stCxn id="94" idx="2"/>
            <a:endCxn id="129" idx="1"/>
          </p:cNvCxnSpPr>
          <p:nvPr/>
        </p:nvCxnSpPr>
        <p:spPr>
          <a:xfrm flipH="1" rot="16200000">
            <a:off x="394200" y="3204720"/>
            <a:ext cx="8485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31" name=""/>
          <p:cNvGrpSpPr/>
          <p:nvPr/>
        </p:nvGrpSpPr>
        <p:grpSpPr>
          <a:xfrm>
            <a:off x="914400" y="2962440"/>
            <a:ext cx="1447560" cy="304560"/>
            <a:chOff x="914400" y="2962440"/>
            <a:chExt cx="1447560" cy="304560"/>
          </a:xfrm>
        </p:grpSpPr>
        <p:sp>
          <p:nvSpPr>
            <p:cNvPr id="132" name=""/>
            <p:cNvSpPr/>
            <p:nvPr/>
          </p:nvSpPr>
          <p:spPr>
            <a:xfrm>
              <a:off x="1215720" y="29624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lavors &amp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uit Syste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29624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" name=""/>
          <p:cNvCxnSpPr>
            <a:stCxn id="94" idx="2"/>
            <a:endCxn id="133" idx="1"/>
          </p:cNvCxnSpPr>
          <p:nvPr/>
        </p:nvCxnSpPr>
        <p:spPr>
          <a:xfrm flipH="1" rot="16200000">
            <a:off x="699120" y="2900160"/>
            <a:ext cx="2390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35" name=""/>
          <p:cNvGrpSpPr/>
          <p:nvPr/>
        </p:nvGrpSpPr>
        <p:grpSpPr>
          <a:xfrm>
            <a:off x="2514600" y="2419200"/>
            <a:ext cx="1828440" cy="457200"/>
            <a:chOff x="2514600" y="2419200"/>
            <a:chExt cx="1828440" cy="457200"/>
          </a:xfrm>
        </p:grpSpPr>
        <p:sp>
          <p:nvSpPr>
            <p:cNvPr id="136" name=""/>
            <p:cNvSpPr/>
            <p:nvPr/>
          </p:nvSpPr>
          <p:spPr>
            <a:xfrm>
              <a:off x="2895480" y="24192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241920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95480" y="3562200"/>
            <a:ext cx="1447560" cy="304920"/>
            <a:chOff x="2895480" y="3562200"/>
            <a:chExt cx="1447560" cy="304920"/>
          </a:xfrm>
        </p:grpSpPr>
        <p:sp>
          <p:nvSpPr>
            <p:cNvPr id="138" name=""/>
            <p:cNvSpPr/>
            <p:nvPr/>
          </p:nvSpPr>
          <p:spPr>
            <a:xfrm>
              <a:off x="3196800" y="35622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C - Amer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5622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" name=""/>
          <p:cNvCxnSpPr>
            <a:stCxn id="100" idx="2"/>
            <a:endCxn id="139" idx="1"/>
          </p:cNvCxnSpPr>
          <p:nvPr/>
        </p:nvCxnSpPr>
        <p:spPr>
          <a:xfrm flipH="1" rot="16200000">
            <a:off x="2379960" y="3200040"/>
            <a:ext cx="83916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2895480" y="3257640"/>
            <a:ext cx="1447560" cy="304560"/>
            <a:chOff x="2895480" y="3257640"/>
            <a:chExt cx="1447560" cy="304560"/>
          </a:xfrm>
        </p:grpSpPr>
        <p:sp>
          <p:nvSpPr>
            <p:cNvPr id="142" name=""/>
            <p:cNvSpPr/>
            <p:nvPr/>
          </p:nvSpPr>
          <p:spPr>
            <a:xfrm>
              <a:off x="3196800" y="32576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C-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32576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00" idx="2"/>
            <a:endCxn id="143" idx="1"/>
          </p:cNvCxnSpPr>
          <p:nvPr/>
        </p:nvCxnSpPr>
        <p:spPr>
          <a:xfrm flipH="1" rot="16200000">
            <a:off x="2532600" y="304776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45" name=""/>
          <p:cNvGrpSpPr/>
          <p:nvPr/>
        </p:nvGrpSpPr>
        <p:grpSpPr>
          <a:xfrm>
            <a:off x="2895480" y="2952720"/>
            <a:ext cx="1447560" cy="304920"/>
            <a:chOff x="2895480" y="2952720"/>
            <a:chExt cx="1447560" cy="304920"/>
          </a:xfrm>
        </p:grpSpPr>
        <p:sp>
          <p:nvSpPr>
            <p:cNvPr id="146" name=""/>
            <p:cNvSpPr/>
            <p:nvPr/>
          </p:nvSpPr>
          <p:spPr>
            <a:xfrm>
              <a:off x="3196800" y="29527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C 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9527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" name=""/>
          <p:cNvCxnSpPr>
            <a:stCxn id="100" idx="2"/>
            <a:endCxn id="147" idx="1"/>
          </p:cNvCxnSpPr>
          <p:nvPr/>
        </p:nvCxnSpPr>
        <p:spPr>
          <a:xfrm flipH="1" rot="16200000">
            <a:off x="2684880" y="289512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49" name=""/>
          <p:cNvGrpSpPr/>
          <p:nvPr/>
        </p:nvGrpSpPr>
        <p:grpSpPr>
          <a:xfrm>
            <a:off x="2895480" y="3867120"/>
            <a:ext cx="1447560" cy="304920"/>
            <a:chOff x="2895480" y="3867120"/>
            <a:chExt cx="1447560" cy="304920"/>
          </a:xfrm>
        </p:grpSpPr>
        <p:sp>
          <p:nvSpPr>
            <p:cNvPr id="150" name=""/>
            <p:cNvSpPr/>
            <p:nvPr/>
          </p:nvSpPr>
          <p:spPr>
            <a:xfrm>
              <a:off x="3196800" y="38671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C 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sia / Pacif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38671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2" name=""/>
          <p:cNvCxnSpPr>
            <a:stCxn id="100" idx="2"/>
            <a:endCxn id="151" idx="1"/>
          </p:cNvCxnSpPr>
          <p:nvPr/>
        </p:nvCxnSpPr>
        <p:spPr>
          <a:xfrm flipH="1" rot="16200000">
            <a:off x="2227680" y="3352320"/>
            <a:ext cx="11437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53" name=""/>
          <p:cNvGrpSpPr/>
          <p:nvPr/>
        </p:nvGrpSpPr>
        <p:grpSpPr>
          <a:xfrm>
            <a:off x="4495680" y="2419200"/>
            <a:ext cx="1828440" cy="457200"/>
            <a:chOff x="4495680" y="2419200"/>
            <a:chExt cx="1828440" cy="457200"/>
          </a:xfrm>
        </p:grpSpPr>
        <p:sp>
          <p:nvSpPr>
            <p:cNvPr id="154" name=""/>
            <p:cNvSpPr/>
            <p:nvPr/>
          </p:nvSpPr>
          <p:spPr>
            <a:xfrm>
              <a:off x="4876560" y="24192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e &amp; Indust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241920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876920" y="3562200"/>
            <a:ext cx="1447200" cy="304920"/>
            <a:chOff x="4876920" y="3562200"/>
            <a:chExt cx="1447200" cy="304920"/>
          </a:xfrm>
        </p:grpSpPr>
        <p:sp>
          <p:nvSpPr>
            <p:cNvPr id="156" name=""/>
            <p:cNvSpPr/>
            <p:nvPr/>
          </p:nvSpPr>
          <p:spPr>
            <a:xfrm>
              <a:off x="5178240" y="3562200"/>
              <a:ext cx="1145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4-Chemist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6920" y="35622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02" idx="2"/>
            <a:endCxn id="157" idx="1"/>
          </p:cNvCxnSpPr>
          <p:nvPr/>
        </p:nvCxnSpPr>
        <p:spPr>
          <a:xfrm flipH="1" rot="16200000">
            <a:off x="4361400" y="3200040"/>
            <a:ext cx="83916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59" name=""/>
          <p:cNvGrpSpPr/>
          <p:nvPr/>
        </p:nvGrpSpPr>
        <p:grpSpPr>
          <a:xfrm>
            <a:off x="4876920" y="3257640"/>
            <a:ext cx="1447200" cy="304560"/>
            <a:chOff x="4876920" y="3257640"/>
            <a:chExt cx="1447200" cy="304560"/>
          </a:xfrm>
        </p:grpSpPr>
        <p:sp>
          <p:nvSpPr>
            <p:cNvPr id="160" name=""/>
            <p:cNvSpPr/>
            <p:nvPr/>
          </p:nvSpPr>
          <p:spPr>
            <a:xfrm>
              <a:off x="5178240" y="3257640"/>
              <a:ext cx="1145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eaching &amp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ater Chemic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32576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02" idx="2"/>
            <a:endCxn id="161" idx="1"/>
          </p:cNvCxnSpPr>
          <p:nvPr/>
        </p:nvCxnSpPr>
        <p:spPr>
          <a:xfrm flipH="1" rot="16200000">
            <a:off x="4514040" y="304776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63" name=""/>
          <p:cNvGrpSpPr/>
          <p:nvPr/>
        </p:nvGrpSpPr>
        <p:grpSpPr>
          <a:xfrm>
            <a:off x="4876920" y="2952720"/>
            <a:ext cx="1447200" cy="304920"/>
            <a:chOff x="4876920" y="2952720"/>
            <a:chExt cx="1447200" cy="304920"/>
          </a:xfrm>
        </p:grpSpPr>
        <p:sp>
          <p:nvSpPr>
            <p:cNvPr id="164" name=""/>
            <p:cNvSpPr/>
            <p:nvPr/>
          </p:nvSpPr>
          <p:spPr>
            <a:xfrm>
              <a:off x="5178240" y="2952720"/>
              <a:ext cx="1145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ne Chemic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920" y="29527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" name=""/>
          <p:cNvCxnSpPr>
            <a:stCxn id="102" idx="2"/>
            <a:endCxn id="165" idx="1"/>
          </p:cNvCxnSpPr>
          <p:nvPr/>
        </p:nvCxnSpPr>
        <p:spPr>
          <a:xfrm flipH="1" rot="16200000">
            <a:off x="4666320" y="289512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8" idx="0"/>
            <a:endCxn id="169" idx="0"/>
          </p:cNvCxnSpPr>
          <p:nvPr/>
        </p:nvCxnSpPr>
        <p:spPr>
          <a:xfrm rot="5400000">
            <a:off x="1504440" y="3619440"/>
            <a:ext cx="153000" cy="1715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533520" y="4552920"/>
            <a:ext cx="1828440" cy="457200"/>
            <a:chOff x="533520" y="4552920"/>
            <a:chExt cx="1828440" cy="457200"/>
          </a:xfrm>
        </p:grpSpPr>
        <p:sp>
          <p:nvSpPr>
            <p:cNvPr id="171" name=""/>
            <p:cNvSpPr/>
            <p:nvPr/>
          </p:nvSpPr>
          <p:spPr>
            <a:xfrm>
              <a:off x="914400" y="45529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ting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vanced Fill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45529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2" name=""/>
          <p:cNvCxnSpPr>
            <a:stCxn id="168" idx="0"/>
            <a:endCxn id="173" idx="0"/>
          </p:cNvCxnSpPr>
          <p:nvPr/>
        </p:nvCxnSpPr>
        <p:spPr>
          <a:xfrm flipH="1" rot="16200000">
            <a:off x="2494080" y="4343040"/>
            <a:ext cx="153000" cy="267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8" idx="0"/>
            <a:endCxn id="175" idx="0"/>
          </p:cNvCxnSpPr>
          <p:nvPr/>
        </p:nvCxnSpPr>
        <p:spPr>
          <a:xfrm flipH="1" rot="16200000">
            <a:off x="3485160" y="3352320"/>
            <a:ext cx="153000" cy="2248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8" idx="0"/>
            <a:endCxn id="177" idx="0"/>
          </p:cNvCxnSpPr>
          <p:nvPr/>
        </p:nvCxnSpPr>
        <p:spPr>
          <a:xfrm flipH="1" rot="16200000">
            <a:off x="4476600" y="2361960"/>
            <a:ext cx="153000" cy="4229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477120" y="4552920"/>
            <a:ext cx="1828440" cy="457200"/>
            <a:chOff x="6477120" y="4552920"/>
            <a:chExt cx="1828440" cy="457200"/>
          </a:xfrm>
        </p:grpSpPr>
        <p:sp>
          <p:nvSpPr>
            <p:cNvPr id="179" name=""/>
            <p:cNvSpPr/>
            <p:nvPr/>
          </p:nvSpPr>
          <p:spPr>
            <a:xfrm>
              <a:off x="6858000" y="45529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120" y="45529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858000" y="5391000"/>
            <a:ext cx="1447560" cy="304920"/>
            <a:chOff x="6858000" y="5391000"/>
            <a:chExt cx="1447560" cy="304920"/>
          </a:xfrm>
        </p:grpSpPr>
        <p:sp>
          <p:nvSpPr>
            <p:cNvPr id="181" name=""/>
            <p:cNvSpPr/>
            <p:nvPr/>
          </p:nvSpPr>
          <p:spPr>
            <a:xfrm>
              <a:off x="7159320" y="53910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v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0" y="53910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77" idx="2"/>
            <a:endCxn id="182" idx="1"/>
          </p:cNvCxnSpPr>
          <p:nvPr/>
        </p:nvCxnSpPr>
        <p:spPr>
          <a:xfrm flipH="1" rot="16200000">
            <a:off x="6495120" y="518148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84" name=""/>
          <p:cNvGrpSpPr/>
          <p:nvPr/>
        </p:nvGrpSpPr>
        <p:grpSpPr>
          <a:xfrm>
            <a:off x="6858000" y="5086440"/>
            <a:ext cx="1447560" cy="304560"/>
            <a:chOff x="6858000" y="5086440"/>
            <a:chExt cx="1447560" cy="304560"/>
          </a:xfrm>
        </p:grpSpPr>
        <p:sp>
          <p:nvSpPr>
            <p:cNvPr id="185" name=""/>
            <p:cNvSpPr/>
            <p:nvPr/>
          </p:nvSpPr>
          <p:spPr>
            <a:xfrm>
              <a:off x="7159320" y="50864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rporate Cen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50864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177" idx="2"/>
            <a:endCxn id="186" idx="1"/>
          </p:cNvCxnSpPr>
          <p:nvPr/>
        </p:nvCxnSpPr>
        <p:spPr>
          <a:xfrm flipH="1" rot="16200000">
            <a:off x="6647400" y="502884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88" name=""/>
          <p:cNvGrpSpPr/>
          <p:nvPr/>
        </p:nvGrpSpPr>
        <p:grpSpPr>
          <a:xfrm>
            <a:off x="914400" y="5695920"/>
            <a:ext cx="1447560" cy="304920"/>
            <a:chOff x="914400" y="5695920"/>
            <a:chExt cx="1447560" cy="304920"/>
          </a:xfrm>
        </p:grpSpPr>
        <p:sp>
          <p:nvSpPr>
            <p:cNvPr id="189" name=""/>
            <p:cNvSpPr/>
            <p:nvPr/>
          </p:nvSpPr>
          <p:spPr>
            <a:xfrm>
              <a:off x="1215720" y="56959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dvanced Fill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&amp; Pig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56959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1" name=""/>
          <p:cNvCxnSpPr>
            <a:stCxn id="169" idx="2"/>
            <a:endCxn id="190" idx="1"/>
          </p:cNvCxnSpPr>
          <p:nvPr/>
        </p:nvCxnSpPr>
        <p:spPr>
          <a:xfrm flipH="1" rot="16200000">
            <a:off x="399240" y="5333760"/>
            <a:ext cx="83880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92" name=""/>
          <p:cNvGrpSpPr/>
          <p:nvPr/>
        </p:nvGrpSpPr>
        <p:grpSpPr>
          <a:xfrm>
            <a:off x="914400" y="5391000"/>
            <a:ext cx="1447560" cy="304920"/>
            <a:chOff x="914400" y="5391000"/>
            <a:chExt cx="1447560" cy="304920"/>
          </a:xfrm>
        </p:grpSpPr>
        <p:sp>
          <p:nvSpPr>
            <p:cNvPr id="193" name=""/>
            <p:cNvSpPr/>
            <p:nvPr/>
          </p:nvSpPr>
          <p:spPr>
            <a:xfrm>
              <a:off x="1215720" y="53910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lica, Silane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&amp; Catalys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53910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5" name=""/>
          <p:cNvCxnSpPr>
            <a:stCxn id="169" idx="2"/>
            <a:endCxn id="194" idx="1"/>
          </p:cNvCxnSpPr>
          <p:nvPr/>
        </p:nvCxnSpPr>
        <p:spPr>
          <a:xfrm flipH="1" rot="16200000">
            <a:off x="551520" y="518148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914400" y="5086440"/>
            <a:ext cx="1447560" cy="304560"/>
            <a:chOff x="914400" y="5086440"/>
            <a:chExt cx="1447560" cy="304560"/>
          </a:xfrm>
        </p:grpSpPr>
        <p:sp>
          <p:nvSpPr>
            <p:cNvPr id="197" name=""/>
            <p:cNvSpPr/>
            <p:nvPr/>
          </p:nvSpPr>
          <p:spPr>
            <a:xfrm>
              <a:off x="1215720" y="50864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ating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&amp; Colora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4400" y="50864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69" idx="2"/>
            <a:endCxn id="198" idx="1"/>
          </p:cNvCxnSpPr>
          <p:nvPr/>
        </p:nvCxnSpPr>
        <p:spPr>
          <a:xfrm flipH="1" rot="16200000">
            <a:off x="703800" y="502884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2514600" y="4552920"/>
            <a:ext cx="1828440" cy="457200"/>
            <a:chOff x="2514600" y="4552920"/>
            <a:chExt cx="1828440" cy="457200"/>
          </a:xfrm>
        </p:grpSpPr>
        <p:sp>
          <p:nvSpPr>
            <p:cNvPr id="201" name=""/>
            <p:cNvSpPr/>
            <p:nvPr/>
          </p:nvSpPr>
          <p:spPr>
            <a:xfrm>
              <a:off x="2895480" y="45529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45529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95480" y="6000840"/>
            <a:ext cx="1447560" cy="304560"/>
            <a:chOff x="2895480" y="6000840"/>
            <a:chExt cx="1447560" cy="304560"/>
          </a:xfrm>
        </p:grpSpPr>
        <p:sp>
          <p:nvSpPr>
            <p:cNvPr id="203" name=""/>
            <p:cNvSpPr/>
            <p:nvPr/>
          </p:nvSpPr>
          <p:spPr>
            <a:xfrm>
              <a:off x="3196800" y="60008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exigl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95480" y="60008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73" idx="2"/>
            <a:endCxn id="204" idx="1"/>
          </p:cNvCxnSpPr>
          <p:nvPr/>
        </p:nvCxnSpPr>
        <p:spPr>
          <a:xfrm flipH="1" rot="16200000">
            <a:off x="2227680" y="5486040"/>
            <a:ext cx="11437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06" name=""/>
          <p:cNvGrpSpPr/>
          <p:nvPr/>
        </p:nvGrpSpPr>
        <p:grpSpPr>
          <a:xfrm>
            <a:off x="2895480" y="5391000"/>
            <a:ext cx="1447560" cy="304920"/>
            <a:chOff x="2895480" y="5391000"/>
            <a:chExt cx="1447560" cy="304920"/>
          </a:xfrm>
        </p:grpSpPr>
        <p:sp>
          <p:nvSpPr>
            <p:cNvPr id="207" name=""/>
            <p:cNvSpPr/>
            <p:nvPr/>
          </p:nvSpPr>
          <p:spPr>
            <a:xfrm>
              <a:off x="3196800" y="53910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ecialty Acryl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480" y="53910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9" name=""/>
          <p:cNvCxnSpPr>
            <a:stCxn id="173" idx="2"/>
            <a:endCxn id="208" idx="1"/>
          </p:cNvCxnSpPr>
          <p:nvPr/>
        </p:nvCxnSpPr>
        <p:spPr>
          <a:xfrm flipH="1" rot="16200000">
            <a:off x="2532600" y="5181480"/>
            <a:ext cx="5342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10" name=""/>
          <p:cNvGrpSpPr/>
          <p:nvPr/>
        </p:nvGrpSpPr>
        <p:grpSpPr>
          <a:xfrm>
            <a:off x="2895480" y="5695920"/>
            <a:ext cx="1447560" cy="304920"/>
            <a:chOff x="2895480" y="5695920"/>
            <a:chExt cx="1447560" cy="304920"/>
          </a:xfrm>
        </p:grpSpPr>
        <p:sp>
          <p:nvSpPr>
            <p:cNvPr id="211" name=""/>
            <p:cNvSpPr/>
            <p:nvPr/>
          </p:nvSpPr>
          <p:spPr>
            <a:xfrm>
              <a:off x="3196800" y="569592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thacryla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959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3" name=""/>
          <p:cNvCxnSpPr>
            <a:stCxn id="173" idx="2"/>
            <a:endCxn id="212" idx="1"/>
          </p:cNvCxnSpPr>
          <p:nvPr/>
        </p:nvCxnSpPr>
        <p:spPr>
          <a:xfrm flipH="1" rot="16200000">
            <a:off x="2380320" y="5333760"/>
            <a:ext cx="83880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14" name=""/>
          <p:cNvGrpSpPr/>
          <p:nvPr/>
        </p:nvGrpSpPr>
        <p:grpSpPr>
          <a:xfrm>
            <a:off x="2895480" y="5086440"/>
            <a:ext cx="1447560" cy="304560"/>
            <a:chOff x="2895480" y="5086440"/>
            <a:chExt cx="1447560" cy="304560"/>
          </a:xfrm>
        </p:grpSpPr>
        <p:sp>
          <p:nvSpPr>
            <p:cNvPr id="215" name=""/>
            <p:cNvSpPr/>
            <p:nvPr/>
          </p:nvSpPr>
          <p:spPr>
            <a:xfrm>
              <a:off x="3196800" y="5086440"/>
              <a:ext cx="11462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gh Perform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lym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5086440"/>
              <a:ext cx="3013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7" name=""/>
          <p:cNvCxnSpPr>
            <a:stCxn id="173" idx="2"/>
            <a:endCxn id="216" idx="1"/>
          </p:cNvCxnSpPr>
          <p:nvPr/>
        </p:nvCxnSpPr>
        <p:spPr>
          <a:xfrm flipH="1" rot="16200000">
            <a:off x="2684880" y="502884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18" name=""/>
          <p:cNvGrpSpPr/>
          <p:nvPr/>
        </p:nvGrpSpPr>
        <p:grpSpPr>
          <a:xfrm>
            <a:off x="4495680" y="4552920"/>
            <a:ext cx="1828440" cy="457200"/>
            <a:chOff x="4495680" y="4552920"/>
            <a:chExt cx="1828440" cy="457200"/>
          </a:xfrm>
        </p:grpSpPr>
        <p:sp>
          <p:nvSpPr>
            <p:cNvPr id="219" name=""/>
            <p:cNvSpPr/>
            <p:nvPr/>
          </p:nvSpPr>
          <p:spPr>
            <a:xfrm>
              <a:off x="4876560" y="45529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5680" y="45529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76920" y="5095800"/>
            <a:ext cx="1447200" cy="304920"/>
            <a:chOff x="4876920" y="5095800"/>
            <a:chExt cx="1447200" cy="304920"/>
          </a:xfrm>
        </p:grpSpPr>
        <p:sp>
          <p:nvSpPr>
            <p:cNvPr id="221" name=""/>
            <p:cNvSpPr/>
            <p:nvPr/>
          </p:nvSpPr>
          <p:spPr>
            <a:xfrm>
              <a:off x="5178240" y="5095800"/>
              <a:ext cx="1145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s Uni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50958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3" name=""/>
          <p:cNvCxnSpPr>
            <a:stCxn id="175" idx="2"/>
            <a:endCxn id="222" idx="1"/>
          </p:cNvCxnSpPr>
          <p:nvPr/>
        </p:nvCxnSpPr>
        <p:spPr>
          <a:xfrm flipH="1" rot="16200000">
            <a:off x="4661640" y="5033880"/>
            <a:ext cx="2390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24" name=""/>
          <p:cNvGrpSpPr/>
          <p:nvPr/>
        </p:nvGrpSpPr>
        <p:grpSpPr>
          <a:xfrm>
            <a:off x="2895480" y="6305400"/>
            <a:ext cx="1447560" cy="304920"/>
            <a:chOff x="2895480" y="6305400"/>
            <a:chExt cx="1447560" cy="304920"/>
          </a:xfrm>
        </p:grpSpPr>
        <p:sp>
          <p:nvSpPr>
            <p:cNvPr id="225" name=""/>
            <p:cNvSpPr/>
            <p:nvPr/>
          </p:nvSpPr>
          <p:spPr>
            <a:xfrm>
              <a:off x="3196800" y="6305400"/>
              <a:ext cx="1146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lymerLate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5480" y="630540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7" name=""/>
          <p:cNvCxnSpPr>
            <a:stCxn id="173" idx="2"/>
            <a:endCxn id="226" idx="1"/>
          </p:cNvCxnSpPr>
          <p:nvPr/>
        </p:nvCxnSpPr>
        <p:spPr>
          <a:xfrm flipH="1" rot="16200000">
            <a:off x="2075400" y="5638680"/>
            <a:ext cx="144864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28" name=""/>
          <p:cNvGrpSpPr/>
          <p:nvPr/>
        </p:nvGrpSpPr>
        <p:grpSpPr>
          <a:xfrm>
            <a:off x="4876920" y="5400720"/>
            <a:ext cx="1447200" cy="304920"/>
            <a:chOff x="4876920" y="5400720"/>
            <a:chExt cx="1447200" cy="304920"/>
          </a:xfrm>
        </p:grpSpPr>
        <p:sp>
          <p:nvSpPr>
            <p:cNvPr id="229" name=""/>
            <p:cNvSpPr/>
            <p:nvPr/>
          </p:nvSpPr>
          <p:spPr>
            <a:xfrm>
              <a:off x="5178240" y="5400720"/>
              <a:ext cx="1145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al Est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s &amp; Oth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5400720"/>
              <a:ext cx="3013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1" name=""/>
          <p:cNvCxnSpPr>
            <a:stCxn id="175" idx="2"/>
            <a:endCxn id="230" idx="1"/>
          </p:cNvCxnSpPr>
          <p:nvPr/>
        </p:nvCxnSpPr>
        <p:spPr>
          <a:xfrm flipH="1" rot="16200000">
            <a:off x="4509360" y="5186160"/>
            <a:ext cx="54360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 flipV="1">
            <a:off x="2438280" y="23428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5320" y="6429240"/>
            <a:ext cx="142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on-Core-Activit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n page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5" idx="2"/>
            <a:endCxn id="236" idx="1"/>
          </p:cNvCxnSpPr>
          <p:nvPr/>
        </p:nvCxnSpPr>
        <p:spPr>
          <a:xfrm flipH="1" rot="16200000">
            <a:off x="5639400" y="5251320"/>
            <a:ext cx="1613520" cy="673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37" name=""/>
          <p:cNvGrpSpPr/>
          <p:nvPr/>
        </p:nvGrpSpPr>
        <p:grpSpPr>
          <a:xfrm>
            <a:off x="6480000" y="5862600"/>
            <a:ext cx="1828800" cy="457200"/>
            <a:chOff x="6480000" y="5862600"/>
            <a:chExt cx="1828800" cy="457200"/>
          </a:xfrm>
        </p:grpSpPr>
        <p:sp>
          <p:nvSpPr>
            <p:cNvPr id="238" name=""/>
            <p:cNvSpPr/>
            <p:nvPr/>
          </p:nvSpPr>
          <p:spPr>
            <a:xfrm>
              <a:off x="6860880" y="5862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on-Co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0000" y="5862600"/>
              <a:ext cx="38088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9" name=""/>
          <p:cNvCxnSpPr>
            <a:stCxn id="236" idx="2"/>
          </p:cNvCxnSpPr>
          <p:nvPr/>
        </p:nvCxnSpPr>
        <p:spPr>
          <a:xfrm flipH="1" rot="16200000">
            <a:off x="6650640" y="6338520"/>
            <a:ext cx="2293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301080" y="41734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2960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3048120"/>
            <a:ext cx="2133720" cy="304776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3048120"/>
            <a:ext cx="4572000" cy="30477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Performance Chemical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5" idx="2"/>
            <a:endCxn id="246" idx="0"/>
          </p:cNvCxnSpPr>
          <p:nvPr/>
        </p:nvCxnSpPr>
        <p:spPr>
          <a:xfrm rot="5400000">
            <a:off x="1856880" y="1771560"/>
            <a:ext cx="143640" cy="2410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47" name=""/>
          <p:cNvGrpSpPr/>
          <p:nvPr/>
        </p:nvGrpSpPr>
        <p:grpSpPr>
          <a:xfrm>
            <a:off x="533520" y="3048120"/>
            <a:ext cx="1828440" cy="457200"/>
            <a:chOff x="533520" y="3048120"/>
            <a:chExt cx="1828440" cy="457200"/>
          </a:xfrm>
        </p:grpSpPr>
        <p:sp>
          <p:nvSpPr>
            <p:cNvPr id="248" name=""/>
            <p:cNvSpPr/>
            <p:nvPr/>
          </p:nvSpPr>
          <p:spPr>
            <a:xfrm>
              <a:off x="914400" y="30481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absorb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520" y="30481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9" name=""/>
          <p:cNvCxnSpPr>
            <a:stCxn id="250" idx="2"/>
            <a:endCxn id="251" idx="1"/>
          </p:cNvCxnSpPr>
          <p:nvPr/>
        </p:nvCxnSpPr>
        <p:spPr>
          <a:xfrm flipH="1" rot="16200000">
            <a:off x="1980000" y="4228920"/>
            <a:ext cx="16390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52" name=""/>
          <p:cNvGrpSpPr/>
          <p:nvPr/>
        </p:nvGrpSpPr>
        <p:grpSpPr>
          <a:xfrm>
            <a:off x="2895480" y="4952880"/>
            <a:ext cx="1447560" cy="381240"/>
            <a:chOff x="2895480" y="4952880"/>
            <a:chExt cx="1447560" cy="381240"/>
          </a:xfrm>
        </p:grpSpPr>
        <p:sp>
          <p:nvSpPr>
            <p:cNvPr id="253" name=""/>
            <p:cNvSpPr/>
            <p:nvPr/>
          </p:nvSpPr>
          <p:spPr>
            <a:xfrm>
              <a:off x="3196800" y="49528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terg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5480" y="49528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45" idx="2"/>
            <a:endCxn id="250" idx="0"/>
          </p:cNvCxnSpPr>
          <p:nvPr/>
        </p:nvCxnSpPr>
        <p:spPr>
          <a:xfrm rot="5400000">
            <a:off x="2847240" y="2761920"/>
            <a:ext cx="143640" cy="429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55" name=""/>
          <p:cNvGrpSpPr/>
          <p:nvPr/>
        </p:nvGrpSpPr>
        <p:grpSpPr>
          <a:xfrm>
            <a:off x="2514600" y="3048120"/>
            <a:ext cx="1828440" cy="457200"/>
            <a:chOff x="2514600" y="3048120"/>
            <a:chExt cx="1828440" cy="457200"/>
          </a:xfrm>
        </p:grpSpPr>
        <p:sp>
          <p:nvSpPr>
            <p:cNvPr id="256" name=""/>
            <p:cNvSpPr/>
            <p:nvPr/>
          </p:nvSpPr>
          <p:spPr>
            <a:xfrm>
              <a:off x="2895480" y="30481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e Special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30481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895480" y="2371680"/>
            <a:ext cx="2285280" cy="533520"/>
            <a:chOff x="2895480" y="2371680"/>
            <a:chExt cx="2285280" cy="533520"/>
          </a:xfrm>
        </p:grpSpPr>
        <p:sp>
          <p:nvSpPr>
            <p:cNvPr id="258" name=""/>
            <p:cNvSpPr/>
            <p:nvPr/>
          </p:nvSpPr>
          <p:spPr>
            <a:xfrm>
              <a:off x="3371400" y="2371680"/>
              <a:ext cx="18093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2371680"/>
              <a:ext cx="475920" cy="533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95480" y="4495680"/>
            <a:ext cx="1447560" cy="381240"/>
            <a:chOff x="2895480" y="4495680"/>
            <a:chExt cx="1447560" cy="381240"/>
          </a:xfrm>
        </p:grpSpPr>
        <p:sp>
          <p:nvSpPr>
            <p:cNvPr id="260" name=""/>
            <p:cNvSpPr/>
            <p:nvPr/>
          </p:nvSpPr>
          <p:spPr>
            <a:xfrm>
              <a:off x="3196800" y="44956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me C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44956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2" name=""/>
          <p:cNvCxnSpPr>
            <a:stCxn id="250" idx="2"/>
            <a:endCxn id="261" idx="1"/>
          </p:cNvCxnSpPr>
          <p:nvPr/>
        </p:nvCxnSpPr>
        <p:spPr>
          <a:xfrm flipH="1" rot="16200000">
            <a:off x="2208600" y="4000320"/>
            <a:ext cx="11818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63" name=""/>
          <p:cNvGrpSpPr/>
          <p:nvPr/>
        </p:nvGrpSpPr>
        <p:grpSpPr>
          <a:xfrm>
            <a:off x="2895480" y="5410080"/>
            <a:ext cx="1447560" cy="381240"/>
            <a:chOff x="2895480" y="5410080"/>
            <a:chExt cx="1447560" cy="381240"/>
          </a:xfrm>
        </p:grpSpPr>
        <p:sp>
          <p:nvSpPr>
            <p:cNvPr id="264" name=""/>
            <p:cNvSpPr/>
            <p:nvPr/>
          </p:nvSpPr>
          <p:spPr>
            <a:xfrm>
              <a:off x="3196800" y="54100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kin Prote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54100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0" idx="2"/>
            <a:endCxn id="265" idx="1"/>
          </p:cNvCxnSpPr>
          <p:nvPr/>
        </p:nvCxnSpPr>
        <p:spPr>
          <a:xfrm flipH="1" rot="16200000">
            <a:off x="1751400" y="4457520"/>
            <a:ext cx="20962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67" name=""/>
          <p:cNvGrpSpPr/>
          <p:nvPr/>
        </p:nvGrpSpPr>
        <p:grpSpPr>
          <a:xfrm>
            <a:off x="4495680" y="3048120"/>
            <a:ext cx="1828440" cy="457200"/>
            <a:chOff x="4495680" y="3048120"/>
            <a:chExt cx="1828440" cy="457200"/>
          </a:xfrm>
        </p:grpSpPr>
        <p:sp>
          <p:nvSpPr>
            <p:cNvPr id="268" name=""/>
            <p:cNvSpPr/>
            <p:nvPr/>
          </p:nvSpPr>
          <p:spPr>
            <a:xfrm>
              <a:off x="4876560" y="30481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igomers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lic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95680" y="3048120"/>
              <a:ext cx="380880" cy="4572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0" name=""/>
          <p:cNvCxnSpPr>
            <a:stCxn id="245" idx="2"/>
            <a:endCxn id="269" idx="0"/>
          </p:cNvCxnSpPr>
          <p:nvPr/>
        </p:nvCxnSpPr>
        <p:spPr>
          <a:xfrm flipH="1" rot="16200000">
            <a:off x="3837600" y="2199960"/>
            <a:ext cx="143640" cy="1553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71" name=""/>
          <p:cNvGrpSpPr/>
          <p:nvPr/>
        </p:nvGrpSpPr>
        <p:grpSpPr>
          <a:xfrm>
            <a:off x="2895480" y="3581280"/>
            <a:ext cx="1447560" cy="381240"/>
            <a:chOff x="2895480" y="3581280"/>
            <a:chExt cx="1447560" cy="381240"/>
          </a:xfrm>
        </p:grpSpPr>
        <p:sp>
          <p:nvSpPr>
            <p:cNvPr id="272" name=""/>
            <p:cNvSpPr/>
            <p:nvPr/>
          </p:nvSpPr>
          <p:spPr>
            <a:xfrm>
              <a:off x="3196800" y="35812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rsonal  C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95480" y="35812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4" name=""/>
          <p:cNvCxnSpPr>
            <a:stCxn id="250" idx="2"/>
            <a:endCxn id="273" idx="1"/>
          </p:cNvCxnSpPr>
          <p:nvPr/>
        </p:nvCxnSpPr>
        <p:spPr>
          <a:xfrm flipH="1" rot="16200000">
            <a:off x="2666160" y="3542760"/>
            <a:ext cx="2671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75" name=""/>
          <p:cNvGrpSpPr/>
          <p:nvPr/>
        </p:nvGrpSpPr>
        <p:grpSpPr>
          <a:xfrm>
            <a:off x="2895480" y="4038480"/>
            <a:ext cx="1447560" cy="381240"/>
            <a:chOff x="2895480" y="4038480"/>
            <a:chExt cx="1447560" cy="381240"/>
          </a:xfrm>
        </p:grpSpPr>
        <p:sp>
          <p:nvSpPr>
            <p:cNvPr id="276" name=""/>
            <p:cNvSpPr/>
            <p:nvPr/>
          </p:nvSpPr>
          <p:spPr>
            <a:xfrm>
              <a:off x="3196800" y="40384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bric  C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5480" y="40384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50" idx="2"/>
            <a:endCxn id="277" idx="1"/>
          </p:cNvCxnSpPr>
          <p:nvPr/>
        </p:nvCxnSpPr>
        <p:spPr>
          <a:xfrm flipH="1" rot="16200000">
            <a:off x="2437200" y="3771720"/>
            <a:ext cx="7246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79" name=""/>
          <p:cNvGrpSpPr/>
          <p:nvPr/>
        </p:nvGrpSpPr>
        <p:grpSpPr>
          <a:xfrm>
            <a:off x="4876920" y="3581280"/>
            <a:ext cx="1447200" cy="381240"/>
            <a:chOff x="4876920" y="3581280"/>
            <a:chExt cx="1447200" cy="381240"/>
          </a:xfrm>
        </p:grpSpPr>
        <p:sp>
          <p:nvSpPr>
            <p:cNvPr id="280" name=""/>
            <p:cNvSpPr/>
            <p:nvPr/>
          </p:nvSpPr>
          <p:spPr>
            <a:xfrm>
              <a:off x="5178240" y="3581280"/>
              <a:ext cx="1145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lyurethan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ddi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76920" y="35812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2" name=""/>
          <p:cNvCxnSpPr>
            <a:stCxn id="269" idx="2"/>
            <a:endCxn id="281" idx="1"/>
          </p:cNvCxnSpPr>
          <p:nvPr/>
        </p:nvCxnSpPr>
        <p:spPr>
          <a:xfrm flipH="1" rot="16200000">
            <a:off x="4647600" y="3542760"/>
            <a:ext cx="2671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83" name=""/>
          <p:cNvGrpSpPr/>
          <p:nvPr/>
        </p:nvGrpSpPr>
        <p:grpSpPr>
          <a:xfrm>
            <a:off x="4876920" y="4038480"/>
            <a:ext cx="1447200" cy="381240"/>
            <a:chOff x="4876920" y="4038480"/>
            <a:chExt cx="1447200" cy="381240"/>
          </a:xfrm>
        </p:grpSpPr>
        <p:sp>
          <p:nvSpPr>
            <p:cNvPr id="284" name=""/>
            <p:cNvSpPr/>
            <p:nvPr/>
          </p:nvSpPr>
          <p:spPr>
            <a:xfrm>
              <a:off x="5178240" y="4038480"/>
              <a:ext cx="1145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dustri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ecial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76920" y="40384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6" name=""/>
          <p:cNvCxnSpPr>
            <a:stCxn id="269" idx="2"/>
            <a:endCxn id="285" idx="1"/>
          </p:cNvCxnSpPr>
          <p:nvPr/>
        </p:nvCxnSpPr>
        <p:spPr>
          <a:xfrm flipH="1" rot="16200000">
            <a:off x="4418640" y="3771720"/>
            <a:ext cx="7246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87" name=""/>
          <p:cNvGrpSpPr/>
          <p:nvPr/>
        </p:nvGrpSpPr>
        <p:grpSpPr>
          <a:xfrm>
            <a:off x="4876920" y="4495680"/>
            <a:ext cx="1447200" cy="381240"/>
            <a:chOff x="4876920" y="4495680"/>
            <a:chExt cx="1447200" cy="381240"/>
          </a:xfrm>
        </p:grpSpPr>
        <p:sp>
          <p:nvSpPr>
            <p:cNvPr id="288" name=""/>
            <p:cNvSpPr/>
            <p:nvPr/>
          </p:nvSpPr>
          <p:spPr>
            <a:xfrm>
              <a:off x="5178240" y="4495680"/>
              <a:ext cx="1145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ego Coating &amp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k Addi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6920" y="44956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" name=""/>
          <p:cNvCxnSpPr>
            <a:stCxn id="269" idx="2"/>
            <a:endCxn id="289" idx="1"/>
          </p:cNvCxnSpPr>
          <p:nvPr/>
        </p:nvCxnSpPr>
        <p:spPr>
          <a:xfrm flipH="1" rot="16200000">
            <a:off x="4190040" y="4000320"/>
            <a:ext cx="11818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58" idx="3"/>
            <a:endCxn id="292" idx="1"/>
          </p:cNvCxnSpPr>
          <p:nvPr/>
        </p:nvCxnSpPr>
        <p:spPr>
          <a:xfrm>
            <a:off x="5181120" y="2638080"/>
            <a:ext cx="129636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6477120" y="2448000"/>
            <a:ext cx="1675800" cy="380880"/>
            <a:chOff x="6477120" y="2448000"/>
            <a:chExt cx="1675800" cy="380880"/>
          </a:xfrm>
        </p:grpSpPr>
        <p:sp>
          <p:nvSpPr>
            <p:cNvPr id="294" name=""/>
            <p:cNvSpPr/>
            <p:nvPr/>
          </p:nvSpPr>
          <p:spPr>
            <a:xfrm>
              <a:off x="6825960" y="2448000"/>
              <a:ext cx="1326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C - Division cos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77120" y="2448000"/>
              <a:ext cx="348840" cy="3808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914400" y="3581280"/>
            <a:ext cx="1447560" cy="381240"/>
            <a:chOff x="914400" y="3581280"/>
            <a:chExt cx="1447560" cy="381240"/>
          </a:xfrm>
        </p:grpSpPr>
        <p:sp>
          <p:nvSpPr>
            <p:cNvPr id="296" name=""/>
            <p:cNvSpPr/>
            <p:nvPr/>
          </p:nvSpPr>
          <p:spPr>
            <a:xfrm>
              <a:off x="1215720" y="35812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erabsorb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4400" y="35812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8" name=""/>
          <p:cNvCxnSpPr>
            <a:stCxn id="246" idx="2"/>
            <a:endCxn id="297" idx="1"/>
          </p:cNvCxnSpPr>
          <p:nvPr/>
        </p:nvCxnSpPr>
        <p:spPr>
          <a:xfrm flipH="1" rot="16200000">
            <a:off x="685080" y="3542760"/>
            <a:ext cx="26712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99" name=""/>
          <p:cNvGrpSpPr/>
          <p:nvPr/>
        </p:nvGrpSpPr>
        <p:grpSpPr>
          <a:xfrm>
            <a:off x="914400" y="4038480"/>
            <a:ext cx="1447560" cy="381240"/>
            <a:chOff x="914400" y="4038480"/>
            <a:chExt cx="1447560" cy="381240"/>
          </a:xfrm>
        </p:grpSpPr>
        <p:sp>
          <p:nvSpPr>
            <p:cNvPr id="300" name=""/>
            <p:cNvSpPr/>
            <p:nvPr/>
          </p:nvSpPr>
          <p:spPr>
            <a:xfrm>
              <a:off x="1215720" y="40384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rylic ac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40384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2" name=""/>
          <p:cNvCxnSpPr>
            <a:stCxn id="246" idx="2"/>
            <a:endCxn id="301" idx="1"/>
          </p:cNvCxnSpPr>
          <p:nvPr/>
        </p:nvCxnSpPr>
        <p:spPr>
          <a:xfrm flipH="1" rot="16200000">
            <a:off x="456120" y="3771720"/>
            <a:ext cx="7246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03" name=""/>
          <p:cNvGrpSpPr/>
          <p:nvPr/>
        </p:nvGrpSpPr>
        <p:grpSpPr>
          <a:xfrm>
            <a:off x="914400" y="4495680"/>
            <a:ext cx="1447560" cy="381240"/>
            <a:chOff x="914400" y="4495680"/>
            <a:chExt cx="1447560" cy="381240"/>
          </a:xfrm>
        </p:grpSpPr>
        <p:sp>
          <p:nvSpPr>
            <p:cNvPr id="304" name=""/>
            <p:cNvSpPr/>
            <p:nvPr/>
          </p:nvSpPr>
          <p:spPr>
            <a:xfrm>
              <a:off x="1215720" y="4495680"/>
              <a:ext cx="1146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rylic ac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95680"/>
              <a:ext cx="301320" cy="381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246" idx="2"/>
            <a:endCxn id="305" idx="1"/>
          </p:cNvCxnSpPr>
          <p:nvPr/>
        </p:nvCxnSpPr>
        <p:spPr>
          <a:xfrm flipH="1" rot="16200000">
            <a:off x="227520" y="4000320"/>
            <a:ext cx="1181880" cy="19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867280" y="5638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- Proj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worldmap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7410600" cy="48895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Goldschmidt - Weltwe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7360" y="1447920"/>
            <a:ext cx="209232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Production Faciliti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Essen,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heim, Germa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einau,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imby, United King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nollers, S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lton Keynes, United King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ndino,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pewell V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anesville WI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pleton IL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ittsburgh P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 Louis Potosi,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o de Janeiro, Braz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uarulhos,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kasi, Indones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mbai, 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estehende Goldschmidt-ERP-System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sen, Mannhei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AP R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inau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AP R/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3.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yste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anollers, Flimby, Milton Keyne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din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pleton, Janesville, Hopewe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AP R/3 3.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System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datenverwalt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QLS-LI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in System in Es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sen, Mannheim, Pandino, Granoller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lton Keynes, Flimby, (Hope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SAP (nur QC-Da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inau, Hopewell, Mapleton, Janesv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nderen Systemen (z.B. Excel, Access,Forschungsanaly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inau, Ho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DV-System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IMS für die Qualitätssich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ändig wiederkehrende Untersuchungen an den gleichen Stoffen (wechselnde Char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gelegte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stehende analyt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licherweise eindimensionale Ergebnisse (ein Wert, eine Beschreibung aus einer vorgegebenen 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 für einen bestimmten Stoff werden regelmäßig (oder  automatisch) statistisch ausgewer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k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IMS  für Forschungsprob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keine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üssen ständig neue oder veränderte Analysenmethoden eingesetz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rgebnisse sind häufig mehrdimensional  (Spektren, Chromatogramme, Bi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häufig längere beschreibende Ergebnisse (z.B. Interpretation von Spekt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tzuntersuchungen werden auch noch nach längeren Fristen in Auftrag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häufig verschiedene Proben zum gleichen Proje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reise für Analysen variieren mit dem Analysen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Goldschmidt besondere Anforderungen an Qualitätsda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2560" y="197784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nur analytisch-chemische Daten, sondern auch anwendungstechnische Daten (z.B. PU-Schaumstabilisato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litätsdaten kommen teilweise aus räumlich und organisatorisch getrennten Laborato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pläne sollen weltweit gelten, müssen aber auf regionale Besonderheiten Rücksicht nehmen können (z.B. Wasserhä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hr viele kundenspezifische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e werden unter verschiedenen Namen über verschiedene Vertriebsbereiche vermark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amtzahl der produzierten Stoffe &gt; 5000, fast ausschließlich Batch-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6:40:58Z</dcterms:created>
  <dc:creator>Gerhards</dc:creator>
  <dc:description>PowerPoint97
Infracor GmbH, IN-PK-KC-KOM, Ellen Weber
18.01.2001</dc:description>
  <dc:language>en-US</dc:language>
  <cp:lastModifiedBy>Dr. Jochen Winkler</cp:lastModifiedBy>
  <cp:lastPrinted>2001-05-08T08:49:51Z</cp:lastPrinted>
  <dcterms:modified xsi:type="dcterms:W3CDTF">2001-05-11T20:26:21Z</dcterms:modified>
  <cp:revision>61</cp:revision>
  <dc:subject/>
  <dc:title>Trends in der Analytik von kosmetischen Rohstoffen</dc:title>
</cp:coreProperties>
</file>