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10280" y="6248520"/>
            <a:ext cx="1409760" cy="438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362320" y="6469200"/>
            <a:ext cx="190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38480" y="646920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932AD5C-FBB1-4B48-818D-9570A5FED98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95280"/>
            <a:ext cx="8001000" cy="52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zlich Willk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AP R/3 Workshop der </a:t>
            </a:r>
            <a:r>
              <a:rPr b="1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Degussa-Konzer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2800"/>
            </a:b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5.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bei </a:t>
            </a:r>
            <a:r>
              <a:rPr b="1" lang="en-US" sz="24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74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75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81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87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93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99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11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17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23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29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35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41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47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53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59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65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71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77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84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90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01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07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12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17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23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33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80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87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93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24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219320" y="9144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s SAP R/3-System u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-Ons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onderheit der </a:t>
            </a:r>
            <a:r>
              <a:rPr b="1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in der Lage, viele SAP R/3 Module in kurzer Ze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 hoher Qualität und Funktionalität einzufüh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etet on top dem Kunden release-feste Add-On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r Einführung 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2952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der 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05.2001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axisbericht zur Implementierung von QM i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B Coatings &amp; Colorants sowie i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B High Performance Polymers in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hensweise und Highlights bei der Einführung von QM in den Bereich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atings &amp; Colorants (vormals Lackrohstoff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 Performance Polymers (vormals Technische Kunststoff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lick auf die Einführung von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0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S - das integrierte LIM-System zu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ünde für die Einführung von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aussetzungen und Anforderungen für ein integriertes SAP-LIMS bezogen z. B. auf die Bere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st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dh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n SD/F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m Bereich Dienstleistungslab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olgsfaktoren für die Einführung von QM und jw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sprinzipien von 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icht zur Einführung von SAP R/3 bei der Goldschmidt AG bezogen auf das Qualitäts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stellung des Unternehmens Goldschmidt/Performance Chemic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ngssituation SAP - QM -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vorstellung des neuen SAP R/3 mit integriertem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 Heraus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MS-Funktionalitäten sollen erhalten blei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lobales System für alle Standor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arbeitete Konzep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Einsatz des SAP R/3-Moduls Projektsystem (PS) liefert die gewünschte Transparenz in der Forschung und Entwickl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ung von F&amp;E-Projek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scheidung über neue Entwicklungsprojekte sowie deren Steu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verwaltung mit Termin- und Kostenverfol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dokumentation &amp; Che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contr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stat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echer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-Istkostenerfassung und -auswe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Kunststoff GmbH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1-05-11T20:24:37Z</dcterms:modified>
  <cp:revision>80</cp:revision>
  <dc:subject/>
  <dc:title>Kein Folientitel</dc:title>
</cp:coreProperties>
</file>