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010280" y="6248520"/>
            <a:ext cx="1409760" cy="4381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362320" y="6469200"/>
            <a:ext cx="190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038480" y="6469200"/>
            <a:ext cx="152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E3237444-5D49-4250-B8A9-AC10D95BF61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5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295280"/>
            <a:ext cx="8001000" cy="52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zlich Willkom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SAP R/3 Workshop der </a:t>
            </a:r>
            <a:r>
              <a:rPr b="1" lang="en-US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ult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ür den Degussa-Konzer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nkfurt Marriott Hotel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nkfurt</a:t>
            </a:r>
            <a:br>
              <a:rPr sz="2800"/>
            </a:b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05.20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5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hre direkten Ansprechpartner bei </a:t>
            </a:r>
            <a:r>
              <a:rPr b="1" lang="en-US" sz="24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ind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www.jwconsulting.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sere Homepage im Internet. Hier finden Sie alles Wissenswerte zu unserem Geschäft, lernen Referenzen und Standorte kennen - Mausklick genüg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5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433520" y="1973160"/>
            <a:ext cx="6265800" cy="4292640"/>
            <a:chOff x="1433520" y="1973160"/>
            <a:chExt cx="6265800" cy="4292640"/>
          </a:xfrm>
        </p:grpSpPr>
        <p:grpSp>
          <p:nvGrpSpPr>
            <p:cNvPr id="74" name=""/>
            <p:cNvGrpSpPr/>
            <p:nvPr/>
          </p:nvGrpSpPr>
          <p:grpSpPr>
            <a:xfrm>
              <a:off x="1857240" y="2735280"/>
              <a:ext cx="846360" cy="901800"/>
              <a:chOff x="1857240" y="2735280"/>
              <a:chExt cx="846360" cy="901800"/>
            </a:xfrm>
          </p:grpSpPr>
          <p:sp>
            <p:nvSpPr>
              <p:cNvPr id="75" name=""/>
              <p:cNvSpPr/>
              <p:nvPr/>
            </p:nvSpPr>
            <p:spPr>
              <a:xfrm>
                <a:off x="1857240" y="273672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862280" y="27352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281320" y="27367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862280" y="31179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281320" y="3119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4352760" y="1973160"/>
              <a:ext cx="846360" cy="901800"/>
              <a:chOff x="4352760" y="1973160"/>
              <a:chExt cx="846360" cy="901800"/>
            </a:xfrm>
          </p:grpSpPr>
          <p:sp>
            <p:nvSpPr>
              <p:cNvPr id="81" name=""/>
              <p:cNvSpPr/>
              <p:nvPr/>
            </p:nvSpPr>
            <p:spPr>
              <a:xfrm>
                <a:off x="4352760" y="197496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357800" y="19731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776840" y="1974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357800" y="23558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776840" y="2357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6435720" y="3102120"/>
              <a:ext cx="839880" cy="901440"/>
              <a:chOff x="6435720" y="3102120"/>
              <a:chExt cx="839880" cy="901440"/>
            </a:xfrm>
          </p:grpSpPr>
          <p:sp>
            <p:nvSpPr>
              <p:cNvPr id="87" name=""/>
              <p:cNvSpPr/>
              <p:nvPr/>
            </p:nvSpPr>
            <p:spPr>
              <a:xfrm>
                <a:off x="6435720" y="3103560"/>
                <a:ext cx="839880" cy="754200"/>
              </a:xfrm>
              <a:custGeom>
                <a:avLst/>
                <a:gdLst/>
                <a:ahLst/>
                <a:rect l="l" t="t" r="r" b="b"/>
                <a:pathLst>
                  <a:path w="529" h="475">
                    <a:moveTo>
                      <a:pt x="266" y="0"/>
                    </a:moveTo>
                    <a:lnTo>
                      <a:pt x="0" y="238"/>
                    </a:lnTo>
                    <a:lnTo>
                      <a:pt x="266" y="474"/>
                    </a:lnTo>
                    <a:lnTo>
                      <a:pt x="528" y="238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853320" y="310212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435720" y="3103560"/>
                <a:ext cx="41580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853320" y="34844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435720" y="3486240"/>
                <a:ext cx="41580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5"/>
                    </a:lnTo>
                    <a:lnTo>
                      <a:pt x="261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6854760" y="3479760"/>
              <a:ext cx="839880" cy="905040"/>
              <a:chOff x="6854760" y="3479760"/>
              <a:chExt cx="839880" cy="905040"/>
            </a:xfrm>
          </p:grpSpPr>
          <p:sp>
            <p:nvSpPr>
              <p:cNvPr id="93" name=""/>
              <p:cNvSpPr/>
              <p:nvPr/>
            </p:nvSpPr>
            <p:spPr>
              <a:xfrm>
                <a:off x="6854760" y="34830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272360" y="34797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854760" y="3479760"/>
                <a:ext cx="41616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72360" y="386568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854760" y="387036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6435720" y="3855960"/>
              <a:ext cx="839880" cy="905040"/>
              <a:chOff x="6435720" y="3855960"/>
              <a:chExt cx="839880" cy="905040"/>
            </a:xfrm>
          </p:grpSpPr>
          <p:sp>
            <p:nvSpPr>
              <p:cNvPr id="99" name=""/>
              <p:cNvSpPr/>
              <p:nvPr/>
            </p:nvSpPr>
            <p:spPr>
              <a:xfrm>
                <a:off x="6435720" y="38592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853320" y="38559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435720" y="3855960"/>
                <a:ext cx="41580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853320" y="42418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435720" y="42465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6854760" y="4237200"/>
              <a:ext cx="839880" cy="904680"/>
              <a:chOff x="6854760" y="4237200"/>
              <a:chExt cx="839880" cy="904680"/>
            </a:xfrm>
          </p:grpSpPr>
          <p:sp>
            <p:nvSpPr>
              <p:cNvPr id="105" name=""/>
              <p:cNvSpPr/>
              <p:nvPr/>
            </p:nvSpPr>
            <p:spPr>
              <a:xfrm>
                <a:off x="6854760" y="424008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272360" y="4237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854760" y="423720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272360" y="46227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854760" y="462744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2274840" y="2357280"/>
              <a:ext cx="846360" cy="901800"/>
              <a:chOff x="2274840" y="2357280"/>
              <a:chExt cx="846360" cy="901800"/>
            </a:xfrm>
          </p:grpSpPr>
          <p:sp>
            <p:nvSpPr>
              <p:cNvPr id="111" name=""/>
              <p:cNvSpPr/>
              <p:nvPr/>
            </p:nvSpPr>
            <p:spPr>
              <a:xfrm>
                <a:off x="2274840" y="23590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279520" y="23572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69892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79520" y="27399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698920" y="27417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2271600" y="3102120"/>
              <a:ext cx="846360" cy="901440"/>
              <a:chOff x="2271600" y="3102120"/>
              <a:chExt cx="846360" cy="901440"/>
            </a:xfrm>
          </p:grpSpPr>
          <p:sp>
            <p:nvSpPr>
              <p:cNvPr id="117" name=""/>
              <p:cNvSpPr/>
              <p:nvPr/>
            </p:nvSpPr>
            <p:spPr>
              <a:xfrm>
                <a:off x="2271600" y="31035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76640" y="31021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695680" y="31035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76640" y="34844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695680" y="348624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3508200" y="1976400"/>
              <a:ext cx="846360" cy="901800"/>
              <a:chOff x="3508200" y="1976400"/>
              <a:chExt cx="846360" cy="901800"/>
            </a:xfrm>
          </p:grpSpPr>
          <p:sp>
            <p:nvSpPr>
              <p:cNvPr id="123" name=""/>
              <p:cNvSpPr/>
              <p:nvPr/>
            </p:nvSpPr>
            <p:spPr>
              <a:xfrm>
                <a:off x="3508200" y="197820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513240" y="197640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932280" y="197820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51324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2280" y="23605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2693880" y="1981080"/>
              <a:ext cx="846360" cy="901800"/>
              <a:chOff x="2693880" y="1981080"/>
              <a:chExt cx="846360" cy="901800"/>
            </a:xfrm>
          </p:grpSpPr>
          <p:sp>
            <p:nvSpPr>
              <p:cNvPr id="129" name=""/>
              <p:cNvSpPr/>
              <p:nvPr/>
            </p:nvSpPr>
            <p:spPr>
              <a:xfrm>
                <a:off x="2693880" y="19828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698920" y="19810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117960" y="19828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698920" y="23637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117960" y="236520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1851120" y="3476520"/>
              <a:ext cx="846000" cy="901800"/>
              <a:chOff x="1851120" y="3476520"/>
              <a:chExt cx="846000" cy="901800"/>
            </a:xfrm>
          </p:grpSpPr>
          <p:sp>
            <p:nvSpPr>
              <p:cNvPr id="135" name=""/>
              <p:cNvSpPr/>
              <p:nvPr/>
            </p:nvSpPr>
            <p:spPr>
              <a:xfrm>
                <a:off x="1851120" y="3478320"/>
                <a:ext cx="84600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855800" y="347652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274840" y="347832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855800" y="38592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74840" y="38606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1433520" y="3849840"/>
              <a:ext cx="846000" cy="901440"/>
              <a:chOff x="1433520" y="3849840"/>
              <a:chExt cx="846000" cy="901440"/>
            </a:xfrm>
          </p:grpSpPr>
          <p:sp>
            <p:nvSpPr>
              <p:cNvPr id="141" name=""/>
              <p:cNvSpPr/>
              <p:nvPr/>
            </p:nvSpPr>
            <p:spPr>
              <a:xfrm>
                <a:off x="1433520" y="3851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438200" y="3849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857240" y="3851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438200" y="4232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857240" y="4233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1857240" y="4237200"/>
              <a:ext cx="838440" cy="903240"/>
              <a:chOff x="1857240" y="4237200"/>
              <a:chExt cx="838440" cy="903240"/>
            </a:xfrm>
          </p:grpSpPr>
          <p:sp>
            <p:nvSpPr>
              <p:cNvPr id="147" name=""/>
              <p:cNvSpPr/>
              <p:nvPr/>
            </p:nvSpPr>
            <p:spPr>
              <a:xfrm>
                <a:off x="1857240" y="42372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859040" y="42372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278080" y="42400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859040" y="46227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278080" y="46245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5600880" y="2349360"/>
              <a:ext cx="844200" cy="903600"/>
              <a:chOff x="5600880" y="2349360"/>
              <a:chExt cx="844200" cy="903600"/>
            </a:xfrm>
          </p:grpSpPr>
          <p:sp>
            <p:nvSpPr>
              <p:cNvPr id="153" name=""/>
              <p:cNvSpPr/>
              <p:nvPr/>
            </p:nvSpPr>
            <p:spPr>
              <a:xfrm>
                <a:off x="5600880" y="2352600"/>
                <a:ext cx="84420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019920" y="23493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00880" y="235260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019920" y="273528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00880" y="2736720"/>
                <a:ext cx="419040" cy="51624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6018120" y="2727360"/>
              <a:ext cx="843120" cy="900000"/>
              <a:chOff x="6018120" y="2727360"/>
              <a:chExt cx="843120" cy="900000"/>
            </a:xfrm>
          </p:grpSpPr>
          <p:sp>
            <p:nvSpPr>
              <p:cNvPr id="159" name=""/>
              <p:cNvSpPr/>
              <p:nvPr/>
            </p:nvSpPr>
            <p:spPr>
              <a:xfrm>
                <a:off x="6019920" y="2728800"/>
                <a:ext cx="841320" cy="757440"/>
              </a:xfrm>
              <a:custGeom>
                <a:avLst/>
                <a:gdLst/>
                <a:ahLst/>
                <a:rect l="l" t="t" r="r" b="b"/>
                <a:pathLst>
                  <a:path w="530" h="477">
                    <a:moveTo>
                      <a:pt x="266" y="0"/>
                    </a:moveTo>
                    <a:lnTo>
                      <a:pt x="0" y="240"/>
                    </a:lnTo>
                    <a:lnTo>
                      <a:pt x="266" y="476"/>
                    </a:lnTo>
                    <a:lnTo>
                      <a:pt x="529" y="240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435720" y="2727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263" y="323"/>
                    </a:moveTo>
                    <a:lnTo>
                      <a:pt x="263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3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018120" y="272880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324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435720" y="3110040"/>
                <a:ext cx="419040" cy="51732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0"/>
                    </a:moveTo>
                    <a:lnTo>
                      <a:pt x="263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3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018120" y="311148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6435720" y="4613400"/>
              <a:ext cx="844560" cy="903240"/>
              <a:chOff x="6435720" y="4613400"/>
              <a:chExt cx="844560" cy="903240"/>
            </a:xfrm>
          </p:grpSpPr>
          <p:sp>
            <p:nvSpPr>
              <p:cNvPr id="165" name=""/>
              <p:cNvSpPr/>
              <p:nvPr/>
            </p:nvSpPr>
            <p:spPr>
              <a:xfrm>
                <a:off x="6435720" y="4613400"/>
                <a:ext cx="844560" cy="76176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858000" y="461340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435720" y="461628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858000" y="4998960"/>
                <a:ext cx="414360" cy="51444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35720" y="500076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6014880" y="4991040"/>
              <a:ext cx="841680" cy="905040"/>
              <a:chOff x="6014880" y="4991040"/>
              <a:chExt cx="841680" cy="905040"/>
            </a:xfrm>
          </p:grpSpPr>
          <p:sp>
            <p:nvSpPr>
              <p:cNvPr id="171" name=""/>
              <p:cNvSpPr/>
              <p:nvPr/>
            </p:nvSpPr>
            <p:spPr>
              <a:xfrm>
                <a:off x="6018120" y="4995720"/>
                <a:ext cx="838440" cy="758880"/>
              </a:xfrm>
              <a:custGeom>
                <a:avLst/>
                <a:gdLst/>
                <a:ahLst/>
                <a:rect l="l" t="t" r="r" b="b"/>
                <a:pathLst>
                  <a:path w="528" h="478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7"/>
                    </a:lnTo>
                    <a:lnTo>
                      <a:pt x="527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431040" y="499104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0148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431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1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014880" y="5378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5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611680" y="5353200"/>
              <a:ext cx="844560" cy="904680"/>
              <a:chOff x="5611680" y="5353200"/>
              <a:chExt cx="844560" cy="904680"/>
            </a:xfrm>
          </p:grpSpPr>
          <p:sp>
            <p:nvSpPr>
              <p:cNvPr id="177" name=""/>
              <p:cNvSpPr/>
              <p:nvPr/>
            </p:nvSpPr>
            <p:spPr>
              <a:xfrm>
                <a:off x="561168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031080" y="535320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611680" y="53578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031080" y="573732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611680" y="573732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7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3111480" y="3111480"/>
              <a:ext cx="417600" cy="515880"/>
            </a:xfrm>
            <a:custGeom>
              <a:avLst/>
              <a:gdLst/>
              <a:ahLst/>
              <a:rect l="l" t="t" r="r" b="b"/>
              <a:pathLst>
                <a:path w="263" h="325">
                  <a:moveTo>
                    <a:pt x="262" y="0"/>
                  </a:moveTo>
                  <a:lnTo>
                    <a:pt x="262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271600" y="3855960"/>
              <a:ext cx="846360" cy="905040"/>
              <a:chOff x="2271600" y="3855960"/>
              <a:chExt cx="846360" cy="905040"/>
            </a:xfrm>
          </p:grpSpPr>
          <p:sp>
            <p:nvSpPr>
              <p:cNvPr id="184" name=""/>
              <p:cNvSpPr/>
              <p:nvPr/>
            </p:nvSpPr>
            <p:spPr>
              <a:xfrm>
                <a:off x="2271600" y="38592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7664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69568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6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276640" y="42418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695680" y="42465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2271600" y="4613400"/>
              <a:ext cx="838440" cy="903240"/>
              <a:chOff x="2271600" y="4613400"/>
              <a:chExt cx="838440" cy="903240"/>
            </a:xfrm>
          </p:grpSpPr>
          <p:sp>
            <p:nvSpPr>
              <p:cNvPr id="190" name=""/>
              <p:cNvSpPr/>
              <p:nvPr/>
            </p:nvSpPr>
            <p:spPr>
              <a:xfrm>
                <a:off x="2271600" y="46134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273400" y="46134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692440" y="46162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273400" y="49989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692440" y="50007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2692440" y="499572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98920" y="4991040"/>
              <a:ext cx="41400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323"/>
                  </a:moveTo>
                  <a:lnTo>
                    <a:pt x="0" y="233"/>
                  </a:lnTo>
                  <a:lnTo>
                    <a:pt x="260" y="0"/>
                  </a:lnTo>
                  <a:lnTo>
                    <a:pt x="260" y="89"/>
                  </a:lnTo>
                  <a:lnTo>
                    <a:pt x="0" y="323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19400" y="499428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325"/>
                  </a:moveTo>
                  <a:lnTo>
                    <a:pt x="261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1" y="325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98920" y="5375160"/>
              <a:ext cx="414000" cy="517680"/>
            </a:xfrm>
            <a:custGeom>
              <a:avLst/>
              <a:gdLst/>
              <a:ahLst/>
              <a:rect l="l" t="t" r="r" b="b"/>
              <a:pathLst>
                <a:path w="261" h="326">
                  <a:moveTo>
                    <a:pt x="0" y="0"/>
                  </a:moveTo>
                  <a:lnTo>
                    <a:pt x="0" y="91"/>
                  </a:lnTo>
                  <a:lnTo>
                    <a:pt x="260" y="325"/>
                  </a:lnTo>
                  <a:lnTo>
                    <a:pt x="260" y="235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19400" y="537840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0"/>
                  </a:moveTo>
                  <a:lnTo>
                    <a:pt x="261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1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3094200" y="5353200"/>
              <a:ext cx="844560" cy="904680"/>
              <a:chOff x="3094200" y="5353200"/>
              <a:chExt cx="844560" cy="904680"/>
            </a:xfrm>
          </p:grpSpPr>
          <p:sp>
            <p:nvSpPr>
              <p:cNvPr id="201" name=""/>
              <p:cNvSpPr/>
              <p:nvPr/>
            </p:nvSpPr>
            <p:spPr>
              <a:xfrm>
                <a:off x="309420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098880" y="5353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519360" y="5357880"/>
                <a:ext cx="41616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098880" y="5737320"/>
                <a:ext cx="41760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519360" y="573732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4768920" y="2349360"/>
              <a:ext cx="841320" cy="903600"/>
              <a:chOff x="4768920" y="2349360"/>
              <a:chExt cx="841320" cy="903600"/>
            </a:xfrm>
          </p:grpSpPr>
          <p:sp>
            <p:nvSpPr>
              <p:cNvPr id="207" name=""/>
              <p:cNvSpPr/>
              <p:nvPr/>
            </p:nvSpPr>
            <p:spPr>
              <a:xfrm>
                <a:off x="47689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772160" y="2349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189400" y="2352600"/>
                <a:ext cx="41940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325"/>
                    </a:moveTo>
                    <a:lnTo>
                      <a:pt x="263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3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772160" y="273528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0"/>
                    </a:moveTo>
                    <a:lnTo>
                      <a:pt x="0" y="90"/>
                    </a:lnTo>
                    <a:lnTo>
                      <a:pt x="263" y="325"/>
                    </a:lnTo>
                    <a:lnTo>
                      <a:pt x="263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3933720" y="2349360"/>
              <a:ext cx="841320" cy="903600"/>
              <a:chOff x="3933720" y="2349360"/>
              <a:chExt cx="841320" cy="903600"/>
            </a:xfrm>
          </p:grpSpPr>
          <p:sp>
            <p:nvSpPr>
              <p:cNvPr id="212" name=""/>
              <p:cNvSpPr/>
              <p:nvPr/>
            </p:nvSpPr>
            <p:spPr>
              <a:xfrm>
                <a:off x="39337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933720" y="23493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349880" y="2352600"/>
                <a:ext cx="423720" cy="517680"/>
              </a:xfrm>
              <a:custGeom>
                <a:avLst/>
                <a:gdLst/>
                <a:ahLst/>
                <a:rect l="l" t="t" r="r" b="b"/>
                <a:pathLst>
                  <a:path w="267" h="326">
                    <a:moveTo>
                      <a:pt x="266" y="325"/>
                    </a:moveTo>
                    <a:lnTo>
                      <a:pt x="266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6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349880" y="2736720"/>
                <a:ext cx="423720" cy="516240"/>
              </a:xfrm>
              <a:custGeom>
                <a:avLst/>
                <a:gdLst/>
                <a:ahLst/>
                <a:rect l="l" t="t" r="r" b="b"/>
                <a:pathLst>
                  <a:path w="267" h="325">
                    <a:moveTo>
                      <a:pt x="266" y="0"/>
                    </a:moveTo>
                    <a:lnTo>
                      <a:pt x="266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3929040" y="5361120"/>
              <a:ext cx="844560" cy="904680"/>
              <a:chOff x="3929040" y="5361120"/>
              <a:chExt cx="844560" cy="904680"/>
            </a:xfrm>
          </p:grpSpPr>
          <p:sp>
            <p:nvSpPr>
              <p:cNvPr id="217" name=""/>
              <p:cNvSpPr/>
              <p:nvPr/>
            </p:nvSpPr>
            <p:spPr>
              <a:xfrm>
                <a:off x="3929040" y="53658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933720" y="5361120"/>
                <a:ext cx="41616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49880" y="5361120"/>
                <a:ext cx="420480" cy="519120"/>
              </a:xfrm>
              <a:custGeom>
                <a:avLst/>
                <a:gdLst/>
                <a:ahLst/>
                <a:rect l="l" t="t" r="r" b="b"/>
                <a:pathLst>
                  <a:path w="265" h="327">
                    <a:moveTo>
                      <a:pt x="264" y="326"/>
                    </a:moveTo>
                    <a:lnTo>
                      <a:pt x="264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4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933720" y="5745240"/>
                <a:ext cx="41616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349880" y="5748480"/>
                <a:ext cx="420480" cy="517320"/>
              </a:xfrm>
              <a:custGeom>
                <a:avLst/>
                <a:gdLst/>
                <a:ahLst/>
                <a:rect l="l" t="t" r="r" b="b"/>
                <a:pathLst>
                  <a:path w="265" h="326">
                    <a:moveTo>
                      <a:pt x="264" y="0"/>
                    </a:moveTo>
                    <a:lnTo>
                      <a:pt x="264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4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4776840" y="5361120"/>
              <a:ext cx="841320" cy="904680"/>
              <a:chOff x="4776840" y="5361120"/>
              <a:chExt cx="841320" cy="904680"/>
            </a:xfrm>
          </p:grpSpPr>
          <p:sp>
            <p:nvSpPr>
              <p:cNvPr id="223" name=""/>
              <p:cNvSpPr/>
              <p:nvPr/>
            </p:nvSpPr>
            <p:spPr>
              <a:xfrm>
                <a:off x="4776840" y="53658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781520" y="5361120"/>
                <a:ext cx="41580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200560" y="5361120"/>
                <a:ext cx="417600" cy="519120"/>
              </a:xfrm>
              <a:custGeom>
                <a:avLst/>
                <a:gdLst/>
                <a:ahLst/>
                <a:rect l="l" t="t" r="r" b="b"/>
                <a:pathLst>
                  <a:path w="263" h="327">
                    <a:moveTo>
                      <a:pt x="262" y="326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781520" y="574524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200560" y="57484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5189400" y="2736720"/>
              <a:ext cx="419400" cy="51624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263" y="0"/>
                  </a:moveTo>
                  <a:lnTo>
                    <a:pt x="263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33720" y="273528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0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02120" y="3106800"/>
              <a:ext cx="3322440" cy="2268360"/>
            </a:xfrm>
            <a:custGeom>
              <a:avLst/>
              <a:gdLst/>
              <a:ahLst/>
              <a:rect l="l" t="t" r="r" b="b"/>
              <a:pathLst>
                <a:path w="2093" h="1429">
                  <a:moveTo>
                    <a:pt x="800" y="0"/>
                  </a:moveTo>
                  <a:lnTo>
                    <a:pt x="1818" y="0"/>
                  </a:lnTo>
                  <a:lnTo>
                    <a:pt x="2092" y="624"/>
                  </a:lnTo>
                  <a:lnTo>
                    <a:pt x="1593" y="1424"/>
                  </a:lnTo>
                  <a:lnTo>
                    <a:pt x="530" y="1428"/>
                  </a:lnTo>
                  <a:lnTo>
                    <a:pt x="0" y="621"/>
                  </a:lnTo>
                  <a:lnTo>
                    <a:pt x="286" y="0"/>
                  </a:lnTo>
                  <a:lnTo>
                    <a:pt x="800" y="0"/>
                  </a:lnTo>
                </a:path>
              </a:pathLst>
            </a:custGeom>
            <a:solidFill>
              <a:srgbClr val="0066f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521160" y="2579760"/>
              <a:ext cx="844560" cy="76176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3527280" y="4986360"/>
              <a:ext cx="844560" cy="904680"/>
              <a:chOff x="3527280" y="4986360"/>
              <a:chExt cx="844560" cy="904680"/>
            </a:xfrm>
          </p:grpSpPr>
          <p:sp>
            <p:nvSpPr>
              <p:cNvPr id="233" name=""/>
              <p:cNvSpPr/>
              <p:nvPr/>
            </p:nvSpPr>
            <p:spPr>
              <a:xfrm>
                <a:off x="3527280" y="49896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532320" y="498636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952800" y="4991040"/>
                <a:ext cx="41616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532320" y="537048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52800" y="537048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30988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46680" y="2957400"/>
              <a:ext cx="415800" cy="51588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27280" y="3335400"/>
              <a:ext cx="419400" cy="51444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263" y="0"/>
                  </a:moveTo>
                  <a:lnTo>
                    <a:pt x="263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10680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87760" y="37130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89"/>
                  </a:lnTo>
                  <a:lnTo>
                    <a:pt x="264" y="325"/>
                  </a:lnTo>
                  <a:lnTo>
                    <a:pt x="264" y="234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87760" y="44672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91"/>
                  </a:lnTo>
                  <a:lnTo>
                    <a:pt x="264" y="325"/>
                  </a:lnTo>
                  <a:lnTo>
                    <a:pt x="264" y="235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06800" y="4840200"/>
              <a:ext cx="414360" cy="51912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0" y="0"/>
                  </a:moveTo>
                  <a:lnTo>
                    <a:pt x="0" y="90"/>
                  </a:lnTo>
                  <a:lnTo>
                    <a:pt x="260" y="326"/>
                  </a:lnTo>
                  <a:lnTo>
                    <a:pt x="260" y="236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36960" y="5211720"/>
              <a:ext cx="843120" cy="755640"/>
            </a:xfrm>
            <a:custGeom>
              <a:avLst/>
              <a:gdLst/>
              <a:ahLst/>
              <a:rect l="l" t="t" r="r" b="b"/>
              <a:pathLst>
                <a:path w="531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0" y="239"/>
                  </a:lnTo>
                  <a:lnTo>
                    <a:pt x="267" y="0"/>
                  </a:lnTo>
                </a:path>
              </a:pathLst>
            </a:custGeom>
            <a:solidFill>
              <a:srgbClr val="b3b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33720" y="5592600"/>
              <a:ext cx="41616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0"/>
                  </a:moveTo>
                  <a:lnTo>
                    <a:pt x="0" y="89"/>
                  </a:lnTo>
                  <a:lnTo>
                    <a:pt x="261" y="324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ad6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352760" y="559764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87760" y="4078440"/>
              <a:ext cx="834840" cy="758520"/>
            </a:xfrm>
            <a:custGeom>
              <a:avLst/>
              <a:gdLst/>
              <a:ahLst/>
              <a:rect l="l" t="t" r="r" b="b"/>
              <a:pathLst>
                <a:path w="526" h="478">
                  <a:moveTo>
                    <a:pt x="264" y="0"/>
                  </a:moveTo>
                  <a:lnTo>
                    <a:pt x="0" y="241"/>
                  </a:lnTo>
                  <a:lnTo>
                    <a:pt x="264" y="477"/>
                  </a:lnTo>
                  <a:lnTo>
                    <a:pt x="525" y="241"/>
                  </a:lnTo>
                  <a:lnTo>
                    <a:pt x="26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607000" y="2957400"/>
              <a:ext cx="846360" cy="75420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2460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8" y="0"/>
                  </a:moveTo>
                  <a:lnTo>
                    <a:pt x="0" y="240"/>
                  </a:lnTo>
                  <a:lnTo>
                    <a:pt x="268" y="477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6116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95880" y="4840200"/>
              <a:ext cx="844560" cy="75564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07000" y="3335400"/>
              <a:ext cx="41436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0"/>
                  </a:moveTo>
                  <a:lnTo>
                    <a:pt x="0" y="89"/>
                  </a:lnTo>
                  <a:lnTo>
                    <a:pt x="260" y="323"/>
                  </a:lnTo>
                  <a:lnTo>
                    <a:pt x="260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24600" y="371304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4364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f4546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43640" y="44672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027840" y="4840200"/>
              <a:ext cx="417240" cy="519120"/>
            </a:xfrm>
            <a:custGeom>
              <a:avLst/>
              <a:gdLst/>
              <a:ahLst/>
              <a:rect l="l" t="t" r="r" b="b"/>
              <a:pathLst>
                <a:path w="263" h="327">
                  <a:moveTo>
                    <a:pt x="262" y="0"/>
                  </a:moveTo>
                  <a:lnTo>
                    <a:pt x="262" y="90"/>
                  </a:lnTo>
                  <a:lnTo>
                    <a:pt x="0" y="326"/>
                  </a:lnTo>
                  <a:lnTo>
                    <a:pt x="0" y="236"/>
                  </a:lnTo>
                  <a:lnTo>
                    <a:pt x="262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616720" y="5216400"/>
              <a:ext cx="41580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95880" y="521640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1"/>
                  </a:lnTo>
                  <a:lnTo>
                    <a:pt x="262" y="325"/>
                  </a:lnTo>
                  <a:lnTo>
                    <a:pt x="262" y="235"/>
                  </a:lnTo>
                  <a:lnTo>
                    <a:pt x="0" y="0"/>
                  </a:lnTo>
                </a:path>
              </a:pathLst>
            </a:custGeom>
            <a:solidFill>
              <a:srgbClr val="6a00c2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24600" y="4089240"/>
              <a:ext cx="844560" cy="75744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f0e3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89400" y="2957400"/>
              <a:ext cx="412920" cy="515880"/>
            </a:xfrm>
            <a:custGeom>
              <a:avLst/>
              <a:gdLst/>
              <a:ahLst/>
              <a:rect l="l" t="t" r="r" b="b"/>
              <a:pathLst>
                <a:path w="260" h="325">
                  <a:moveTo>
                    <a:pt x="0" y="0"/>
                  </a:moveTo>
                  <a:lnTo>
                    <a:pt x="0" y="91"/>
                  </a:lnTo>
                  <a:lnTo>
                    <a:pt x="259" y="324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89400" y="25779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37440" y="259380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27720" y="258444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72560" y="282096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64640" y="281304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06400" y="297504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98480" y="296712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74400" y="3025800"/>
              <a:ext cx="484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58760" y="3254400"/>
              <a:ext cx="929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Controll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189840" y="3394080"/>
              <a:ext cx="49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582720" y="2630520"/>
              <a:ext cx="71172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Vertrie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052320" y="358128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Anla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947400" y="5240160"/>
              <a:ext cx="846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H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33"/>
                  </a:solidFill>
                  <a:latin typeface="Arial"/>
                </a:rPr>
                <a:t>Persona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33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71480" y="3143160"/>
              <a:ext cx="2574000" cy="15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Arial"/>
                </a:rPr>
                <a:t>R/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Client / Serv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Workbenc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91200" y="4848120"/>
              <a:ext cx="8733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Branch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lösung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623200" y="4529160"/>
              <a:ext cx="81396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W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Workflo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05760" y="4083120"/>
              <a:ext cx="83052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Qualität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2271600" y="3711600"/>
              <a:ext cx="846360" cy="896760"/>
              <a:chOff x="2271600" y="3711600"/>
              <a:chExt cx="846360" cy="896760"/>
            </a:xfrm>
          </p:grpSpPr>
          <p:sp>
            <p:nvSpPr>
              <p:cNvPr id="280" name=""/>
              <p:cNvSpPr/>
              <p:nvPr/>
            </p:nvSpPr>
            <p:spPr>
              <a:xfrm>
                <a:off x="2271600" y="37116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33cc33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276640" y="409428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1852560" y="4092480"/>
              <a:ext cx="841320" cy="73836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65" y="0"/>
                  </a:moveTo>
                  <a:lnTo>
                    <a:pt x="0" y="232"/>
                  </a:lnTo>
                  <a:lnTo>
                    <a:pt x="265" y="464"/>
                  </a:lnTo>
                  <a:lnTo>
                    <a:pt x="529" y="232"/>
                  </a:lnTo>
                  <a:lnTo>
                    <a:pt x="265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857240" y="4465800"/>
              <a:ext cx="416160" cy="500040"/>
            </a:xfrm>
            <a:custGeom>
              <a:avLst/>
              <a:gdLst/>
              <a:ahLst/>
              <a:rect l="l" t="t" r="r" b="b"/>
              <a:pathLst>
                <a:path w="262" h="315">
                  <a:moveTo>
                    <a:pt x="0" y="0"/>
                  </a:moveTo>
                  <a:lnTo>
                    <a:pt x="0" y="87"/>
                  </a:lnTo>
                  <a:lnTo>
                    <a:pt x="261" y="314"/>
                  </a:lnTo>
                  <a:lnTo>
                    <a:pt x="261" y="227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47840" y="3778200"/>
              <a:ext cx="7956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ar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66960" y="4149720"/>
              <a:ext cx="7286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Umwel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chutz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34960" y="4621320"/>
              <a:ext cx="846360" cy="901440"/>
              <a:chOff x="1434960" y="4621320"/>
              <a:chExt cx="846360" cy="901440"/>
            </a:xfrm>
          </p:grpSpPr>
          <p:sp>
            <p:nvSpPr>
              <p:cNvPr id="287" name=""/>
              <p:cNvSpPr/>
              <p:nvPr/>
            </p:nvSpPr>
            <p:spPr>
              <a:xfrm>
                <a:off x="1434960" y="46227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440000" y="46213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59040" y="46227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40000" y="50036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859040" y="500544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1854360" y="4992840"/>
              <a:ext cx="846000" cy="901440"/>
              <a:chOff x="1854360" y="4992840"/>
              <a:chExt cx="846000" cy="901440"/>
            </a:xfrm>
          </p:grpSpPr>
          <p:sp>
            <p:nvSpPr>
              <p:cNvPr id="293" name=""/>
              <p:cNvSpPr/>
              <p:nvPr/>
            </p:nvSpPr>
            <p:spPr>
              <a:xfrm>
                <a:off x="1854360" y="4994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859040" y="4992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2780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859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278080" y="5376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2855880" y="3019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1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03560" y="2957400"/>
              <a:ext cx="843120" cy="754200"/>
            </a:xfrm>
            <a:custGeom>
              <a:avLst/>
              <a:gdLst/>
              <a:ahLst/>
              <a:rect l="l" t="t" r="r" b="b"/>
              <a:pathLst>
                <a:path w="531" h="475">
                  <a:moveTo>
                    <a:pt x="266" y="0"/>
                  </a:moveTo>
                  <a:lnTo>
                    <a:pt x="0" y="238"/>
                  </a:lnTo>
                  <a:lnTo>
                    <a:pt x="266" y="474"/>
                  </a:lnTo>
                  <a:lnTo>
                    <a:pt x="530" y="238"/>
                  </a:lnTo>
                  <a:lnTo>
                    <a:pt x="266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692440" y="25653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102120" y="21938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858040" y="284004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905920" y="250200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bfal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04440" y="2244600"/>
              <a:ext cx="46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273400" y="3330720"/>
              <a:ext cx="412560" cy="514080"/>
            </a:xfrm>
            <a:custGeom>
              <a:avLst/>
              <a:gdLst/>
              <a:ahLst/>
              <a:rect l="l" t="t" r="r" b="b"/>
              <a:pathLst>
                <a:path w="260" h="324">
                  <a:moveTo>
                    <a:pt x="0" y="0"/>
                  </a:moveTo>
                  <a:lnTo>
                    <a:pt x="0" y="88"/>
                  </a:lnTo>
                  <a:lnTo>
                    <a:pt x="259" y="323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68272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40"/>
                  </a:lnTo>
                  <a:lnTo>
                    <a:pt x="267" y="477"/>
                  </a:lnTo>
                  <a:lnTo>
                    <a:pt x="531" y="240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030480" y="2978280"/>
              <a:ext cx="10119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terialwir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43760" y="3382920"/>
              <a:ext cx="11386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d.-Plan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66920" y="4454640"/>
              <a:ext cx="846000" cy="758880"/>
            </a:xfrm>
            <a:custGeom>
              <a:avLst/>
              <a:gdLst/>
              <a:ahLst/>
              <a:rect l="l" t="t" r="r" b="b"/>
              <a:pathLst>
                <a:path w="533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2" y="239"/>
                  </a:lnTo>
                  <a:lnTo>
                    <a:pt x="267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71600" y="4836960"/>
              <a:ext cx="41760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0"/>
                  </a:moveTo>
                  <a:lnTo>
                    <a:pt x="0" y="89"/>
                  </a:lnTo>
                  <a:lnTo>
                    <a:pt x="262" y="323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90640" y="484200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07880" y="4487760"/>
              <a:ext cx="945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IMS-Funk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ionalität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24400" y="4849920"/>
              <a:ext cx="41724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60800" y="4483080"/>
              <a:ext cx="7272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stand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halt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40400" y="3711600"/>
              <a:ext cx="839880" cy="758880"/>
            </a:xfrm>
            <a:custGeom>
              <a:avLst/>
              <a:gdLst/>
              <a:ahLst/>
              <a:rect l="l" t="t" r="r" b="b"/>
              <a:pathLst>
                <a:path w="529" h="478">
                  <a:moveTo>
                    <a:pt x="266" y="0"/>
                  </a:moveTo>
                  <a:lnTo>
                    <a:pt x="0" y="239"/>
                  </a:lnTo>
                  <a:lnTo>
                    <a:pt x="266" y="477"/>
                  </a:lnTo>
                  <a:lnTo>
                    <a:pt x="528" y="239"/>
                  </a:lnTo>
                  <a:lnTo>
                    <a:pt x="266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58000" y="409428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62280" y="3706920"/>
              <a:ext cx="100908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vestition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938760" y="2216160"/>
              <a:ext cx="841320" cy="73800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71" y="0"/>
                  </a:moveTo>
                  <a:lnTo>
                    <a:pt x="0" y="227"/>
                  </a:lnTo>
                  <a:lnTo>
                    <a:pt x="260" y="464"/>
                  </a:lnTo>
                  <a:lnTo>
                    <a:pt x="529" y="238"/>
                  </a:lnTo>
                  <a:lnTo>
                    <a:pt x="271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57800" y="2589120"/>
              <a:ext cx="41724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991320" y="2216160"/>
              <a:ext cx="7484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Kund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268360" y="29462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237400" y="3044880"/>
              <a:ext cx="8992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P-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em. Ind</a:t>
              </a:r>
              <a:r>
                <a:rPr b="0" lang="en-US" sz="1100" spc="-1" strike="noStrike">
                  <a:solidFill>
                    <a:srgbClr val="ffcc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6854760" y="4994280"/>
              <a:ext cx="844560" cy="903240"/>
              <a:chOff x="6854760" y="4994280"/>
              <a:chExt cx="844560" cy="903240"/>
            </a:xfrm>
          </p:grpSpPr>
          <p:sp>
            <p:nvSpPr>
              <p:cNvPr id="324" name=""/>
              <p:cNvSpPr/>
              <p:nvPr/>
            </p:nvSpPr>
            <p:spPr>
              <a:xfrm>
                <a:off x="6854760" y="4994280"/>
                <a:ext cx="844560" cy="76212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277040" y="499428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854760" y="499752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277040" y="5380200"/>
                <a:ext cx="414360" cy="51408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854760" y="538164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6853320" y="484812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24560" y="4465800"/>
              <a:ext cx="844560" cy="75708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f3597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113160" y="4105440"/>
              <a:ext cx="7041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jek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yste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34280" y="4842000"/>
              <a:ext cx="415800" cy="51732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04120" y="4462560"/>
              <a:ext cx="7178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EA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1219320" y="91440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s SAP R/3-System un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-Ons von </a:t>
            </a:r>
            <a:r>
              <a:rPr b="1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5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75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sonderheit der </a:t>
            </a:r>
            <a:r>
              <a:rPr b="1" lang="en-US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5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5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75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t in der Lage, viele SAP R/3 Module in kurzer Zei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t hoher Qualität und Funktionalität einzuführ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75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75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etet on top dem Kunden release-feste Add-On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r Einführung 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5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iel der Veranst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mitteln von Erfahrungen und Know-h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nehmen von neuen Konta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5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9480" y="1295280"/>
            <a:ext cx="8001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P R/3 Workshop der </a:t>
            </a:r>
            <a:br>
              <a:rPr sz="3200"/>
            </a:br>
            <a:r>
              <a:rPr b="1" lang="en-US" sz="2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lt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nkfurt Marriott Hote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nkfur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.05.2001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5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axisbericht zur Implementierung von QM im 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B Coatings &amp; Colorants sowie im 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B High Performance Polymers in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gehensweise und Highlights bei der Einführung von QM in den Bereich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atings &amp; Colorants (vormals Lackrohstoffe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igh Performance Polymers (vormals Technische Kunststoffe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blick auf die Einführung von SAP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1430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5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0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MS - das integrierte LIM-System zum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ünde für die Einführung von SAP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raussetzungen und Anforderungen für ein integriertes SAP-LIMS bezogen z. B. auf die Berei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sti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schung &amp; Entwick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mweltschutz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ndhalt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wicklungen in SD/F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wicklungen im Bereich Dienstleistungslab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folgsfaktoren für die Einführung von QM und jwLI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wicklungsprinzipien von j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11430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5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richt zur Einführung von SAP R/3 bei der Goldschmidt AG bezogen auf das Qualitäts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stellung des Unternehmens Goldschmidt/Performance Chemic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ngssituation SAP - QM - LI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ielvorstellung des neuen SAP R/3 mit integriertem LI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ondere Heraus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MS-Funktionalitäten sollen erhalten bleib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lobales System für alle Standor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arbeitete Konzep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1430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5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r Einsatz des SAP R/3-Moduls Projektsystem (PS) liefert die gewünschte Transparenz in der Forschung und Entwicklu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89560" indent="-3232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auftragung von F&amp;E-Projek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9560" indent="-3232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scheidung über neue Entwicklungsprojekte sowie deren Steu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9560" indent="-3232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verwaltung mit Termin- und Kostenverfol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9560" indent="-3232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dokumentation &amp; Checkli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9560" indent="-3232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controll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9560" indent="-3232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statis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9560" indent="-3232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recher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9560" indent="-3232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-Istkostenerfassung und -auswer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1430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5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s Beratungsunternehmen </a:t>
            </a:r>
            <a:r>
              <a:rPr b="1" lang="en-US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ulting wurde am 1. Juli 1996 von Dr. Jochen Winkler gegründe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n Anfang an spezialisierte sich das Unternehmen auf die komplette Einführung von SAP R/3 Systemen in Unternehmen der Prozessindust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990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 Start von </a:t>
            </a:r>
            <a:r>
              <a:rPr b="1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5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3047760"/>
            <a:ext cx="4419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em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armazeut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dizi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29528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ternehmensausricht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nd heu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5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SM Polyolefine GmbH, Gelsenkirch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acker Chemie GmbH, Nünchritz, Burghau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-Hüls AG / SG Sivento, Rheinfel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fracor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atharinenhospital, Stuttga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innolit Kunststoff GmbH, Isman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143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5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zupharma GmbH &amp; Co., Gerli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entis Pharma Deutschland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-Hüls AG / SG Creanova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ta Medica AG und Arzneimittelwerk Dresden GmbH (AWD), Radebeul, Künsebeck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-Hüls AG, Frankfurt (Charme-Projek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211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08:57:14Z</dcterms:created>
  <dc:creator>ARS</dc:creator>
  <dc:description/>
  <dc:language>en-US</dc:language>
  <cp:lastModifiedBy>Dr. Jochen Winkler</cp:lastModifiedBy>
  <cp:lastPrinted>2001-02-12T08:25:41Z</cp:lastPrinted>
  <dcterms:modified xsi:type="dcterms:W3CDTF">2001-05-11T20:24:37Z</dcterms:modified>
  <cp:revision>80</cp:revision>
  <dc:subject/>
  <dc:title>Kein Folientitel</dc:title>
</cp:coreProperties>
</file>