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907588" cy="7621588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80880" y="4211640"/>
            <a:ext cx="91440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80880" y="4211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66640" y="4211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472560" y="1439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564240" y="1439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80880" y="4211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472560" y="4211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564240" y="4211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80880" y="423360"/>
            <a:ext cx="9144000" cy="27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80880" y="4211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66640" y="4211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80880" y="4211640"/>
            <a:ext cx="91440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07720">
              <a:spcBef>
                <a:spcPts val="550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55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60520" indent="-208080">
              <a:spcBef>
                <a:spcPts val="55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274840" indent="-25092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4840" indent="-25092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4840" indent="-25092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9640" y="1015920"/>
            <a:ext cx="80172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800280" y="1015920"/>
            <a:ext cx="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01760" y="1100160"/>
            <a:ext cx="909144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786160" y="7101000"/>
            <a:ext cx="90612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ite </a:t>
            </a:r>
            <a:fld id="{C918ABFE-6374-4023-B9D3-8F53D7ACEFCB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271320" y="7101000"/>
            <a:ext cx="68976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08.03.20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906560" y="7101000"/>
            <a:ext cx="93204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effen Rosche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4954320" y="7101000"/>
            <a:ext cx="109224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stkostenrechnu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520920" y="6870600"/>
            <a:ext cx="60588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Braggadocio"/>
              </a:rPr>
              <a:t>j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stkostenrechnu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0" algn="ctr">
              <a:spcBef>
                <a:spcPts val="275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08080" indent="0" algn="ctr">
              <a:spcBef>
                <a:spcPts val="275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08080" indent="0" algn="ctr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 algn="ctr">
              <a:spcBef>
                <a:spcPts val="60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pl. Phys. Steffen Roschek</a:t>
            </a:r>
            <a:br>
              <a:rPr sz="2400"/>
            </a:br>
            <a:r>
              <a:rPr b="1" lang="en-US" sz="24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ulting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ttp://www.jwconsulting.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438280" y="525780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ankfurt, den 08.03.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stkostenrechnu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 fontScale="97000"/>
          </a:bodyPr>
          <a:p>
            <a:pPr marL="201600" indent="-201600">
              <a:spcBef>
                <a:spcPts val="7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renzen der Plankalkul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1600" indent="0">
              <a:spcBef>
                <a:spcPts val="7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1600" indent="-201600">
              <a:lnSpc>
                <a:spcPct val="12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rbeitsschritte der Istkostenrechnu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160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1600" indent="-20160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egenüberstellung von Plankalkulation un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160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stkostenrechnu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renzen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r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lankalkul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905120"/>
            <a:ext cx="9144000" cy="4122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 fontScale="82000"/>
          </a:bodyPr>
          <a:p>
            <a:pPr marL="312120" indent="-312120">
              <a:spcBef>
                <a:spcPts val="64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genaue Einhaltung der Rezeptur                                    (aus betriebswirtschaftlicher Sicht)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64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4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inhaltung der geplanten typischen Produktions-menge je Erzeugni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64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4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gleichmäßige Verteilung der geplanten Jahresmengen auf die einzelnen Monate (wenn pro Anlage mehrere Erzeugnisse hergestellt werden)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64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4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keine Abweichungen in der Fahrweise der Anlage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rbeitsschritte der Istkostenrechnu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spcBef>
                <a:spcPts val="64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380880"/>
                <a:tab algn="l" pos="200016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Voraussetzungen: Modul Produktion, Modul  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onatsabschluß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380880"/>
                <a:tab algn="l" pos="200016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. Erzeugen von Ist-Stücklisten</a:t>
            </a:r>
            <a:br>
              <a:rPr sz="26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Grundlage: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erialentnahme und Materialzugang pro   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rzeugnis im betrachteten Zeitraum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Ergebnis: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atsächlicher Verbrauch und tatsächlicher Anfall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on Material pro Mengeneinheit des Erzeugnisses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 betrachteten Zeitrau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380880"/>
                <a:tab algn="l" pos="200016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2. Erzeugen von Ist-Rezepte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undlage: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ntsorgungsrelevante Komponenten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r Ist-Stücklisten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rgebnis: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uordnung der zu entsorgenden Mengen zu den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ntsorgungsklassen (Tarifen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rbeitsschritte der Istkostenrechnu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1439640"/>
            <a:ext cx="952524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 fontScale="98000"/>
          </a:bodyPr>
          <a:p>
            <a:pPr marL="203760" indent="-20376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380880"/>
                <a:tab algn="l" pos="190512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3. Berechnung der Ist-Anlagentarife</a:t>
            </a:r>
            <a:br>
              <a:rPr sz="26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Grundlage: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st-Kosten je Anlage (Kostenstelle)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st-Laufzeiten je Anlage und Erzeugnis (*)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 jeweils im betrachteten Zeitraum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Ergebnis: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st-Anlagentarif (DM / h) für den betrachteten Zeitrau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3760" indent="0">
              <a:spcBef>
                <a:spcPts val="550"/>
              </a:spcBef>
              <a:buNone/>
              <a:tabLst>
                <a:tab algn="l" pos="380880"/>
                <a:tab algn="l" pos="190512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3760" indent="-20376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380880"/>
                <a:tab algn="l" pos="190512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4. Durchführung der Ist-Kalkulati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undlage: 1. - 3.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Besonderheiten: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 Beachtung der Dispositionsstufen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 iterative Berechnung, bis für jedes Erzeugnis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bei zwei aufeinanderfolgenden Kalkulationen eine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vorgegebene Mindestdifferenz unterschritten oder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bis vorgegebene maximale Zyklenzahl erreicht wir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rzeugnisstruktur, Dispositionsstufe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057400" y="1828800"/>
            <a:ext cx="914400" cy="990720"/>
          </a:xfrm>
          <a:prstGeom prst="ellipse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33720" y="1523880"/>
            <a:ext cx="914400" cy="914400"/>
          </a:xfrm>
          <a:prstGeom prst="ellipse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828800" y="1676520"/>
            <a:ext cx="914400" cy="914400"/>
          </a:xfrm>
          <a:prstGeom prst="ellipse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DISST" descr=""/>
          <p:cNvPicPr/>
          <p:nvPr/>
        </p:nvPicPr>
        <p:blipFill>
          <a:blip r:embed="rId1"/>
          <a:stretch/>
        </p:blipFill>
        <p:spPr>
          <a:xfrm>
            <a:off x="1447920" y="1523880"/>
            <a:ext cx="6887880" cy="54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952524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egenüberstellung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Plankalkulation-Istkostenrechnu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685800" y="1600200"/>
          <a:ext cx="8478720" cy="2752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00200"/>
                    <a:ext cx="8478720" cy="275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stkostenrechnu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0" algn="ctr">
              <a:spcBef>
                <a:spcPts val="275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08080" indent="0" algn="ctr">
              <a:spcBef>
                <a:spcPts val="275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08080" indent="0" algn="ctr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 algn="ctr">
              <a:spcBef>
                <a:spcPts val="60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pl. Phys. Steffen Roschek</a:t>
            </a:r>
            <a:br>
              <a:rPr sz="2400"/>
            </a:br>
            <a:r>
              <a:rPr b="1" lang="en-US" sz="24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ulting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ttp://www.jwconsulting.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438280" y="525780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ankfurt, den 08.03.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5T12:09:53Z</dcterms:created>
  <dc:creator>Steffen Roschek</dc:creator>
  <dc:description/>
  <dc:language>en-US</dc:language>
  <cp:lastModifiedBy>Dr. Jochen Winkler</cp:lastModifiedBy>
  <cp:lastPrinted>2000-11-29T10:08:56Z</cp:lastPrinted>
  <dcterms:modified xsi:type="dcterms:W3CDTF">2001-03-08T22:55:50Z</dcterms:modified>
  <cp:revision>91</cp:revision>
  <dc:subject/>
  <dc:title>Kein Folientitel</dc:title>
</cp:coreProperties>
</file>