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3CE0ED4-2869-4BE5-9B04-FC7F23D8B8D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.03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077320" y="701028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Projekte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ldung (User, evtl. Kostenste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gabe der Bestel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Bestel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. Übergabe der Bestellanforderungen an R/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25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33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N00307_" descr=""/>
          <p:cNvPicPr/>
          <p:nvPr/>
        </p:nvPicPr>
        <p:blipFill>
          <a:blip r:embed="rId3"/>
          <a:stretch/>
        </p:blipFill>
        <p:spPr>
          <a:xfrm>
            <a:off x="7620120" y="43434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39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51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381880" y="2590920"/>
            <a:ext cx="0" cy="304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81880" y="2514600"/>
            <a:ext cx="0" cy="1905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520" y="4952880"/>
            <a:ext cx="1908720" cy="496440"/>
            <a:chOff x="3809520" y="4952880"/>
            <a:chExt cx="1908720" cy="496440"/>
          </a:xfrm>
        </p:grpSpPr>
        <p:sp>
          <p:nvSpPr>
            <p:cNvPr id="156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57440" y="5021280"/>
              <a:ext cx="13608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>
            <a:off x="3657600" y="4800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chner - LieferantenRech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PSystem – Webserver –</a:t>
            </a:r>
            <a:r>
              <a:rPr b="1" lang="de-DE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Interne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Browser - LieferantenRech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ser –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Interne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- / Leistungskatalo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e / Kond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 / - anfra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alis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kopf / -pos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ngsbestätigung per 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- LIM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78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88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96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IN00307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203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215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220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905120" y="1600200"/>
          <a:ext cx="583704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83704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702480" y="3321000"/>
            <a:ext cx="2441520" cy="31860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– LIM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34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470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64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1525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377520" y="4282920"/>
            <a:ext cx="2782800" cy="496440"/>
            <a:chOff x="3377520" y="4282920"/>
            <a:chExt cx="2782800" cy="496440"/>
          </a:xfrm>
        </p:grpSpPr>
        <p:sp>
          <p:nvSpPr>
            <p:cNvPr id="234" name=""/>
            <p:cNvSpPr/>
            <p:nvPr/>
          </p:nvSpPr>
          <p:spPr>
            <a:xfrm>
              <a:off x="3379680" y="433188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77520" y="42829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97920" y="435168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2304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713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94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832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493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493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28200" y="1819440"/>
            <a:ext cx="385200" cy="496440"/>
            <a:chOff x="3328200" y="1819440"/>
            <a:chExt cx="385200" cy="496440"/>
          </a:xfrm>
        </p:grpSpPr>
        <p:sp>
          <p:nvSpPr>
            <p:cNvPr id="244" name=""/>
            <p:cNvSpPr/>
            <p:nvPr/>
          </p:nvSpPr>
          <p:spPr>
            <a:xfrm>
              <a:off x="33289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82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650400" y="1871640"/>
            <a:ext cx="26928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bestät. a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7360" y="176040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828800"/>
            <a:ext cx="9720" cy="4205160"/>
          </a:xfrm>
          <a:custGeom>
            <a:avLst/>
            <a:gdLst/>
            <a:ahLst/>
            <a:rect l="l" t="t" r="r" b="b"/>
            <a:pathLst>
              <a:path w="6" h="2649">
                <a:moveTo>
                  <a:pt x="6" y="0"/>
                </a:moveTo>
                <a:lnTo>
                  <a:pt x="0" y="26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34680" y="1263600"/>
            <a:ext cx="2088000" cy="496440"/>
            <a:chOff x="3334680" y="1263600"/>
            <a:chExt cx="2088000" cy="496440"/>
          </a:xfrm>
        </p:grpSpPr>
        <p:sp>
          <p:nvSpPr>
            <p:cNvPr id="251" name=""/>
            <p:cNvSpPr/>
            <p:nvPr/>
          </p:nvSpPr>
          <p:spPr>
            <a:xfrm>
              <a:off x="3679560" y="1353600"/>
              <a:ext cx="174312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ktura an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35400" y="1313280"/>
              <a:ext cx="364320" cy="4114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34680" y="12636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3176280" y="591516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51320" y="5430960"/>
            <a:ext cx="365040" cy="4111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50960" y="53816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70280" y="5450040"/>
            <a:ext cx="11214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46320" y="5402520"/>
            <a:ext cx="1643040" cy="10152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nungsprüfung / 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889360" y="5915160"/>
            <a:ext cx="23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0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16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257640" y="2838600"/>
            <a:ext cx="501480" cy="496440"/>
            <a:chOff x="3257640" y="2838600"/>
            <a:chExt cx="501480" cy="496440"/>
          </a:xfrm>
        </p:grpSpPr>
        <p:sp>
          <p:nvSpPr>
            <p:cNvPr id="263" name=""/>
            <p:cNvSpPr/>
            <p:nvPr/>
          </p:nvSpPr>
          <p:spPr>
            <a:xfrm>
              <a:off x="33336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76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886880" y="4419720"/>
            <a:ext cx="0" cy="60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2520" y="2884320"/>
            <a:ext cx="17280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dite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4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IN00307_" descr=""/>
          <p:cNvPicPr/>
          <p:nvPr/>
        </p:nvPicPr>
        <p:blipFill>
          <a:blip r:embed="rId3"/>
          <a:stretch/>
        </p:blipFill>
        <p:spPr>
          <a:xfrm>
            <a:off x="7353360" y="518148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942240" y="396864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63120" y="3719880"/>
            <a:ext cx="1926000" cy="7102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222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80480" y="3705120"/>
            <a:ext cx="385200" cy="496440"/>
            <a:chOff x="780480" y="3705120"/>
            <a:chExt cx="385200" cy="496440"/>
          </a:xfrm>
        </p:grpSpPr>
        <p:sp>
          <p:nvSpPr>
            <p:cNvPr id="273" name=""/>
            <p:cNvSpPr/>
            <p:nvPr/>
          </p:nvSpPr>
          <p:spPr>
            <a:xfrm>
              <a:off x="7812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 flipV="1">
            <a:off x="9572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00520" y="3409920"/>
            <a:ext cx="4041720" cy="561960"/>
            <a:chOff x="2900520" y="3409920"/>
            <a:chExt cx="4041720" cy="561960"/>
          </a:xfrm>
        </p:grpSpPr>
        <p:sp>
          <p:nvSpPr>
            <p:cNvPr id="277" name=""/>
            <p:cNvSpPr/>
            <p:nvPr/>
          </p:nvSpPr>
          <p:spPr>
            <a:xfrm>
              <a:off x="6715080" y="39686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347280" y="3409920"/>
              <a:ext cx="385200" cy="496440"/>
              <a:chOff x="3347280" y="3409920"/>
              <a:chExt cx="385200" cy="496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348000" y="3459240"/>
                <a:ext cx="363600" cy="409680"/>
              </a:xfrm>
              <a:prstGeom prst="ellipse">
                <a:avLst/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47280" y="3409920"/>
                <a:ext cx="385200" cy="496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c98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703320" y="3506760"/>
              <a:ext cx="290124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diteur - Bestel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900520" y="3971880"/>
              <a:ext cx="234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2000" y="39574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2096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13120" y="2868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14640" y="417672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14640" y="5000760"/>
            <a:ext cx="0" cy="39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- LIMS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Routine- und Sonderprob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AuftragsLIM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basierend auf QM, SD, MM, FI, CO, BC,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99ff"/>
                </a:solidFill>
                <a:latin typeface="Arial"/>
              </a:rPr>
              <a:t>LIM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99ff"/>
                </a:solidFill>
                <a:latin typeface="Arial"/>
              </a:rPr>
              <a:t>Auftra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Forschungs- und Entwicklungsaufträg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Forschung&amp;Entwickl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mit / ohne PS-Modu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RezepturVerwalt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mit / ohne Stücklist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Logistik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anford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StreckenBestell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z.B. für Spedition oder andere Dienstleistungs-Labor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76520" y="1535040"/>
          <a:ext cx="618336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35040"/>
                    <a:ext cx="618336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702480" y="3321000"/>
            <a:ext cx="2441520" cy="31860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„Strecke“ mit minimiertem Personalaufw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834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470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2540160"/>
            <a:ext cx="0" cy="77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503400" y="2598840"/>
            <a:ext cx="385200" cy="496440"/>
            <a:chOff x="6503400" y="2598840"/>
            <a:chExt cx="385200" cy="496440"/>
          </a:xfrm>
        </p:grpSpPr>
        <p:sp>
          <p:nvSpPr>
            <p:cNvPr id="304" name=""/>
            <p:cNvSpPr/>
            <p:nvPr/>
          </p:nvSpPr>
          <p:spPr>
            <a:xfrm>
              <a:off x="6504120" y="2649600"/>
              <a:ext cx="364680" cy="4111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03400" y="25988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3136680" y="3668760"/>
            <a:ext cx="35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7160" y="366876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34320" y="3338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6876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42120" y="3419640"/>
            <a:ext cx="1730880" cy="7102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 bez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AN-B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30920" y="2668680"/>
            <a:ext cx="163044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. an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38640" y="3110040"/>
            <a:ext cx="385200" cy="496440"/>
            <a:chOff x="3338640" y="3110040"/>
            <a:chExt cx="385200" cy="496440"/>
          </a:xfrm>
        </p:grpSpPr>
        <p:sp>
          <p:nvSpPr>
            <p:cNvPr id="314" name=""/>
            <p:cNvSpPr/>
            <p:nvPr/>
          </p:nvSpPr>
          <p:spPr>
            <a:xfrm>
              <a:off x="3340080" y="3159360"/>
              <a:ext cx="363960" cy="4104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8640" y="31100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693600" y="3206880"/>
            <a:ext cx="305064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-Auftrag. + Planter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892600" y="3672000"/>
            <a:ext cx="234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7160" y="3419640"/>
            <a:ext cx="1672920" cy="7102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 bez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K-B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52760" y="3443400"/>
            <a:ext cx="385200" cy="496440"/>
            <a:chOff x="752760" y="3443400"/>
            <a:chExt cx="385200" cy="496440"/>
          </a:xfrm>
        </p:grpSpPr>
        <p:sp>
          <p:nvSpPr>
            <p:cNvPr id="320" name=""/>
            <p:cNvSpPr/>
            <p:nvPr/>
          </p:nvSpPr>
          <p:spPr>
            <a:xfrm>
              <a:off x="754200" y="3478320"/>
              <a:ext cx="363240" cy="4104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2760" y="34434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31525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378960" y="4282920"/>
            <a:ext cx="3045960" cy="496440"/>
            <a:chOff x="3378960" y="4282920"/>
            <a:chExt cx="3045960" cy="496440"/>
          </a:xfrm>
        </p:grpSpPr>
        <p:sp>
          <p:nvSpPr>
            <p:cNvPr id="324" name=""/>
            <p:cNvSpPr/>
            <p:nvPr/>
          </p:nvSpPr>
          <p:spPr>
            <a:xfrm>
              <a:off x="3379680" y="4331880"/>
              <a:ext cx="36468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78960" y="42829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3720" y="4351680"/>
              <a:ext cx="27612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n Lieferung an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230480" y="4424760"/>
            <a:ext cx="1641240" cy="7102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8713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94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832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949320" y="3303360"/>
            <a:ext cx="0" cy="176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493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493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309120" y="1781280"/>
            <a:ext cx="385200" cy="496440"/>
            <a:chOff x="3309120" y="1781280"/>
            <a:chExt cx="385200" cy="496440"/>
          </a:xfrm>
        </p:grpSpPr>
        <p:sp>
          <p:nvSpPr>
            <p:cNvPr id="335" name=""/>
            <p:cNvSpPr/>
            <p:nvPr/>
          </p:nvSpPr>
          <p:spPr>
            <a:xfrm>
              <a:off x="3309840" y="1830240"/>
              <a:ext cx="365040" cy="41112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09120" y="17812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650400" y="1871640"/>
            <a:ext cx="26928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bestät. a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360" y="176040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7360" y="1760400"/>
            <a:ext cx="1440" cy="506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7360" y="47912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479124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334680" y="1263600"/>
            <a:ext cx="2088000" cy="496440"/>
            <a:chOff x="3334680" y="1263600"/>
            <a:chExt cx="2088000" cy="496440"/>
          </a:xfrm>
        </p:grpSpPr>
        <p:sp>
          <p:nvSpPr>
            <p:cNvPr id="343" name=""/>
            <p:cNvSpPr/>
            <p:nvPr/>
          </p:nvSpPr>
          <p:spPr>
            <a:xfrm>
              <a:off x="3679560" y="1353240"/>
              <a:ext cx="174312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ktura an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35400" y="1312920"/>
              <a:ext cx="364320" cy="4104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34680" y="12636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>
            <a:off x="3176280" y="591516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51320" y="5430960"/>
            <a:ext cx="365040" cy="4111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0960" y="53816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200" y="5450040"/>
            <a:ext cx="30006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 üb. Dienstle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46320" y="5555160"/>
            <a:ext cx="1643040" cy="7102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-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889360" y="5915160"/>
            <a:ext cx="23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0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16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926480" y="5742000"/>
            <a:ext cx="266400" cy="479160"/>
            <a:chOff x="7926480" y="5742000"/>
            <a:chExt cx="266400" cy="479160"/>
          </a:xfrm>
        </p:grpSpPr>
        <p:sp>
          <p:nvSpPr>
            <p:cNvPr id="355" name=""/>
            <p:cNvSpPr/>
            <p:nvPr/>
          </p:nvSpPr>
          <p:spPr>
            <a:xfrm>
              <a:off x="7926480" y="5742000"/>
              <a:ext cx="266400" cy="479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91640" y="584928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91640" y="590256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91640" y="596592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91640" y="603108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91640" y="608400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91640" y="615420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82680" y="6824520"/>
            <a:ext cx="767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59680" y="623412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40840" y="6348240"/>
            <a:ext cx="314208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kturakopie an Dienst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17840" y="6286680"/>
            <a:ext cx="425520" cy="43164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4480" y="6237360"/>
            <a:ext cx="5695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286840" y="5318280"/>
            <a:ext cx="108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9369360" y="2305080"/>
            <a:ext cx="11160" cy="301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337240" y="2305080"/>
            <a:ext cx="10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59680" y="413856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051760" y="524304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234280" y="5330880"/>
            <a:ext cx="1730160" cy="777240"/>
            <a:chOff x="8234280" y="5330880"/>
            <a:chExt cx="1730160" cy="777240"/>
          </a:xfrm>
        </p:grpSpPr>
        <p:sp>
          <p:nvSpPr>
            <p:cNvPr id="373" name=""/>
            <p:cNvSpPr/>
            <p:nvPr/>
          </p:nvSpPr>
          <p:spPr>
            <a:xfrm>
              <a:off x="8234280" y="5330880"/>
              <a:ext cx="493200" cy="537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36760" y="5397840"/>
              <a:ext cx="1327680" cy="710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iefe-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8195400" y="5340240"/>
            <a:ext cx="58788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3240" y="2884320"/>
            <a:ext cx="2186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ienstle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4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IN00307_" descr=""/>
          <p:cNvPicPr/>
          <p:nvPr/>
        </p:nvPicPr>
        <p:blipFill>
          <a:blip r:embed="rId3"/>
          <a:stretch/>
        </p:blipFill>
        <p:spPr>
          <a:xfrm>
            <a:off x="7543800" y="4419720"/>
            <a:ext cx="1255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Projekte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uelle Projekte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Onkologie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Provita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GB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GB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7000"/>
          </a:bodyPr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harmaLa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Herstell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eckenBe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3-08T18:40:19Z</dcterms:modified>
  <cp:revision>437</cp:revision>
  <dc:subject/>
  <dc:title>Kein Folientitel</dc:title>
</cp:coreProperties>
</file>