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2F6-4466-4815-AF25-67F526E3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CF7-2284-4854-B5C6-BAD52E4D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B21-CBE8-440B-9D88-1EC06B60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06F-88CC-49EC-8601-086EA54A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776-F0A3-4800-B424-EFBAFDBD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E28-271F-42FC-B742-AE11CE3D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3D4-08A7-40BF-B749-5A029A43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F0F-9DFC-4CFC-AC7C-B7771C55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7FB1-DC82-4198-8856-21A26BC4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70D-B89E-4D25-A3F7-B8E8FEF2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A75-C08A-4525-AA6B-47A65350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066-5BA7-444D-B560-BCF88FF7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476760"/>
            <a:ext cx="3124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487B612-705F-49B5-80F1-B787207EF94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10280" y="6248520"/>
            <a:ext cx="140976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95280"/>
            <a:ext cx="8001000" cy="52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zlich Willk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AP R/3 Workshop der </a:t>
            </a:r>
            <a:r>
              <a:rPr b="1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lt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Degussa-Konzer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2800"/>
            </a:b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8.03.20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809-9F98-4DA1-9F5B-C1A49FFBFF6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295280"/>
            <a:ext cx="80010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AP R/3 Worksho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gussa-Konzern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 Frankfurt Marriott Hot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2800"/>
            </a:b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8.03.20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AC4-6E59-46EF-9A88-BBCBFEB42B1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ons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00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satzplan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00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ung aller Produkte im Überblick durch das Add-On Produktions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00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ierte Produktionsplanung durch Sekundär-bedarfsauf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00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der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00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90% Zeiteinsparung durch Add-Ons gegenüber R/3-Standardeinführ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00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 im Zusammenspiel mit anderen Modu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00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wicklung der Produktion über Prozessaufträ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BFD-7DD4-4A69-8672-1B5C790157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onatsabschlu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tsetzung der SAP-Standardgrobplanung in eine Ist-Analyse (Monatsrappor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übergreifender Abschluss der Aufträge der gesamten Monats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Übersicht über die offenen Monatsaufträ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ankstandsverwaltung und Nachweis der Produktionsdifferenz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buchen der Differenzen nach Konditionssch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rechnung an das Rechnungswes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0EB-5652-45CD-B5E2-F164EDF5C5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st-Herstellkostenrechn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kalkulation der Halb- und Fertigprodukte auf Basis der Produktionskennziffern des abzu-schließenden Mon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genwärtige Projekte und Entwicklungen von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 „Segmentierung der ASTA Medica AG“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über Web-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B Bestellungen über XML am Beispiel AVENTIS A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2R Kundeninfosystem über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F13-8E18-4027-B4E0-19EBA28C7C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 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5E5-9C70-42D5-B35A-73D71459D7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295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B6C-4C6D-48A3-9608-B1B80B30C1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racor GmbH, Marl und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nnolit Kunststoff GmbH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AEB-0BDB-4008-9572-5CD68C08DE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 und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sche Amphibolin Werke, Ober-Ramstad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239-73E3-45A0-9278-C6BC6BBE01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8.03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bei </a:t>
            </a:r>
            <a:r>
              <a:rPr b="1" lang="en-US" sz="24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www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jwconsulting.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71D-0345-4C5F-B96A-B2732A7263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1-03-04T14:30:19Z</dcterms:modified>
  <cp:revision>79</cp:revision>
  <dc:subject/>
  <dc:title>Kein Folientitel</dc:title>
</cp:coreProperties>
</file>