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6EC-C937-4E29-9B66-C4B11506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A37-B87F-4A79-8049-B06D20DE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F26-E08A-4DC3-8148-971F3FFE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54B-B171-4195-97A8-50DB87CE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32D-7037-44A6-B76F-A2EA48C3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277-88B3-4F51-BEBF-9E19B98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599-BED2-4A5C-A6F9-EDD13BA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68D-91CA-45B3-BFCC-768301AF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FE1-876D-4690-BF09-BFA26DB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074-2767-44F2-ACEC-19498310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BEF-4C72-4B6E-8D23-531BE02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8C0-6984-457E-B36A-A3A8280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4767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5E136B9-506B-40AF-8D11-27E3B64A05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24852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95280"/>
            <a:ext cx="8001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zlich Willk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P R/3 Workshop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Degussa-Konzer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.03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FC7-81DE-480D-892F-71036D22A24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95280"/>
            <a:ext cx="80010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P R/3 Wor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ussa-Konzer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Frankfurt Marriott Hot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.03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256-8765-455C-A902-8CA7E0332B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aller Produkte im Überblick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 Produktionsplanung durch Sekundär-bedarfsauf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90% Zeiteinsparung durch Add-Ons gegenüber R/3-Standardeinfüh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im Zusammenspiel mit anderen Modu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wicklung der Produktion über Prozess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1A-0005-47DB-8DE9-105ECF7B2B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tsetzung der SAP-Standardgrobplanung in eine Ist-Analyse (Monatsrappo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übergreifender Abschluss der Aufträge der gesamten Monats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sicht über die offenen Monats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nkstandsverwaltung und Nachweis der Produktionsdifferen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buchen der Differenzen nach Konditions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an das Rechnungswe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86D-D0D4-4BA8-8072-F4A0D87DEA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Herstellkostenrech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 der Halb- und Fertigprodukte auf Basis der Produktionskennziffern des abzu-schließenden Mon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wärtige Projekte und Entwicklungen v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 „Segmentierung der ASTA Medica AG“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über Web-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Bestellungen über XML am Beispiel AVENTIS 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718-219E-42E6-BE3A-69765A4733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0AC-BC45-43A1-A653-5C405F998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002-9A12-49E8-B0EB-092AF80F1F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CCE-3E36-4F9F-91B3-4ACB50550D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722-80E0-421E-8E6A-914AF4E744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bei </a:t>
            </a: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wconsulting.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BDF-AFBF-43A9-B998-AD62CEB5EA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3-04T14:30:19Z</dcterms:modified>
  <cp:revision>79</cp:revision>
  <dc:subject/>
  <dc:title>Kein Folientitel</dc:title>
</cp:coreProperties>
</file>