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496CAB52-D405-43E3-98FF-FFEC47B4B9A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0600" y="7101000"/>
            <a:ext cx="5770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.02.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4040" y="7101000"/>
            <a:ext cx="921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9720" y="7101000"/>
            <a:ext cx="22075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ntrale Rezepturdatenbank und Verwal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0580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entrale Rezepturdatenbank und -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5.02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mwandlung von Entwicklungsrezepturen in Rezepturen für die  Produ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12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sche Generierung von SAP-Stückl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pplung von externen Systemen und Maschi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27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wendungsnachweise in Projekten und in 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wicklungshistorie (Zwischenschrit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1250"/>
              </a:spcBef>
              <a:spcAft>
                <a:spcPts val="12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che zu Forschungsthemen z.B. alle Rezepturen zum Thema „Wasserfeste Farben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1375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gration des Berechtigungskonzep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3589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griertes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griff auf alle im SAP vorhandenen 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wenderspezifische Pflegemas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Modifik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entrale Rezepturdatenbank und -verwal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5.2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43000" y="2133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nforderungen an die 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entrale Rezepturdatenbank und -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257800" y="4191120"/>
          <a:ext cx="304812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4191120"/>
                    <a:ext cx="304812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forderungen an die Rezeptur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mmeln von Informationen über die Zusammensetzung von  Forschungs- und Entwicklungsansätz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ordnung zu Forschungsthemen bzw. Proje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Laborproben und deren Ergebni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Dokumenten z.B. Prüfberichte und Diagram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griff auf Informationen in anderen Forschungsabteil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Überführung von Entwicklungsrezepturen in die Produ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twicklung mit Hilfe der ABAP Workbenc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tzung von SAP-Strukturen und Ergänzung durch eigene   Struktu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Modifikation am SAP-Standar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flegemasken sind auf Anwender abgestimm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liebig definierbare Statu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8000"/>
          </a:bodyPr>
          <a:p>
            <a:pPr marL="20376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teilung in Kopf und Posi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2720" indent="-203400">
              <a:spcBef>
                <a:spcPts val="499"/>
              </a:spcBef>
              <a:spcAft>
                <a:spcPts val="12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p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zeptura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atzgröß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2720" indent="-203400">
              <a:spcBef>
                <a:spcPts val="1250"/>
              </a:spcBef>
              <a:spcAft>
                <a:spcPts val="12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snumm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sart z.B. Textpos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satzstof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geneinhe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satz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27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kumente an Kopf- und Positions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, Excel, Grafiken usw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der entsprechenden Appl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icherung der Dokumente an zentraler St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kumente können gegen Änderungen geschützt werd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Laborpro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ierung von Prüfaufträ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griff auf die Prüfergebnisse und Berich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nterlegen von Prei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lkulation von Entwicklungs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lkulation von Rezepturkosten in der Produk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550"/>
              </a:spcBef>
              <a:spcAft>
                <a:spcPts val="2750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satz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Projekten im 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wendungsnachwe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ch Varianten sind Entwicklungsstadien auswertb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ei definierbare Statu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Entwickl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ansatz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igegeben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gebrochen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 von Suchbegrif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wahl aus Katalo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lege der 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 Jochen Winkler</cp:lastModifiedBy>
  <cp:lastPrinted>2000-08-22T08:01:00Z</cp:lastPrinted>
  <dcterms:modified xsi:type="dcterms:W3CDTF">2001-02-08T17:59:09Z</dcterms:modified>
  <cp:revision>28</cp:revision>
  <dc:subject/>
  <dc:title>Kein Folientitel</dc:title>
</cp:coreProperties>
</file>