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D58221B-3725-4F6B-80DF-83593D2B082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.02.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9720" y="7101000"/>
            <a:ext cx="22075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trale Rezepturdatenbank und Verwal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0580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0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wandlung von Entwicklungsrezepturen in Rezepturen für die 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 Generierung von SAP-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pplung von externen Systemen und Maschi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27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wendungsnachweise in Projekten und in 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shistorie (Zwischenschrit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e zu Forschungsthemen z.B. alle Rezepturen zum Thema „Wasserfeste Far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1375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ation des Berechtigungskonzep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3589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iertes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griff auf alle im SAP vorhandenen 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wenderspezifische Pflege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Modifik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5.2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forderungen an die 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257800" y="4191120"/>
          <a:ext cx="304812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191120"/>
                    <a:ext cx="30481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forderungen an die Rezeptur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mmeln von Informationen über die Zusammensetzung von  Forschungs- und Entwicklungsansät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ordnung zu Forschungsthemen bzw.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 und deren Ergebni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Dokumenten z.B. Prüfberichte und Diagram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griff auf Informationen in anderen Forschungsabteil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Überführung von Entwicklungsrezepturen in die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wicklung mit Hilfe der ABAP Workben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SAP-Strukturen und Ergänzung durch eigene   Strukt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 am SAP-Standa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flegemasken sind auf Anwender abgestimm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liebig definierbare 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teilung in Kopf und Posi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2720" indent="-203400">
              <a:spcBef>
                <a:spcPts val="499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p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eptur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atzgröß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2720" indent="-203400"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snum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sart z.B. Text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satzsto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eneinhe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27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kumente an Kopf- und Positions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, Excel, Grafiken us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der entsprechenden Appl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icherung der Dokumente an zentraler St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 können gegen Änderungen geschützt werd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ierung von Prüfaufträ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riff auf die Prüfergebnisse und Ber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nterlegen von Prei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kulation von Entwicklungs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kulation von Rezepturkosten in der 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spcAft>
                <a:spcPts val="2750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Projekten im 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wendungsnachw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ch Varianten sind Entwicklungsstadien auswert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ei definierbare 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Entwickl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ansatz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ege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gebroch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von Suchbegrif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ahl aus Katal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lege der 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8:01:00Z</cp:lastPrinted>
  <dcterms:modified xsi:type="dcterms:W3CDTF">2001-02-08T17:59:09Z</dcterms:modified>
  <cp:revision>28</cp:revision>
  <dc:subject/>
  <dc:title>Kein Folientitel</dc:title>
</cp:coreProperties>
</file>