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26A9634-CA9C-4C6B-AD22-70B2E2E3BED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15.02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688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 ändern Adres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685800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menstru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e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ivitäten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838188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dit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 Detailan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IS Auswer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tandard Report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Generierte Report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 Auswer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Kundendatenban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führung einiger Highligh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öglichkeiten der Auswer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Darstell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878360" cy="663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 Darstellungsän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43200" y="990720"/>
            <a:ext cx="4486320" cy="61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Liste Sum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gepasste Lösung fü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keting und Vertri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gonomische Bedie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nzentration auf notwendige Information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mbination von Stammdaten u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en Zusatz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lle 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ndeninformationsdaten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en über Kunden für 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nen- und Außendien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stellung in kompakter un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übersichtlicher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von Stamm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von Zusatzinforma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fassung von Interessen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wandlung von Interessenten zu Kun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stieg in KD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stieg in KDB Matchk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86200" y="2209680"/>
            <a:ext cx="459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und Kom.- Da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739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prechpartner ände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2-08T17:57:16Z</dcterms:modified>
  <cp:revision>66</cp:revision>
  <dc:subject/>
  <dc:title>Kein Folientitel</dc:title>
</cp:coreProperties>
</file>