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3AB68D0-D270-4C5D-A8E3-EC2B9C68AEB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688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 Adr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68580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en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8381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it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S 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andard Repor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Generierte Repor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 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Kundendaten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führung einiger Highl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öglichkeiten der Auswer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Darstell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87836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Darstellungsän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44863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Sum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sste Lösung fü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keting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nzentration auf notwendige Information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bination von Stammdaten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en Zusatz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en über Kunden für 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n- und Außendien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in kompakter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sichtlicher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Zusatz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fassung von Interessen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wandlung von Interessenten zu Ku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 Matchk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86200" y="2209680"/>
            <a:ext cx="459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und Kom.- 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739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2-08T17:57:16Z</dcterms:modified>
  <cp:revision>66</cp:revision>
  <dc:subject/>
  <dc:title>Kein Folientitel</dc:title>
</cp:coreProperties>
</file>