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907588" cy="7621588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7256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6424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088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7256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6424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423360"/>
            <a:ext cx="91440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00280" y="10159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60520" indent="-208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09640" y="1015920"/>
            <a:ext cx="801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1760" y="1100160"/>
            <a:ext cx="90914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86160" y="71010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CF640E7A-F232-42F2-878F-08694546B303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270600" y="7101000"/>
            <a:ext cx="57708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.02.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906560" y="7101000"/>
            <a:ext cx="93204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teffen Rosche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952160" y="7101000"/>
            <a:ext cx="17715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SAP R/3 PS für die F &amp; E Projekt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22640" y="6870600"/>
            <a:ext cx="605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AP R/3 PS für die F &amp; E Projekt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440000"/>
            <a:ext cx="9144000" cy="53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208080" indent="-208080"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pl.-Physiker Steffen Roschek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den 15.02.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809880" y="2666880"/>
          <a:ext cx="990720" cy="68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666880"/>
                    <a:ext cx="9907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80880" y="423720"/>
            <a:ext cx="914400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33720" y="1371600"/>
            <a:ext cx="990576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295280" y="228600"/>
          <a:ext cx="7239240" cy="716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28600"/>
                    <a:ext cx="7239240" cy="716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142640" y="19807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Vorbemerk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struktu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jektablauf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kos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dokumentation und -recherch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auswert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Integration in SAP R/3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Resüme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8088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ktablau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76520" y="1295280"/>
            <a:ext cx="800100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/>
          </a:bodyPr>
          <a:p>
            <a:pPr marL="208080" indent="-2080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jektvorph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586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jektaufbereitung und - antr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586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ntscheidung über Projektdurchführ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7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ntwicklungsph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586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dukt- / Systemprof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586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Zeit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586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ntwicklung und T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586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estmark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586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dukt- / Systemfreigabeberic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586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ntscheidung über Markteinführ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6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Markteinführungsph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6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ommerzielle Erfolgskontrol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838080"/>
            <a:ext cx="92203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762120"/>
            <a:ext cx="251460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6934320"/>
            <a:ext cx="921996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Entwicklung" descr=""/>
          <p:cNvPicPr/>
          <p:nvPr/>
        </p:nvPicPr>
        <p:blipFill>
          <a:blip r:embed="rId1"/>
          <a:stretch/>
        </p:blipFill>
        <p:spPr>
          <a:xfrm>
            <a:off x="1371600" y="152280"/>
            <a:ext cx="58723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ktablauf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439640"/>
            <a:ext cx="8534160" cy="5265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lnSpc>
                <a:spcPct val="13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Zusammenspiel von Status und Meilenstein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bbildung von Formularen und vordefinierten Berich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6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rechtigungsverwalt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6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Triggerung von Workflowaufgab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formation bestimmter Person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nlegen eines Prüfauftrages im LI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0" y="0"/>
          <a:ext cx="9906120" cy="760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06120" cy="760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0" y="0"/>
          <a:ext cx="9906120" cy="760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06120" cy="760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0" y="0"/>
          <a:ext cx="9906120" cy="762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06120" cy="762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8088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133720" y="1371600"/>
            <a:ext cx="990576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71800" y="609480"/>
            <a:ext cx="990576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076480" y="247644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76480" y="247176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2560" y="0"/>
            <a:ext cx="8915400" cy="12700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8600" bIns="4860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nmelden Sonderprobe</a:t>
            </a:r>
            <a:br>
              <a:rPr sz="25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meterauswahl (I) 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9230"/>
          <a:stretch/>
        </p:blipFill>
        <p:spPr>
          <a:xfrm>
            <a:off x="0" y="0"/>
            <a:ext cx="9906120" cy="693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142640" y="19807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orbemerk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jektstruktu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jektablauf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jektkos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jektdokumentation und -recherch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jektauswert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tegration in SAP R/3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Resüme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142640" y="19807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Vorbemerk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struktu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ablauf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jektkos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dokumentation und -recherch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auswert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Integration in SAP R/3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Resüme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7800" y="-360"/>
            <a:ext cx="9328320" cy="9320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8600" bIns="4860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ktkostenplanung und - budgetier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330120" y="88920"/>
            <a:ext cx="0" cy="587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480" y="7207200"/>
            <a:ext cx="14065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166240" y="-6480"/>
            <a:ext cx="1090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95280" y="254160"/>
          <a:ext cx="1419120" cy="84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54160"/>
                    <a:ext cx="141912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-1080" y="7385040"/>
            <a:ext cx="23076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3040" y="6942240"/>
            <a:ext cx="20635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84720" y="6942240"/>
            <a:ext cx="31366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7552440" y="1123920"/>
            <a:ext cx="2016360" cy="966960"/>
          </a:xfrm>
          <a:prstGeom prst="rightArrow">
            <a:avLst>
              <a:gd name="adj1" fmla="val 75000"/>
              <a:gd name="adj2" fmla="val 104272"/>
            </a:avLst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ctr">
            <a:noAutofit/>
          </a:bodyPr>
          <a:p>
            <a:pPr algn="r"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EA-Leit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7567560" y="2774880"/>
            <a:ext cx="2014560" cy="968400"/>
          </a:xfrm>
          <a:prstGeom prst="rightArrow">
            <a:avLst>
              <a:gd name="adj1" fmla="val 75000"/>
              <a:gd name="adj2" fmla="val 104024"/>
            </a:avLst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ctr">
            <a:noAutofit/>
          </a:bodyPr>
          <a:p>
            <a:pPr algn="r"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G-Leit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78400" y="1084320"/>
            <a:ext cx="23472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95760" y="2414520"/>
            <a:ext cx="0" cy="17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686040" y="1947960"/>
            <a:ext cx="28800" cy="84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85920" y="260820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95760" y="260820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03800" y="260820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82680" y="2602080"/>
            <a:ext cx="240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76200" y="2592360"/>
            <a:ext cx="24098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01880" y="2602080"/>
            <a:ext cx="2405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95760" y="2592360"/>
            <a:ext cx="24098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0440" y="3554280"/>
            <a:ext cx="0" cy="74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4645080"/>
            <a:ext cx="19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5433840"/>
            <a:ext cx="19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6053040"/>
            <a:ext cx="19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0440" y="6045120"/>
            <a:ext cx="2062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8360" y="6927840"/>
            <a:ext cx="19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0440" y="431316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60440" y="5187960"/>
            <a:ext cx="0" cy="85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0440" y="60609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6440" y="4273560"/>
            <a:ext cx="1660320" cy="730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313160"/>
            <a:ext cx="1570320" cy="40248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A-Projek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95360" y="4830840"/>
            <a:ext cx="2332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395360" y="4830840"/>
            <a:ext cx="2332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7520" y="4624560"/>
            <a:ext cx="1450080" cy="340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SAP R/3-P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2560" y="4281480"/>
            <a:ext cx="1657440" cy="723960"/>
          </a:xfrm>
          <a:prstGeom prst="rect">
            <a:avLst/>
          </a:prstGeom>
          <a:noFill/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95360" y="5367240"/>
            <a:ext cx="2332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95360" y="5367240"/>
            <a:ext cx="2332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95360" y="5586480"/>
            <a:ext cx="2332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95360" y="6240600"/>
            <a:ext cx="2332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95360" y="6240600"/>
            <a:ext cx="2332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395360" y="6205680"/>
            <a:ext cx="2332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6440" y="6556320"/>
            <a:ext cx="1660320" cy="730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58080" y="6597720"/>
            <a:ext cx="157032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A-Projek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395360" y="7115040"/>
            <a:ext cx="2332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95360" y="7115040"/>
            <a:ext cx="2332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395360" y="7080120"/>
            <a:ext cx="2332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2560" y="6562800"/>
            <a:ext cx="1657440" cy="726840"/>
          </a:xfrm>
          <a:prstGeom prst="rect">
            <a:avLst/>
          </a:prstGeom>
          <a:noFill/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3680" y="2795760"/>
            <a:ext cx="2173320" cy="730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9560" y="2836800"/>
            <a:ext cx="202464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beitsgrupp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70000" y="3352680"/>
            <a:ext cx="2332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70000" y="3352680"/>
            <a:ext cx="2332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1520" y="3147840"/>
            <a:ext cx="140436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SAP R/3-I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01600" y="2803680"/>
            <a:ext cx="2168640" cy="725400"/>
          </a:xfrm>
          <a:prstGeom prst="rect">
            <a:avLst/>
          </a:prstGeom>
          <a:noFill/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68480" y="3554280"/>
            <a:ext cx="0" cy="74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74960" y="4645080"/>
            <a:ext cx="20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74960" y="5433840"/>
            <a:ext cx="20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874960" y="6053040"/>
            <a:ext cx="20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68480" y="6045120"/>
            <a:ext cx="2066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74960" y="6927840"/>
            <a:ext cx="20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868480" y="431316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868480" y="5187960"/>
            <a:ext cx="0" cy="85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868480" y="60609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86280" y="4273560"/>
            <a:ext cx="1660320" cy="730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67920" y="4313160"/>
            <a:ext cx="157032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A-Projek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03760" y="4830840"/>
            <a:ext cx="23472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3760" y="4830840"/>
            <a:ext cx="23472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096720" y="4624560"/>
            <a:ext cx="145008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SAP R/3-P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92400" y="4281480"/>
            <a:ext cx="1657440" cy="723960"/>
          </a:xfrm>
          <a:prstGeom prst="rect">
            <a:avLst/>
          </a:prstGeom>
          <a:noFill/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03760" y="5367240"/>
            <a:ext cx="23472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03760" y="5367240"/>
            <a:ext cx="23472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3760" y="5367240"/>
            <a:ext cx="23472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3760" y="6240600"/>
            <a:ext cx="23472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03760" y="6240600"/>
            <a:ext cx="23472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03760" y="6240600"/>
            <a:ext cx="23472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086280" y="6556320"/>
            <a:ext cx="1660320" cy="730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067920" y="6597720"/>
            <a:ext cx="157032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A-Projek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3760" y="7115040"/>
            <a:ext cx="23472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03760" y="7115040"/>
            <a:ext cx="23472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3760" y="7115040"/>
            <a:ext cx="23472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92400" y="6562800"/>
            <a:ext cx="1657440" cy="726840"/>
          </a:xfrm>
          <a:prstGeom prst="rect">
            <a:avLst/>
          </a:prstGeom>
          <a:noFill/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603520" y="2795760"/>
            <a:ext cx="2171520" cy="730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78680" y="2836800"/>
            <a:ext cx="202464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beitsgrupp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78400" y="3352680"/>
            <a:ext cx="23472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78400" y="3352680"/>
            <a:ext cx="23472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71360" y="3147840"/>
            <a:ext cx="140436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SAP R/3-I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611440" y="2803680"/>
            <a:ext cx="2168640" cy="725400"/>
          </a:xfrm>
          <a:prstGeom prst="rect">
            <a:avLst/>
          </a:prstGeom>
          <a:noFill/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278320" y="3554280"/>
            <a:ext cx="0" cy="74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284800" y="4645080"/>
            <a:ext cx="20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84800" y="5433840"/>
            <a:ext cx="20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284800" y="6053040"/>
            <a:ext cx="20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278320" y="6045120"/>
            <a:ext cx="2066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0" y="6927840"/>
            <a:ext cx="20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78320" y="431316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78320" y="5187960"/>
            <a:ext cx="0" cy="85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78320" y="60609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94320" y="4273560"/>
            <a:ext cx="1662120" cy="730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474520" y="4313160"/>
            <a:ext cx="157032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A-Projek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13600" y="4830840"/>
            <a:ext cx="2332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213600" y="4830840"/>
            <a:ext cx="2332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503320" y="4624560"/>
            <a:ext cx="145008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SAP R/3-P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502240" y="4281480"/>
            <a:ext cx="1657440" cy="723960"/>
          </a:xfrm>
          <a:prstGeom prst="rect">
            <a:avLst/>
          </a:prstGeom>
          <a:noFill/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213600" y="5367240"/>
            <a:ext cx="2332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213600" y="5367240"/>
            <a:ext cx="2332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213600" y="6240600"/>
            <a:ext cx="2332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213600" y="6240600"/>
            <a:ext cx="2332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213600" y="6240600"/>
            <a:ext cx="2332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94320" y="6556320"/>
            <a:ext cx="1662120" cy="730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474520" y="6597720"/>
            <a:ext cx="157032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A-Projek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213600" y="7115040"/>
            <a:ext cx="2332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213600" y="7115040"/>
            <a:ext cx="2332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213600" y="7115040"/>
            <a:ext cx="2332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502240" y="6562800"/>
            <a:ext cx="1657440" cy="726840"/>
          </a:xfrm>
          <a:prstGeom prst="rect">
            <a:avLst/>
          </a:prstGeom>
          <a:noFill/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013360" y="2795760"/>
            <a:ext cx="2171520" cy="730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985640" y="2836800"/>
            <a:ext cx="203976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beitsgruppe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986440" y="3352680"/>
            <a:ext cx="2332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986440" y="3352680"/>
            <a:ext cx="2332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277960" y="3147840"/>
            <a:ext cx="140436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SAP R/3-I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019840" y="2803680"/>
            <a:ext cx="2168280" cy="725400"/>
          </a:xfrm>
          <a:prstGeom prst="rect">
            <a:avLst/>
          </a:prstGeom>
          <a:noFill/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505240" y="1233360"/>
            <a:ext cx="2360520" cy="730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478600" y="1273320"/>
            <a:ext cx="222120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A-Budget 19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578400" y="1792440"/>
            <a:ext cx="23472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78400" y="1792440"/>
            <a:ext cx="23472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860200" y="1587600"/>
            <a:ext cx="140436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SAP R/3-I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13160" y="1239840"/>
            <a:ext cx="2354040" cy="727200"/>
          </a:xfrm>
          <a:prstGeom prst="rect">
            <a:avLst/>
          </a:prstGeom>
          <a:noFill/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1142640" y="19807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Vorbemerk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struktu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ablauf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kos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jektdokumentation und -recherch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auswert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Integration in SAP R/3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Resüme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7800" y="228600"/>
            <a:ext cx="9328320" cy="7034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8600" bIns="4860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kumentenmapp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330120" y="88920"/>
            <a:ext cx="0" cy="587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480" y="7207200"/>
            <a:ext cx="14065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166240" y="-6480"/>
            <a:ext cx="1090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395280" y="254160"/>
          <a:ext cx="1419120" cy="84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54160"/>
                    <a:ext cx="141912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"/>
          <p:cNvSpPr/>
          <p:nvPr/>
        </p:nvSpPr>
        <p:spPr>
          <a:xfrm>
            <a:off x="743040" y="6942240"/>
            <a:ext cx="20635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84720" y="6942240"/>
            <a:ext cx="31366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384720" y="6942240"/>
            <a:ext cx="31366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4160" y="1192320"/>
            <a:ext cx="9397800" cy="1001520"/>
          </a:xfrm>
          <a:prstGeom prst="rect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EA-Projekt-Mapp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54160" y="3394080"/>
            <a:ext cx="2876400" cy="33116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mul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ecklisten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reibungen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rich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MS Wor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556080" y="3394080"/>
            <a:ext cx="2876400" cy="33116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bel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rechnu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isti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fi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MS Exce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0" y="3394080"/>
            <a:ext cx="2793960" cy="323532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fi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emische Form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bildu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CAM Windows u.a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952880" y="2208240"/>
            <a:ext cx="0" cy="66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74640" y="2878200"/>
            <a:ext cx="8242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68520" y="2886120"/>
            <a:ext cx="0" cy="49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952880" y="2886120"/>
            <a:ext cx="0" cy="49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337600" y="2886120"/>
            <a:ext cx="0" cy="49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716120" y="2443320"/>
            <a:ext cx="22240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kumentenar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7800" y="228600"/>
            <a:ext cx="9328320" cy="8380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8600" bIns="4860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rojektklassifizierung und - recherch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330120" y="88920"/>
            <a:ext cx="0" cy="587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480" y="7207200"/>
            <a:ext cx="14065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166240" y="-6480"/>
            <a:ext cx="1090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395280" y="254160"/>
          <a:ext cx="1419120" cy="84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54160"/>
                    <a:ext cx="141912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743040" y="6942240"/>
            <a:ext cx="20635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384720" y="6942240"/>
            <a:ext cx="31366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62040" y="4346640"/>
            <a:ext cx="2436840" cy="29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62040" y="4346640"/>
            <a:ext cx="2436840" cy="6350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55000" y="4443480"/>
            <a:ext cx="2093040" cy="4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lassenpfle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629160" y="4346640"/>
            <a:ext cx="3033720" cy="29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637080" y="5091120"/>
            <a:ext cx="36792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936240" y="5091120"/>
            <a:ext cx="126540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Zuordn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939120" y="5340240"/>
            <a:ext cx="84168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jek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689360" y="5340240"/>
            <a:ext cx="112212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A-47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933360" y="5591160"/>
            <a:ext cx="86616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las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707000" y="5591160"/>
            <a:ext cx="99900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jek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637080" y="6094440"/>
            <a:ext cx="36792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949920" y="6094440"/>
            <a:ext cx="215712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erkmalsbewert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938400" y="6369120"/>
            <a:ext cx="114804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chgebi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054760" y="6369120"/>
            <a:ext cx="39996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: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934800" y="6600960"/>
            <a:ext cx="97308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.-G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842000" y="6600960"/>
            <a:ext cx="55080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938400" y="6824520"/>
            <a:ext cx="126540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rwend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94080" y="6824520"/>
            <a:ext cx="29916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629160" y="4346640"/>
            <a:ext cx="2793960" cy="6350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912480" y="4443480"/>
            <a:ext cx="2185920" cy="4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lassifizier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6910560" y="4346640"/>
            <a:ext cx="2596680" cy="2985840"/>
            <a:chOff x="6910560" y="4346640"/>
            <a:chExt cx="2596680" cy="2985840"/>
          </a:xfrm>
        </p:grpSpPr>
        <p:sp>
          <p:nvSpPr>
            <p:cNvPr id="275" name=""/>
            <p:cNvSpPr/>
            <p:nvPr/>
          </p:nvSpPr>
          <p:spPr>
            <a:xfrm>
              <a:off x="6910560" y="4346640"/>
              <a:ext cx="2596680" cy="298584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914880" y="5157720"/>
              <a:ext cx="367920" cy="3409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8600" bIns="48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35200"/>
                  <a:tab algn="l" pos="1670040"/>
                  <a:tab algn="l" pos="2505240"/>
                  <a:tab algn="l" pos="3340080"/>
                  <a:tab algn="l" pos="4175280"/>
                  <a:tab algn="l" pos="5010120"/>
                  <a:tab algn="l" pos="5845320"/>
                  <a:tab algn="l" pos="6680160"/>
                  <a:tab algn="l" pos="7515360"/>
                  <a:tab algn="l" pos="8350200"/>
                  <a:tab algn="l" pos="9185400"/>
                  <a:tab algn="l" pos="10020240"/>
                  <a:tab algn="l" pos="108554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212960" y="5157720"/>
              <a:ext cx="1180080" cy="3409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8600" bIns="48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35200"/>
                  <a:tab algn="l" pos="1670040"/>
                  <a:tab algn="l" pos="2505240"/>
                  <a:tab algn="l" pos="3340080"/>
                  <a:tab algn="l" pos="4175280"/>
                  <a:tab algn="l" pos="5010120"/>
                  <a:tab algn="l" pos="5845320"/>
                  <a:tab algn="l" pos="6680160"/>
                  <a:tab algn="l" pos="7515360"/>
                  <a:tab algn="l" pos="8350200"/>
                  <a:tab algn="l" pos="9185400"/>
                  <a:tab algn="l" pos="10020240"/>
                  <a:tab algn="l" pos="108554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uche d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209000" y="5410080"/>
              <a:ext cx="1602360" cy="3409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8600" bIns="48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35200"/>
                  <a:tab algn="l" pos="1670040"/>
                  <a:tab algn="l" pos="2505240"/>
                  <a:tab algn="l" pos="3340080"/>
                  <a:tab algn="l" pos="4175280"/>
                  <a:tab algn="l" pos="5010120"/>
                  <a:tab algn="l" pos="5845320"/>
                  <a:tab algn="l" pos="6680160"/>
                  <a:tab algn="l" pos="7515360"/>
                  <a:tab algn="l" pos="8350200"/>
                  <a:tab algn="l" pos="9185400"/>
                  <a:tab algn="l" pos="10020240"/>
                  <a:tab algn="l" pos="108554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instiegsklas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14880" y="6161400"/>
              <a:ext cx="367920" cy="3409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8600" bIns="48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35200"/>
                  <a:tab algn="l" pos="1670040"/>
                  <a:tab algn="l" pos="2505240"/>
                  <a:tab algn="l" pos="3340080"/>
                  <a:tab algn="l" pos="4175280"/>
                  <a:tab algn="l" pos="5010120"/>
                  <a:tab algn="l" pos="5845320"/>
                  <a:tab algn="l" pos="6680160"/>
                  <a:tab algn="l" pos="7515360"/>
                  <a:tab algn="l" pos="8350200"/>
                  <a:tab algn="l" pos="9185400"/>
                  <a:tab algn="l" pos="10020240"/>
                  <a:tab algn="l" pos="108554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212240" y="6161400"/>
              <a:ext cx="1789920" cy="3409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8600" bIns="48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35200"/>
                  <a:tab algn="l" pos="1670040"/>
                  <a:tab algn="l" pos="2505240"/>
                  <a:tab algn="l" pos="3340080"/>
                  <a:tab algn="l" pos="4175280"/>
                  <a:tab algn="l" pos="5010120"/>
                  <a:tab algn="l" pos="5845320"/>
                  <a:tab algn="l" pos="6680160"/>
                  <a:tab algn="l" pos="7515360"/>
                  <a:tab algn="l" pos="8350200"/>
                  <a:tab algn="l" pos="9185400"/>
                  <a:tab algn="l" pos="10020240"/>
                  <a:tab algn="l" pos="108554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bjektsuche üb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208640" y="6415200"/>
              <a:ext cx="1929960" cy="3409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8600" bIns="48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35200"/>
                  <a:tab algn="l" pos="1670040"/>
                  <a:tab algn="l" pos="2505240"/>
                  <a:tab algn="l" pos="3340080"/>
                  <a:tab algn="l" pos="4175280"/>
                  <a:tab algn="l" pos="5010120"/>
                  <a:tab algn="l" pos="5845320"/>
                  <a:tab algn="l" pos="6680160"/>
                  <a:tab algn="l" pos="7515360"/>
                  <a:tab algn="l" pos="8350200"/>
                  <a:tab algn="l" pos="9185400"/>
                  <a:tab algn="l" pos="10020240"/>
                  <a:tab algn="l" pos="108554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ie Einstiegsklas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910560" y="4346640"/>
              <a:ext cx="2596680" cy="63468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259040" y="4443120"/>
              <a:ext cx="1875240" cy="432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8600" bIns="48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35200"/>
                  <a:tab algn="l" pos="1670040"/>
                  <a:tab algn="l" pos="2505240"/>
                  <a:tab algn="l" pos="3340080"/>
                  <a:tab algn="l" pos="4175280"/>
                  <a:tab algn="l" pos="5010120"/>
                  <a:tab algn="l" pos="5845320"/>
                  <a:tab algn="l" pos="6680160"/>
                  <a:tab algn="l" pos="7515360"/>
                  <a:tab algn="l" pos="8350200"/>
                  <a:tab algn="l" pos="9185400"/>
                  <a:tab algn="l" pos="10020240"/>
                  <a:tab algn="l" pos="1085544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Objektsuch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741240" y="1347840"/>
            <a:ext cx="2913120" cy="201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49880" y="1973160"/>
            <a:ext cx="99900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rspr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648160" y="1973160"/>
            <a:ext cx="64368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50600" y="2195640"/>
            <a:ext cx="114804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chgebi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644200" y="2195640"/>
            <a:ext cx="90288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.......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52760" y="2419200"/>
            <a:ext cx="147276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ktgrup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641320" y="2419200"/>
            <a:ext cx="90288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.......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51680" y="2644920"/>
            <a:ext cx="126540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rwend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647800" y="2644920"/>
            <a:ext cx="59508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w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41240" y="1347840"/>
            <a:ext cx="2913120" cy="6033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67760" y="1433520"/>
            <a:ext cx="2153880" cy="4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rkmalpfle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41240" y="2951280"/>
            <a:ext cx="2913120" cy="407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451520" y="2938320"/>
            <a:ext cx="1376640" cy="4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Merkma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141800" y="1347840"/>
            <a:ext cx="3629160" cy="2151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0440" y="1946160"/>
            <a:ext cx="99900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rspr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092920" y="1946160"/>
            <a:ext cx="24912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42960" y="1946160"/>
            <a:ext cx="136908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undenauftra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151160" y="2165400"/>
            <a:ext cx="114804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chgebi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271480" y="2165400"/>
            <a:ext cx="24912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152960" y="2392200"/>
            <a:ext cx="147276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ktgrup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654880" y="2392200"/>
            <a:ext cx="24912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151880" y="2616120"/>
            <a:ext cx="126540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rwend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408640" y="2616120"/>
            <a:ext cx="24912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147920" y="2840040"/>
            <a:ext cx="64368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676760" y="2840040"/>
            <a:ext cx="24912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141800" y="1347840"/>
            <a:ext cx="3629160" cy="6033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22040" y="1433520"/>
            <a:ext cx="2495520" cy="4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jekt FEA-471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141800" y="3090960"/>
            <a:ext cx="3629160" cy="407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943880" y="3078000"/>
            <a:ext cx="1858320" cy="4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igenschaf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57320" y="5235480"/>
            <a:ext cx="1728720" cy="1824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068120" y="5761080"/>
            <a:ext cx="99900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rspr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069560" y="5985000"/>
            <a:ext cx="114804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chgebi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071720" y="6210360"/>
            <a:ext cx="147276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ktgrup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069920" y="6434280"/>
            <a:ext cx="126540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rwend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066320" y="6657840"/>
            <a:ext cx="64368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057320" y="5235480"/>
            <a:ext cx="1728720" cy="54792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17560" y="5111640"/>
            <a:ext cx="1889280" cy="549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58160" y="5191200"/>
            <a:ext cx="1811160" cy="3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Klasse Projekt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606680" y="3506760"/>
            <a:ext cx="701640" cy="687240"/>
          </a:xfrm>
          <a:custGeom>
            <a:avLst/>
            <a:gdLst/>
            <a:ahLst/>
            <a:rect l="l" t="t" r="r" b="b"/>
            <a:pathLst>
              <a:path w="408" h="390">
                <a:moveTo>
                  <a:pt x="206" y="389"/>
                </a:moveTo>
                <a:lnTo>
                  <a:pt x="407" y="196"/>
                </a:lnTo>
                <a:lnTo>
                  <a:pt x="308" y="196"/>
                </a:lnTo>
                <a:lnTo>
                  <a:pt x="308" y="0"/>
                </a:lnTo>
                <a:lnTo>
                  <a:pt x="102" y="0"/>
                </a:lnTo>
                <a:lnTo>
                  <a:pt x="102" y="196"/>
                </a:lnTo>
                <a:lnTo>
                  <a:pt x="0" y="196"/>
                </a:lnTo>
                <a:lnTo>
                  <a:pt x="206" y="389"/>
                </a:lnTo>
              </a:path>
            </a:pathLst>
          </a:custGeom>
          <a:solidFill>
            <a:srgbClr val="618ff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535640" y="3506760"/>
            <a:ext cx="704520" cy="687240"/>
          </a:xfrm>
          <a:custGeom>
            <a:avLst/>
            <a:gdLst/>
            <a:ahLst/>
            <a:rect l="l" t="t" r="r" b="b"/>
            <a:pathLst>
              <a:path w="410" h="390">
                <a:moveTo>
                  <a:pt x="205" y="389"/>
                </a:moveTo>
                <a:lnTo>
                  <a:pt x="409" y="196"/>
                </a:lnTo>
                <a:lnTo>
                  <a:pt x="307" y="196"/>
                </a:lnTo>
                <a:lnTo>
                  <a:pt x="307" y="0"/>
                </a:lnTo>
                <a:lnTo>
                  <a:pt x="101" y="0"/>
                </a:lnTo>
                <a:lnTo>
                  <a:pt x="101" y="196"/>
                </a:lnTo>
                <a:lnTo>
                  <a:pt x="0" y="196"/>
                </a:lnTo>
                <a:lnTo>
                  <a:pt x="205" y="389"/>
                </a:lnTo>
              </a:path>
            </a:pathLst>
          </a:custGeom>
          <a:solidFill>
            <a:srgbClr val="618ff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954160" y="5670720"/>
            <a:ext cx="782640" cy="479160"/>
          </a:xfrm>
          <a:custGeom>
            <a:avLst/>
            <a:gdLst/>
            <a:ahLst/>
            <a:rect l="l" t="t" r="r" b="b"/>
            <a:pathLst>
              <a:path w="455" h="272">
                <a:moveTo>
                  <a:pt x="229" y="0"/>
                </a:moveTo>
                <a:lnTo>
                  <a:pt x="229" y="68"/>
                </a:lnTo>
                <a:lnTo>
                  <a:pt x="0" y="68"/>
                </a:lnTo>
                <a:lnTo>
                  <a:pt x="0" y="203"/>
                </a:lnTo>
                <a:lnTo>
                  <a:pt x="229" y="203"/>
                </a:lnTo>
                <a:lnTo>
                  <a:pt x="229" y="271"/>
                </a:lnTo>
                <a:lnTo>
                  <a:pt x="454" y="137"/>
                </a:lnTo>
                <a:lnTo>
                  <a:pt x="229" y="0"/>
                </a:lnTo>
              </a:path>
            </a:pathLst>
          </a:custGeom>
          <a:solidFill>
            <a:srgbClr val="618ff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1142640" y="19807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Vorbemerk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struktu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ablauf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kos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dokumentation und -recherch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jektauswert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Integration in SAP R/3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Resüme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38088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ktauswertu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90720" y="1440000"/>
            <a:ext cx="8534160" cy="53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/>
          </a:bodyPr>
          <a:p>
            <a:pPr marL="208080" indent="-208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S-Standardauswertu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jektinformations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usatzauswertungen über eigene Struktu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5520" indent="78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zeptur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5520" indent="78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üfergebni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5520" indent="78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gleiche mit Wettbewerberproduk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1142640" y="19807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Vorbemerk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struktu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ablauf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kos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dokumentation und -recherch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Weitere Möglichkei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tegration in SAP R/3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Resüme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gration in SAP R/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676160" y="1447920"/>
            <a:ext cx="7848360" cy="36655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838080" y="1143000"/>
            <a:ext cx="7688520" cy="5976360"/>
            <a:chOff x="838080" y="1143000"/>
            <a:chExt cx="7688520" cy="5976360"/>
          </a:xfrm>
        </p:grpSpPr>
        <p:sp>
          <p:nvSpPr>
            <p:cNvPr id="334" name=""/>
            <p:cNvSpPr/>
            <p:nvPr/>
          </p:nvSpPr>
          <p:spPr>
            <a:xfrm>
              <a:off x="914400" y="6562800"/>
              <a:ext cx="190512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352680" y="6562800"/>
              <a:ext cx="289584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225440" y="1623600"/>
              <a:ext cx="6997680" cy="5156280"/>
            </a:xfrm>
            <a:prstGeom prst="ellipse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38080" y="6263280"/>
              <a:ext cx="190512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276720" y="6263280"/>
              <a:ext cx="289548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9" name=""/>
            <p:cNvGrpSpPr/>
            <p:nvPr/>
          </p:nvGrpSpPr>
          <p:grpSpPr>
            <a:xfrm>
              <a:off x="3828960" y="3123360"/>
              <a:ext cx="1928880" cy="1858320"/>
              <a:chOff x="3828960" y="3123360"/>
              <a:chExt cx="1928880" cy="1858320"/>
            </a:xfrm>
          </p:grpSpPr>
          <p:grpSp>
            <p:nvGrpSpPr>
              <p:cNvPr id="340" name=""/>
              <p:cNvGrpSpPr/>
              <p:nvPr/>
            </p:nvGrpSpPr>
            <p:grpSpPr>
              <a:xfrm>
                <a:off x="3828960" y="3123360"/>
                <a:ext cx="1928880" cy="1858320"/>
                <a:chOff x="3828960" y="3123360"/>
                <a:chExt cx="1928880" cy="1858320"/>
              </a:xfrm>
            </p:grpSpPr>
            <p:grpSp>
              <p:nvGrpSpPr>
                <p:cNvPr id="341" name=""/>
                <p:cNvGrpSpPr/>
                <p:nvPr/>
              </p:nvGrpSpPr>
              <p:grpSpPr>
                <a:xfrm>
                  <a:off x="4800600" y="3862800"/>
                  <a:ext cx="957240" cy="1109160"/>
                  <a:chOff x="4800600" y="3862800"/>
                  <a:chExt cx="957240" cy="11091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4800600" y="3862800"/>
                    <a:ext cx="898560" cy="1067040"/>
                  </a:xfrm>
                  <a:custGeom>
                    <a:avLst/>
                    <a:gdLst/>
                    <a:ahLst/>
                    <a:rect l="l" t="t" r="r" b="b"/>
                    <a:pathLst>
                      <a:path w="566" h="684">
                        <a:moveTo>
                          <a:pt x="565" y="0"/>
                        </a:moveTo>
                        <a:lnTo>
                          <a:pt x="0" y="449"/>
                        </a:lnTo>
                        <a:lnTo>
                          <a:pt x="0" y="683"/>
                        </a:lnTo>
                        <a:lnTo>
                          <a:pt x="565" y="228"/>
                        </a:lnTo>
                        <a:lnTo>
                          <a:pt x="565" y="0"/>
                        </a:lnTo>
                      </a:path>
                    </a:pathLst>
                  </a:custGeom>
                  <a:solidFill>
                    <a:srgbClr val="ff4c4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4800600" y="3862800"/>
                    <a:ext cx="957240" cy="1109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3" h="711">
                        <a:moveTo>
                          <a:pt x="602" y="0"/>
                        </a:moveTo>
                        <a:lnTo>
                          <a:pt x="0" y="466"/>
                        </a:lnTo>
                        <a:lnTo>
                          <a:pt x="0" y="710"/>
                        </a:lnTo>
                        <a:lnTo>
                          <a:pt x="602" y="238"/>
                        </a:lnTo>
                        <a:lnTo>
                          <a:pt x="602" y="0"/>
                        </a:lnTo>
                      </a:path>
                    </a:pathLst>
                  </a:custGeom>
                  <a:noFill/>
                  <a:ln cap="rnd" w="25560">
                    <a:solidFill>
                      <a:srgbClr val="617a9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4" name=""/>
                <p:cNvSpPr/>
                <p:nvPr/>
              </p:nvSpPr>
              <p:spPr>
                <a:xfrm>
                  <a:off x="3828960" y="3123360"/>
                  <a:ext cx="1928880" cy="1476000"/>
                </a:xfrm>
                <a:custGeom>
                  <a:avLst/>
                  <a:gdLst/>
                  <a:ahLst/>
                  <a:rect l="l" t="t" r="r" b="b"/>
                  <a:pathLst>
                    <a:path w="1215" h="946">
                      <a:moveTo>
                        <a:pt x="605" y="945"/>
                      </a:moveTo>
                      <a:lnTo>
                        <a:pt x="1214" y="474"/>
                      </a:lnTo>
                      <a:lnTo>
                        <a:pt x="605" y="0"/>
                      </a:lnTo>
                      <a:lnTo>
                        <a:pt x="0" y="474"/>
                      </a:lnTo>
                      <a:lnTo>
                        <a:pt x="605" y="945"/>
                      </a:lnTo>
                    </a:path>
                  </a:pathLst>
                </a:custGeom>
                <a:solidFill>
                  <a:srgbClr val="ff0000"/>
                </a:solidFill>
                <a:ln cap="rnd" w="25560">
                  <a:solidFill>
                    <a:srgbClr val="617a9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3828960" y="3862800"/>
                  <a:ext cx="966960" cy="1118880"/>
                </a:xfrm>
                <a:custGeom>
                  <a:avLst/>
                  <a:gdLst/>
                  <a:ahLst/>
                  <a:rect l="l" t="t" r="r" b="b"/>
                  <a:pathLst>
                    <a:path w="609" h="717">
                      <a:moveTo>
                        <a:pt x="0" y="0"/>
                      </a:moveTo>
                      <a:lnTo>
                        <a:pt x="608" y="465"/>
                      </a:lnTo>
                      <a:lnTo>
                        <a:pt x="608" y="716"/>
                      </a:lnTo>
                      <a:lnTo>
                        <a:pt x="0" y="23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0000"/>
                </a:solidFill>
                <a:ln cap="rnd" w="25560">
                  <a:solidFill>
                    <a:srgbClr val="617a9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6" name=""/>
              <p:cNvSpPr/>
              <p:nvPr/>
            </p:nvSpPr>
            <p:spPr>
              <a:xfrm>
                <a:off x="4343040" y="3605040"/>
                <a:ext cx="858240" cy="69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ff"/>
                    </a:solidFill>
                    <a:latin typeface="Arial"/>
                  </a:rPr>
                  <a:t>PS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4197240" y="1143000"/>
              <a:ext cx="1090800" cy="1158840"/>
              <a:chOff x="4197240" y="1143000"/>
              <a:chExt cx="1090800" cy="115884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4197240" y="1143000"/>
                <a:ext cx="1090800" cy="1158840"/>
                <a:chOff x="4197240" y="1143000"/>
                <a:chExt cx="1090800" cy="1158840"/>
              </a:xfrm>
            </p:grpSpPr>
            <p:grpSp>
              <p:nvGrpSpPr>
                <p:cNvPr id="349" name=""/>
                <p:cNvGrpSpPr/>
                <p:nvPr/>
              </p:nvGrpSpPr>
              <p:grpSpPr>
                <a:xfrm>
                  <a:off x="4745160" y="1604520"/>
                  <a:ext cx="542880" cy="690840"/>
                  <a:chOff x="4745160" y="1604520"/>
                  <a:chExt cx="542880" cy="69084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>
                    <a:off x="4745160" y="1604520"/>
                    <a:ext cx="509400" cy="664560"/>
                  </a:xfrm>
                  <a:custGeom>
                    <a:avLst/>
                    <a:gdLst/>
                    <a:ahLst/>
                    <a:rect l="l" t="t" r="r" b="b"/>
                    <a:pathLst>
                      <a:path w="321" h="426">
                        <a:moveTo>
                          <a:pt x="320" y="0"/>
                        </a:moveTo>
                        <a:lnTo>
                          <a:pt x="0" y="279"/>
                        </a:lnTo>
                        <a:lnTo>
                          <a:pt x="0" y="425"/>
                        </a:lnTo>
                        <a:lnTo>
                          <a:pt x="320" y="142"/>
                        </a:lnTo>
                        <a:lnTo>
                          <a:pt x="320" y="0"/>
                        </a:lnTo>
                      </a:path>
                    </a:pathLst>
                  </a:custGeom>
                  <a:solidFill>
                    <a:srgbClr val="ff4c4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4745160" y="1604520"/>
                    <a:ext cx="542880" cy="690840"/>
                  </a:xfrm>
                  <a:custGeom>
                    <a:avLst/>
                    <a:gdLst/>
                    <a:ahLst/>
                    <a:rect l="l" t="t" r="r" b="b"/>
                    <a:pathLst>
                      <a:path w="342" h="443">
                        <a:moveTo>
                          <a:pt x="341" y="0"/>
                        </a:moveTo>
                        <a:lnTo>
                          <a:pt x="0" y="290"/>
                        </a:lnTo>
                        <a:lnTo>
                          <a:pt x="0" y="442"/>
                        </a:lnTo>
                        <a:lnTo>
                          <a:pt x="341" y="148"/>
                        </a:lnTo>
                        <a:lnTo>
                          <a:pt x="341" y="0"/>
                        </a:lnTo>
                      </a:path>
                    </a:pathLst>
                  </a:custGeom>
                  <a:noFill/>
                  <a:ln cap="rnd" w="25560">
                    <a:solidFill>
                      <a:srgbClr val="617a9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2" name=""/>
                <p:cNvSpPr/>
                <p:nvPr/>
              </p:nvSpPr>
              <p:spPr>
                <a:xfrm>
                  <a:off x="4197240" y="1143000"/>
                  <a:ext cx="1090800" cy="920160"/>
                </a:xfrm>
                <a:custGeom>
                  <a:avLst/>
                  <a:gdLst/>
                  <a:ahLst/>
                  <a:rect l="l" t="t" r="r" b="b"/>
                  <a:pathLst>
                    <a:path w="687" h="590">
                      <a:moveTo>
                        <a:pt x="342" y="589"/>
                      </a:moveTo>
                      <a:lnTo>
                        <a:pt x="686" y="296"/>
                      </a:lnTo>
                      <a:lnTo>
                        <a:pt x="342" y="0"/>
                      </a:lnTo>
                      <a:lnTo>
                        <a:pt x="0" y="296"/>
                      </a:lnTo>
                      <a:lnTo>
                        <a:pt x="342" y="589"/>
                      </a:lnTo>
                    </a:path>
                  </a:pathLst>
                </a:custGeom>
                <a:solidFill>
                  <a:srgbClr val="ff0000"/>
                </a:solidFill>
                <a:ln cap="rnd" w="25560">
                  <a:solidFill>
                    <a:srgbClr val="617a9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4197240" y="1604520"/>
                  <a:ext cx="547920" cy="697320"/>
                </a:xfrm>
                <a:custGeom>
                  <a:avLst/>
                  <a:gdLst/>
                  <a:ahLst/>
                  <a:rect l="l" t="t" r="r" b="b"/>
                  <a:pathLst>
                    <a:path w="345" h="447">
                      <a:moveTo>
                        <a:pt x="0" y="0"/>
                      </a:moveTo>
                      <a:lnTo>
                        <a:pt x="344" y="290"/>
                      </a:lnTo>
                      <a:lnTo>
                        <a:pt x="344" y="446"/>
                      </a:lnTo>
                      <a:lnTo>
                        <a:pt x="0" y="14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0000"/>
                </a:solidFill>
                <a:ln cap="rnd" w="25560">
                  <a:solidFill>
                    <a:srgbClr val="617a9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4" name=""/>
              <p:cNvSpPr/>
              <p:nvPr/>
            </p:nvSpPr>
            <p:spPr>
              <a:xfrm>
                <a:off x="4458960" y="1428480"/>
                <a:ext cx="54252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F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" name=""/>
            <p:cNvGrpSpPr/>
            <p:nvPr/>
          </p:nvGrpSpPr>
          <p:grpSpPr>
            <a:xfrm>
              <a:off x="7242120" y="4604040"/>
              <a:ext cx="1090800" cy="1159200"/>
              <a:chOff x="7242120" y="4604040"/>
              <a:chExt cx="1090800" cy="1159200"/>
            </a:xfrm>
          </p:grpSpPr>
          <p:grpSp>
            <p:nvGrpSpPr>
              <p:cNvPr id="356" name=""/>
              <p:cNvGrpSpPr/>
              <p:nvPr/>
            </p:nvGrpSpPr>
            <p:grpSpPr>
              <a:xfrm>
                <a:off x="7242120" y="4604040"/>
                <a:ext cx="1090800" cy="1159200"/>
                <a:chOff x="7242120" y="4604040"/>
                <a:chExt cx="1090800" cy="1159200"/>
              </a:xfrm>
            </p:grpSpPr>
            <p:grpSp>
              <p:nvGrpSpPr>
                <p:cNvPr id="357" name=""/>
                <p:cNvGrpSpPr/>
                <p:nvPr/>
              </p:nvGrpSpPr>
              <p:grpSpPr>
                <a:xfrm>
                  <a:off x="7790040" y="5065920"/>
                  <a:ext cx="542880" cy="690840"/>
                  <a:chOff x="7790040" y="5065920"/>
                  <a:chExt cx="542880" cy="690840"/>
                </a:xfrm>
              </p:grpSpPr>
              <p:sp>
                <p:nvSpPr>
                  <p:cNvPr id="358" name=""/>
                  <p:cNvSpPr/>
                  <p:nvPr/>
                </p:nvSpPr>
                <p:spPr>
                  <a:xfrm>
                    <a:off x="7790040" y="5065920"/>
                    <a:ext cx="509400" cy="664200"/>
                  </a:xfrm>
                  <a:custGeom>
                    <a:avLst/>
                    <a:gdLst/>
                    <a:ahLst/>
                    <a:rect l="l" t="t" r="r" b="b"/>
                    <a:pathLst>
                      <a:path w="321" h="426">
                        <a:moveTo>
                          <a:pt x="320" y="0"/>
                        </a:moveTo>
                        <a:lnTo>
                          <a:pt x="0" y="279"/>
                        </a:lnTo>
                        <a:lnTo>
                          <a:pt x="0" y="425"/>
                        </a:lnTo>
                        <a:lnTo>
                          <a:pt x="320" y="142"/>
                        </a:lnTo>
                        <a:lnTo>
                          <a:pt x="320" y="0"/>
                        </a:lnTo>
                      </a:path>
                    </a:pathLst>
                  </a:custGeom>
                  <a:solidFill>
                    <a:srgbClr val="ff4c4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7790040" y="5065920"/>
                    <a:ext cx="542880" cy="690840"/>
                  </a:xfrm>
                  <a:custGeom>
                    <a:avLst/>
                    <a:gdLst/>
                    <a:ahLst/>
                    <a:rect l="l" t="t" r="r" b="b"/>
                    <a:pathLst>
                      <a:path w="342" h="443">
                        <a:moveTo>
                          <a:pt x="341" y="0"/>
                        </a:moveTo>
                        <a:lnTo>
                          <a:pt x="0" y="290"/>
                        </a:lnTo>
                        <a:lnTo>
                          <a:pt x="0" y="442"/>
                        </a:lnTo>
                        <a:lnTo>
                          <a:pt x="341" y="148"/>
                        </a:lnTo>
                        <a:lnTo>
                          <a:pt x="341" y="0"/>
                        </a:lnTo>
                      </a:path>
                    </a:pathLst>
                  </a:custGeom>
                  <a:noFill/>
                  <a:ln cap="rnd" w="25560">
                    <a:solidFill>
                      <a:srgbClr val="617a9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0" name=""/>
                <p:cNvSpPr/>
                <p:nvPr/>
              </p:nvSpPr>
              <p:spPr>
                <a:xfrm>
                  <a:off x="7242120" y="4604040"/>
                  <a:ext cx="1090800" cy="920520"/>
                </a:xfrm>
                <a:custGeom>
                  <a:avLst/>
                  <a:gdLst/>
                  <a:ahLst/>
                  <a:rect l="l" t="t" r="r" b="b"/>
                  <a:pathLst>
                    <a:path w="687" h="590">
                      <a:moveTo>
                        <a:pt x="342" y="589"/>
                      </a:moveTo>
                      <a:lnTo>
                        <a:pt x="686" y="296"/>
                      </a:lnTo>
                      <a:lnTo>
                        <a:pt x="342" y="0"/>
                      </a:lnTo>
                      <a:lnTo>
                        <a:pt x="0" y="296"/>
                      </a:lnTo>
                      <a:lnTo>
                        <a:pt x="342" y="589"/>
                      </a:lnTo>
                    </a:path>
                  </a:pathLst>
                </a:custGeom>
                <a:solidFill>
                  <a:srgbClr val="ff0000"/>
                </a:solidFill>
                <a:ln cap="rnd" w="25560">
                  <a:solidFill>
                    <a:srgbClr val="617a9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7242120" y="5065920"/>
                  <a:ext cx="547920" cy="697320"/>
                </a:xfrm>
                <a:custGeom>
                  <a:avLst/>
                  <a:gdLst/>
                  <a:ahLst/>
                  <a:rect l="l" t="t" r="r" b="b"/>
                  <a:pathLst>
                    <a:path w="345" h="447">
                      <a:moveTo>
                        <a:pt x="0" y="0"/>
                      </a:moveTo>
                      <a:lnTo>
                        <a:pt x="344" y="290"/>
                      </a:lnTo>
                      <a:lnTo>
                        <a:pt x="344" y="446"/>
                      </a:lnTo>
                      <a:lnTo>
                        <a:pt x="0" y="14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0000"/>
                </a:solidFill>
                <a:ln cap="rnd" w="25560">
                  <a:solidFill>
                    <a:srgbClr val="617a9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2" name=""/>
              <p:cNvSpPr/>
              <p:nvPr/>
            </p:nvSpPr>
            <p:spPr>
              <a:xfrm>
                <a:off x="7377480" y="4888080"/>
                <a:ext cx="79272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CO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6265800" y="1508040"/>
              <a:ext cx="1090800" cy="1158840"/>
              <a:chOff x="6265800" y="1508040"/>
              <a:chExt cx="1090800" cy="1158840"/>
            </a:xfrm>
          </p:grpSpPr>
          <p:grpSp>
            <p:nvGrpSpPr>
              <p:cNvPr id="364" name=""/>
              <p:cNvGrpSpPr/>
              <p:nvPr/>
            </p:nvGrpSpPr>
            <p:grpSpPr>
              <a:xfrm>
                <a:off x="6265800" y="1508040"/>
                <a:ext cx="1090800" cy="1158840"/>
                <a:chOff x="6265800" y="1508040"/>
                <a:chExt cx="1090800" cy="1158840"/>
              </a:xfrm>
            </p:grpSpPr>
            <p:grpSp>
              <p:nvGrpSpPr>
                <p:cNvPr id="365" name=""/>
                <p:cNvGrpSpPr/>
                <p:nvPr/>
              </p:nvGrpSpPr>
              <p:grpSpPr>
                <a:xfrm>
                  <a:off x="6813720" y="1969560"/>
                  <a:ext cx="542880" cy="690840"/>
                  <a:chOff x="6813720" y="1969560"/>
                  <a:chExt cx="542880" cy="69084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6813720" y="1969560"/>
                    <a:ext cx="509400" cy="664200"/>
                  </a:xfrm>
                  <a:custGeom>
                    <a:avLst/>
                    <a:gdLst/>
                    <a:ahLst/>
                    <a:rect l="l" t="t" r="r" b="b"/>
                    <a:pathLst>
                      <a:path w="321" h="426">
                        <a:moveTo>
                          <a:pt x="320" y="0"/>
                        </a:moveTo>
                        <a:lnTo>
                          <a:pt x="0" y="279"/>
                        </a:lnTo>
                        <a:lnTo>
                          <a:pt x="0" y="425"/>
                        </a:lnTo>
                        <a:lnTo>
                          <a:pt x="320" y="142"/>
                        </a:lnTo>
                        <a:lnTo>
                          <a:pt x="320" y="0"/>
                        </a:lnTo>
                      </a:path>
                    </a:pathLst>
                  </a:custGeom>
                  <a:solidFill>
                    <a:srgbClr val="ff4c4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6813720" y="1969560"/>
                    <a:ext cx="542880" cy="690840"/>
                  </a:xfrm>
                  <a:custGeom>
                    <a:avLst/>
                    <a:gdLst/>
                    <a:ahLst/>
                    <a:rect l="l" t="t" r="r" b="b"/>
                    <a:pathLst>
                      <a:path w="342" h="443">
                        <a:moveTo>
                          <a:pt x="341" y="0"/>
                        </a:moveTo>
                        <a:lnTo>
                          <a:pt x="0" y="290"/>
                        </a:lnTo>
                        <a:lnTo>
                          <a:pt x="0" y="442"/>
                        </a:lnTo>
                        <a:lnTo>
                          <a:pt x="341" y="148"/>
                        </a:lnTo>
                        <a:lnTo>
                          <a:pt x="341" y="0"/>
                        </a:lnTo>
                      </a:path>
                    </a:pathLst>
                  </a:custGeom>
                  <a:noFill/>
                  <a:ln cap="rnd" w="25560">
                    <a:solidFill>
                      <a:srgbClr val="617a9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8" name=""/>
                <p:cNvSpPr/>
                <p:nvPr/>
              </p:nvSpPr>
              <p:spPr>
                <a:xfrm>
                  <a:off x="6265800" y="1508040"/>
                  <a:ext cx="1090800" cy="920160"/>
                </a:xfrm>
                <a:custGeom>
                  <a:avLst/>
                  <a:gdLst/>
                  <a:ahLst/>
                  <a:rect l="l" t="t" r="r" b="b"/>
                  <a:pathLst>
                    <a:path w="687" h="590">
                      <a:moveTo>
                        <a:pt x="342" y="589"/>
                      </a:moveTo>
                      <a:lnTo>
                        <a:pt x="686" y="296"/>
                      </a:lnTo>
                      <a:lnTo>
                        <a:pt x="342" y="0"/>
                      </a:lnTo>
                      <a:lnTo>
                        <a:pt x="0" y="296"/>
                      </a:lnTo>
                      <a:lnTo>
                        <a:pt x="342" y="589"/>
                      </a:lnTo>
                    </a:path>
                  </a:pathLst>
                </a:custGeom>
                <a:solidFill>
                  <a:srgbClr val="ff0000"/>
                </a:solidFill>
                <a:ln cap="rnd" w="25560">
                  <a:solidFill>
                    <a:srgbClr val="617a9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6265800" y="1969560"/>
                  <a:ext cx="547920" cy="697320"/>
                </a:xfrm>
                <a:custGeom>
                  <a:avLst/>
                  <a:gdLst/>
                  <a:ahLst/>
                  <a:rect l="l" t="t" r="r" b="b"/>
                  <a:pathLst>
                    <a:path w="345" h="447">
                      <a:moveTo>
                        <a:pt x="0" y="0"/>
                      </a:moveTo>
                      <a:lnTo>
                        <a:pt x="344" y="290"/>
                      </a:lnTo>
                      <a:lnTo>
                        <a:pt x="344" y="446"/>
                      </a:lnTo>
                      <a:lnTo>
                        <a:pt x="0" y="14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0000"/>
                </a:solidFill>
                <a:ln cap="rnd" w="25560">
                  <a:solidFill>
                    <a:srgbClr val="617a9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0" name=""/>
              <p:cNvSpPr/>
              <p:nvPr/>
            </p:nvSpPr>
            <p:spPr>
              <a:xfrm>
                <a:off x="6481440" y="1793520"/>
                <a:ext cx="63252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IM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7435800" y="2795400"/>
              <a:ext cx="1090800" cy="1158840"/>
              <a:chOff x="7435800" y="2795400"/>
              <a:chExt cx="1090800" cy="1158840"/>
            </a:xfrm>
          </p:grpSpPr>
          <p:grpSp>
            <p:nvGrpSpPr>
              <p:cNvPr id="372" name=""/>
              <p:cNvGrpSpPr/>
              <p:nvPr/>
            </p:nvGrpSpPr>
            <p:grpSpPr>
              <a:xfrm>
                <a:off x="7435800" y="2795400"/>
                <a:ext cx="1090800" cy="1158840"/>
                <a:chOff x="7435800" y="2795400"/>
                <a:chExt cx="1090800" cy="1158840"/>
              </a:xfrm>
            </p:grpSpPr>
            <p:grpSp>
              <p:nvGrpSpPr>
                <p:cNvPr id="373" name=""/>
                <p:cNvGrpSpPr/>
                <p:nvPr/>
              </p:nvGrpSpPr>
              <p:grpSpPr>
                <a:xfrm>
                  <a:off x="7983360" y="3256920"/>
                  <a:ext cx="543240" cy="690840"/>
                  <a:chOff x="7983360" y="3256920"/>
                  <a:chExt cx="543240" cy="690840"/>
                </a:xfrm>
              </p:grpSpPr>
              <p:sp>
                <p:nvSpPr>
                  <p:cNvPr id="374" name=""/>
                  <p:cNvSpPr/>
                  <p:nvPr/>
                </p:nvSpPr>
                <p:spPr>
                  <a:xfrm>
                    <a:off x="7983360" y="3256920"/>
                    <a:ext cx="509760" cy="664200"/>
                  </a:xfrm>
                  <a:custGeom>
                    <a:avLst/>
                    <a:gdLst/>
                    <a:ahLst/>
                    <a:rect l="l" t="t" r="r" b="b"/>
                    <a:pathLst>
                      <a:path w="321" h="426">
                        <a:moveTo>
                          <a:pt x="320" y="0"/>
                        </a:moveTo>
                        <a:lnTo>
                          <a:pt x="0" y="279"/>
                        </a:lnTo>
                        <a:lnTo>
                          <a:pt x="0" y="425"/>
                        </a:lnTo>
                        <a:lnTo>
                          <a:pt x="320" y="142"/>
                        </a:lnTo>
                        <a:lnTo>
                          <a:pt x="320" y="0"/>
                        </a:lnTo>
                      </a:path>
                    </a:pathLst>
                  </a:custGeom>
                  <a:solidFill>
                    <a:srgbClr val="ff4c4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7983360" y="3256920"/>
                    <a:ext cx="543240" cy="690840"/>
                  </a:xfrm>
                  <a:custGeom>
                    <a:avLst/>
                    <a:gdLst/>
                    <a:ahLst/>
                    <a:rect l="l" t="t" r="r" b="b"/>
                    <a:pathLst>
                      <a:path w="342" h="443">
                        <a:moveTo>
                          <a:pt x="341" y="0"/>
                        </a:moveTo>
                        <a:lnTo>
                          <a:pt x="0" y="290"/>
                        </a:lnTo>
                        <a:lnTo>
                          <a:pt x="0" y="442"/>
                        </a:lnTo>
                        <a:lnTo>
                          <a:pt x="341" y="148"/>
                        </a:lnTo>
                        <a:lnTo>
                          <a:pt x="341" y="0"/>
                        </a:lnTo>
                      </a:path>
                    </a:pathLst>
                  </a:custGeom>
                  <a:noFill/>
                  <a:ln cap="rnd" w="25560">
                    <a:solidFill>
                      <a:srgbClr val="617a9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6" name=""/>
                <p:cNvSpPr/>
                <p:nvPr/>
              </p:nvSpPr>
              <p:spPr>
                <a:xfrm>
                  <a:off x="7435800" y="2795400"/>
                  <a:ext cx="1090800" cy="920160"/>
                </a:xfrm>
                <a:custGeom>
                  <a:avLst/>
                  <a:gdLst/>
                  <a:ahLst/>
                  <a:rect l="l" t="t" r="r" b="b"/>
                  <a:pathLst>
                    <a:path w="687" h="590">
                      <a:moveTo>
                        <a:pt x="342" y="589"/>
                      </a:moveTo>
                      <a:lnTo>
                        <a:pt x="686" y="296"/>
                      </a:lnTo>
                      <a:lnTo>
                        <a:pt x="342" y="0"/>
                      </a:lnTo>
                      <a:lnTo>
                        <a:pt x="0" y="296"/>
                      </a:lnTo>
                      <a:lnTo>
                        <a:pt x="342" y="589"/>
                      </a:lnTo>
                    </a:path>
                  </a:pathLst>
                </a:custGeom>
                <a:solidFill>
                  <a:srgbClr val="ff0000"/>
                </a:solidFill>
                <a:ln cap="rnd" w="25560">
                  <a:solidFill>
                    <a:srgbClr val="617a9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7435800" y="3256920"/>
                  <a:ext cx="547560" cy="697320"/>
                </a:xfrm>
                <a:custGeom>
                  <a:avLst/>
                  <a:gdLst/>
                  <a:ahLst/>
                  <a:rect l="l" t="t" r="r" b="b"/>
                  <a:pathLst>
                    <a:path w="345" h="447">
                      <a:moveTo>
                        <a:pt x="0" y="0"/>
                      </a:moveTo>
                      <a:lnTo>
                        <a:pt x="344" y="290"/>
                      </a:lnTo>
                      <a:lnTo>
                        <a:pt x="344" y="446"/>
                      </a:lnTo>
                      <a:lnTo>
                        <a:pt x="0" y="14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0000"/>
                </a:solidFill>
                <a:ln cap="rnd" w="25560">
                  <a:solidFill>
                    <a:srgbClr val="617a9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8" name=""/>
              <p:cNvSpPr/>
              <p:nvPr/>
            </p:nvSpPr>
            <p:spPr>
              <a:xfrm>
                <a:off x="7583040" y="3079080"/>
                <a:ext cx="76968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AA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2141640" y="1470600"/>
              <a:ext cx="1038240" cy="1300680"/>
              <a:chOff x="2141640" y="1470600"/>
              <a:chExt cx="1038240" cy="1300680"/>
            </a:xfrm>
          </p:grpSpPr>
          <p:grpSp>
            <p:nvGrpSpPr>
              <p:cNvPr id="380" name=""/>
              <p:cNvGrpSpPr/>
              <p:nvPr/>
            </p:nvGrpSpPr>
            <p:grpSpPr>
              <a:xfrm>
                <a:off x="2664000" y="1988280"/>
                <a:ext cx="515880" cy="778320"/>
                <a:chOff x="2664000" y="1988280"/>
                <a:chExt cx="515880" cy="77832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2664000" y="1988280"/>
                  <a:ext cx="488880" cy="747000"/>
                </a:xfrm>
                <a:custGeom>
                  <a:avLst/>
                  <a:gdLst/>
                  <a:ahLst/>
                  <a:rect l="l" t="t" r="r" b="b"/>
                  <a:pathLst>
                    <a:path w="308" h="479">
                      <a:moveTo>
                        <a:pt x="307" y="0"/>
                      </a:moveTo>
                      <a:lnTo>
                        <a:pt x="0" y="315"/>
                      </a:lnTo>
                      <a:lnTo>
                        <a:pt x="0" y="478"/>
                      </a:lnTo>
                      <a:lnTo>
                        <a:pt x="307" y="159"/>
                      </a:lnTo>
                      <a:lnTo>
                        <a:pt x="307" y="0"/>
                      </a:lnTo>
                    </a:path>
                  </a:pathLst>
                </a:custGeom>
                <a:solidFill>
                  <a:srgbClr val="dbff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2664000" y="1988280"/>
                  <a:ext cx="515880" cy="778320"/>
                </a:xfrm>
                <a:custGeom>
                  <a:avLst/>
                  <a:gdLst/>
                  <a:ahLst/>
                  <a:rect l="l" t="t" r="r" b="b"/>
                  <a:pathLst>
                    <a:path w="325" h="499">
                      <a:moveTo>
                        <a:pt x="324" y="0"/>
                      </a:moveTo>
                      <a:lnTo>
                        <a:pt x="0" y="327"/>
                      </a:lnTo>
                      <a:lnTo>
                        <a:pt x="0" y="498"/>
                      </a:lnTo>
                      <a:lnTo>
                        <a:pt x="324" y="166"/>
                      </a:lnTo>
                      <a:lnTo>
                        <a:pt x="324" y="0"/>
                      </a:lnTo>
                    </a:path>
                  </a:pathLst>
                </a:custGeom>
                <a:noFill/>
                <a:ln cap="rnd" w="25560">
                  <a:solidFill>
                    <a:srgbClr val="617a9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3" name=""/>
              <p:cNvSpPr/>
              <p:nvPr/>
            </p:nvSpPr>
            <p:spPr>
              <a:xfrm>
                <a:off x="2141640" y="1470600"/>
                <a:ext cx="1038240" cy="1029600"/>
              </a:xfrm>
              <a:custGeom>
                <a:avLst/>
                <a:gdLst/>
                <a:ahLst/>
                <a:rect l="l" t="t" r="r" b="b"/>
                <a:pathLst>
                  <a:path w="654" h="660">
                    <a:moveTo>
                      <a:pt x="327" y="659"/>
                    </a:moveTo>
                    <a:lnTo>
                      <a:pt x="653" y="332"/>
                    </a:lnTo>
                    <a:lnTo>
                      <a:pt x="327" y="0"/>
                    </a:lnTo>
                    <a:lnTo>
                      <a:pt x="0" y="332"/>
                    </a:lnTo>
                    <a:lnTo>
                      <a:pt x="327" y="659"/>
                    </a:lnTo>
                  </a:path>
                </a:pathLst>
              </a:custGeom>
              <a:solidFill>
                <a:srgbClr val="ade53a"/>
              </a:solidFill>
              <a:ln cap="rnd" w="25560">
                <a:solidFill>
                  <a:srgbClr val="617a9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141640" y="1988280"/>
                <a:ext cx="519120" cy="783000"/>
              </a:xfrm>
              <a:custGeom>
                <a:avLst/>
                <a:gdLst/>
                <a:ahLst/>
                <a:rect l="l" t="t" r="r" b="b"/>
                <a:pathLst>
                  <a:path w="327" h="502">
                    <a:moveTo>
                      <a:pt x="0" y="0"/>
                    </a:moveTo>
                    <a:lnTo>
                      <a:pt x="326" y="326"/>
                    </a:lnTo>
                    <a:lnTo>
                      <a:pt x="326" y="501"/>
                    </a:lnTo>
                    <a:lnTo>
                      <a:pt x="0" y="16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49826"/>
              </a:solidFill>
              <a:ln cap="rnd" w="25560">
                <a:solidFill>
                  <a:srgbClr val="617a9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42440" y="1746360"/>
                <a:ext cx="83664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QM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5549760" y="5928840"/>
              <a:ext cx="1090800" cy="1159200"/>
              <a:chOff x="5549760" y="5928840"/>
              <a:chExt cx="1090800" cy="1159200"/>
            </a:xfrm>
          </p:grpSpPr>
          <p:grpSp>
            <p:nvGrpSpPr>
              <p:cNvPr id="387" name=""/>
              <p:cNvGrpSpPr/>
              <p:nvPr/>
            </p:nvGrpSpPr>
            <p:grpSpPr>
              <a:xfrm>
                <a:off x="5549760" y="5928840"/>
                <a:ext cx="1090800" cy="1159200"/>
                <a:chOff x="5549760" y="5928840"/>
                <a:chExt cx="1090800" cy="1159200"/>
              </a:xfrm>
            </p:grpSpPr>
            <p:grpSp>
              <p:nvGrpSpPr>
                <p:cNvPr id="388" name=""/>
                <p:cNvGrpSpPr/>
                <p:nvPr/>
              </p:nvGrpSpPr>
              <p:grpSpPr>
                <a:xfrm>
                  <a:off x="6097680" y="6390720"/>
                  <a:ext cx="542880" cy="690840"/>
                  <a:chOff x="6097680" y="6390720"/>
                  <a:chExt cx="542880" cy="690840"/>
                </a:xfrm>
              </p:grpSpPr>
              <p:sp>
                <p:nvSpPr>
                  <p:cNvPr id="389" name=""/>
                  <p:cNvSpPr/>
                  <p:nvPr/>
                </p:nvSpPr>
                <p:spPr>
                  <a:xfrm>
                    <a:off x="6097680" y="6390720"/>
                    <a:ext cx="509400" cy="664200"/>
                  </a:xfrm>
                  <a:custGeom>
                    <a:avLst/>
                    <a:gdLst/>
                    <a:ahLst/>
                    <a:rect l="l" t="t" r="r" b="b"/>
                    <a:pathLst>
                      <a:path w="321" h="426">
                        <a:moveTo>
                          <a:pt x="320" y="0"/>
                        </a:moveTo>
                        <a:lnTo>
                          <a:pt x="0" y="279"/>
                        </a:lnTo>
                        <a:lnTo>
                          <a:pt x="0" y="425"/>
                        </a:lnTo>
                        <a:lnTo>
                          <a:pt x="320" y="142"/>
                        </a:lnTo>
                        <a:lnTo>
                          <a:pt x="320" y="0"/>
                        </a:lnTo>
                      </a:path>
                    </a:pathLst>
                  </a:custGeom>
                  <a:solidFill>
                    <a:srgbClr val="ff4c4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6097680" y="6390720"/>
                    <a:ext cx="542880" cy="690840"/>
                  </a:xfrm>
                  <a:custGeom>
                    <a:avLst/>
                    <a:gdLst/>
                    <a:ahLst/>
                    <a:rect l="l" t="t" r="r" b="b"/>
                    <a:pathLst>
                      <a:path w="342" h="443">
                        <a:moveTo>
                          <a:pt x="341" y="0"/>
                        </a:moveTo>
                        <a:lnTo>
                          <a:pt x="0" y="290"/>
                        </a:lnTo>
                        <a:lnTo>
                          <a:pt x="0" y="442"/>
                        </a:lnTo>
                        <a:lnTo>
                          <a:pt x="341" y="148"/>
                        </a:lnTo>
                        <a:lnTo>
                          <a:pt x="341" y="0"/>
                        </a:lnTo>
                      </a:path>
                    </a:pathLst>
                  </a:custGeom>
                  <a:noFill/>
                  <a:ln cap="rnd" w="25560">
                    <a:solidFill>
                      <a:srgbClr val="617a9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91" name=""/>
                <p:cNvSpPr/>
                <p:nvPr/>
              </p:nvSpPr>
              <p:spPr>
                <a:xfrm>
                  <a:off x="5549760" y="5928840"/>
                  <a:ext cx="1090800" cy="920520"/>
                </a:xfrm>
                <a:custGeom>
                  <a:avLst/>
                  <a:gdLst/>
                  <a:ahLst/>
                  <a:rect l="l" t="t" r="r" b="b"/>
                  <a:pathLst>
                    <a:path w="687" h="590">
                      <a:moveTo>
                        <a:pt x="342" y="589"/>
                      </a:moveTo>
                      <a:lnTo>
                        <a:pt x="686" y="296"/>
                      </a:lnTo>
                      <a:lnTo>
                        <a:pt x="342" y="0"/>
                      </a:lnTo>
                      <a:lnTo>
                        <a:pt x="0" y="296"/>
                      </a:lnTo>
                      <a:lnTo>
                        <a:pt x="342" y="589"/>
                      </a:lnTo>
                    </a:path>
                  </a:pathLst>
                </a:custGeom>
                <a:solidFill>
                  <a:srgbClr val="ff0000"/>
                </a:solidFill>
                <a:ln cap="rnd" w="25560">
                  <a:solidFill>
                    <a:srgbClr val="617a9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5549760" y="6390720"/>
                  <a:ext cx="547920" cy="697320"/>
                </a:xfrm>
                <a:custGeom>
                  <a:avLst/>
                  <a:gdLst/>
                  <a:ahLst/>
                  <a:rect l="l" t="t" r="r" b="b"/>
                  <a:pathLst>
                    <a:path w="345" h="447">
                      <a:moveTo>
                        <a:pt x="0" y="0"/>
                      </a:moveTo>
                      <a:lnTo>
                        <a:pt x="344" y="290"/>
                      </a:lnTo>
                      <a:lnTo>
                        <a:pt x="344" y="446"/>
                      </a:lnTo>
                      <a:lnTo>
                        <a:pt x="0" y="14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0000"/>
                </a:solidFill>
                <a:ln cap="rnd" w="25560">
                  <a:solidFill>
                    <a:srgbClr val="617a9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3" name=""/>
              <p:cNvSpPr/>
              <p:nvPr/>
            </p:nvSpPr>
            <p:spPr>
              <a:xfrm>
                <a:off x="5708160" y="6212880"/>
                <a:ext cx="74700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EC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884160" y="3027960"/>
              <a:ext cx="1038240" cy="1300680"/>
              <a:chOff x="884160" y="3027960"/>
              <a:chExt cx="1038240" cy="1300680"/>
            </a:xfrm>
          </p:grpSpPr>
          <p:grpSp>
            <p:nvGrpSpPr>
              <p:cNvPr id="395" name=""/>
              <p:cNvGrpSpPr/>
              <p:nvPr/>
            </p:nvGrpSpPr>
            <p:grpSpPr>
              <a:xfrm>
                <a:off x="1406520" y="3545640"/>
                <a:ext cx="515880" cy="778320"/>
                <a:chOff x="1406520" y="3545640"/>
                <a:chExt cx="515880" cy="77832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1406520" y="3545640"/>
                  <a:ext cx="488880" cy="747000"/>
                </a:xfrm>
                <a:custGeom>
                  <a:avLst/>
                  <a:gdLst/>
                  <a:ahLst/>
                  <a:rect l="l" t="t" r="r" b="b"/>
                  <a:pathLst>
                    <a:path w="308" h="479">
                      <a:moveTo>
                        <a:pt x="307" y="0"/>
                      </a:moveTo>
                      <a:lnTo>
                        <a:pt x="0" y="315"/>
                      </a:lnTo>
                      <a:lnTo>
                        <a:pt x="0" y="478"/>
                      </a:lnTo>
                      <a:lnTo>
                        <a:pt x="307" y="159"/>
                      </a:lnTo>
                      <a:lnTo>
                        <a:pt x="307" y="0"/>
                      </a:lnTo>
                    </a:path>
                  </a:pathLst>
                </a:custGeom>
                <a:solidFill>
                  <a:srgbClr val="dbff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1406520" y="3545640"/>
                  <a:ext cx="515880" cy="778320"/>
                </a:xfrm>
                <a:custGeom>
                  <a:avLst/>
                  <a:gdLst/>
                  <a:ahLst/>
                  <a:rect l="l" t="t" r="r" b="b"/>
                  <a:pathLst>
                    <a:path w="325" h="499">
                      <a:moveTo>
                        <a:pt x="324" y="0"/>
                      </a:moveTo>
                      <a:lnTo>
                        <a:pt x="0" y="327"/>
                      </a:lnTo>
                      <a:lnTo>
                        <a:pt x="0" y="498"/>
                      </a:lnTo>
                      <a:lnTo>
                        <a:pt x="324" y="166"/>
                      </a:lnTo>
                      <a:lnTo>
                        <a:pt x="324" y="0"/>
                      </a:lnTo>
                    </a:path>
                  </a:pathLst>
                </a:custGeom>
                <a:noFill/>
                <a:ln cap="rnd" w="25560">
                  <a:solidFill>
                    <a:srgbClr val="617a9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8" name=""/>
              <p:cNvSpPr/>
              <p:nvPr/>
            </p:nvSpPr>
            <p:spPr>
              <a:xfrm>
                <a:off x="884160" y="3027960"/>
                <a:ext cx="1038240" cy="1029600"/>
              </a:xfrm>
              <a:custGeom>
                <a:avLst/>
                <a:gdLst/>
                <a:ahLst/>
                <a:rect l="l" t="t" r="r" b="b"/>
                <a:pathLst>
                  <a:path w="654" h="660">
                    <a:moveTo>
                      <a:pt x="327" y="659"/>
                    </a:moveTo>
                    <a:lnTo>
                      <a:pt x="653" y="332"/>
                    </a:lnTo>
                    <a:lnTo>
                      <a:pt x="327" y="0"/>
                    </a:lnTo>
                    <a:lnTo>
                      <a:pt x="0" y="332"/>
                    </a:lnTo>
                    <a:lnTo>
                      <a:pt x="327" y="659"/>
                    </a:lnTo>
                  </a:path>
                </a:pathLst>
              </a:custGeom>
              <a:solidFill>
                <a:srgbClr val="ade53a"/>
              </a:solidFill>
              <a:ln cap="rnd" w="25560">
                <a:solidFill>
                  <a:srgbClr val="617a9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884160" y="3545640"/>
                <a:ext cx="519120" cy="783000"/>
              </a:xfrm>
              <a:custGeom>
                <a:avLst/>
                <a:gdLst/>
                <a:ahLst/>
                <a:rect l="l" t="t" r="r" b="b"/>
                <a:pathLst>
                  <a:path w="327" h="502">
                    <a:moveTo>
                      <a:pt x="0" y="0"/>
                    </a:moveTo>
                    <a:lnTo>
                      <a:pt x="326" y="326"/>
                    </a:lnTo>
                    <a:lnTo>
                      <a:pt x="326" y="501"/>
                    </a:lnTo>
                    <a:lnTo>
                      <a:pt x="0" y="16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49826"/>
              </a:solidFill>
              <a:ln cap="rnd" w="25560">
                <a:solidFill>
                  <a:srgbClr val="617a9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985680" y="3300480"/>
                <a:ext cx="79092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PM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1298520" y="4944600"/>
              <a:ext cx="1038240" cy="1300680"/>
              <a:chOff x="1298520" y="4944600"/>
              <a:chExt cx="1038240" cy="1300680"/>
            </a:xfrm>
          </p:grpSpPr>
          <p:grpSp>
            <p:nvGrpSpPr>
              <p:cNvPr id="402" name=""/>
              <p:cNvGrpSpPr/>
              <p:nvPr/>
            </p:nvGrpSpPr>
            <p:grpSpPr>
              <a:xfrm>
                <a:off x="1820880" y="5462280"/>
                <a:ext cx="515880" cy="778320"/>
                <a:chOff x="1820880" y="5462280"/>
                <a:chExt cx="515880" cy="77832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1820880" y="5462280"/>
                  <a:ext cx="488880" cy="747000"/>
                </a:xfrm>
                <a:custGeom>
                  <a:avLst/>
                  <a:gdLst/>
                  <a:ahLst/>
                  <a:rect l="l" t="t" r="r" b="b"/>
                  <a:pathLst>
                    <a:path w="308" h="479">
                      <a:moveTo>
                        <a:pt x="307" y="0"/>
                      </a:moveTo>
                      <a:lnTo>
                        <a:pt x="0" y="315"/>
                      </a:lnTo>
                      <a:lnTo>
                        <a:pt x="0" y="478"/>
                      </a:lnTo>
                      <a:lnTo>
                        <a:pt x="307" y="159"/>
                      </a:lnTo>
                      <a:lnTo>
                        <a:pt x="307" y="0"/>
                      </a:lnTo>
                    </a:path>
                  </a:pathLst>
                </a:custGeom>
                <a:solidFill>
                  <a:srgbClr val="dbff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1820880" y="5462280"/>
                  <a:ext cx="515880" cy="778320"/>
                </a:xfrm>
                <a:custGeom>
                  <a:avLst/>
                  <a:gdLst/>
                  <a:ahLst/>
                  <a:rect l="l" t="t" r="r" b="b"/>
                  <a:pathLst>
                    <a:path w="325" h="499">
                      <a:moveTo>
                        <a:pt x="324" y="0"/>
                      </a:moveTo>
                      <a:lnTo>
                        <a:pt x="0" y="327"/>
                      </a:lnTo>
                      <a:lnTo>
                        <a:pt x="0" y="498"/>
                      </a:lnTo>
                      <a:lnTo>
                        <a:pt x="324" y="166"/>
                      </a:lnTo>
                      <a:lnTo>
                        <a:pt x="324" y="0"/>
                      </a:lnTo>
                    </a:path>
                  </a:pathLst>
                </a:custGeom>
                <a:noFill/>
                <a:ln cap="rnd" w="25560">
                  <a:solidFill>
                    <a:srgbClr val="617a9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5" name=""/>
              <p:cNvSpPr/>
              <p:nvPr/>
            </p:nvSpPr>
            <p:spPr>
              <a:xfrm>
                <a:off x="1298520" y="4944600"/>
                <a:ext cx="1038240" cy="1029600"/>
              </a:xfrm>
              <a:custGeom>
                <a:avLst/>
                <a:gdLst/>
                <a:ahLst/>
                <a:rect l="l" t="t" r="r" b="b"/>
                <a:pathLst>
                  <a:path w="654" h="660">
                    <a:moveTo>
                      <a:pt x="327" y="659"/>
                    </a:moveTo>
                    <a:lnTo>
                      <a:pt x="653" y="332"/>
                    </a:lnTo>
                    <a:lnTo>
                      <a:pt x="327" y="0"/>
                    </a:lnTo>
                    <a:lnTo>
                      <a:pt x="0" y="332"/>
                    </a:lnTo>
                    <a:lnTo>
                      <a:pt x="327" y="659"/>
                    </a:lnTo>
                  </a:path>
                </a:pathLst>
              </a:custGeom>
              <a:solidFill>
                <a:srgbClr val="ade53a"/>
              </a:solidFill>
              <a:ln cap="rnd" w="25560">
                <a:solidFill>
                  <a:srgbClr val="617a9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298520" y="5462280"/>
                <a:ext cx="519120" cy="783000"/>
              </a:xfrm>
              <a:custGeom>
                <a:avLst/>
                <a:gdLst/>
                <a:ahLst/>
                <a:rect l="l" t="t" r="r" b="b"/>
                <a:pathLst>
                  <a:path w="327" h="502">
                    <a:moveTo>
                      <a:pt x="0" y="0"/>
                    </a:moveTo>
                    <a:lnTo>
                      <a:pt x="326" y="326"/>
                    </a:lnTo>
                    <a:lnTo>
                      <a:pt x="326" y="501"/>
                    </a:lnTo>
                    <a:lnTo>
                      <a:pt x="0" y="16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49826"/>
              </a:solidFill>
              <a:ln cap="rnd" w="25560">
                <a:solidFill>
                  <a:srgbClr val="617a9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399680" y="5218920"/>
                <a:ext cx="85824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MM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3282840" y="5827680"/>
              <a:ext cx="1042920" cy="1291680"/>
              <a:chOff x="3282840" y="5827680"/>
              <a:chExt cx="1042920" cy="1291680"/>
            </a:xfrm>
          </p:grpSpPr>
          <p:grpSp>
            <p:nvGrpSpPr>
              <p:cNvPr id="409" name=""/>
              <p:cNvGrpSpPr/>
              <p:nvPr/>
            </p:nvGrpSpPr>
            <p:grpSpPr>
              <a:xfrm>
                <a:off x="3282840" y="5827680"/>
                <a:ext cx="1042920" cy="1291680"/>
                <a:chOff x="3282840" y="5827680"/>
                <a:chExt cx="1042920" cy="129168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3282840" y="5827680"/>
                  <a:ext cx="1042920" cy="1020600"/>
                </a:xfrm>
                <a:custGeom>
                  <a:avLst/>
                  <a:gdLst/>
                  <a:ahLst/>
                  <a:rect l="l" t="t" r="r" b="b"/>
                  <a:pathLst>
                    <a:path w="657" h="654">
                      <a:moveTo>
                        <a:pt x="327" y="653"/>
                      </a:moveTo>
                      <a:lnTo>
                        <a:pt x="0" y="325"/>
                      </a:lnTo>
                      <a:lnTo>
                        <a:pt x="327" y="0"/>
                      </a:lnTo>
                      <a:lnTo>
                        <a:pt x="656" y="325"/>
                      </a:lnTo>
                      <a:lnTo>
                        <a:pt x="327" y="653"/>
                      </a:lnTo>
                    </a:path>
                  </a:pathLst>
                </a:custGeom>
                <a:solidFill>
                  <a:srgbClr val="d8d800"/>
                </a:solidFill>
                <a:ln cap="rnd" w="25560">
                  <a:solidFill>
                    <a:srgbClr val="617a9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1" name=""/>
                <p:cNvGrpSpPr/>
                <p:nvPr/>
              </p:nvGrpSpPr>
              <p:grpSpPr>
                <a:xfrm>
                  <a:off x="3282840" y="6345720"/>
                  <a:ext cx="525600" cy="773640"/>
                  <a:chOff x="3282840" y="6345720"/>
                  <a:chExt cx="525600" cy="773640"/>
                </a:xfrm>
              </p:grpSpPr>
              <p:sp>
                <p:nvSpPr>
                  <p:cNvPr id="412" name=""/>
                  <p:cNvSpPr/>
                  <p:nvPr/>
                </p:nvSpPr>
                <p:spPr>
                  <a:xfrm>
                    <a:off x="3282840" y="6345720"/>
                    <a:ext cx="493920" cy="74556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478">
                        <a:moveTo>
                          <a:pt x="0" y="159"/>
                        </a:moveTo>
                        <a:lnTo>
                          <a:pt x="0" y="0"/>
                        </a:lnTo>
                        <a:lnTo>
                          <a:pt x="310" y="316"/>
                        </a:lnTo>
                        <a:lnTo>
                          <a:pt x="310" y="477"/>
                        </a:lnTo>
                        <a:lnTo>
                          <a:pt x="0" y="159"/>
                        </a:lnTo>
                      </a:path>
                    </a:pathLst>
                  </a:custGeom>
                  <a:solidFill>
                    <a:srgbClr val="b2b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3282840" y="6345720"/>
                    <a:ext cx="525600" cy="773640"/>
                  </a:xfrm>
                  <a:custGeom>
                    <a:avLst/>
                    <a:gdLst/>
                    <a:ahLst/>
                    <a:rect l="l" t="t" r="r" b="b"/>
                    <a:pathLst>
                      <a:path w="331" h="496">
                        <a:moveTo>
                          <a:pt x="0" y="166"/>
                        </a:moveTo>
                        <a:lnTo>
                          <a:pt x="0" y="0"/>
                        </a:lnTo>
                        <a:lnTo>
                          <a:pt x="330" y="327"/>
                        </a:lnTo>
                        <a:lnTo>
                          <a:pt x="330" y="495"/>
                        </a:lnTo>
                        <a:lnTo>
                          <a:pt x="0" y="166"/>
                        </a:lnTo>
                      </a:path>
                    </a:pathLst>
                  </a:custGeom>
                  <a:noFill/>
                  <a:ln cap="rnd" w="25560">
                    <a:solidFill>
                      <a:srgbClr val="617a9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14" name=""/>
                <p:cNvSpPr/>
                <p:nvPr/>
              </p:nvSpPr>
              <p:spPr>
                <a:xfrm>
                  <a:off x="3807000" y="6345720"/>
                  <a:ext cx="518760" cy="759600"/>
                </a:xfrm>
                <a:custGeom>
                  <a:avLst/>
                  <a:gdLst/>
                  <a:ahLst/>
                  <a:rect l="l" t="t" r="r" b="b"/>
                  <a:pathLst>
                    <a:path w="327" h="487">
                      <a:moveTo>
                        <a:pt x="326" y="161"/>
                      </a:moveTo>
                      <a:lnTo>
                        <a:pt x="326" y="0"/>
                      </a:lnTo>
                      <a:lnTo>
                        <a:pt x="0" y="325"/>
                      </a:lnTo>
                      <a:lnTo>
                        <a:pt x="0" y="486"/>
                      </a:lnTo>
                      <a:lnTo>
                        <a:pt x="326" y="161"/>
                      </a:lnTo>
                    </a:path>
                  </a:pathLst>
                </a:custGeom>
                <a:solidFill>
                  <a:srgbClr val="ffff00"/>
                </a:solidFill>
                <a:ln cap="rnd" w="25560">
                  <a:solidFill>
                    <a:srgbClr val="617a9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5" name=""/>
              <p:cNvSpPr/>
              <p:nvPr/>
            </p:nvSpPr>
            <p:spPr>
              <a:xfrm>
                <a:off x="3452040" y="6087960"/>
                <a:ext cx="76968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HR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6" name=""/>
            <p:cNvSpPr/>
            <p:nvPr/>
          </p:nvSpPr>
          <p:spPr>
            <a:xfrm flipH="1" rot="16200000">
              <a:off x="4523040" y="2643840"/>
              <a:ext cx="508680" cy="190440"/>
            </a:xfrm>
            <a:prstGeom prst="rightArrow">
              <a:avLst>
                <a:gd name="adj1" fmla="val 50000"/>
                <a:gd name="adj2" fmla="val 133566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 rot="18480000">
              <a:off x="5728320" y="2843640"/>
              <a:ext cx="508320" cy="190440"/>
            </a:xfrm>
            <a:prstGeom prst="rightArrow">
              <a:avLst>
                <a:gd name="adj1" fmla="val 50000"/>
                <a:gd name="adj2" fmla="val 133471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 rot="20280000">
              <a:off x="6465240" y="3805200"/>
              <a:ext cx="517320" cy="187200"/>
            </a:xfrm>
            <a:prstGeom prst="rightArrow">
              <a:avLst>
                <a:gd name="adj1" fmla="val 50000"/>
                <a:gd name="adj2" fmla="val 138186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 rot="1980000">
              <a:off x="6334560" y="4583880"/>
              <a:ext cx="517680" cy="187200"/>
            </a:xfrm>
            <a:prstGeom prst="rightArrow">
              <a:avLst>
                <a:gd name="adj1" fmla="val 50000"/>
                <a:gd name="adj2" fmla="val 138282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 rot="3840000">
              <a:off x="5159160" y="5434200"/>
              <a:ext cx="508320" cy="190440"/>
            </a:xfrm>
            <a:prstGeom prst="rightArrow">
              <a:avLst>
                <a:gd name="adj1" fmla="val 50000"/>
                <a:gd name="adj2" fmla="val 133471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 rot="7260000">
              <a:off x="3975120" y="5397120"/>
              <a:ext cx="508680" cy="190800"/>
            </a:xfrm>
            <a:prstGeom prst="rightArrow">
              <a:avLst>
                <a:gd name="adj1" fmla="val 50000"/>
                <a:gd name="adj2" fmla="val 133314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rot="8220000">
              <a:off x="2652480" y="4690800"/>
              <a:ext cx="517320" cy="187560"/>
            </a:xfrm>
            <a:prstGeom prst="rightArrow">
              <a:avLst>
                <a:gd name="adj1" fmla="val 50000"/>
                <a:gd name="adj2" fmla="val 13792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 rot="11160000">
              <a:off x="2559240" y="3755160"/>
              <a:ext cx="517320" cy="187200"/>
            </a:xfrm>
            <a:prstGeom prst="rightArrow">
              <a:avLst>
                <a:gd name="adj1" fmla="val 50000"/>
                <a:gd name="adj2" fmla="val 138186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 rot="13500000">
              <a:off x="3499200" y="2860560"/>
              <a:ext cx="517680" cy="187200"/>
            </a:xfrm>
            <a:prstGeom prst="rightArrow">
              <a:avLst>
                <a:gd name="adj1" fmla="val 50000"/>
                <a:gd name="adj2" fmla="val 138282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1142640" y="19807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Vorbemerk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struktu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ablauf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kos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dokumentation und -recherch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Weitere Möglichkei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Integration in SAP R/3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Resüme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142640" y="19807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orbemerk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struktu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ablauf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kos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dokumentation und -recherch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auswert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Integration in SAP R/3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Resüme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38088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800" spc="-1" strike="noStrike">
                <a:solidFill>
                  <a:srgbClr val="ff505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66ff"/>
                </a:solidFill>
                <a:latin typeface="Arial"/>
              </a:rPr>
              <a:t>Forschung&amp;Entwickl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38080" y="1440000"/>
            <a:ext cx="8686800" cy="53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/>
          </a:bodyPr>
          <a:p>
            <a:pPr marL="208080" indent="-208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asis SAP R/3 P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rgänzende Funktionalitä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320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lexible Abbildung von Projek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320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rücksichtigung anwenderspezifischen Anforder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tegration der </a:t>
            </a:r>
            <a:r>
              <a:rPr b="0" lang="de-DE" sz="2000" spc="-1" strike="noStrike">
                <a:solidFill>
                  <a:srgbClr val="ff2929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66ff"/>
                </a:solidFill>
                <a:latin typeface="Arial"/>
              </a:rPr>
              <a:t>RezepturVerwaltung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0" lang="de-DE" sz="2000" spc="-1" strike="noStrike">
                <a:solidFill>
                  <a:srgbClr val="ff2929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66ff"/>
                </a:solidFill>
                <a:latin typeface="Arial"/>
              </a:rPr>
              <a:t>LI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Metatransaktionen über PS und eigene Struktu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320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sken sind auf Anwender zugeschnit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320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rweiterb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800" spc="-1" strike="noStrike">
                <a:solidFill>
                  <a:srgbClr val="ff505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66ff"/>
                </a:solidFill>
                <a:latin typeface="Arial"/>
              </a:rPr>
              <a:t>Forschung&amp;Entwickl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676160" y="1523520"/>
            <a:ext cx="7848360" cy="5410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jektrichtlini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jektbeschreib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jektplanung und –budgeti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jektkos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jektorganis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jektablauf und –termin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jektressourc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jektsteuerung  und -kontrol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6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jektdokumentation und -recher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6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jektabschluß und -abrechn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6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jektauswert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38088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AP R/3 PS für die F &amp; E Projekt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1440000"/>
            <a:ext cx="9144000" cy="53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208080" indent="-208080"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pl.-Physiker Steffen Roschek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den 15.02.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3809880" y="2666880"/>
          <a:ext cx="990720" cy="68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666880"/>
                    <a:ext cx="9907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rbemerkun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86000"/>
          </a:bodyPr>
          <a:p>
            <a:pPr marL="178920" indent="0">
              <a:lnSpc>
                <a:spcPct val="90000"/>
              </a:lnSpc>
              <a:spcBef>
                <a:spcPts val="649"/>
              </a:spcBef>
              <a:spcAft>
                <a:spcPts val="3251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  <a:ea typeface="Arial"/>
              </a:rPr>
              <a:t>Projektbestandtei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lnSpc>
                <a:spcPct val="60000"/>
              </a:lnSpc>
              <a:spcBef>
                <a:spcPts val="451"/>
              </a:spcBef>
              <a:spcAft>
                <a:spcPts val="2251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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Projektrichtlini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lnSpc>
                <a:spcPct val="60000"/>
              </a:lnSpc>
              <a:spcBef>
                <a:spcPts val="451"/>
              </a:spcBef>
              <a:spcAft>
                <a:spcPts val="2251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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Projektbeschreib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lnSpc>
                <a:spcPct val="60000"/>
              </a:lnSpc>
              <a:spcBef>
                <a:spcPts val="451"/>
              </a:spcBef>
              <a:spcAft>
                <a:spcPts val="2251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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Projektplanung und –budgetier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lnSpc>
                <a:spcPct val="60000"/>
              </a:lnSpc>
              <a:spcBef>
                <a:spcPts val="451"/>
              </a:spcBef>
              <a:spcAft>
                <a:spcPts val="2251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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Projektkos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lnSpc>
                <a:spcPct val="60000"/>
              </a:lnSpc>
              <a:spcBef>
                <a:spcPts val="451"/>
              </a:spcBef>
              <a:spcAft>
                <a:spcPts val="2251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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Projektorganis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lnSpc>
                <a:spcPct val="60000"/>
              </a:lnSpc>
              <a:spcBef>
                <a:spcPts val="451"/>
              </a:spcBef>
              <a:spcAft>
                <a:spcPts val="2251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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Projektablauf und –termin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lnSpc>
                <a:spcPct val="60000"/>
              </a:lnSpc>
              <a:spcBef>
                <a:spcPts val="451"/>
              </a:spcBef>
              <a:spcAft>
                <a:spcPts val="2251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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Projektressourc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lnSpc>
                <a:spcPct val="60000"/>
              </a:lnSpc>
              <a:spcBef>
                <a:spcPts val="451"/>
              </a:spcBef>
              <a:spcAft>
                <a:spcPts val="2251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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Projektsteuerung  und -kontrol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lnSpc>
                <a:spcPct val="60000"/>
              </a:lnSpc>
              <a:spcBef>
                <a:spcPts val="451"/>
              </a:spcBef>
              <a:spcAft>
                <a:spcPts val="2251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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Projektdokumentation und -recherch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lnSpc>
                <a:spcPct val="60000"/>
              </a:lnSpc>
              <a:spcBef>
                <a:spcPts val="451"/>
              </a:spcBef>
              <a:spcAft>
                <a:spcPts val="2251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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Projektabschluß und -abrechn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spcAft>
                <a:spcPts val="2999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orbemerkung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lnSpc>
                <a:spcPct val="90000"/>
              </a:lnSpc>
              <a:spcBef>
                <a:spcPts val="601"/>
              </a:spcBef>
              <a:spcAft>
                <a:spcPts val="2999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601"/>
              </a:spcBef>
              <a:spcAft>
                <a:spcPts val="2999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1219320"/>
            <a:ext cx="891540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208080" indent="-208080">
              <a:lnSpc>
                <a:spcPct val="90000"/>
              </a:lnSpc>
              <a:spcBef>
                <a:spcPts val="601"/>
              </a:spcBef>
              <a:spcAft>
                <a:spcPts val="2999"/>
              </a:spcAft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In der heutigen DV-Landschaft stehen den F&amp;E-Teams meist nur Module der Bürokommunikation zur Verfüg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90000"/>
              </a:lnSpc>
              <a:spcBef>
                <a:spcPts val="601"/>
              </a:spcBef>
              <a:spcAft>
                <a:spcPts val="2999"/>
              </a:spcAft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Mit Defiziten 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60000"/>
              </a:lnSpc>
              <a:spcBef>
                <a:spcPts val="451"/>
              </a:spcBef>
              <a:spcAft>
                <a:spcPts val="2251"/>
              </a:spcAft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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Integritä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60000"/>
              </a:lnSpc>
              <a:spcBef>
                <a:spcPts val="451"/>
              </a:spcBef>
              <a:spcAft>
                <a:spcPts val="2251"/>
              </a:spcAft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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utomatisierung der Routineabläuf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60000"/>
              </a:lnSpc>
              <a:spcBef>
                <a:spcPts val="451"/>
              </a:spcBef>
              <a:spcAft>
                <a:spcPts val="2251"/>
              </a:spcAft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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sinhalte und –aktualität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60000"/>
              </a:lnSpc>
              <a:spcBef>
                <a:spcPts val="451"/>
              </a:spcBef>
              <a:spcAft>
                <a:spcPts val="2251"/>
              </a:spcAft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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Projektauswert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60000"/>
              </a:lnSpc>
              <a:spcBef>
                <a:spcPts val="451"/>
              </a:spcBef>
              <a:spcAft>
                <a:spcPts val="2251"/>
              </a:spcAft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60000"/>
              </a:lnSpc>
              <a:spcBef>
                <a:spcPts val="451"/>
              </a:spcBef>
              <a:spcAft>
                <a:spcPts val="2251"/>
              </a:spcAft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ösungsvorschla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915400" cy="56386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spcBef>
                <a:spcPts val="499"/>
              </a:spcBef>
              <a:spcAft>
                <a:spcPts val="2500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40000"/>
              </a:lnSpc>
              <a:spcBef>
                <a:spcPts val="550"/>
              </a:spcBef>
              <a:spcAft>
                <a:spcPts val="2750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Grundlage Modul PS (Projektsystem) im SAP R/3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rweiterung des Standards durch </a:t>
            </a:r>
            <a:r>
              <a:rPr b="0" lang="de-DE" sz="18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66ff"/>
                </a:solidFill>
                <a:latin typeface="Arial"/>
              </a:rPr>
              <a:t>Forschung&amp;Entwickl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rgänzende Strukturen und Funktion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eringer Einarbeitungsaufwan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51"/>
              </a:spcBef>
              <a:spcAft>
                <a:spcPts val="2251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omogene Benutzeroberfläche (eigene Maske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spcAft>
                <a:spcPts val="2750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inbindung von </a:t>
            </a:r>
            <a:r>
              <a:rPr b="0" lang="de-DE" sz="18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66ff"/>
                </a:solidFill>
                <a:latin typeface="Arial"/>
              </a:rPr>
              <a:t>LIMS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und</a:t>
            </a:r>
            <a:r>
              <a:rPr b="1" lang="de-DE" sz="2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66ff"/>
                </a:solidFill>
                <a:latin typeface="Arial"/>
              </a:rPr>
              <a:t>RezepturVerwalt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spcAft>
                <a:spcPts val="2750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tegration in alle SAP R/3 Mo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spcAft>
                <a:spcPts val="2750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eine Modifikationen, Releasesicherhei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142640" y="19807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Vorbemerk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jektstruktu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ablauf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kos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dokumentation und -recherch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auswert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Integration in SAP R/3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Resüme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ktstruktur (1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lnSpc>
                <a:spcPct val="13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bildung der Struktur durch PSP-Element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terteilung in Unterprojekte (mehrstufig möglich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knüpfung mit Rezeptur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knüpfung mit Laborprob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knüpfung mit Dokumen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.B. Word, Excel oder Grafik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8088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ktstruktur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905120" y="1600200"/>
          <a:ext cx="6135480" cy="440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600200"/>
                    <a:ext cx="6135480" cy="44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12:09:53Z</dcterms:created>
  <dc:creator>Steffen Roschek</dc:creator>
  <dc:description/>
  <dc:language>en-US</dc:language>
  <cp:lastModifiedBy>Dr. Jochen Winkler</cp:lastModifiedBy>
  <cp:lastPrinted>2000-08-22T07:43:11Z</cp:lastPrinted>
  <dcterms:modified xsi:type="dcterms:W3CDTF">2001-02-09T18:01:53Z</dcterms:modified>
  <cp:revision>148</cp:revision>
  <dc:subject/>
  <dc:title>SAP R/3 PS für die F &amp; E Projekte </dc:title>
</cp:coreProperties>
</file>