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7ED3404-3DD5-4E69-A3FA-192577AD8EA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7280" y="7101000"/>
            <a:ext cx="1008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3240" y="7101000"/>
            <a:ext cx="1381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0580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Karin Knippi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114800" y="2286000"/>
          <a:ext cx="685800" cy="1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286000"/>
                    <a:ext cx="685800" cy="1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523880" y="4572000"/>
          <a:ext cx="762120" cy="1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572000"/>
                    <a:ext cx="76212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schungsprob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planerstel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gabe der Rezep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tomatische Registr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ßwerterfas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protoko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495680" y="2209680"/>
          <a:ext cx="609840" cy="2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609840" cy="2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514600" y="1981080"/>
          <a:ext cx="8380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981080"/>
                    <a:ext cx="838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der Stamm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440000"/>
            <a:ext cx="84582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35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ktspezifik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ndenspezifik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sspezifik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ktspezifik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438280" y="1714680"/>
          <a:ext cx="838440" cy="20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714680"/>
                    <a:ext cx="8384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95280" y="3581280"/>
          <a:ext cx="762120" cy="14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58128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95280" y="4114800"/>
          <a:ext cx="762120" cy="14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148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95280" y="4343400"/>
          <a:ext cx="762120" cy="14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3434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95280" y="4572000"/>
          <a:ext cx="762120" cy="228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95280" y="4572000"/>
                    <a:ext cx="762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295280" y="4876920"/>
          <a:ext cx="762120" cy="14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95280" y="4876920"/>
                    <a:ext cx="76212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xgelb" descr=""/>
          <p:cNvPicPr/>
          <p:nvPr/>
        </p:nvPicPr>
        <p:blipFill>
          <a:blip r:embed="rId14"/>
          <a:stretch/>
        </p:blipFill>
        <p:spPr>
          <a:xfrm>
            <a:off x="1295280" y="3809880"/>
            <a:ext cx="762120" cy="1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forderungen an das SAP R/3 L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führung einiger Highligh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fassende Such- und Auswertefunktionalitä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95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P- Graf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- Graf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ML-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- Dok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76520" y="1873080"/>
          <a:ext cx="761760" cy="1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73080"/>
                    <a:ext cx="76176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113" name="Xwgrahel" descr=""/>
          <p:cNvPicPr/>
          <p:nvPr/>
        </p:nvPicPr>
        <p:blipFill>
          <a:blip r:embed="rId2"/>
          <a:stretch/>
        </p:blipFill>
        <p:spPr>
          <a:xfrm>
            <a:off x="3200400" y="1014480"/>
            <a:ext cx="762120" cy="2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115" name="Xweiss" descr=""/>
          <p:cNvPicPr/>
          <p:nvPr/>
        </p:nvPicPr>
        <p:blipFill>
          <a:blip r:embed="rId2"/>
          <a:stretch/>
        </p:blipFill>
        <p:spPr>
          <a:xfrm flipH="1" rot="10800000">
            <a:off x="3809880" y="990720"/>
            <a:ext cx="685800" cy="1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nehmensweite Aufgabenabdeck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- Kompatibilitä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chgängig probenbezogene 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Karin Knippi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as SAP R/3 L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schungs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emdmuster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zeßbegleit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schiede und Neuer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nterlegen der Spezifikationen in eigenen Struktur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207720"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 Kun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207720"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 Produk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207720"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ition von Gültigkeitszeiträumen für Spezifik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zifikationsfind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bilden von Erfahrungsspezifik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bilden von Prospektspezifik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ßwerterfas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zeugn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 rot="10800000">
          <a:off x="3809880" y="2209320"/>
          <a:ext cx="68580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9880" y="2209320"/>
                    <a:ext cx="685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886200" y="1981080"/>
          <a:ext cx="10666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981080"/>
                    <a:ext cx="10666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514600" y="3846600"/>
          <a:ext cx="762120" cy="2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846600"/>
                    <a:ext cx="76212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267080" y="1981080"/>
          <a:ext cx="685800" cy="1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981080"/>
                    <a:ext cx="68580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Karin Knipping</dc:creator>
  <dc:description/>
  <dc:language>en-US</dc:language>
  <cp:lastModifiedBy>Dr. Jochen Winkler</cp:lastModifiedBy>
  <cp:lastPrinted>2000-08-22T08:01:00Z</cp:lastPrinted>
  <dcterms:modified xsi:type="dcterms:W3CDTF">2001-02-16T07:28:36Z</dcterms:modified>
  <cp:revision>31</cp:revision>
  <dc:subject/>
  <dc:title>Frankfurt 15.3.2001</dc:title>
</cp:coreProperties>
</file>