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7F6A1B9-09DB-4202-84A4-ACD108C4AB5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.02.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7280" y="7101000"/>
            <a:ext cx="1008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Karin Kni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3240" y="7101000"/>
            <a:ext cx="1381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griertes SAP R/3 LI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0580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png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iertes SAP R/3 LI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Karin Knipping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0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4114800" y="2286000"/>
          <a:ext cx="685800" cy="1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2286000"/>
                    <a:ext cx="685800" cy="1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1523880" y="4572000"/>
          <a:ext cx="762120" cy="1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4572000"/>
                    <a:ext cx="76212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schungsprob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meld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üfplanerstell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ingabe der Rezeptu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tomatische Registrier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eßwerterfas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üfprotoko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4495680" y="2209680"/>
          <a:ext cx="609840" cy="22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209680"/>
                    <a:ext cx="609840" cy="2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2514600" y="1981080"/>
          <a:ext cx="838080" cy="16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1981080"/>
                    <a:ext cx="8380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flege der Stammda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440000"/>
            <a:ext cx="84582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35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ktspezifik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7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undenspezifik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7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sspezifik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7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pektspezifik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2438280" y="1714680"/>
          <a:ext cx="838440" cy="20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714680"/>
                    <a:ext cx="838440" cy="20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295280" y="3581280"/>
          <a:ext cx="762120" cy="14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3581280"/>
                    <a:ext cx="76212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95280" y="4114800"/>
          <a:ext cx="762120" cy="146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4114800"/>
                    <a:ext cx="76212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295280" y="4343400"/>
          <a:ext cx="762120" cy="14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95280" y="4343400"/>
                    <a:ext cx="76212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295280" y="4572000"/>
          <a:ext cx="762120" cy="228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95280" y="4572000"/>
                    <a:ext cx="7621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295280" y="4876920"/>
          <a:ext cx="762120" cy="14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95280" y="4876920"/>
                    <a:ext cx="762120" cy="14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xgelb" descr=""/>
          <p:cNvPicPr/>
          <p:nvPr/>
        </p:nvPicPr>
        <p:blipFill>
          <a:blip r:embed="rId14"/>
          <a:stretch/>
        </p:blipFill>
        <p:spPr>
          <a:xfrm>
            <a:off x="1295280" y="3809880"/>
            <a:ext cx="762120" cy="1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forderungen an das SAP R/3 LI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führung einiger Highligh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iertes SAP R/3 LI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fassende Such- und Auswertefunktionalitä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695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224"/>
              </a:spcBef>
              <a:spcAft>
                <a:spcPts val="112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7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P- Grafi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7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- Grafi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7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ML-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7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- Doku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676520" y="1873080"/>
          <a:ext cx="761760" cy="18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873080"/>
                    <a:ext cx="761760" cy="1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113" name="Xwgrahel" descr=""/>
          <p:cNvPicPr/>
          <p:nvPr/>
        </p:nvPicPr>
        <p:blipFill>
          <a:blip r:embed="rId2"/>
          <a:stretch/>
        </p:blipFill>
        <p:spPr>
          <a:xfrm>
            <a:off x="3200400" y="1014480"/>
            <a:ext cx="762120" cy="23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pic>
        <p:nvPicPr>
          <p:cNvPr id="115" name="Xweiss" descr=""/>
          <p:cNvPicPr/>
          <p:nvPr/>
        </p:nvPicPr>
        <p:blipFill>
          <a:blip r:embed="rId2"/>
          <a:stretch/>
        </p:blipFill>
        <p:spPr>
          <a:xfrm flipH="1" rot="10800000">
            <a:off x="3809880" y="990720"/>
            <a:ext cx="685800" cy="1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077320" cy="5333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378000" indent="-378000">
              <a:spcBef>
                <a:spcPts val="601"/>
              </a:spcBef>
              <a:spcAft>
                <a:spcPts val="299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nehmensweite Aufgabenabdeck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spcAft>
                <a:spcPts val="299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onomische Bedie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spcAft>
                <a:spcPts val="299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- Kompatibilitä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spcAft>
                <a:spcPts val="299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spcAft>
                <a:spcPts val="299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le Integration in SAP R/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spcAft>
                <a:spcPts val="299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chgängig probenbezogene Prüf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spcAft>
                <a:spcPts val="299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fassende Such- und Auswertefunktio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iertes SAP R/3 LI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Karin Knipping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forderungen an das SAP R/3 LI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orschungsprob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emdmusterprob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zeßbegleitprob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terschiede und Neuer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9067680" cy="51818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649"/>
              </a:spcBef>
              <a:spcAft>
                <a:spcPts val="1624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nterlegen der Spezifikationen in eigenen Struktur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207720">
              <a:spcBef>
                <a:spcPts val="6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 Kun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207720">
              <a:spcBef>
                <a:spcPts val="6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 Produk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207720">
              <a:spcBef>
                <a:spcPts val="6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49"/>
              </a:spcBef>
              <a:spcAft>
                <a:spcPts val="1624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inition von Gültigkeitszeiträumen für Spezifik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49"/>
              </a:spcBef>
              <a:spcAft>
                <a:spcPts val="1624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ezifikationsfindu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49"/>
              </a:spcBef>
              <a:spcAft>
                <a:spcPts val="1624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bbilden von Erfahrungsspezifik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49"/>
              </a:spcBef>
              <a:spcAft>
                <a:spcPts val="1624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bbilden von Prospektspezifik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3353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meld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gistrier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eßwerterfass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üfzeugn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 rot="10800000">
          <a:off x="3809880" y="2209320"/>
          <a:ext cx="68580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3809880" y="2209320"/>
                    <a:ext cx="6858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886200" y="1981080"/>
          <a:ext cx="1066680" cy="16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1981080"/>
                    <a:ext cx="10666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2514600" y="3846600"/>
          <a:ext cx="762120" cy="26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3846600"/>
                    <a:ext cx="76212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4267080" y="1981080"/>
          <a:ext cx="685800" cy="18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1981080"/>
                    <a:ext cx="68580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Karin Knipping</dc:creator>
  <dc:description/>
  <dc:language>en-US</dc:language>
  <cp:lastModifiedBy>Dr. Jochen Winkler</cp:lastModifiedBy>
  <cp:lastPrinted>2000-08-22T08:01:00Z</cp:lastPrinted>
  <dcterms:modified xsi:type="dcterms:W3CDTF">2001-02-16T07:28:36Z</dcterms:modified>
  <cp:revision>31</cp:revision>
  <dc:subject/>
  <dc:title>Frankfurt 15.3.2001</dc:title>
</cp:coreProperties>
</file>