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845640" y="487080"/>
            <a:ext cx="5195880" cy="39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7640" y="4571640"/>
            <a:ext cx="5046480" cy="4049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03880" y="9142560"/>
            <a:ext cx="1353960" cy="29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1908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92F21912-FB3E-4C61-92C6-DCAE5A1FB06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42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.02.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86600"/>
            <a:ext cx="3321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Entwicklungen von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Consul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5.02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Bestellanforder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über Browser - in Entwickl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ontend: Linux / Win, Brows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bserver: Linux / 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ckend: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meldung (User, evtl. Kostenstel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assung der benötigten Materialien (Scanner oder manuel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igabe der Bestellanford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lage der Bestellanforderungen auf dem Web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stellung / Druck von Re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tomat. Übergabe der Bestellanforderungen an R/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chronisation der Materialstämme, User und Kostenstellen zwischen R/3 (Master) und Webserver (Sla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0 - Mediz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403440" y="1776240"/>
            <a:ext cx="3391200" cy="5088240"/>
          </a:xfrm>
          <a:custGeom>
            <a:avLst/>
            <a:gdLst/>
            <a:ahLst/>
            <a:rect l="l" t="t" r="r" b="b"/>
            <a:pathLst>
              <a:path w="1972" h="2885">
                <a:moveTo>
                  <a:pt x="261" y="177"/>
                </a:moveTo>
                <a:cubicBezTo>
                  <a:pt x="297" y="168"/>
                  <a:pt x="320" y="152"/>
                  <a:pt x="357" y="145"/>
                </a:cubicBezTo>
                <a:cubicBezTo>
                  <a:pt x="536" y="159"/>
                  <a:pt x="1137" y="0"/>
                  <a:pt x="1309" y="57"/>
                </a:cubicBezTo>
                <a:cubicBezTo>
                  <a:pt x="1330" y="93"/>
                  <a:pt x="1401" y="150"/>
                  <a:pt x="1421" y="185"/>
                </a:cubicBezTo>
                <a:cubicBezTo>
                  <a:pt x="1430" y="202"/>
                  <a:pt x="1893" y="433"/>
                  <a:pt x="1893" y="433"/>
                </a:cubicBezTo>
                <a:cubicBezTo>
                  <a:pt x="1909" y="498"/>
                  <a:pt x="1927" y="901"/>
                  <a:pt x="1957" y="961"/>
                </a:cubicBezTo>
                <a:cubicBezTo>
                  <a:pt x="1972" y="1038"/>
                  <a:pt x="1457" y="1176"/>
                  <a:pt x="1485" y="1249"/>
                </a:cubicBezTo>
                <a:cubicBezTo>
                  <a:pt x="1510" y="1313"/>
                  <a:pt x="1281" y="1293"/>
                  <a:pt x="1325" y="1337"/>
                </a:cubicBezTo>
                <a:cubicBezTo>
                  <a:pt x="1356" y="1493"/>
                  <a:pt x="1233" y="1231"/>
                  <a:pt x="1229" y="1385"/>
                </a:cubicBezTo>
                <a:cubicBezTo>
                  <a:pt x="1232" y="1473"/>
                  <a:pt x="1232" y="1561"/>
                  <a:pt x="1237" y="1649"/>
                </a:cubicBezTo>
                <a:cubicBezTo>
                  <a:pt x="1239" y="1681"/>
                  <a:pt x="1265" y="1707"/>
                  <a:pt x="1277" y="1737"/>
                </a:cubicBezTo>
                <a:cubicBezTo>
                  <a:pt x="1292" y="1774"/>
                  <a:pt x="1299" y="1810"/>
                  <a:pt x="1309" y="1849"/>
                </a:cubicBezTo>
                <a:cubicBezTo>
                  <a:pt x="1306" y="1924"/>
                  <a:pt x="1320" y="2001"/>
                  <a:pt x="1301" y="2073"/>
                </a:cubicBezTo>
                <a:cubicBezTo>
                  <a:pt x="1296" y="2093"/>
                  <a:pt x="1263" y="2088"/>
                  <a:pt x="1245" y="2097"/>
                </a:cubicBezTo>
                <a:cubicBezTo>
                  <a:pt x="1193" y="2121"/>
                  <a:pt x="1205" y="2115"/>
                  <a:pt x="1165" y="2145"/>
                </a:cubicBezTo>
                <a:cubicBezTo>
                  <a:pt x="1156" y="2302"/>
                  <a:pt x="1185" y="2299"/>
                  <a:pt x="1053" y="2273"/>
                </a:cubicBezTo>
                <a:cubicBezTo>
                  <a:pt x="1024" y="2284"/>
                  <a:pt x="980" y="2278"/>
                  <a:pt x="965" y="2305"/>
                </a:cubicBezTo>
                <a:cubicBezTo>
                  <a:pt x="950" y="2332"/>
                  <a:pt x="971" y="2409"/>
                  <a:pt x="981" y="2449"/>
                </a:cubicBezTo>
                <a:cubicBezTo>
                  <a:pt x="978" y="2489"/>
                  <a:pt x="984" y="2530"/>
                  <a:pt x="973" y="2569"/>
                </a:cubicBezTo>
                <a:cubicBezTo>
                  <a:pt x="969" y="2582"/>
                  <a:pt x="951" y="2584"/>
                  <a:pt x="941" y="2593"/>
                </a:cubicBezTo>
                <a:cubicBezTo>
                  <a:pt x="871" y="2655"/>
                  <a:pt x="929" y="2615"/>
                  <a:pt x="877" y="2649"/>
                </a:cubicBezTo>
                <a:cubicBezTo>
                  <a:pt x="863" y="2672"/>
                  <a:pt x="842" y="2690"/>
                  <a:pt x="829" y="2713"/>
                </a:cubicBezTo>
                <a:cubicBezTo>
                  <a:pt x="821" y="2727"/>
                  <a:pt x="819" y="2772"/>
                  <a:pt x="813" y="2785"/>
                </a:cubicBezTo>
                <a:cubicBezTo>
                  <a:pt x="805" y="2800"/>
                  <a:pt x="779" y="2816"/>
                  <a:pt x="765" y="2825"/>
                </a:cubicBezTo>
                <a:cubicBezTo>
                  <a:pt x="725" y="2885"/>
                  <a:pt x="690" y="2849"/>
                  <a:pt x="637" y="2801"/>
                </a:cubicBezTo>
                <a:cubicBezTo>
                  <a:pt x="568" y="2738"/>
                  <a:pt x="559" y="2720"/>
                  <a:pt x="517" y="2657"/>
                </a:cubicBezTo>
                <a:cubicBezTo>
                  <a:pt x="508" y="2704"/>
                  <a:pt x="516" y="2739"/>
                  <a:pt x="525" y="2785"/>
                </a:cubicBezTo>
                <a:cubicBezTo>
                  <a:pt x="522" y="2796"/>
                  <a:pt x="527" y="2814"/>
                  <a:pt x="517" y="2817"/>
                </a:cubicBezTo>
                <a:cubicBezTo>
                  <a:pt x="453" y="2838"/>
                  <a:pt x="432" y="2780"/>
                  <a:pt x="397" y="2745"/>
                </a:cubicBezTo>
                <a:cubicBezTo>
                  <a:pt x="378" y="2748"/>
                  <a:pt x="359" y="2759"/>
                  <a:pt x="341" y="2753"/>
                </a:cubicBezTo>
                <a:cubicBezTo>
                  <a:pt x="298" y="2740"/>
                  <a:pt x="251" y="2649"/>
                  <a:pt x="237" y="2625"/>
                </a:cubicBezTo>
                <a:cubicBezTo>
                  <a:pt x="155" y="2488"/>
                  <a:pt x="159" y="2363"/>
                  <a:pt x="117" y="2217"/>
                </a:cubicBezTo>
                <a:cubicBezTo>
                  <a:pt x="109" y="2189"/>
                  <a:pt x="94" y="2164"/>
                  <a:pt x="85" y="2137"/>
                </a:cubicBezTo>
                <a:cubicBezTo>
                  <a:pt x="88" y="2068"/>
                  <a:pt x="87" y="1998"/>
                  <a:pt x="93" y="1929"/>
                </a:cubicBezTo>
                <a:cubicBezTo>
                  <a:pt x="95" y="1902"/>
                  <a:pt x="109" y="1849"/>
                  <a:pt x="109" y="1849"/>
                </a:cubicBezTo>
                <a:cubicBezTo>
                  <a:pt x="125" y="1664"/>
                  <a:pt x="121" y="1460"/>
                  <a:pt x="181" y="1281"/>
                </a:cubicBezTo>
                <a:cubicBezTo>
                  <a:pt x="191" y="1178"/>
                  <a:pt x="103" y="1132"/>
                  <a:pt x="133" y="1041"/>
                </a:cubicBezTo>
                <a:cubicBezTo>
                  <a:pt x="147" y="887"/>
                  <a:pt x="63" y="737"/>
                  <a:pt x="5" y="593"/>
                </a:cubicBezTo>
                <a:cubicBezTo>
                  <a:pt x="0" y="458"/>
                  <a:pt x="182" y="413"/>
                  <a:pt x="197" y="297"/>
                </a:cubicBezTo>
                <a:cubicBezTo>
                  <a:pt x="203" y="252"/>
                  <a:pt x="247" y="220"/>
                  <a:pt x="261" y="177"/>
                </a:cubicBezTo>
                <a:close/>
              </a:path>
            </a:pathLst>
          </a:custGeom>
          <a:solidFill>
            <a:srgbClr val="b6fd7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9448920" cy="5331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stellung im Web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5480" y="2370240"/>
            <a:ext cx="2146320" cy="2879640"/>
          </a:xfrm>
          <a:prstGeom prst="ellipse">
            <a:avLst/>
          </a:prstGeom>
          <a:solidFill>
            <a:srgbClr val="b6fd7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Katharinen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hospi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Stuttg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99200" y="2286000"/>
            <a:ext cx="2146320" cy="2878200"/>
          </a:xfrm>
          <a:prstGeom prst="ellipse">
            <a:avLst/>
          </a:prstGeom>
          <a:solidFill>
            <a:srgbClr val="b6fd7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Phar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8880" y="2624040"/>
            <a:ext cx="487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971440" y="3386160"/>
            <a:ext cx="412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71440" y="4148280"/>
            <a:ext cx="412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723760" y="4826160"/>
            <a:ext cx="4705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32040" y="5079960"/>
            <a:ext cx="16513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ff3535"/>
                </a:solidFill>
                <a:latin typeface="Arial Rounded MT Bold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2116080"/>
            <a:ext cx="1981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Bestell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76440" y="262404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67160" y="2793960"/>
            <a:ext cx="33843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Bestellbestätig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14840" y="3556080"/>
            <a:ext cx="22287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Liefersche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32040" y="4233960"/>
            <a:ext cx="15685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Fak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ndenaufträge über Internet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KundenAuftra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ndenRechner - LieferantenRechn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PSystem – Webserver –</a:t>
            </a:r>
            <a:r>
              <a:rPr b="1" lang="de-DE" sz="18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9900"/>
                </a:solidFill>
                <a:latin typeface="Arial"/>
              </a:rPr>
              <a:t>Internet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Webserver – ERP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ndenBrowser - LieferantenRechn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rowser – </a:t>
            </a:r>
            <a:r>
              <a:rPr b="1" lang="de-DE" sz="1800" spc="-1" strike="noStrike">
                <a:solidFill>
                  <a:srgbClr val="ff9900"/>
                </a:solidFill>
                <a:latin typeface="Arial"/>
              </a:rPr>
              <a:t> Interne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- Webserver – ERP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ndenaufträge über Internet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- / Leistungskatalo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ise / Kondi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tands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fügbarkeit, Lieferterm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nden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ve Daten / Adressen,..., Kundenpro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träg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sätze, Hitlisten,...Kreditlimit,.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ndenaufträge über Internet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ndenaufträge / - anfra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mel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sonalisi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kopf / -posi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gangsbestätigung per M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tchcodes, Hitlisten, Sets, Up- / Cross-Se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vorlagen, alte Aufträge, Bar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ise, Konditionen, Fracht,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eferterm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-/Liefer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gebnisübermitt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ornier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to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ndenaufträge über Internet (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mmda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= R/3,  Slave = Web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äglich (Kunden-, Produkt-, Preis-, Vertreter-, Verortungsinform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ofort (Verfügbarkeits-, Kreditinform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ftragsda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/3 holt sich die Daten vom Webserver a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ensicher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rewall, Autorisierung, Verschlüsselung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Auftragslab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chitekt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rowser</a:t>
            </a:r>
            <a:r>
              <a:rPr b="1" lang="de-DE" sz="1800" spc="-1" strike="noStrike">
                <a:solidFill>
                  <a:srgbClr val="ff9900"/>
                </a:solidFill>
                <a:latin typeface="Arial"/>
              </a:rPr>
              <a:t> –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Webserver – R/3 (LI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/3 – Webserver</a:t>
            </a:r>
            <a:r>
              <a:rPr b="1" lang="de-DE" sz="1800" spc="-1" strike="noStrike">
                <a:solidFill>
                  <a:srgbClr val="ff9900"/>
                </a:solidFill>
                <a:latin typeface="Arial"/>
              </a:rPr>
              <a:t> –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bserver – R/3 (LI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PSystem – Webserver </a:t>
            </a:r>
            <a:r>
              <a:rPr b="1" lang="de-DE" sz="1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Webserver – R/3 (LI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KundenAuftra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LI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al mi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Bestellanford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Forschung&amp;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Rezeptur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Kundendatenban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Bestel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Entwicklungen von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Consul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5.02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e 2001 - Chemie / Phar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, GB Onkologie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, GB Provita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, GB Creanova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SM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1 - Chemie / Phar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1000"/>
          </a:bodyPr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PharmaLab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Produk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onats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IstHerstellkosten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Forschung&amp;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Rezeptu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KundenDatenba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6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Bestellanford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6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Be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6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KundenAuftr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71600" y="1289160"/>
            <a:ext cx="7315200" cy="5568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533520"/>
            <a:ext cx="8153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/3 im Web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/3 im Web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1-02-15T21:22:58Z</dcterms:modified>
  <cp:revision>390</cp:revision>
  <dc:subject/>
  <dc:title>Kein Folientitel</dc:title>
</cp:coreProperties>
</file>