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F64-6EB5-4BA8-8FE8-06063428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E46-4B5F-4135-98BE-35036E40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E53-71F0-42F7-94E1-1AF951DA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6E4-C127-4AFD-BA0B-97F225D8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272-05FB-458A-81E1-1B0E7DCE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D2C-ED9B-454E-A502-37ECDF46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812-7BAC-4588-812A-853979EA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48A-BEF0-4CE6-ADBD-6BB1468E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6B7-C129-4481-A060-0AD16714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80A-5689-4D38-A078-947FFA4F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8FA-64F3-4ED9-BCC9-C7CE1A7A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ABE-FDC0-46ED-93E8-D7FEB85D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C318D02-8CE3-4DC3-9724-6387C341787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9528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 der </a:t>
            </a:r>
            <a:br>
              <a:rPr sz="3200"/>
            </a:br>
            <a:r>
              <a:rPr b="1" lang="en-US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.02.2001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3E8-0577-446E-BF79-FFF94128A43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zneimittel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, Radebeu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M / LIMS, Materialwirtscha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066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 - Pha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711-9820-4F52-9625-93F511E79B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7D4-6E89-4F05-85B7-04196D98A9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76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77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83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89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95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101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07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13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19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25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31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37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43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49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55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61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67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73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86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92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03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09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14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19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25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71480" y="3143160"/>
              <a:ext cx="257400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R/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Client /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Workben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82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89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95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26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219320" y="9144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s SAP R/3-System u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-Ons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EB7-CE8A-4CAF-80E6-B279E929BE1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onderheit der </a:t>
            </a:r>
            <a:r>
              <a:rPr b="1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 in der Lage, viele SAP R/3 Module in kurzer Zei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 hoher Qualität und Funktionalität einzufüh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etet on top dem Kunden release-feste Add-On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r Einführung 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544-FED1-4C2D-A9EF-4980A7B1E1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156A-E394-41FD-834F-8AB856BDCA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29528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 der </a:t>
            </a:r>
            <a:br>
              <a:rPr sz="3200"/>
            </a:br>
            <a:r>
              <a:rPr b="1" lang="en-US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.02.2001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065-1644-4D61-9D5D-72C9E83BD7C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ntrale Rezepturdatenbank und -verwaltung zur Verwaltung aller Entwicklungs- und Produktions-rezepturen - ein geplantes Add-On, das in das SAP R/3-System voll integriert i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LIM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- das einzige integrierte LIM-System im SAP R/3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satz des SAP R/3-Moduls Projektsystem (PS) in Verbindung mit dem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LIM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und der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Rezeptur-verwaltu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in der Forschung und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C9C-6A6E-4202-8EF5-4741CD030F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Kundendatenbank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 SAP R/3-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terentwicklungen von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rzer Überblick über Weiterentwicklungen, wie z. B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ellanforderungen über Intra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ellungen über Interne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DD1-D4DD-49D6-983D-DD86172F4E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 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91F-93D4-430D-8670-5ED44F45BA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357-E082-49AE-AF94-7D03A53CB5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Kunststoff GmbH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4EFD-CB78-4DAA-8BA3-21E275B136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07B0-2FCB-49ED-8ED0-85A2DCF684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on in gemeinsames Chemie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ertes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planung, -durchführung und -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M für Lackroh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 für Technische Kunst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Chem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AD1-D82E-4D3B-BB92-8AD4E78AD5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5.02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dhaltungsabwicklung (Mitarbeit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sche Amphibolin Werke, Ober-Ramstad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schung und Entwick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Chem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786-0BC7-40B1-826F-1833425134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1-02-16T21:37:32Z</dcterms:modified>
  <cp:revision>59</cp:revision>
  <dc:subject/>
  <dc:title>Kein Folientitel</dc:title>
</cp:coreProperties>
</file>