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C2E8-EE8A-4D90-9F73-8E21628D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C78C-2D00-4F91-9607-D9318B15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FC1-9B05-453D-A4FF-18BD9D9E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B60A-11EF-4F63-8595-8F5C3B95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3C35-EBD0-4F4A-BD91-183E4055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8DA1-3922-48B8-B6EE-A37FF7E4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B08C-D13A-49D6-8801-84F84E69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9F11-2B8D-416A-B721-509D2C27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0AB-D770-42BA-85EB-F02A6781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2055-D734-4318-8DD6-58A0E4E5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B141-7897-4F6D-9BBC-DA4F9107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712-6BCB-4E54-8392-7E86A198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19985AE-986C-4660-91D2-120581D64B0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9528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rzlich Willkommen zu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P R/3 Workshop der </a:t>
            </a:r>
            <a:br>
              <a:rPr sz="3200"/>
            </a:br>
            <a:r>
              <a:rPr b="1" lang="en-US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l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kfurt Marriott Hote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.02.2001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813B-7396-4EAF-AE44-378A7033517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zneimittelbestellungen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, Radebeu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M / LIMS, Materialwirtscha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pharma GmbH &amp; Co., Gerli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066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kte 2000 - Pha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824D-28A4-4D7A-A35D-874961AE3E4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0D7D-BE92-4F87-8E1F-556392CCDED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76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77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83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89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95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101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107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113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119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25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31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37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43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49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55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61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67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73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186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192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203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209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214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219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25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35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33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33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71480" y="3143160"/>
              <a:ext cx="2574000" cy="15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</a:rPr>
                <a:t>R/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Client / Ser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Workbenc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282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289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295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ffcc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26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1219320" y="9144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s SAP R/3-System u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-Ons von </a:t>
            </a:r>
            <a:r>
              <a:rPr b="1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3E4-631F-4E25-BEE6-65CE318219D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onderheit der </a:t>
            </a:r>
            <a:r>
              <a:rPr b="1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t in der Lage, viele SAP R/3 Module in kurzer Zei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 hoher Qualität und Funktionalität einzufüh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etet on top dem Kunden release-feste Add-On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r Einführung 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B8B8-D032-412D-A176-4D1A2DFF614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F59F-A548-456B-AE11-415E6D7137F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129528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P R/3 Workshop der </a:t>
            </a:r>
            <a:br>
              <a:rPr sz="3200"/>
            </a:br>
            <a:r>
              <a:rPr b="1" lang="en-US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l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kfurt Marriott Hote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.02.2001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E88-7BA8-4007-AEC2-B8C93AABF04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ntrale Rezepturdatenbank und -verwaltung zur Verwaltung aller Entwicklungs- und Produktions-rezepturen - ein geplantes Add-On, das in das SAP R/3-System voll integriert is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LIM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- das einzige integrierte LIM-System im SAP R/3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satz des SAP R/3-Moduls Projektsystem (PS) in Verbindung mit dem </a:t>
            </a: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LIM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und der </a:t>
            </a: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Rezeptur-verwaltung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in der Forschung und 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143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12D8-FE76-4ED9-94B9-2973E129D2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Kundendatenbank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 SAP R/3-Syste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iterentwicklungen von </a:t>
            </a: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rzer Überblick über Weiterentwicklungen, wie z. B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ellanforderungen über Intra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ellungen über Interne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143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8378-BD9B-4C08-8C6D-3878E50CEB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ulting wurde am 1. Juli 1996 von Dr. Jochen Winkler gegründe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 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1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5516-8286-4233-8152-27002E3D08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3047760"/>
            <a:ext cx="441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m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zi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29528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ternehmensausricht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5A32-0315-4744-A369-082BE5A737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SM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-Hüls AG / SG Sivento, Rheinfel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Kunststoff GmbH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143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B7C-CA67-4627-AE39-92A04ED53C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pharma GmbH &amp; Co., Gerli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 / SG Creanova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211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EFC3-BDF7-4C0B-B757-149422F01A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 / SG Sivento, Rheinfel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ion in gemeinsames Chemie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iertes LI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splanung, -durchführung und -ab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 / SG Creanova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M für Lackrohsto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S für Technische Kunststo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295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kte 2000/2001 - Chem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C496-FB6A-4151-94AC-4494A20CB3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dhaltungsabwicklung (Mitarbeit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utsche Amphibolin Werke, Ober-Ramstad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schung und Entwick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066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kte 2000/2001 - Chem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123A-02CB-4426-A89F-EDD1FF0557A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1-02-16T21:37:32Z</dcterms:modified>
  <cp:revision>59</cp:revision>
  <dc:subject/>
  <dc:title>Kein Folientitel</dc:title>
</cp:coreProperties>
</file>