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2440" y="379008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676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0580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5952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5244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0580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5952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52440" y="380880"/>
            <a:ext cx="8439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676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190440" indent="-1904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47720" y="914400"/>
            <a:ext cx="7398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38360" y="9144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990720"/>
            <a:ext cx="83916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19800" y="6391440"/>
            <a:ext cx="79416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Seite </a:t>
            </a:r>
            <a:fld id="{8F6AEE48-ADCB-40F7-841A-DF7D89D316DC}" type="slidenum">
              <a:rPr b="0" lang="de-D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19320" y="6391440"/>
            <a:ext cx="60660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5.01.200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776600" y="6391440"/>
            <a:ext cx="62208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urt Fant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82080" y="6391440"/>
            <a:ext cx="45720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jwLIM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85280" y="6183360"/>
            <a:ext cx="551880" cy="525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9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3100" spc="-1" strike="noStrike">
                <a:solidFill>
                  <a:srgbClr val="000000"/>
                </a:solidFill>
                <a:latin typeface="Arial Black"/>
              </a:rPr>
              <a:t>SAP R/3 QM 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 Black"/>
              </a:rPr>
              <a:t>Workshop</a:t>
            </a:r>
            <a:br>
              <a:rPr sz="3100"/>
            </a:b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der</a:t>
            </a:r>
            <a:br>
              <a:rPr sz="3100"/>
            </a:br>
            <a:r>
              <a:rPr b="0" lang="de-DE" sz="31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3100" spc="-1" strike="noStrike">
                <a:solidFill>
                  <a:srgbClr val="000000"/>
                </a:solidFill>
                <a:latin typeface="Arial Black"/>
              </a:rPr>
              <a:t>consulting</a:t>
            </a:r>
            <a:br>
              <a:rPr sz="2000"/>
            </a:br>
            <a:br>
              <a:rPr sz="20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Frankfurt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5.01.2001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eitere Bereiche (I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mweltschut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iodisches, automatisches Anlegen von Prob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stellen von Berich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standhaltung (P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üfmittelverwaltung innerhalb Q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4572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alibrierplan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4572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alibrieraufträ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4572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alibrierprüf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spektionsplanung und -abwicklung innerhalb PM mittels Prüfaufträgen in Q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eitere Bereiche (II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tomatische Prüfkostenabrechnung über alle Prob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SO- und GMP-kompatib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sicherhei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chiv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griffsschutz / Berechtig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dit-Trail-Funk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eitere Bereiche (III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D / FI voll integrierte Abwicklung für Dienstleistungslabore (in Entwicklu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ung der SAP-Stammdaten für Kunden, Lieferanten, 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ung der SAP-Funktionen zur Preisfind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ung der SAP-Funktionen für Anfragen, Angebote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träge (bei Bedarf über Meta-Transaktione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ung der LIMS-Funktionen für Proben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bindung von Kunden über Intra- und Intern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tegrierte Abwicklung für Dienstleistungslabo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utzung der SAP-Stammdat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traggeber, Warenempfänger, Transporteure, Lieferanten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cherheitsdatenbank (EH&amp;S), 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utzung der LIMS / SAP-Funktionen zur Preisfind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eistungsverzeichnisse der Labore, Rabatte, Preislisten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ahmenverträge, 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utzung der SAP-Funktionen für Anfragen, Angebote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träge (bei Bedarf über Meta-Transaktion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über SAP-Standard oder über eigene Objekte mit Übergabe 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AP zur Rechnungserstellung, ..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tegrierte Abwicklung für Dienstleistungslabo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utzung der SAP/LIMS-Funktionen für Proben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flege der benötigten Stammdaten wie Merkmale, Methoden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üfpläne, Prüfmittel, .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benregistrierung, Probenverteilung, Ergebniserfassung,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eistungserfassung, Statusverwaltung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ssourcen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bindung von Kunden über Intra- und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gebot, Auftragsbestätigung, Ergebnisse, Rechnung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erbung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folgsfaktoren bei der Realisieru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fbau auf einem erprobten Prototy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ranchen Know-H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fahrenes, eingespieltes Beratertea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aximale Unterstützung durch Kun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sprinzipien (I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eine Modifikation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lle Releasefähigk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ffektive Modellierung komplexer technologischer Prozes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rennung Oberfläche von  Daten und Fun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nutzerdefinierte Menüs und Mask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sführliche Funktions- und Anwendungsdokument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sprinzipien (II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ation der Geschäftsprozesse (z.B. LIM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öglichst Vermeidung von bidirektionalen Kopplung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isierte Einbindung von Pre- und Postprozesso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etzwerke von Systemen (ALE/IDOC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zenten (z.B. Chemiewer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leister (z.B. Zentraleinkauf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n, Lieferan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wicklung aller anfallenden Prüf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reigabe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zessbegleitende 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mwelt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orschungs- und Entwicklungs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nder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remdmuster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rücksichtigung von Nachweis- un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stimmungsgrenzen bei der Ergebniserfas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knüpfen von beliebigen Dokumenten mit Merkmal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d / oder Prob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edundanzfreie Q-Sicht auf Bestän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entrale Datenh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urchgängig probenbezogene Prüf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benregistri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ben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ben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ssourcen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mfassende Such- und Auswertefunk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P R/3 QM Worksh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95280"/>
            <a:ext cx="8077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rfolgsfaktoren für S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Voraussetzungen für ein integriertes SAP-L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nforderungen an ein solches L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rfolgsfaktoren für die Einfüh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ntwicklungsprinzipien </a:t>
            </a:r>
            <a:r>
              <a:rPr b="0" lang="de-DE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unktionalität</a:t>
            </a: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5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ufbau</a:t>
            </a: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5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skuss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dit-Trail-Fun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griffsschutz / Datensicherh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benahmepla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abellarische Werteerfas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pezifikations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tomatische Prüfkostenabrech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V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tomatischer Zertifikatsdruc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gleich aller Bestände bei Spezifikationsänder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 ungeplanten Proben sind alle Prüfparameter bis zur Ergebniseingabe modifizi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üfumfang ungeplanter Proben kann aus allen Prüfplänen und / oder Spezifikationen frei zusammengestellt werd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üfung (VE) gegen alle Spezifikationen eines Stoff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rstellung des Verwendungsentscheids für alle Spezifikationen eines Stoff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V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weiterte Funktionen zur Nachuntersuchung (MHD)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ierte Änderungsfunktion für Haltbark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üfrhythmen für alle Merkmale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tomatischer, periodischer Prüfanstoß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Lotbildung, mit automatischer Mittelwertberechnung der Prüfwerte und automatischen Materialumbuchu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ariable Validierung von Ergebnissen und Prob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V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71360" indent="-1713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teilte Prüfungen über mehrere Labo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wicklung fremdvergebener Prüf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ückstellmuster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waltung von Hilfsstoffen und Reagenzi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lanung, Verwaltung und Durchführung von Frei- und / Schnellbewitterungen sowie Objektmonitorin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nschluß von Meßgeräten / Barcodeleser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üfmittel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7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r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7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alibr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bau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1295280"/>
            <a:ext cx="8077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ammdaten in SAP Standardtabell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pezifikationen sind als SAP Prüfpläne zum Stoff abgebild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lle relevanten Daten zur Spezifikation ,d.h. auch die Zertifikatsrelevanz, werden zentral im Prüfplan gepfleg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pezifikationen können an beliebige Objekte geknüpft we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ngrup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ä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bau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295280"/>
            <a:ext cx="8077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urchgängige Spezifikationsverarbeit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ordnung Stoff / Spezifikation zum Kun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tomatische Spezifikationsermittlung im Auftrag (Auswahl bei fehlender Eindeutigke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mplette VE-Info über alle verfügbaren Spezifikationen in allen Bestandssich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zifikation und / oder Kunde als zusätzliches Selektionskriterium in den Bestandssich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tomatische Chargenfindung in der Lief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tomatische Verwendbarkeitsprüfung von Chargen in der Lief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bau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295280"/>
            <a:ext cx="8076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ertifikatserstell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ur eine Vorlag je Zertifikatstyp notwendig                (Ausnahme =&gt; Zertifikat mit Daten aus der Produktionsket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verse Add-Ons und Zusatzfunktionen zur Zertifikatserstellung verfüg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22860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nuell mit Zusatz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22860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usammenfassung von Prüfwer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22860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ochen- oder Monatszertifikate mit Kennwertberechn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melden Freigabeprob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39543"/>
          <a:stretch/>
        </p:blipFill>
        <p:spPr>
          <a:xfrm>
            <a:off x="304920" y="1066680"/>
            <a:ext cx="8610480" cy="514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melden Sonderprob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20490"/>
          <a:stretch/>
        </p:blipFill>
        <p:spPr>
          <a:xfrm>
            <a:off x="380880" y="1066680"/>
            <a:ext cx="830592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melden Sonderprobe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meterauswahl 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9230"/>
          <a:stretch/>
        </p:blipFill>
        <p:spPr>
          <a:xfrm>
            <a:off x="380880" y="1066680"/>
            <a:ext cx="8382240" cy="50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um wird  SAP R/3 eingesetzt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880" y="914400"/>
          <a:ext cx="845820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4582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rteeingabe Sonderprobe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595"/>
          <a:stretch/>
        </p:blipFill>
        <p:spPr>
          <a:xfrm>
            <a:off x="380880" y="1066680"/>
            <a:ext cx="8458200" cy="51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uelle Zertifikat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31732" b="0"/>
          <a:stretch/>
        </p:blipFill>
        <p:spPr>
          <a:xfrm>
            <a:off x="380880" y="685800"/>
            <a:ext cx="838224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sgewählte Funktionen </a:t>
            </a:r>
            <a:r>
              <a:rPr b="1" lang="de-DE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elektionsmask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38810"/>
          <a:stretch/>
        </p:blipFill>
        <p:spPr>
          <a:xfrm>
            <a:off x="554040" y="1295280"/>
            <a:ext cx="8034480" cy="477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sgewählte Funktionen </a:t>
            </a:r>
            <a:r>
              <a:rPr b="1" lang="de-DE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Listauswert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gewählte Funktionen </a:t>
            </a:r>
            <a:r>
              <a:rPr b="1" lang="en-US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P-Schnellgraf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3059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gewählte Funktionen </a:t>
            </a:r>
            <a:r>
              <a:rPr b="1" lang="en-US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CEL-Graf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49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teile des integriert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AP-LIMS 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ichere Produktionsstarts durch Aufbau auf Prototy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urze Einführungszei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dividuelle Funktionalitä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meidung von Schnittstell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eine Datenredundanz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nheitliche Datenba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teile des integriert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AP-LIMS (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zusätzliche Soft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zusätzliche Hard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e Masken, aber Standard SAP Oberflä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e Bedie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weiterbark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gebn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 an die individuellen Prozesse und Bedürfnisse des Kunden angepaßtes System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ttel- und langfristig erheblichen Kostenvorteil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3100" spc="-1" strike="noStrike">
                <a:solidFill>
                  <a:srgbClr val="000000"/>
                </a:solidFill>
                <a:latin typeface="Arial Black"/>
              </a:rPr>
              <a:t>SAP R/3 QM 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 Black"/>
              </a:rPr>
              <a:t>Workshop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der</a:t>
            </a:r>
            <a:br>
              <a:rPr sz="3100"/>
            </a:br>
            <a:r>
              <a:rPr b="0" lang="de-DE" sz="31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3100" spc="-1" strike="noStrike">
                <a:solidFill>
                  <a:srgbClr val="000000"/>
                </a:solidFill>
                <a:latin typeface="Arial Black"/>
              </a:rPr>
              <a:t>consulting </a:t>
            </a:r>
            <a:br>
              <a:rPr sz="2000"/>
            </a:br>
            <a:br>
              <a:rPr sz="20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Frankfurt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5.08.20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um wird  SAP R/3 eingesetzt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andardsoft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deckung aller Geschäftsprozes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ternehmensweite einheitliche Datenba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nehmensweite Integ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konsisten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e ungewollten Redundanz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um wird  SAP R/3 eingesetzt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120" y="1294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urchgängige Transparenz der Prozes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ptimierung von Proze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utzung von Synergi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ostenreduzi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nittste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nstige lfd. Ko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um wird  SAP R/3 eingesetzt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120" y="12949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ffizienzsteig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einfachung von technologischen Upgrad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fügbarkeit und Qualität von Informationen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 den gesamten Produktlebenszykl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lang des gesamten primären logistischen Proz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aussetzungen für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terstützung aller unternehmensweit anfallenden Anforderu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urzfristig verfüg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kunftssicheres Konzep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zahlba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dienba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weit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reich Logisti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deckung alle benötigten Prüfar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wachung und Anpassung Haltbarkei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eferantenbeurteilung aus Q-S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llen und Bearbeiten v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eferantenreklama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undenreklama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ternen Problemmeld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zifikationserstellung und -bearbei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zifikationsverw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reich Forschung &amp; Entwick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fache und flexible Probenerstel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führung von Frei- und / Schnellbewitterungen sowie Objektmonito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fache Verwaltung von allen nicht in SAP zu führenden Materialien wie Hilfsstoffen und Reagenz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bilitäts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1T16:24:12Z</dcterms:created>
  <dc:creator>HISS-Nr.:62450</dc:creator>
  <dc:description/>
  <dc:language>en-US</dc:language>
  <cp:lastModifiedBy>Dr. Jochen Winkler</cp:lastModifiedBy>
  <cp:lastPrinted>1998-06-23T09:46:52Z</cp:lastPrinted>
  <dcterms:modified xsi:type="dcterms:W3CDTF">2001-01-26T15:03:37Z</dcterms:modified>
  <cp:revision>160</cp:revision>
  <dc:subject/>
  <dc:title>Intergriertes SAP R/3 LIMS</dc:title>
</cp:coreProperties>
</file>