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75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04520" y="609120"/>
            <a:ext cx="7643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04520" y="609120"/>
            <a:ext cx="7643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533520"/>
            <a:ext cx="7837560" cy="571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04520" y="60912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DHrot66" descr=""/>
          <p:cNvPicPr/>
          <p:nvPr/>
        </p:nvPicPr>
        <p:blipFill>
          <a:blip r:embed="rId2"/>
          <a:stretch/>
        </p:blipFill>
        <p:spPr>
          <a:xfrm>
            <a:off x="7097760" y="6459480"/>
            <a:ext cx="1353960" cy="2462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614520" y="6491160"/>
            <a:ext cx="5475240" cy="335160"/>
            <a:chOff x="614520" y="6491160"/>
            <a:chExt cx="5475240" cy="335160"/>
          </a:xfrm>
        </p:grpSpPr>
        <p:sp>
          <p:nvSpPr>
            <p:cNvPr id="7" name=""/>
            <p:cNvSpPr/>
            <p:nvPr/>
          </p:nvSpPr>
          <p:spPr>
            <a:xfrm>
              <a:off x="614520" y="6491160"/>
              <a:ext cx="647640" cy="33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ite </a:t>
              </a:r>
              <a:fld id="{5961AA3A-EF0F-407E-8481-B7CB7C2EC0AA}" type="slidenum"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20840" y="6491160"/>
              <a:ext cx="762120" cy="21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5.01.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46320" y="6491160"/>
              <a:ext cx="1371600" cy="21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jw-Worksh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75160" y="6491160"/>
              <a:ext cx="2514600" cy="21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P-QM im Lab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8560" y="539640"/>
            <a:ext cx="7837560" cy="578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Hrot66" descr=""/>
          <p:cNvPicPr/>
          <p:nvPr/>
        </p:nvPicPr>
        <p:blipFill>
          <a:blip r:embed="rId2"/>
          <a:stretch/>
        </p:blipFill>
        <p:spPr>
          <a:xfrm>
            <a:off x="7238880" y="6448320"/>
            <a:ext cx="1263600" cy="22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280" y="184320"/>
            <a:ext cx="1152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Sig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147600"/>
            <a:ext cx="2176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GB/ZB/GG/Abtei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abor-Kennzahlen für den Bereich Silane Rheinfelden 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30 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tragg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5 % Analysen für Produktionskontrolle, Frei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 % Analysen für Umwelt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 % Analysen für For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20000 Proben/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100000 Parameter/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250 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 1000 Prüfplä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. 900 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9120" y="1728720"/>
            <a:ext cx="7507080" cy="4343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k-Funktionalitä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are Definition aller Kundenanforderungen im Versandauftrag durch Hinterlegung von Spezifikationen, die den einzelnen Kunden in den Stammdaten zugeordnet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 Ermittlung des Freigabestatus von Chargen durch Bewertung der Ergebnisse gegen alle 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stellung des Freigabestatus in Bestandssichten bzw. Verhinderung der Auslieferung nicht geeigneter 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achung der Haltbar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 Erstellung von Zeugnissen bei der Kommissionierung (mit optischem Arch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1850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fassende Spezifikationsverwaltung mit Freigabeabgleich bei Än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09680" y="2286000"/>
            <a:ext cx="304920" cy="763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5334120"/>
            <a:ext cx="762120" cy="152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strukt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wesentlichen Stammdaten sind alle in Standard-SAP-Tabellen, die nicht verändert w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Logistik-relevanten Abläufe basieren auf SAP-Datenstrukturen bzw. -funkt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roduktcharge ist im Mittelpun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ie LIMS-Funktionalitäten waren inklusive der Bewe-gungsdaten nur zwölf zusätzliche Tabellen not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Übertragung der Lösung auf den Zentralrechner der Degussa-Hüls sind Chargenmanagement und LIMS-Funktionalitäten auch für andere Geschäftsbereiche verfüg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trukturen sind so gestaltet, daß sie auch für globale Anforderungen (verteilte Standorte, Läger, Labors) geeign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Reihe von Zusatzmöglichkeiten sind angedacht bzw. vorbereitet, aber mangels Bedarf nicht realisiert (z.B. Geräteanbindung, Dokumenteneinbind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aborkennzahlen für den Bereich Silane Rheinfelden (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2287440"/>
            <a:ext cx="6096240" cy="37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heutige Stand wurde in drei Teilschritten erre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 bei Hüls Silikone GmbH in Nünchritz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erpunkt Chargen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 bei Sivento Chemie Rheinfeld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erpunkt LIMS und Sonderpro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jekt CHARME bei Degussa-Hüls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erpunkt Optimierung der Datenstrukturen, Transfer auf Zentralrech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tersuchte Varianten im Feinkonzept L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bindung eines neuen LIMS mit zertifizierter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: Volle LIMS-Funktion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a: Hohe Kosten, Realisierung innerhalb der Projektzeit nicht möglich, Schnittstellenrisi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bindung des vorhandenen L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: Volle LIMS-Funktional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a: Minimal-Schnittstelle, Schnittstellenrisi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SAP ohne LI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mit integriertem L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: Volle LIMS-Funktionalität, keine Schnittstelle (Release-wechsel), keine doppelten Stammdaten, System durchgäng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18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a: Aufwand, Komplex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der Projekt-Lei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fassende Einbindung in den Logistik-Proze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Veränderung von SAP-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Schnitt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mmdaten soweit möglich in SAP-Tab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S-Funktionalitä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ildung auch komplexerer Laborstrukturen (Unteraufträ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ache Probenanmeldung durch den Auftragg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geplante Proben keine Merkmalsauswahl, sondern Bezug auf Prüfpläne; für diese Proben müssen somit nur zwei bis drei Eingabefelder befüll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ugnahme auf Versandauftrags-Daten bei Freigabepro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sches Generieren des Prüfumfa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ungeplanten Proben Auswahl von Merkmalen im Klar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pieren von allen Prüfplänen bei ungeplanten Pro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stellung des Leistungsverzeichnisses der La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norientiertes Arbeiten (separate Probennu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9120" y="1728720"/>
            <a:ext cx="75927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9120" y="1728720"/>
            <a:ext cx="750708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0" y="2514600"/>
            <a:ext cx="1219320" cy="152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4520" y="685440"/>
            <a:ext cx="76438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P-QM im Labor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666880"/>
            <a:ext cx="1676520" cy="1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S-Funktionalitä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rteeingabe im 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usibilitätsprü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zeige von Grenzwertfehl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lbere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e für Probe und Einzelmerk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nderungsbelege für alle Probe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ilität bei ungeplanten Proben (z.B. Nachkommastellen, zusätzliche Merkmale, Dimension, Kos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fassendes Berechtigungskonz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en aller Art (Probenlisten, Statis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sche Kostenverrechnung am Monats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2:58:21Z</dcterms:created>
  <dc:creator>Krieger</dc:creator>
  <dc:description/>
  <dc:language>en-US</dc:language>
  <cp:lastModifiedBy>Dr. Jochen Winkler</cp:lastModifiedBy>
  <cp:lastPrinted>2001-01-23T18:13:36Z</cp:lastPrinted>
  <dcterms:modified xsi:type="dcterms:W3CDTF">2001-02-01T21:23:59Z</dcterms:modified>
  <cp:revision>11</cp:revision>
  <dc:subject/>
  <dc:title>SAP-QM im Labor</dc:title>
</cp:coreProperties>
</file>