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44D96A7-3F99-449B-B790-9D107D8E13B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egenwärtige</a:t>
            </a:r>
            <a:r>
              <a:rPr b="0" lang="de-DE" sz="32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1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ap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ML Browser – Webserver –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cree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 – Menge – Ter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kal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weichender Auftragge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8120" y="1439640"/>
            <a:ext cx="35812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2C Kundenaufträge über WAP-Han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Gegenwärtige</a:t>
            </a:r>
            <a:r>
              <a:rPr b="0" lang="de-DE" sz="32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1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50796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AP 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2920" y="1608120"/>
            <a:ext cx="8502840" cy="5673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3" marL="14605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06840" y="2209680"/>
          <a:ext cx="539928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6840" y="2209680"/>
                    <a:ext cx="539928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96_0306a" descr=""/>
          <p:cNvPicPr/>
          <p:nvPr/>
        </p:nvPicPr>
        <p:blipFill>
          <a:blip r:embed="rId3">
            <a:lum bright="70000" contrast="-70000"/>
          </a:blip>
          <a:srcRect l="0" t="0" r="0" b="14130"/>
          <a:stretch/>
        </p:blipFill>
        <p:spPr>
          <a:xfrm>
            <a:off x="0" y="2209680"/>
            <a:ext cx="4954680" cy="5166000"/>
          </a:xfrm>
          <a:prstGeom prst="rect">
            <a:avLst/>
          </a:prstGeom>
          <a:ln w="0">
            <a:noFill/>
          </a:ln>
        </p:spPr>
      </p:pic>
      <p:pic>
        <p:nvPicPr>
          <p:cNvPr id="172" name="X" descr=""/>
          <p:cNvPicPr/>
          <p:nvPr/>
        </p:nvPicPr>
        <p:blipFill>
          <a:blip r:embed="rId4"/>
          <a:stretch/>
        </p:blipFill>
        <p:spPr>
          <a:xfrm>
            <a:off x="1403280" y="5079960"/>
            <a:ext cx="1683000" cy="1322280"/>
          </a:xfrm>
          <a:prstGeom prst="rect">
            <a:avLst/>
          </a:prstGeom>
          <a:ln w="0">
            <a:noFill/>
          </a:ln>
        </p:spPr>
      </p:pic>
      <p:pic>
        <p:nvPicPr>
          <p:cNvPr id="173" name="X" descr=""/>
          <p:cNvPicPr/>
          <p:nvPr/>
        </p:nvPicPr>
        <p:blipFill>
          <a:blip r:embed="rId5"/>
          <a:stretch/>
        </p:blipFill>
        <p:spPr>
          <a:xfrm>
            <a:off x="247680" y="2201760"/>
            <a:ext cx="2022480" cy="1555920"/>
          </a:xfrm>
          <a:prstGeom prst="rect">
            <a:avLst/>
          </a:prstGeom>
          <a:ln w="0">
            <a:noFill/>
          </a:ln>
        </p:spPr>
      </p:pic>
      <p:pic>
        <p:nvPicPr>
          <p:cNvPr id="174" name="x" descr=""/>
          <p:cNvPicPr/>
          <p:nvPr/>
        </p:nvPicPr>
        <p:blipFill>
          <a:blip r:embed="rId6"/>
          <a:stretch/>
        </p:blipFill>
        <p:spPr>
          <a:xfrm>
            <a:off x="5613480" y="4656240"/>
            <a:ext cx="1568520" cy="1555560"/>
          </a:xfrm>
          <a:prstGeom prst="rect">
            <a:avLst/>
          </a:prstGeom>
          <a:ln w="0">
            <a:noFill/>
          </a:ln>
        </p:spPr>
      </p:pic>
      <p:pic>
        <p:nvPicPr>
          <p:cNvPr id="175" name="x" descr=""/>
          <p:cNvPicPr/>
          <p:nvPr/>
        </p:nvPicPr>
        <p:blipFill>
          <a:blip r:embed="rId7"/>
          <a:stretch/>
        </p:blipFill>
        <p:spPr>
          <a:xfrm>
            <a:off x="7512120" y="2201760"/>
            <a:ext cx="1898640" cy="1627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63880" y="270972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91280" y="2709720"/>
            <a:ext cx="189864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SAP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733400" y="3385800"/>
            <a:ext cx="6337440" cy="127620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60240" y="3471840"/>
            <a:ext cx="330480" cy="95400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155240" y="3471480"/>
            <a:ext cx="1320840" cy="1608120"/>
          </a:xfrm>
          <a:prstGeom prst="line">
            <a:avLst/>
          </a:prstGeom>
          <a:ln w="38160">
            <a:solidFill>
              <a:srgbClr val="96c09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38960" y="3471480"/>
            <a:ext cx="1650960" cy="110340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8667720" y="3471840"/>
            <a:ext cx="247680" cy="101592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320840" y="3385800"/>
            <a:ext cx="4292640" cy="1947960"/>
          </a:xfrm>
          <a:prstGeom prst="line">
            <a:avLst/>
          </a:prstGeom>
          <a:ln w="28440">
            <a:solidFill>
              <a:srgbClr val="96c0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556080"/>
            <a:ext cx="1800" cy="3663720"/>
          </a:xfrm>
          <a:prstGeom prst="line">
            <a:avLst/>
          </a:prstGeom>
          <a:ln cap="rnd" w="38160">
            <a:solidFill>
              <a:srgbClr val="96c09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2116080"/>
            <a:ext cx="1820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Company/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Organization</a:t>
            </a:r>
            <a:br>
              <a:rPr sz="1800"/>
            </a:br>
            <a:r>
              <a:rPr b="1" lang="en-US" sz="1800" spc="-1" strike="noStrike">
                <a:solidFill>
                  <a:srgbClr val="96c09f"/>
                </a:solidFill>
                <a:latin typeface="Arial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79720" y="3048120"/>
            <a:ext cx="2229120" cy="0"/>
          </a:xfrm>
          <a:prstGeom prst="line">
            <a:avLst/>
          </a:prstGeom>
          <a:ln w="28440">
            <a:solidFill>
              <a:srgbClr val="ffde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X" descr=""/>
          <p:cNvPicPr/>
          <p:nvPr/>
        </p:nvPicPr>
        <p:blipFill>
          <a:blip r:embed="rId8"/>
          <a:stretch/>
        </p:blipFill>
        <p:spPr>
          <a:xfrm>
            <a:off x="165240" y="4487760"/>
            <a:ext cx="1547640" cy="1386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 flipH="1">
            <a:off x="8089920" y="4487760"/>
            <a:ext cx="1612800" cy="135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251400" y="5700600"/>
            <a:ext cx="166392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6603840"/>
            <a:ext cx="335592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company context</a:t>
            </a:r>
            <a:r>
              <a:rPr b="1" lang="en-US" sz="15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95920" y="6603840"/>
            <a:ext cx="3349800" cy="556920"/>
          </a:xfrm>
          <a:prstGeom prst="rect">
            <a:avLst/>
          </a:prstGeom>
          <a:solidFill>
            <a:srgbClr val="c0c0c0"/>
          </a:solidFill>
          <a:ln w="9360">
            <a:solidFill>
              <a:srgbClr val="96c09f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and services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pany context</a:t>
            </a:r>
            <a:r>
              <a:rPr b="1" lang="en-US" sz="1500" spc="-1" strike="noStrike">
                <a:solidFill>
                  <a:srgbClr val="96969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41680" y="3809880"/>
            <a:ext cx="174600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9920" y="5672160"/>
            <a:ext cx="1663560" cy="37476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7720" y="5545080"/>
            <a:ext cx="1663560" cy="649080"/>
          </a:xfrm>
          <a:prstGeom prst="rect">
            <a:avLst/>
          </a:prstGeom>
          <a:solidFill>
            <a:srgbClr val="96c09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Karen" descr=""/>
          <p:cNvPicPr/>
          <p:nvPr/>
        </p:nvPicPr>
        <p:blipFill>
          <a:blip r:embed="rId10"/>
          <a:stretch/>
        </p:blipFill>
        <p:spPr>
          <a:xfrm>
            <a:off x="0" y="2031840"/>
            <a:ext cx="1208160" cy="1108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035680" y="7348680"/>
            <a:ext cx="3962160" cy="2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 Rounded MT Bold"/>
              </a:rPr>
              <a:t>Quelle: © SAP 1999 Peter Graf (TechEd 99, Philaelphi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0520" y="30492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057400"/>
            <a:ext cx="8750160" cy="14400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548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Einkau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6760" y="2793960"/>
            <a:ext cx="17334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9720" y="279396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7160" y="2286000"/>
            <a:ext cx="2889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048120"/>
            <a:ext cx="907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26040" y="3048120"/>
            <a:ext cx="9907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962520"/>
            <a:ext cx="8750160" cy="169380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7920" y="4317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2000" y="4826160"/>
            <a:ext cx="214632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14840" y="4826160"/>
            <a:ext cx="2889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7920" y="482616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095880"/>
            <a:ext cx="8750160" cy="762120"/>
          </a:xfrm>
          <a:prstGeom prst="rect">
            <a:avLst/>
          </a:prstGeom>
          <a:solidFill>
            <a:srgbClr val="83ed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2240" y="3301920"/>
            <a:ext cx="0" cy="152424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03840" y="5079960"/>
            <a:ext cx="5781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301560" y="507996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98640" y="5249880"/>
            <a:ext cx="6480" cy="8460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245360"/>
            <a:ext cx="200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240" y="5587920"/>
            <a:ext cx="8750520" cy="14400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Vertri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6265800"/>
            <a:ext cx="214632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Auftr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672160"/>
            <a:ext cx="28890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SAP R/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360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3386160"/>
            <a:ext cx="8750520" cy="1693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3471840"/>
            <a:ext cx="6356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8840" y="4148280"/>
            <a:ext cx="14032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Rul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2040" y="4148280"/>
            <a:ext cx="206388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ackage K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480" y="4148280"/>
            <a:ext cx="239400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XML 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240" y="2116080"/>
            <a:ext cx="8750520" cy="76212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8640" y="2878200"/>
            <a:ext cx="0" cy="127008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95920" y="4402080"/>
            <a:ext cx="41292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1948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420040" y="4572000"/>
            <a:ext cx="0" cy="1693800"/>
          </a:xfrm>
          <a:prstGeom prst="line">
            <a:avLst/>
          </a:prstGeom>
          <a:ln w="25560">
            <a:solidFill>
              <a:srgbClr val="ffde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4148280"/>
            <a:ext cx="1320840" cy="42372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2120" y="4402080"/>
            <a:ext cx="41256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3840" y="6265800"/>
            <a:ext cx="2476800" cy="507960"/>
          </a:xfrm>
          <a:prstGeom prst="rect">
            <a:avLst/>
          </a:prstGeom>
          <a:solidFill>
            <a:srgbClr val="f7fa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IDoc-Einga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137040" y="6519960"/>
            <a:ext cx="660240" cy="0"/>
          </a:xfrm>
          <a:prstGeom prst="line">
            <a:avLst/>
          </a:prstGeom>
          <a:ln w="25560">
            <a:solidFill>
              <a:srgbClr val="f7fa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922032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blick über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Entwicklung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Proj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Bestellungen über Internet (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Kundenaufträge über WAP-Hand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1-25T07:27:16Z</dcterms:modified>
  <cp:revision>331</cp:revision>
  <dc:subject/>
  <dc:title>Kein Folientitel</dc:title>
</cp:coreProperties>
</file>