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9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246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AA905-3DF3-4E2B-AC60-4B06D161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566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315680"/>
            <a:ext cx="83566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5BA21-D8B8-4165-B2DB-1D554CE0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8680" y="228564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31568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8680" y="431568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D33C0-34A0-4893-973F-BEF9EC92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26906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85640"/>
            <a:ext cx="26906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8120" y="2285640"/>
            <a:ext cx="26906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315680"/>
            <a:ext cx="26906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315680"/>
            <a:ext cx="26906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8120" y="4315680"/>
            <a:ext cx="26906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058A-E8AB-448B-9FF3-1FF3591B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C3F50-62A1-4D1F-91FE-59A35AC0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2285640"/>
            <a:ext cx="8356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4CD7D-BA56-4836-B086-5286E77E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566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72E49-FA0F-41AA-ADCA-6BEA8B00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077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8680" y="2285640"/>
            <a:ext cx="4077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52609-4A32-4E75-8F75-82A57045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5E4C4-CCA4-40A9-AB56-F5BF2BB4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3566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AC307-E30D-4727-8E5C-66938D02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8680" y="2285640"/>
            <a:ext cx="4077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31568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0D398-EAF7-4AA5-8567-B4B801C1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285640"/>
            <a:ext cx="8356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F4912-9A8A-49C2-800D-77974C64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077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8680" y="228564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38680" y="431568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D327E-FB83-4F4E-9135-AE0DB58F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38680" y="228564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315680"/>
            <a:ext cx="83566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34EF9-DE90-4C94-B6D8-6302EE48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566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315680"/>
            <a:ext cx="83566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8F1F4-A58B-486F-B657-A8A2CCA9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8680" y="228564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31568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38680" y="431568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7BB31-1B71-49ED-BA48-7F7D578D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26906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2480" y="2285640"/>
            <a:ext cx="26906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8120" y="2285640"/>
            <a:ext cx="26906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315680"/>
            <a:ext cx="26906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2480" y="4315680"/>
            <a:ext cx="26906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8120" y="4315680"/>
            <a:ext cx="26906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28937-1D1F-4414-A0AD-022F54C5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566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20AA-5207-4F10-8956-9FF08170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077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8680" y="2285640"/>
            <a:ext cx="4077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BEB06-D559-4A70-8598-85F93BB3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182F3-2C1A-4003-8CEE-03BA4FB3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3566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4FCB2-AFE7-421C-A5E2-D8BFCF2C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8680" y="2285640"/>
            <a:ext cx="4077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31568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BB52D-EDE3-4017-977F-99E6E646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077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8680" y="228564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8680" y="431568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57BCD-CC94-43A5-8927-E7D9A523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8680" y="2285640"/>
            <a:ext cx="40777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315680"/>
            <a:ext cx="835668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58E72-BD1D-4BAA-97E4-8A7A6720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285640"/>
            <a:ext cx="8356680" cy="3886200"/>
          </a:xfrm>
          <a:prstGeom prst="rect">
            <a:avLst/>
          </a:prstGeom>
          <a:solidFill>
            <a:srgbClr val="dc9ac1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d60093"/>
              </a:buClr>
              <a:buSzPct val="6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99c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54840" y="6436800"/>
            <a:ext cx="985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3b3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E69C-1BC0-42E3-A2BB-3166C519F3E1}" type="datetime">
              <a:rPr b="0" lang="de-DE" sz="800" spc="-1" strike="noStrike">
                <a:solidFill>
                  <a:srgbClr val="003b3b"/>
                </a:solidFill>
                <a:latin typeface="Arial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625480" y="6436800"/>
            <a:ext cx="6332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3b3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b3b"/>
                </a:solidFill>
                <a:latin typeface="Arial"/>
              </a:rPr>
              <a:t>Seite </a:t>
            </a:r>
            <a:fld id="{6B017E56-5B16-4C3E-A4E4-C49FD0F9EF0B}" type="slidenum">
              <a:rPr b="0" lang="de-DE" sz="800" spc="-1" strike="noStrike">
                <a:solidFill>
                  <a:srgbClr val="003b3b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485280" y="6437160"/>
            <a:ext cx="2109960" cy="27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3b3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b3b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003b3b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SLOG" descr=""/>
          <p:cNvPicPr/>
          <p:nvPr/>
        </p:nvPicPr>
        <p:blipFill>
          <a:blip r:embed="rId2"/>
          <a:stretch/>
        </p:blipFill>
        <p:spPr>
          <a:xfrm>
            <a:off x="7315200" y="444600"/>
            <a:ext cx="1579680" cy="606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80880" y="6400800"/>
            <a:ext cx="8534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838080"/>
            <a:ext cx="6934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8960" y="1676160"/>
            <a:ext cx="796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954840" y="6409800"/>
            <a:ext cx="985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B0B0-0BF8-4113-8FCE-8238F622324C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2625480" y="6409800"/>
            <a:ext cx="6332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FE95AB90-903C-4567-A0E8-424A6D47F50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485280" y="6418080"/>
            <a:ext cx="2109960" cy="27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066680"/>
            <a:ext cx="8534160" cy="0"/>
          </a:xfrm>
          <a:prstGeom prst="line">
            <a:avLst/>
          </a:prstGeom>
          <a:ln w="50760">
            <a:solidFill>
              <a:srgbClr val="e000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LOGO0497" descr=""/>
          <p:cNvPicPr/>
          <p:nvPr/>
        </p:nvPicPr>
        <p:blipFill>
          <a:blip r:embed="rId2"/>
          <a:stretch/>
        </p:blipFill>
        <p:spPr>
          <a:xfrm>
            <a:off x="7058160" y="181080"/>
            <a:ext cx="1792080" cy="500040"/>
          </a:xfrm>
          <a:prstGeom prst="rect">
            <a:avLst/>
          </a:prstGeom>
          <a:ln w="0">
            <a:noFill/>
          </a:ln>
        </p:spPr>
      </p:pic>
      <p:pic>
        <p:nvPicPr>
          <p:cNvPr id="50" name="LOGOSLOG" descr=""/>
          <p:cNvPicPr/>
          <p:nvPr/>
        </p:nvPicPr>
        <p:blipFill>
          <a:blip r:embed="rId3"/>
          <a:stretch/>
        </p:blipFill>
        <p:spPr>
          <a:xfrm>
            <a:off x="6553080" y="152280"/>
            <a:ext cx="2341800" cy="898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6324480"/>
            <a:ext cx="8534160" cy="0"/>
          </a:xfrm>
          <a:prstGeom prst="line">
            <a:avLst/>
          </a:prstGeom>
          <a:ln w="50760">
            <a:solidFill>
              <a:srgbClr val="e8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5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5.wmf"/><Relationship Id="rId15" Type="http://schemas.openxmlformats.org/officeDocument/2006/relationships/package" Target="../embeddings/oleObject8.docx"/><Relationship Id="rId16" Type="http://schemas.openxmlformats.org/officeDocument/2006/relationships/image" Target="../media/image4.wmf"/><Relationship Id="rId1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5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5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5.wmf"/><Relationship Id="rId15" Type="http://schemas.openxmlformats.org/officeDocument/2006/relationships/package" Target="../embeddings/oleObject8.docx"/><Relationship Id="rId16" Type="http://schemas.openxmlformats.org/officeDocument/2006/relationships/image" Target="../media/image5.wmf"/><Relationship Id="rId17" Type="http://schemas.openxmlformats.org/officeDocument/2006/relationships/package" Target="../embeddings/oleObject9.docx"/><Relationship Id="rId18" Type="http://schemas.openxmlformats.org/officeDocument/2006/relationships/image" Target="../media/image5.wmf"/><Relationship Id="rId1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41120" y="1066680"/>
            <a:ext cx="8651880" cy="4954680"/>
            <a:chOff x="141120" y="1066680"/>
            <a:chExt cx="8651880" cy="4954680"/>
          </a:xfrm>
        </p:grpSpPr>
        <p:sp>
          <p:nvSpPr>
            <p:cNvPr id="89" name=""/>
            <p:cNvSpPr/>
            <p:nvPr/>
          </p:nvSpPr>
          <p:spPr>
            <a:xfrm>
              <a:off x="141120" y="1771560"/>
              <a:ext cx="3205440" cy="4211640"/>
            </a:xfrm>
            <a:custGeom>
              <a:avLst/>
              <a:gdLst/>
              <a:ahLst/>
              <a:rect l="l" t="t" r="r" b="b"/>
              <a:pathLst>
                <a:path w="2188" h="2653">
                  <a:moveTo>
                    <a:pt x="0" y="198"/>
                  </a:moveTo>
                  <a:lnTo>
                    <a:pt x="29" y="205"/>
                  </a:lnTo>
                  <a:lnTo>
                    <a:pt x="18" y="213"/>
                  </a:lnTo>
                  <a:lnTo>
                    <a:pt x="29" y="228"/>
                  </a:lnTo>
                  <a:lnTo>
                    <a:pt x="81" y="226"/>
                  </a:lnTo>
                  <a:lnTo>
                    <a:pt x="87" y="236"/>
                  </a:lnTo>
                  <a:lnTo>
                    <a:pt x="108" y="229"/>
                  </a:lnTo>
                  <a:lnTo>
                    <a:pt x="114" y="259"/>
                  </a:lnTo>
                  <a:lnTo>
                    <a:pt x="45" y="287"/>
                  </a:lnTo>
                  <a:lnTo>
                    <a:pt x="35" y="315"/>
                  </a:lnTo>
                  <a:lnTo>
                    <a:pt x="44" y="329"/>
                  </a:lnTo>
                  <a:lnTo>
                    <a:pt x="69" y="333"/>
                  </a:lnTo>
                  <a:lnTo>
                    <a:pt x="58" y="347"/>
                  </a:lnTo>
                  <a:lnTo>
                    <a:pt x="66" y="361"/>
                  </a:lnTo>
                  <a:lnTo>
                    <a:pt x="81" y="362"/>
                  </a:lnTo>
                  <a:lnTo>
                    <a:pt x="92" y="345"/>
                  </a:lnTo>
                  <a:lnTo>
                    <a:pt x="104" y="376"/>
                  </a:lnTo>
                  <a:lnTo>
                    <a:pt x="96" y="390"/>
                  </a:lnTo>
                  <a:lnTo>
                    <a:pt x="125" y="373"/>
                  </a:lnTo>
                  <a:lnTo>
                    <a:pt x="148" y="397"/>
                  </a:lnTo>
                  <a:lnTo>
                    <a:pt x="186" y="376"/>
                  </a:lnTo>
                  <a:lnTo>
                    <a:pt x="151" y="439"/>
                  </a:lnTo>
                  <a:lnTo>
                    <a:pt x="125" y="449"/>
                  </a:lnTo>
                  <a:lnTo>
                    <a:pt x="125" y="461"/>
                  </a:lnTo>
                  <a:lnTo>
                    <a:pt x="96" y="463"/>
                  </a:lnTo>
                  <a:lnTo>
                    <a:pt x="77" y="487"/>
                  </a:lnTo>
                  <a:lnTo>
                    <a:pt x="104" y="467"/>
                  </a:lnTo>
                  <a:lnTo>
                    <a:pt x="134" y="467"/>
                  </a:lnTo>
                  <a:lnTo>
                    <a:pt x="144" y="451"/>
                  </a:lnTo>
                  <a:lnTo>
                    <a:pt x="165" y="447"/>
                  </a:lnTo>
                  <a:lnTo>
                    <a:pt x="228" y="403"/>
                  </a:lnTo>
                  <a:lnTo>
                    <a:pt x="241" y="387"/>
                  </a:lnTo>
                  <a:lnTo>
                    <a:pt x="230" y="372"/>
                  </a:lnTo>
                  <a:lnTo>
                    <a:pt x="284" y="319"/>
                  </a:lnTo>
                  <a:lnTo>
                    <a:pt x="297" y="325"/>
                  </a:lnTo>
                  <a:lnTo>
                    <a:pt x="273" y="337"/>
                  </a:lnTo>
                  <a:lnTo>
                    <a:pt x="263" y="361"/>
                  </a:lnTo>
                  <a:lnTo>
                    <a:pt x="278" y="361"/>
                  </a:lnTo>
                  <a:lnTo>
                    <a:pt x="265" y="376"/>
                  </a:lnTo>
                  <a:lnTo>
                    <a:pt x="320" y="356"/>
                  </a:lnTo>
                  <a:lnTo>
                    <a:pt x="328" y="331"/>
                  </a:lnTo>
                  <a:lnTo>
                    <a:pt x="358" y="323"/>
                  </a:lnTo>
                  <a:lnTo>
                    <a:pt x="347" y="337"/>
                  </a:lnTo>
                  <a:lnTo>
                    <a:pt x="393" y="356"/>
                  </a:lnTo>
                  <a:lnTo>
                    <a:pt x="475" y="359"/>
                  </a:lnTo>
                  <a:lnTo>
                    <a:pt x="483" y="376"/>
                  </a:lnTo>
                  <a:lnTo>
                    <a:pt x="499" y="392"/>
                  </a:lnTo>
                  <a:lnTo>
                    <a:pt x="517" y="400"/>
                  </a:lnTo>
                  <a:lnTo>
                    <a:pt x="547" y="397"/>
                  </a:lnTo>
                  <a:lnTo>
                    <a:pt x="573" y="411"/>
                  </a:lnTo>
                  <a:lnTo>
                    <a:pt x="571" y="430"/>
                  </a:lnTo>
                  <a:lnTo>
                    <a:pt x="607" y="455"/>
                  </a:lnTo>
                  <a:lnTo>
                    <a:pt x="619" y="497"/>
                  </a:lnTo>
                  <a:lnTo>
                    <a:pt x="659" y="549"/>
                  </a:lnTo>
                  <a:lnTo>
                    <a:pt x="663" y="579"/>
                  </a:lnTo>
                  <a:lnTo>
                    <a:pt x="714" y="606"/>
                  </a:lnTo>
                  <a:lnTo>
                    <a:pt x="741" y="610"/>
                  </a:lnTo>
                  <a:lnTo>
                    <a:pt x="746" y="649"/>
                  </a:lnTo>
                  <a:lnTo>
                    <a:pt x="714" y="648"/>
                  </a:lnTo>
                  <a:lnTo>
                    <a:pt x="725" y="694"/>
                  </a:lnTo>
                  <a:lnTo>
                    <a:pt x="720" y="818"/>
                  </a:lnTo>
                  <a:lnTo>
                    <a:pt x="751" y="886"/>
                  </a:lnTo>
                  <a:lnTo>
                    <a:pt x="783" y="939"/>
                  </a:lnTo>
                  <a:lnTo>
                    <a:pt x="814" y="950"/>
                  </a:lnTo>
                  <a:lnTo>
                    <a:pt x="839" y="980"/>
                  </a:lnTo>
                  <a:lnTo>
                    <a:pt x="862" y="1035"/>
                  </a:lnTo>
                  <a:lnTo>
                    <a:pt x="903" y="1089"/>
                  </a:lnTo>
                  <a:lnTo>
                    <a:pt x="921" y="1129"/>
                  </a:lnTo>
                  <a:lnTo>
                    <a:pt x="956" y="1166"/>
                  </a:lnTo>
                  <a:lnTo>
                    <a:pt x="964" y="1156"/>
                  </a:lnTo>
                  <a:lnTo>
                    <a:pt x="881" y="1026"/>
                  </a:lnTo>
                  <a:lnTo>
                    <a:pt x="874" y="992"/>
                  </a:lnTo>
                  <a:lnTo>
                    <a:pt x="895" y="999"/>
                  </a:lnTo>
                  <a:lnTo>
                    <a:pt x="924" y="1055"/>
                  </a:lnTo>
                  <a:lnTo>
                    <a:pt x="971" y="1098"/>
                  </a:lnTo>
                  <a:lnTo>
                    <a:pt x="969" y="1114"/>
                  </a:lnTo>
                  <a:lnTo>
                    <a:pt x="1027" y="1171"/>
                  </a:lnTo>
                  <a:lnTo>
                    <a:pt x="1036" y="1197"/>
                  </a:lnTo>
                  <a:lnTo>
                    <a:pt x="1030" y="1214"/>
                  </a:lnTo>
                  <a:lnTo>
                    <a:pt x="1041" y="1237"/>
                  </a:lnTo>
                  <a:lnTo>
                    <a:pt x="1161" y="1296"/>
                  </a:lnTo>
                  <a:lnTo>
                    <a:pt x="1214" y="1290"/>
                  </a:lnTo>
                  <a:lnTo>
                    <a:pt x="1248" y="1318"/>
                  </a:lnTo>
                  <a:lnTo>
                    <a:pt x="1285" y="1335"/>
                  </a:lnTo>
                  <a:lnTo>
                    <a:pt x="1322" y="1340"/>
                  </a:lnTo>
                  <a:lnTo>
                    <a:pt x="1354" y="1383"/>
                  </a:lnTo>
                  <a:lnTo>
                    <a:pt x="1354" y="1402"/>
                  </a:lnTo>
                  <a:lnTo>
                    <a:pt x="1367" y="1399"/>
                  </a:lnTo>
                  <a:lnTo>
                    <a:pt x="1397" y="1432"/>
                  </a:lnTo>
                  <a:lnTo>
                    <a:pt x="1437" y="1455"/>
                  </a:lnTo>
                  <a:lnTo>
                    <a:pt x="1440" y="1437"/>
                  </a:lnTo>
                  <a:lnTo>
                    <a:pt x="1461" y="1421"/>
                  </a:lnTo>
                  <a:lnTo>
                    <a:pt x="1479" y="1432"/>
                  </a:lnTo>
                  <a:lnTo>
                    <a:pt x="1482" y="1451"/>
                  </a:lnTo>
                  <a:lnTo>
                    <a:pt x="1490" y="1511"/>
                  </a:lnTo>
                  <a:lnTo>
                    <a:pt x="1448" y="1568"/>
                  </a:lnTo>
                  <a:lnTo>
                    <a:pt x="1436" y="1623"/>
                  </a:lnTo>
                  <a:lnTo>
                    <a:pt x="1431" y="1687"/>
                  </a:lnTo>
                  <a:lnTo>
                    <a:pt x="1466" y="1732"/>
                  </a:lnTo>
                  <a:lnTo>
                    <a:pt x="1509" y="1839"/>
                  </a:lnTo>
                  <a:lnTo>
                    <a:pt x="1605" y="1911"/>
                  </a:lnTo>
                  <a:lnTo>
                    <a:pt x="1609" y="1973"/>
                  </a:lnTo>
                  <a:lnTo>
                    <a:pt x="1588" y="2115"/>
                  </a:lnTo>
                  <a:lnTo>
                    <a:pt x="1588" y="2192"/>
                  </a:lnTo>
                  <a:lnTo>
                    <a:pt x="1554" y="2282"/>
                  </a:lnTo>
                  <a:lnTo>
                    <a:pt x="1553" y="2367"/>
                  </a:lnTo>
                  <a:lnTo>
                    <a:pt x="1575" y="2375"/>
                  </a:lnTo>
                  <a:lnTo>
                    <a:pt x="1570" y="2441"/>
                  </a:lnTo>
                  <a:lnTo>
                    <a:pt x="1544" y="2485"/>
                  </a:lnTo>
                  <a:lnTo>
                    <a:pt x="1540" y="2513"/>
                  </a:lnTo>
                  <a:lnTo>
                    <a:pt x="1553" y="2550"/>
                  </a:lnTo>
                  <a:lnTo>
                    <a:pt x="1544" y="2581"/>
                  </a:lnTo>
                  <a:lnTo>
                    <a:pt x="1565" y="2596"/>
                  </a:lnTo>
                  <a:lnTo>
                    <a:pt x="1567" y="2622"/>
                  </a:lnTo>
                  <a:lnTo>
                    <a:pt x="1575" y="2643"/>
                  </a:lnTo>
                  <a:lnTo>
                    <a:pt x="1594" y="2652"/>
                  </a:lnTo>
                  <a:lnTo>
                    <a:pt x="1599" y="2624"/>
                  </a:lnTo>
                  <a:lnTo>
                    <a:pt x="1641" y="2613"/>
                  </a:lnTo>
                  <a:lnTo>
                    <a:pt x="1623" y="2598"/>
                  </a:lnTo>
                  <a:lnTo>
                    <a:pt x="1647" y="2559"/>
                  </a:lnTo>
                  <a:lnTo>
                    <a:pt x="1684" y="2503"/>
                  </a:lnTo>
                  <a:lnTo>
                    <a:pt x="1653" y="2468"/>
                  </a:lnTo>
                  <a:lnTo>
                    <a:pt x="1689" y="2446"/>
                  </a:lnTo>
                  <a:lnTo>
                    <a:pt x="1716" y="2382"/>
                  </a:lnTo>
                  <a:lnTo>
                    <a:pt x="1695" y="2355"/>
                  </a:lnTo>
                  <a:lnTo>
                    <a:pt x="1737" y="2356"/>
                  </a:lnTo>
                  <a:lnTo>
                    <a:pt x="1739" y="2313"/>
                  </a:lnTo>
                  <a:lnTo>
                    <a:pt x="1812" y="2302"/>
                  </a:lnTo>
                  <a:lnTo>
                    <a:pt x="1833" y="2275"/>
                  </a:lnTo>
                  <a:lnTo>
                    <a:pt x="1801" y="2215"/>
                  </a:lnTo>
                  <a:lnTo>
                    <a:pt x="1862" y="2234"/>
                  </a:lnTo>
                  <a:lnTo>
                    <a:pt x="1886" y="2208"/>
                  </a:lnTo>
                  <a:lnTo>
                    <a:pt x="1965" y="2100"/>
                  </a:lnTo>
                  <a:lnTo>
                    <a:pt x="1971" y="2045"/>
                  </a:lnTo>
                  <a:lnTo>
                    <a:pt x="2034" y="1998"/>
                  </a:lnTo>
                  <a:lnTo>
                    <a:pt x="2088" y="1981"/>
                  </a:lnTo>
                  <a:lnTo>
                    <a:pt x="2120" y="1900"/>
                  </a:lnTo>
                  <a:lnTo>
                    <a:pt x="2124" y="1819"/>
                  </a:lnTo>
                  <a:lnTo>
                    <a:pt x="2187" y="1743"/>
                  </a:lnTo>
                  <a:lnTo>
                    <a:pt x="2181" y="1675"/>
                  </a:lnTo>
                  <a:lnTo>
                    <a:pt x="2117" y="1639"/>
                  </a:lnTo>
                  <a:lnTo>
                    <a:pt x="2034" y="1631"/>
                  </a:lnTo>
                  <a:lnTo>
                    <a:pt x="2027" y="1608"/>
                  </a:lnTo>
                  <a:lnTo>
                    <a:pt x="1992" y="1594"/>
                  </a:lnTo>
                  <a:lnTo>
                    <a:pt x="1921" y="1619"/>
                  </a:lnTo>
                  <a:lnTo>
                    <a:pt x="1921" y="1591"/>
                  </a:lnTo>
                  <a:lnTo>
                    <a:pt x="1944" y="1554"/>
                  </a:lnTo>
                  <a:lnTo>
                    <a:pt x="1917" y="1507"/>
                  </a:lnTo>
                  <a:lnTo>
                    <a:pt x="1880" y="1482"/>
                  </a:lnTo>
                  <a:lnTo>
                    <a:pt x="1829" y="1479"/>
                  </a:lnTo>
                  <a:lnTo>
                    <a:pt x="1779" y="1433"/>
                  </a:lnTo>
                  <a:lnTo>
                    <a:pt x="1760" y="1414"/>
                  </a:lnTo>
                  <a:lnTo>
                    <a:pt x="1731" y="1397"/>
                  </a:lnTo>
                  <a:lnTo>
                    <a:pt x="1647" y="1394"/>
                  </a:lnTo>
                  <a:lnTo>
                    <a:pt x="1615" y="1363"/>
                  </a:lnTo>
                  <a:lnTo>
                    <a:pt x="1591" y="1387"/>
                  </a:lnTo>
                  <a:lnTo>
                    <a:pt x="1588" y="1359"/>
                  </a:lnTo>
                  <a:lnTo>
                    <a:pt x="1532" y="1383"/>
                  </a:lnTo>
                  <a:lnTo>
                    <a:pt x="1500" y="1437"/>
                  </a:lnTo>
                  <a:lnTo>
                    <a:pt x="1492" y="1426"/>
                  </a:lnTo>
                  <a:lnTo>
                    <a:pt x="1461" y="1409"/>
                  </a:lnTo>
                  <a:lnTo>
                    <a:pt x="1429" y="1424"/>
                  </a:lnTo>
                  <a:lnTo>
                    <a:pt x="1408" y="1408"/>
                  </a:lnTo>
                  <a:lnTo>
                    <a:pt x="1389" y="1385"/>
                  </a:lnTo>
                  <a:lnTo>
                    <a:pt x="1394" y="1311"/>
                  </a:lnTo>
                  <a:lnTo>
                    <a:pt x="1365" y="1292"/>
                  </a:lnTo>
                  <a:lnTo>
                    <a:pt x="1304" y="1292"/>
                  </a:lnTo>
                  <a:lnTo>
                    <a:pt x="1318" y="1256"/>
                  </a:lnTo>
                  <a:lnTo>
                    <a:pt x="1335" y="1197"/>
                  </a:lnTo>
                  <a:lnTo>
                    <a:pt x="1318" y="1187"/>
                  </a:lnTo>
                  <a:lnTo>
                    <a:pt x="1278" y="1197"/>
                  </a:lnTo>
                  <a:lnTo>
                    <a:pt x="1258" y="1247"/>
                  </a:lnTo>
                  <a:lnTo>
                    <a:pt x="1190" y="1241"/>
                  </a:lnTo>
                  <a:lnTo>
                    <a:pt x="1160" y="1179"/>
                  </a:lnTo>
                  <a:lnTo>
                    <a:pt x="1169" y="1109"/>
                  </a:lnTo>
                  <a:lnTo>
                    <a:pt x="1163" y="1071"/>
                  </a:lnTo>
                  <a:lnTo>
                    <a:pt x="1203" y="1035"/>
                  </a:lnTo>
                  <a:lnTo>
                    <a:pt x="1253" y="1031"/>
                  </a:lnTo>
                  <a:lnTo>
                    <a:pt x="1296" y="1048"/>
                  </a:lnTo>
                  <a:lnTo>
                    <a:pt x="1296" y="1026"/>
                  </a:lnTo>
                  <a:lnTo>
                    <a:pt x="1318" y="1011"/>
                  </a:lnTo>
                  <a:lnTo>
                    <a:pt x="1387" y="1030"/>
                  </a:lnTo>
                  <a:lnTo>
                    <a:pt x="1404" y="1044"/>
                  </a:lnTo>
                  <a:lnTo>
                    <a:pt x="1406" y="1078"/>
                  </a:lnTo>
                  <a:lnTo>
                    <a:pt x="1429" y="1121"/>
                  </a:lnTo>
                  <a:lnTo>
                    <a:pt x="1440" y="1121"/>
                  </a:lnTo>
                  <a:lnTo>
                    <a:pt x="1445" y="1089"/>
                  </a:lnTo>
                  <a:lnTo>
                    <a:pt x="1425" y="1011"/>
                  </a:lnTo>
                  <a:lnTo>
                    <a:pt x="1436" y="980"/>
                  </a:lnTo>
                  <a:lnTo>
                    <a:pt x="1519" y="915"/>
                  </a:lnTo>
                  <a:lnTo>
                    <a:pt x="1509" y="871"/>
                  </a:lnTo>
                  <a:lnTo>
                    <a:pt x="1519" y="886"/>
                  </a:lnTo>
                  <a:lnTo>
                    <a:pt x="1536" y="848"/>
                  </a:lnTo>
                  <a:lnTo>
                    <a:pt x="1553" y="806"/>
                  </a:lnTo>
                  <a:lnTo>
                    <a:pt x="1615" y="789"/>
                  </a:lnTo>
                  <a:lnTo>
                    <a:pt x="1599" y="779"/>
                  </a:lnTo>
                  <a:lnTo>
                    <a:pt x="1609" y="747"/>
                  </a:lnTo>
                  <a:lnTo>
                    <a:pt x="1663" y="725"/>
                  </a:lnTo>
                  <a:lnTo>
                    <a:pt x="1663" y="713"/>
                  </a:lnTo>
                  <a:lnTo>
                    <a:pt x="1703" y="696"/>
                  </a:lnTo>
                  <a:lnTo>
                    <a:pt x="1702" y="712"/>
                  </a:lnTo>
                  <a:lnTo>
                    <a:pt x="1726" y="708"/>
                  </a:lnTo>
                  <a:lnTo>
                    <a:pt x="1681" y="728"/>
                  </a:lnTo>
                  <a:lnTo>
                    <a:pt x="1691" y="751"/>
                  </a:lnTo>
                  <a:lnTo>
                    <a:pt x="1711" y="727"/>
                  </a:lnTo>
                  <a:lnTo>
                    <a:pt x="1760" y="712"/>
                  </a:lnTo>
                  <a:lnTo>
                    <a:pt x="1779" y="692"/>
                  </a:lnTo>
                  <a:lnTo>
                    <a:pt x="1771" y="673"/>
                  </a:lnTo>
                  <a:lnTo>
                    <a:pt x="1756" y="704"/>
                  </a:lnTo>
                  <a:lnTo>
                    <a:pt x="1716" y="696"/>
                  </a:lnTo>
                  <a:lnTo>
                    <a:pt x="1692" y="672"/>
                  </a:lnTo>
                  <a:lnTo>
                    <a:pt x="1702" y="654"/>
                  </a:lnTo>
                  <a:lnTo>
                    <a:pt x="1670" y="649"/>
                  </a:lnTo>
                  <a:lnTo>
                    <a:pt x="1711" y="637"/>
                  </a:lnTo>
                  <a:lnTo>
                    <a:pt x="1689" y="623"/>
                  </a:lnTo>
                  <a:lnTo>
                    <a:pt x="1633" y="633"/>
                  </a:lnTo>
                  <a:lnTo>
                    <a:pt x="1674" y="598"/>
                  </a:lnTo>
                  <a:lnTo>
                    <a:pt x="1777" y="598"/>
                  </a:lnTo>
                  <a:lnTo>
                    <a:pt x="1852" y="552"/>
                  </a:lnTo>
                  <a:lnTo>
                    <a:pt x="1846" y="518"/>
                  </a:lnTo>
                  <a:lnTo>
                    <a:pt x="1825" y="524"/>
                  </a:lnTo>
                  <a:lnTo>
                    <a:pt x="1825" y="502"/>
                  </a:lnTo>
                  <a:lnTo>
                    <a:pt x="1774" y="526"/>
                  </a:lnTo>
                  <a:lnTo>
                    <a:pt x="1760" y="516"/>
                  </a:lnTo>
                  <a:lnTo>
                    <a:pt x="1820" y="494"/>
                  </a:lnTo>
                  <a:lnTo>
                    <a:pt x="1774" y="463"/>
                  </a:lnTo>
                  <a:lnTo>
                    <a:pt x="1750" y="443"/>
                  </a:lnTo>
                  <a:lnTo>
                    <a:pt x="1750" y="416"/>
                  </a:lnTo>
                  <a:lnTo>
                    <a:pt x="1726" y="405"/>
                  </a:lnTo>
                  <a:lnTo>
                    <a:pt x="1731" y="390"/>
                  </a:lnTo>
                  <a:lnTo>
                    <a:pt x="1722" y="374"/>
                  </a:lnTo>
                  <a:lnTo>
                    <a:pt x="1703" y="347"/>
                  </a:lnTo>
                  <a:lnTo>
                    <a:pt x="1687" y="361"/>
                  </a:lnTo>
                  <a:lnTo>
                    <a:pt x="1674" y="387"/>
                  </a:lnTo>
                  <a:lnTo>
                    <a:pt x="1642" y="403"/>
                  </a:lnTo>
                  <a:lnTo>
                    <a:pt x="1641" y="387"/>
                  </a:lnTo>
                  <a:lnTo>
                    <a:pt x="1599" y="397"/>
                  </a:lnTo>
                  <a:lnTo>
                    <a:pt x="1626" y="373"/>
                  </a:lnTo>
                  <a:lnTo>
                    <a:pt x="1622" y="354"/>
                  </a:lnTo>
                  <a:lnTo>
                    <a:pt x="1622" y="326"/>
                  </a:lnTo>
                  <a:lnTo>
                    <a:pt x="1588" y="323"/>
                  </a:lnTo>
                  <a:lnTo>
                    <a:pt x="1588" y="313"/>
                  </a:lnTo>
                  <a:lnTo>
                    <a:pt x="1553" y="288"/>
                  </a:lnTo>
                  <a:lnTo>
                    <a:pt x="1532" y="297"/>
                  </a:lnTo>
                  <a:lnTo>
                    <a:pt x="1484" y="287"/>
                  </a:lnTo>
                  <a:lnTo>
                    <a:pt x="1477" y="302"/>
                  </a:lnTo>
                  <a:lnTo>
                    <a:pt x="1490" y="313"/>
                  </a:lnTo>
                  <a:lnTo>
                    <a:pt x="1479" y="335"/>
                  </a:lnTo>
                  <a:lnTo>
                    <a:pt x="1498" y="366"/>
                  </a:lnTo>
                  <a:lnTo>
                    <a:pt x="1469" y="387"/>
                  </a:lnTo>
                  <a:lnTo>
                    <a:pt x="1490" y="400"/>
                  </a:lnTo>
                  <a:lnTo>
                    <a:pt x="1500" y="452"/>
                  </a:lnTo>
                  <a:lnTo>
                    <a:pt x="1455" y="494"/>
                  </a:lnTo>
                  <a:lnTo>
                    <a:pt x="1471" y="545"/>
                  </a:lnTo>
                  <a:lnTo>
                    <a:pt x="1482" y="551"/>
                  </a:lnTo>
                  <a:lnTo>
                    <a:pt x="1452" y="579"/>
                  </a:lnTo>
                  <a:lnTo>
                    <a:pt x="1429" y="580"/>
                  </a:lnTo>
                  <a:lnTo>
                    <a:pt x="1437" y="563"/>
                  </a:lnTo>
                  <a:lnTo>
                    <a:pt x="1413" y="533"/>
                  </a:lnTo>
                  <a:lnTo>
                    <a:pt x="1413" y="482"/>
                  </a:lnTo>
                  <a:lnTo>
                    <a:pt x="1360" y="475"/>
                  </a:lnTo>
                  <a:lnTo>
                    <a:pt x="1298" y="439"/>
                  </a:lnTo>
                  <a:lnTo>
                    <a:pt x="1264" y="427"/>
                  </a:lnTo>
                  <a:lnTo>
                    <a:pt x="1238" y="435"/>
                  </a:lnTo>
                  <a:lnTo>
                    <a:pt x="1232" y="387"/>
                  </a:lnTo>
                  <a:lnTo>
                    <a:pt x="1214" y="396"/>
                  </a:lnTo>
                  <a:lnTo>
                    <a:pt x="1209" y="315"/>
                  </a:lnTo>
                  <a:lnTo>
                    <a:pt x="1241" y="299"/>
                  </a:lnTo>
                  <a:lnTo>
                    <a:pt x="1243" y="280"/>
                  </a:lnTo>
                  <a:lnTo>
                    <a:pt x="1277" y="272"/>
                  </a:lnTo>
                  <a:lnTo>
                    <a:pt x="1226" y="241"/>
                  </a:lnTo>
                  <a:lnTo>
                    <a:pt x="1277" y="259"/>
                  </a:lnTo>
                  <a:lnTo>
                    <a:pt x="1285" y="241"/>
                  </a:lnTo>
                  <a:lnTo>
                    <a:pt x="1312" y="241"/>
                  </a:lnTo>
                  <a:lnTo>
                    <a:pt x="1335" y="210"/>
                  </a:lnTo>
                  <a:lnTo>
                    <a:pt x="1301" y="205"/>
                  </a:lnTo>
                  <a:lnTo>
                    <a:pt x="1285" y="190"/>
                  </a:lnTo>
                  <a:lnTo>
                    <a:pt x="1339" y="201"/>
                  </a:lnTo>
                  <a:lnTo>
                    <a:pt x="1341" y="171"/>
                  </a:lnTo>
                  <a:lnTo>
                    <a:pt x="1394" y="174"/>
                  </a:lnTo>
                  <a:lnTo>
                    <a:pt x="1427" y="154"/>
                  </a:lnTo>
                  <a:lnTo>
                    <a:pt x="1408" y="112"/>
                  </a:lnTo>
                  <a:lnTo>
                    <a:pt x="1429" y="107"/>
                  </a:lnTo>
                  <a:lnTo>
                    <a:pt x="1356" y="70"/>
                  </a:lnTo>
                  <a:lnTo>
                    <a:pt x="1370" y="101"/>
                  </a:lnTo>
                  <a:lnTo>
                    <a:pt x="1354" y="107"/>
                  </a:lnTo>
                  <a:lnTo>
                    <a:pt x="1328" y="148"/>
                  </a:lnTo>
                  <a:lnTo>
                    <a:pt x="1318" y="117"/>
                  </a:lnTo>
                  <a:lnTo>
                    <a:pt x="1296" y="86"/>
                  </a:lnTo>
                  <a:lnTo>
                    <a:pt x="1280" y="117"/>
                  </a:lnTo>
                  <a:lnTo>
                    <a:pt x="1259" y="84"/>
                  </a:lnTo>
                  <a:lnTo>
                    <a:pt x="1238" y="74"/>
                  </a:lnTo>
                  <a:lnTo>
                    <a:pt x="1243" y="58"/>
                  </a:lnTo>
                  <a:lnTo>
                    <a:pt x="1259" y="58"/>
                  </a:lnTo>
                  <a:lnTo>
                    <a:pt x="1235" y="22"/>
                  </a:lnTo>
                  <a:lnTo>
                    <a:pt x="1198" y="0"/>
                  </a:lnTo>
                  <a:lnTo>
                    <a:pt x="1180" y="22"/>
                  </a:lnTo>
                  <a:lnTo>
                    <a:pt x="1176" y="61"/>
                  </a:lnTo>
                  <a:lnTo>
                    <a:pt x="1222" y="80"/>
                  </a:lnTo>
                  <a:lnTo>
                    <a:pt x="1226" y="108"/>
                  </a:lnTo>
                  <a:lnTo>
                    <a:pt x="1190" y="123"/>
                  </a:lnTo>
                  <a:lnTo>
                    <a:pt x="1197" y="148"/>
                  </a:lnTo>
                  <a:lnTo>
                    <a:pt x="1180" y="142"/>
                  </a:lnTo>
                  <a:lnTo>
                    <a:pt x="1176" y="126"/>
                  </a:lnTo>
                  <a:lnTo>
                    <a:pt x="1149" y="132"/>
                  </a:lnTo>
                  <a:lnTo>
                    <a:pt x="1081" y="135"/>
                  </a:lnTo>
                  <a:lnTo>
                    <a:pt x="1065" y="120"/>
                  </a:lnTo>
                  <a:lnTo>
                    <a:pt x="1015" y="96"/>
                  </a:lnTo>
                  <a:lnTo>
                    <a:pt x="975" y="116"/>
                  </a:lnTo>
                  <a:lnTo>
                    <a:pt x="990" y="120"/>
                  </a:lnTo>
                  <a:lnTo>
                    <a:pt x="1023" y="105"/>
                  </a:lnTo>
                  <a:lnTo>
                    <a:pt x="1001" y="151"/>
                  </a:lnTo>
                  <a:lnTo>
                    <a:pt x="950" y="126"/>
                  </a:lnTo>
                  <a:lnTo>
                    <a:pt x="860" y="126"/>
                  </a:lnTo>
                  <a:lnTo>
                    <a:pt x="889" y="111"/>
                  </a:lnTo>
                  <a:lnTo>
                    <a:pt x="831" y="99"/>
                  </a:lnTo>
                  <a:lnTo>
                    <a:pt x="746" y="68"/>
                  </a:lnTo>
                  <a:lnTo>
                    <a:pt x="714" y="84"/>
                  </a:lnTo>
                  <a:lnTo>
                    <a:pt x="716" y="58"/>
                  </a:lnTo>
                  <a:lnTo>
                    <a:pt x="696" y="84"/>
                  </a:lnTo>
                  <a:lnTo>
                    <a:pt x="663" y="55"/>
                  </a:lnTo>
                  <a:lnTo>
                    <a:pt x="608" y="89"/>
                  </a:lnTo>
                  <a:lnTo>
                    <a:pt x="607" y="80"/>
                  </a:lnTo>
                  <a:lnTo>
                    <a:pt x="547" y="93"/>
                  </a:lnTo>
                  <a:lnTo>
                    <a:pt x="557" y="111"/>
                  </a:lnTo>
                  <a:lnTo>
                    <a:pt x="446" y="73"/>
                  </a:lnTo>
                  <a:lnTo>
                    <a:pt x="270" y="50"/>
                  </a:lnTo>
                  <a:lnTo>
                    <a:pt x="262" y="37"/>
                  </a:lnTo>
                  <a:lnTo>
                    <a:pt x="207" y="23"/>
                  </a:lnTo>
                  <a:lnTo>
                    <a:pt x="188" y="21"/>
                  </a:lnTo>
                  <a:lnTo>
                    <a:pt x="167" y="37"/>
                  </a:lnTo>
                  <a:lnTo>
                    <a:pt x="127" y="46"/>
                  </a:lnTo>
                  <a:lnTo>
                    <a:pt x="92" y="62"/>
                  </a:lnTo>
                  <a:lnTo>
                    <a:pt x="71" y="92"/>
                  </a:lnTo>
                  <a:lnTo>
                    <a:pt x="29" y="99"/>
                  </a:lnTo>
                  <a:lnTo>
                    <a:pt x="21" y="116"/>
                  </a:lnTo>
                  <a:lnTo>
                    <a:pt x="71" y="154"/>
                  </a:lnTo>
                  <a:lnTo>
                    <a:pt x="96" y="169"/>
                  </a:lnTo>
                  <a:lnTo>
                    <a:pt x="114" y="178"/>
                  </a:lnTo>
                  <a:lnTo>
                    <a:pt x="71" y="185"/>
                  </a:lnTo>
                  <a:lnTo>
                    <a:pt x="71" y="169"/>
                  </a:lnTo>
                  <a:lnTo>
                    <a:pt x="56" y="169"/>
                  </a:lnTo>
                  <a:lnTo>
                    <a:pt x="0" y="198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46680" y="3614760"/>
              <a:ext cx="257760" cy="98280"/>
            </a:xfrm>
            <a:custGeom>
              <a:avLst/>
              <a:gdLst/>
              <a:ahLst/>
              <a:rect l="l" t="t" r="r" b="b"/>
              <a:pathLst>
                <a:path w="176" h="62">
                  <a:moveTo>
                    <a:pt x="0" y="26"/>
                  </a:moveTo>
                  <a:lnTo>
                    <a:pt x="25" y="3"/>
                  </a:lnTo>
                  <a:lnTo>
                    <a:pt x="67" y="0"/>
                  </a:lnTo>
                  <a:lnTo>
                    <a:pt x="175" y="53"/>
                  </a:lnTo>
                  <a:lnTo>
                    <a:pt x="121" y="61"/>
                  </a:lnTo>
                  <a:lnTo>
                    <a:pt x="102" y="27"/>
                  </a:lnTo>
                  <a:lnTo>
                    <a:pt x="47" y="19"/>
                  </a:lnTo>
                  <a:lnTo>
                    <a:pt x="0" y="26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01560" y="3713040"/>
              <a:ext cx="146520" cy="54000"/>
            </a:xfrm>
            <a:custGeom>
              <a:avLst/>
              <a:gdLst/>
              <a:ahLst/>
              <a:rect l="l" t="t" r="r" b="b"/>
              <a:pathLst>
                <a:path w="100" h="34">
                  <a:moveTo>
                    <a:pt x="0" y="23"/>
                  </a:moveTo>
                  <a:lnTo>
                    <a:pt x="33" y="22"/>
                  </a:lnTo>
                  <a:lnTo>
                    <a:pt x="16" y="0"/>
                  </a:lnTo>
                  <a:lnTo>
                    <a:pt x="73" y="3"/>
                  </a:lnTo>
                  <a:lnTo>
                    <a:pt x="99" y="20"/>
                  </a:lnTo>
                  <a:lnTo>
                    <a:pt x="41" y="33"/>
                  </a:lnTo>
                  <a:lnTo>
                    <a:pt x="0" y="23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8240" y="5937120"/>
              <a:ext cx="147600" cy="842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43"/>
                  </a:moveTo>
                  <a:lnTo>
                    <a:pt x="4" y="35"/>
                  </a:lnTo>
                  <a:lnTo>
                    <a:pt x="12" y="13"/>
                  </a:lnTo>
                  <a:lnTo>
                    <a:pt x="39" y="0"/>
                  </a:lnTo>
                  <a:lnTo>
                    <a:pt x="54" y="24"/>
                  </a:lnTo>
                  <a:lnTo>
                    <a:pt x="100" y="50"/>
                  </a:lnTo>
                  <a:lnTo>
                    <a:pt x="39" y="52"/>
                  </a:lnTo>
                  <a:lnTo>
                    <a:pt x="0" y="43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5160" y="2671920"/>
              <a:ext cx="162360" cy="17604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0" y="89"/>
                  </a:moveTo>
                  <a:lnTo>
                    <a:pt x="44" y="5"/>
                  </a:lnTo>
                  <a:lnTo>
                    <a:pt x="63" y="0"/>
                  </a:lnTo>
                  <a:lnTo>
                    <a:pt x="53" y="35"/>
                  </a:lnTo>
                  <a:lnTo>
                    <a:pt x="66" y="56"/>
                  </a:lnTo>
                  <a:lnTo>
                    <a:pt x="95" y="52"/>
                  </a:lnTo>
                  <a:lnTo>
                    <a:pt x="108" y="78"/>
                  </a:lnTo>
                  <a:lnTo>
                    <a:pt x="110" y="96"/>
                  </a:lnTo>
                  <a:lnTo>
                    <a:pt x="87" y="110"/>
                  </a:lnTo>
                  <a:lnTo>
                    <a:pt x="87" y="86"/>
                  </a:lnTo>
                  <a:lnTo>
                    <a:pt x="50" y="94"/>
                  </a:lnTo>
                  <a:lnTo>
                    <a:pt x="0" y="89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5760" y="2427120"/>
              <a:ext cx="68760" cy="4320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0" y="11"/>
                  </a:moveTo>
                  <a:lnTo>
                    <a:pt x="15" y="26"/>
                  </a:lnTo>
                  <a:lnTo>
                    <a:pt x="46" y="3"/>
                  </a:lnTo>
                  <a:lnTo>
                    <a:pt x="18" y="0"/>
                  </a:lnTo>
                  <a:lnTo>
                    <a:pt x="18" y="10"/>
                  </a:lnTo>
                  <a:lnTo>
                    <a:pt x="0" y="11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09000" y="2048040"/>
              <a:ext cx="258840" cy="144360"/>
            </a:xfrm>
            <a:custGeom>
              <a:avLst/>
              <a:gdLst/>
              <a:ahLst/>
              <a:rect l="l" t="t" r="r" b="b"/>
              <a:pathLst>
                <a:path w="177" h="91">
                  <a:moveTo>
                    <a:pt x="0" y="28"/>
                  </a:moveTo>
                  <a:lnTo>
                    <a:pt x="23" y="0"/>
                  </a:lnTo>
                  <a:lnTo>
                    <a:pt x="49" y="36"/>
                  </a:lnTo>
                  <a:lnTo>
                    <a:pt x="99" y="8"/>
                  </a:lnTo>
                  <a:lnTo>
                    <a:pt x="162" y="1"/>
                  </a:lnTo>
                  <a:lnTo>
                    <a:pt x="176" y="39"/>
                  </a:lnTo>
                  <a:lnTo>
                    <a:pt x="86" y="90"/>
                  </a:lnTo>
                  <a:lnTo>
                    <a:pt x="31" y="79"/>
                  </a:lnTo>
                  <a:lnTo>
                    <a:pt x="0" y="28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88360" y="2076480"/>
              <a:ext cx="156240" cy="122040"/>
            </a:xfrm>
            <a:custGeom>
              <a:avLst/>
              <a:gdLst/>
              <a:ahLst/>
              <a:rect l="l" t="t" r="r" b="b"/>
              <a:pathLst>
                <a:path w="107" h="77">
                  <a:moveTo>
                    <a:pt x="0" y="64"/>
                  </a:moveTo>
                  <a:lnTo>
                    <a:pt x="17" y="48"/>
                  </a:lnTo>
                  <a:lnTo>
                    <a:pt x="28" y="0"/>
                  </a:lnTo>
                  <a:lnTo>
                    <a:pt x="106" y="67"/>
                  </a:lnTo>
                  <a:lnTo>
                    <a:pt x="34" y="76"/>
                  </a:lnTo>
                  <a:lnTo>
                    <a:pt x="0" y="64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52000" y="1628640"/>
              <a:ext cx="263160" cy="182520"/>
            </a:xfrm>
            <a:custGeom>
              <a:avLst/>
              <a:gdLst/>
              <a:ahLst/>
              <a:rect l="l" t="t" r="r" b="b"/>
              <a:pathLst>
                <a:path w="180" h="115">
                  <a:moveTo>
                    <a:pt x="0" y="88"/>
                  </a:moveTo>
                  <a:lnTo>
                    <a:pt x="37" y="26"/>
                  </a:lnTo>
                  <a:lnTo>
                    <a:pt x="23" y="6"/>
                  </a:lnTo>
                  <a:lnTo>
                    <a:pt x="75" y="0"/>
                  </a:lnTo>
                  <a:lnTo>
                    <a:pt x="114" y="19"/>
                  </a:lnTo>
                  <a:lnTo>
                    <a:pt x="138" y="10"/>
                  </a:lnTo>
                  <a:lnTo>
                    <a:pt x="179" y="34"/>
                  </a:lnTo>
                  <a:lnTo>
                    <a:pt x="98" y="80"/>
                  </a:lnTo>
                  <a:lnTo>
                    <a:pt x="88" y="104"/>
                  </a:lnTo>
                  <a:lnTo>
                    <a:pt x="52" y="114"/>
                  </a:lnTo>
                  <a:lnTo>
                    <a:pt x="0" y="88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29120" y="1701720"/>
              <a:ext cx="436320" cy="247680"/>
            </a:xfrm>
            <a:custGeom>
              <a:avLst/>
              <a:gdLst/>
              <a:ahLst/>
              <a:rect l="l" t="t" r="r" b="b"/>
              <a:pathLst>
                <a:path w="298" h="156">
                  <a:moveTo>
                    <a:pt x="0" y="46"/>
                  </a:moveTo>
                  <a:lnTo>
                    <a:pt x="42" y="4"/>
                  </a:lnTo>
                  <a:lnTo>
                    <a:pt x="112" y="32"/>
                  </a:lnTo>
                  <a:lnTo>
                    <a:pt x="175" y="0"/>
                  </a:lnTo>
                  <a:lnTo>
                    <a:pt x="220" y="15"/>
                  </a:lnTo>
                  <a:lnTo>
                    <a:pt x="236" y="71"/>
                  </a:lnTo>
                  <a:lnTo>
                    <a:pt x="297" y="102"/>
                  </a:lnTo>
                  <a:lnTo>
                    <a:pt x="260" y="145"/>
                  </a:lnTo>
                  <a:lnTo>
                    <a:pt x="201" y="124"/>
                  </a:lnTo>
                  <a:lnTo>
                    <a:pt x="90" y="155"/>
                  </a:lnTo>
                  <a:lnTo>
                    <a:pt x="24" y="106"/>
                  </a:lnTo>
                  <a:lnTo>
                    <a:pt x="23" y="87"/>
                  </a:lnTo>
                  <a:lnTo>
                    <a:pt x="52" y="58"/>
                  </a:lnTo>
                  <a:lnTo>
                    <a:pt x="12" y="65"/>
                  </a:lnTo>
                  <a:lnTo>
                    <a:pt x="0" y="46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36920" y="4629240"/>
              <a:ext cx="174240" cy="401400"/>
            </a:xfrm>
            <a:custGeom>
              <a:avLst/>
              <a:gdLst/>
              <a:ahLst/>
              <a:rect l="l" t="t" r="r" b="b"/>
              <a:pathLst>
                <a:path w="119" h="253">
                  <a:moveTo>
                    <a:pt x="0" y="180"/>
                  </a:moveTo>
                  <a:lnTo>
                    <a:pt x="11" y="230"/>
                  </a:lnTo>
                  <a:lnTo>
                    <a:pt x="33" y="252"/>
                  </a:lnTo>
                  <a:lnTo>
                    <a:pt x="69" y="230"/>
                  </a:lnTo>
                  <a:lnTo>
                    <a:pt x="118" y="66"/>
                  </a:lnTo>
                  <a:lnTo>
                    <a:pt x="96" y="0"/>
                  </a:lnTo>
                  <a:lnTo>
                    <a:pt x="11" y="99"/>
                  </a:lnTo>
                  <a:lnTo>
                    <a:pt x="22" y="142"/>
                  </a:lnTo>
                  <a:lnTo>
                    <a:pt x="0" y="180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42600" y="4589640"/>
              <a:ext cx="961200" cy="855360"/>
            </a:xfrm>
            <a:custGeom>
              <a:avLst/>
              <a:gdLst/>
              <a:ahLst/>
              <a:rect l="l" t="t" r="r" b="b"/>
              <a:pathLst>
                <a:path w="656" h="539">
                  <a:moveTo>
                    <a:pt x="0" y="292"/>
                  </a:moveTo>
                  <a:lnTo>
                    <a:pt x="3" y="216"/>
                  </a:lnTo>
                  <a:lnTo>
                    <a:pt x="45" y="180"/>
                  </a:lnTo>
                  <a:lnTo>
                    <a:pt x="118" y="163"/>
                  </a:lnTo>
                  <a:lnTo>
                    <a:pt x="139" y="114"/>
                  </a:lnTo>
                  <a:lnTo>
                    <a:pt x="202" y="59"/>
                  </a:lnTo>
                  <a:lnTo>
                    <a:pt x="240" y="75"/>
                  </a:lnTo>
                  <a:lnTo>
                    <a:pt x="269" y="39"/>
                  </a:lnTo>
                  <a:lnTo>
                    <a:pt x="298" y="8"/>
                  </a:lnTo>
                  <a:lnTo>
                    <a:pt x="374" y="28"/>
                  </a:lnTo>
                  <a:lnTo>
                    <a:pt x="359" y="78"/>
                  </a:lnTo>
                  <a:lnTo>
                    <a:pt x="431" y="129"/>
                  </a:lnTo>
                  <a:lnTo>
                    <a:pt x="452" y="108"/>
                  </a:lnTo>
                  <a:lnTo>
                    <a:pt x="460" y="23"/>
                  </a:lnTo>
                  <a:lnTo>
                    <a:pt x="476" y="0"/>
                  </a:lnTo>
                  <a:lnTo>
                    <a:pt x="519" y="78"/>
                  </a:lnTo>
                  <a:lnTo>
                    <a:pt x="537" y="151"/>
                  </a:lnTo>
                  <a:lnTo>
                    <a:pt x="577" y="175"/>
                  </a:lnTo>
                  <a:lnTo>
                    <a:pt x="611" y="237"/>
                  </a:lnTo>
                  <a:lnTo>
                    <a:pt x="642" y="266"/>
                  </a:lnTo>
                  <a:lnTo>
                    <a:pt x="655" y="325"/>
                  </a:lnTo>
                  <a:lnTo>
                    <a:pt x="646" y="381"/>
                  </a:lnTo>
                  <a:lnTo>
                    <a:pt x="619" y="429"/>
                  </a:lnTo>
                  <a:lnTo>
                    <a:pt x="598" y="511"/>
                  </a:lnTo>
                  <a:lnTo>
                    <a:pt x="535" y="535"/>
                  </a:lnTo>
                  <a:lnTo>
                    <a:pt x="513" y="517"/>
                  </a:lnTo>
                  <a:lnTo>
                    <a:pt x="487" y="538"/>
                  </a:lnTo>
                  <a:lnTo>
                    <a:pt x="428" y="510"/>
                  </a:lnTo>
                  <a:lnTo>
                    <a:pt x="422" y="467"/>
                  </a:lnTo>
                  <a:lnTo>
                    <a:pt x="394" y="410"/>
                  </a:lnTo>
                  <a:lnTo>
                    <a:pt x="364" y="460"/>
                  </a:lnTo>
                  <a:lnTo>
                    <a:pt x="336" y="410"/>
                  </a:lnTo>
                  <a:lnTo>
                    <a:pt x="288" y="390"/>
                  </a:lnTo>
                  <a:lnTo>
                    <a:pt x="198" y="405"/>
                  </a:lnTo>
                  <a:lnTo>
                    <a:pt x="162" y="432"/>
                  </a:lnTo>
                  <a:lnTo>
                    <a:pt x="99" y="436"/>
                  </a:lnTo>
                  <a:lnTo>
                    <a:pt x="66" y="460"/>
                  </a:lnTo>
                  <a:lnTo>
                    <a:pt x="19" y="443"/>
                  </a:lnTo>
                  <a:lnTo>
                    <a:pt x="32" y="393"/>
                  </a:lnTo>
                  <a:lnTo>
                    <a:pt x="0" y="292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92840" y="5506920"/>
              <a:ext cx="83160" cy="98640"/>
            </a:xfrm>
            <a:custGeom>
              <a:avLst/>
              <a:gdLst/>
              <a:ahLst/>
              <a:rect l="l" t="t" r="r" b="b"/>
              <a:pathLst>
                <a:path w="57" h="62">
                  <a:moveTo>
                    <a:pt x="0" y="11"/>
                  </a:moveTo>
                  <a:lnTo>
                    <a:pt x="0" y="0"/>
                  </a:lnTo>
                  <a:lnTo>
                    <a:pt x="51" y="2"/>
                  </a:lnTo>
                  <a:lnTo>
                    <a:pt x="56" y="34"/>
                  </a:lnTo>
                  <a:lnTo>
                    <a:pt x="32" y="61"/>
                  </a:lnTo>
                  <a:lnTo>
                    <a:pt x="0" y="11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14480" y="5506920"/>
              <a:ext cx="185760" cy="211320"/>
            </a:xfrm>
            <a:custGeom>
              <a:avLst/>
              <a:gdLst/>
              <a:ahLst/>
              <a:rect l="l" t="t" r="r" b="b"/>
              <a:pathLst>
                <a:path w="127" h="133">
                  <a:moveTo>
                    <a:pt x="0" y="114"/>
                  </a:moveTo>
                  <a:lnTo>
                    <a:pt x="27" y="76"/>
                  </a:lnTo>
                  <a:lnTo>
                    <a:pt x="73" y="45"/>
                  </a:lnTo>
                  <a:lnTo>
                    <a:pt x="96" y="0"/>
                  </a:lnTo>
                  <a:lnTo>
                    <a:pt x="126" y="22"/>
                  </a:lnTo>
                  <a:lnTo>
                    <a:pt x="108" y="69"/>
                  </a:lnTo>
                  <a:lnTo>
                    <a:pt x="81" y="73"/>
                  </a:lnTo>
                  <a:lnTo>
                    <a:pt x="38" y="132"/>
                  </a:lnTo>
                  <a:lnTo>
                    <a:pt x="0" y="114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63520" y="5300640"/>
              <a:ext cx="137880" cy="230040"/>
            </a:xfrm>
            <a:custGeom>
              <a:avLst/>
              <a:gdLst/>
              <a:ahLst/>
              <a:rect l="l" t="t" r="r" b="b"/>
              <a:pathLst>
                <a:path w="94" h="145">
                  <a:moveTo>
                    <a:pt x="0" y="0"/>
                  </a:moveTo>
                  <a:lnTo>
                    <a:pt x="52" y="51"/>
                  </a:lnTo>
                  <a:lnTo>
                    <a:pt x="93" y="66"/>
                  </a:lnTo>
                  <a:lnTo>
                    <a:pt x="85" y="98"/>
                  </a:lnTo>
                  <a:lnTo>
                    <a:pt x="52" y="144"/>
                  </a:lnTo>
                  <a:lnTo>
                    <a:pt x="15" y="102"/>
                  </a:lnTo>
                  <a:lnTo>
                    <a:pt x="35" y="74"/>
                  </a:lnTo>
                  <a:lnTo>
                    <a:pt x="31" y="51"/>
                  </a:lnTo>
                  <a:lnTo>
                    <a:pt x="0" y="0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77480" y="3181320"/>
              <a:ext cx="1662840" cy="2120760"/>
            </a:xfrm>
            <a:custGeom>
              <a:avLst/>
              <a:gdLst/>
              <a:ahLst/>
              <a:rect l="l" t="t" r="r" b="b"/>
              <a:pathLst>
                <a:path w="1135" h="1336">
                  <a:moveTo>
                    <a:pt x="35" y="483"/>
                  </a:moveTo>
                  <a:lnTo>
                    <a:pt x="40" y="495"/>
                  </a:lnTo>
                  <a:lnTo>
                    <a:pt x="70" y="529"/>
                  </a:lnTo>
                  <a:lnTo>
                    <a:pt x="101" y="567"/>
                  </a:lnTo>
                  <a:lnTo>
                    <a:pt x="165" y="614"/>
                  </a:lnTo>
                  <a:lnTo>
                    <a:pt x="256" y="610"/>
                  </a:lnTo>
                  <a:lnTo>
                    <a:pt x="367" y="584"/>
                  </a:lnTo>
                  <a:lnTo>
                    <a:pt x="390" y="618"/>
                  </a:lnTo>
                  <a:lnTo>
                    <a:pt x="428" y="610"/>
                  </a:lnTo>
                  <a:lnTo>
                    <a:pt x="433" y="705"/>
                  </a:lnTo>
                  <a:lnTo>
                    <a:pt x="486" y="785"/>
                  </a:lnTo>
                  <a:lnTo>
                    <a:pt x="513" y="888"/>
                  </a:lnTo>
                  <a:lnTo>
                    <a:pt x="480" y="1007"/>
                  </a:lnTo>
                  <a:lnTo>
                    <a:pt x="526" y="1105"/>
                  </a:lnTo>
                  <a:lnTo>
                    <a:pt x="537" y="1196"/>
                  </a:lnTo>
                  <a:lnTo>
                    <a:pt x="592" y="1335"/>
                  </a:lnTo>
                  <a:lnTo>
                    <a:pt x="738" y="1315"/>
                  </a:lnTo>
                  <a:lnTo>
                    <a:pt x="823" y="1217"/>
                  </a:lnTo>
                  <a:lnTo>
                    <a:pt x="828" y="1162"/>
                  </a:lnTo>
                  <a:lnTo>
                    <a:pt x="871" y="1134"/>
                  </a:lnTo>
                  <a:lnTo>
                    <a:pt x="858" y="1053"/>
                  </a:lnTo>
                  <a:lnTo>
                    <a:pt x="956" y="972"/>
                  </a:lnTo>
                  <a:lnTo>
                    <a:pt x="956" y="880"/>
                  </a:lnTo>
                  <a:lnTo>
                    <a:pt x="930" y="805"/>
                  </a:lnTo>
                  <a:lnTo>
                    <a:pt x="976" y="721"/>
                  </a:lnTo>
                  <a:lnTo>
                    <a:pt x="1073" y="619"/>
                  </a:lnTo>
                  <a:lnTo>
                    <a:pt x="1134" y="509"/>
                  </a:lnTo>
                  <a:lnTo>
                    <a:pt x="1126" y="479"/>
                  </a:lnTo>
                  <a:lnTo>
                    <a:pt x="1028" y="507"/>
                  </a:lnTo>
                  <a:lnTo>
                    <a:pt x="997" y="464"/>
                  </a:lnTo>
                  <a:lnTo>
                    <a:pt x="940" y="421"/>
                  </a:lnTo>
                  <a:lnTo>
                    <a:pt x="922" y="368"/>
                  </a:lnTo>
                  <a:lnTo>
                    <a:pt x="876" y="257"/>
                  </a:lnTo>
                  <a:lnTo>
                    <a:pt x="819" y="147"/>
                  </a:lnTo>
                  <a:lnTo>
                    <a:pt x="794" y="111"/>
                  </a:lnTo>
                  <a:lnTo>
                    <a:pt x="765" y="124"/>
                  </a:lnTo>
                  <a:lnTo>
                    <a:pt x="700" y="108"/>
                  </a:lnTo>
                  <a:lnTo>
                    <a:pt x="614" y="100"/>
                  </a:lnTo>
                  <a:lnTo>
                    <a:pt x="600" y="135"/>
                  </a:lnTo>
                  <a:lnTo>
                    <a:pt x="534" y="95"/>
                  </a:lnTo>
                  <a:lnTo>
                    <a:pt x="451" y="62"/>
                  </a:lnTo>
                  <a:lnTo>
                    <a:pt x="470" y="0"/>
                  </a:lnTo>
                  <a:lnTo>
                    <a:pt x="433" y="2"/>
                  </a:lnTo>
                  <a:lnTo>
                    <a:pt x="315" y="10"/>
                  </a:lnTo>
                  <a:lnTo>
                    <a:pt x="255" y="38"/>
                  </a:lnTo>
                  <a:lnTo>
                    <a:pt x="194" y="27"/>
                  </a:lnTo>
                  <a:lnTo>
                    <a:pt x="139" y="92"/>
                  </a:lnTo>
                  <a:lnTo>
                    <a:pt x="122" y="155"/>
                  </a:lnTo>
                  <a:lnTo>
                    <a:pt x="79" y="183"/>
                  </a:lnTo>
                  <a:lnTo>
                    <a:pt x="11" y="309"/>
                  </a:lnTo>
                  <a:lnTo>
                    <a:pt x="24" y="357"/>
                  </a:lnTo>
                  <a:lnTo>
                    <a:pt x="0" y="427"/>
                  </a:lnTo>
                  <a:lnTo>
                    <a:pt x="35" y="483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51200" y="4294080"/>
              <a:ext cx="491040" cy="281160"/>
            </a:xfrm>
            <a:custGeom>
              <a:avLst/>
              <a:gdLst/>
              <a:ahLst/>
              <a:rect l="l" t="t" r="r" b="b"/>
              <a:pathLst>
                <a:path w="335" h="177">
                  <a:moveTo>
                    <a:pt x="0" y="15"/>
                  </a:moveTo>
                  <a:lnTo>
                    <a:pt x="52" y="29"/>
                  </a:lnTo>
                  <a:lnTo>
                    <a:pt x="34" y="64"/>
                  </a:lnTo>
                  <a:lnTo>
                    <a:pt x="124" y="89"/>
                  </a:lnTo>
                  <a:lnTo>
                    <a:pt x="119" y="144"/>
                  </a:lnTo>
                  <a:lnTo>
                    <a:pt x="202" y="159"/>
                  </a:lnTo>
                  <a:lnTo>
                    <a:pt x="229" y="129"/>
                  </a:lnTo>
                  <a:lnTo>
                    <a:pt x="334" y="176"/>
                  </a:lnTo>
                  <a:lnTo>
                    <a:pt x="279" y="101"/>
                  </a:lnTo>
                  <a:lnTo>
                    <a:pt x="119" y="15"/>
                  </a:lnTo>
                  <a:lnTo>
                    <a:pt x="29" y="0"/>
                  </a:lnTo>
                  <a:lnTo>
                    <a:pt x="0" y="15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35920" y="4008600"/>
              <a:ext cx="108000" cy="114120"/>
            </a:xfrm>
            <a:custGeom>
              <a:avLst/>
              <a:gdLst/>
              <a:ahLst/>
              <a:rect l="l" t="t" r="r" b="b"/>
              <a:pathLst>
                <a:path w="74" h="72">
                  <a:moveTo>
                    <a:pt x="0" y="47"/>
                  </a:moveTo>
                  <a:lnTo>
                    <a:pt x="16" y="23"/>
                  </a:lnTo>
                  <a:lnTo>
                    <a:pt x="62" y="0"/>
                  </a:lnTo>
                  <a:lnTo>
                    <a:pt x="73" y="42"/>
                  </a:lnTo>
                  <a:lnTo>
                    <a:pt x="62" y="71"/>
                  </a:lnTo>
                  <a:lnTo>
                    <a:pt x="32" y="33"/>
                  </a:lnTo>
                  <a:lnTo>
                    <a:pt x="0" y="47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87320" y="3745080"/>
              <a:ext cx="104040" cy="185400"/>
            </a:xfrm>
            <a:custGeom>
              <a:avLst/>
              <a:gdLst/>
              <a:ahLst/>
              <a:rect l="l" t="t" r="r" b="b"/>
              <a:pathLst>
                <a:path w="71" h="117">
                  <a:moveTo>
                    <a:pt x="0" y="45"/>
                  </a:moveTo>
                  <a:lnTo>
                    <a:pt x="13" y="0"/>
                  </a:lnTo>
                  <a:lnTo>
                    <a:pt x="39" y="2"/>
                  </a:lnTo>
                  <a:lnTo>
                    <a:pt x="45" y="31"/>
                  </a:lnTo>
                  <a:lnTo>
                    <a:pt x="26" y="65"/>
                  </a:lnTo>
                  <a:lnTo>
                    <a:pt x="70" y="116"/>
                  </a:lnTo>
                  <a:lnTo>
                    <a:pt x="13" y="89"/>
                  </a:lnTo>
                  <a:lnTo>
                    <a:pt x="0" y="45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65360" y="4233960"/>
              <a:ext cx="150840" cy="204840"/>
            </a:xfrm>
            <a:custGeom>
              <a:avLst/>
              <a:gdLst/>
              <a:ahLst/>
              <a:rect l="l" t="t" r="r" b="b"/>
              <a:pathLst>
                <a:path w="103" h="129">
                  <a:moveTo>
                    <a:pt x="0" y="77"/>
                  </a:moveTo>
                  <a:lnTo>
                    <a:pt x="12" y="124"/>
                  </a:lnTo>
                  <a:lnTo>
                    <a:pt x="41" y="128"/>
                  </a:lnTo>
                  <a:lnTo>
                    <a:pt x="65" y="108"/>
                  </a:lnTo>
                  <a:lnTo>
                    <a:pt x="41" y="62"/>
                  </a:lnTo>
                  <a:lnTo>
                    <a:pt x="88" y="22"/>
                  </a:lnTo>
                  <a:lnTo>
                    <a:pt x="102" y="0"/>
                  </a:lnTo>
                  <a:lnTo>
                    <a:pt x="36" y="7"/>
                  </a:lnTo>
                  <a:lnTo>
                    <a:pt x="20" y="17"/>
                  </a:lnTo>
                  <a:lnTo>
                    <a:pt x="0" y="77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1000" y="4083120"/>
              <a:ext cx="243000" cy="317520"/>
            </a:xfrm>
            <a:custGeom>
              <a:avLst/>
              <a:gdLst/>
              <a:ahLst/>
              <a:rect l="l" t="t" r="r" b="b"/>
              <a:pathLst>
                <a:path w="166" h="200">
                  <a:moveTo>
                    <a:pt x="0" y="117"/>
                  </a:moveTo>
                  <a:lnTo>
                    <a:pt x="10" y="97"/>
                  </a:lnTo>
                  <a:lnTo>
                    <a:pt x="134" y="0"/>
                  </a:lnTo>
                  <a:lnTo>
                    <a:pt x="165" y="32"/>
                  </a:lnTo>
                  <a:lnTo>
                    <a:pt x="134" y="62"/>
                  </a:lnTo>
                  <a:lnTo>
                    <a:pt x="145" y="106"/>
                  </a:lnTo>
                  <a:lnTo>
                    <a:pt x="94" y="199"/>
                  </a:lnTo>
                  <a:lnTo>
                    <a:pt x="21" y="179"/>
                  </a:lnTo>
                  <a:lnTo>
                    <a:pt x="0" y="117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1720" y="4454640"/>
              <a:ext cx="221040" cy="83880"/>
            </a:xfrm>
            <a:custGeom>
              <a:avLst/>
              <a:gdLst/>
              <a:ahLst/>
              <a:rect l="l" t="t" r="r" b="b"/>
              <a:pathLst>
                <a:path w="151" h="53">
                  <a:moveTo>
                    <a:pt x="0" y="13"/>
                  </a:moveTo>
                  <a:lnTo>
                    <a:pt x="9" y="0"/>
                  </a:lnTo>
                  <a:lnTo>
                    <a:pt x="115" y="13"/>
                  </a:lnTo>
                  <a:lnTo>
                    <a:pt x="146" y="32"/>
                  </a:lnTo>
                  <a:lnTo>
                    <a:pt x="150" y="52"/>
                  </a:lnTo>
                  <a:lnTo>
                    <a:pt x="25" y="26"/>
                  </a:lnTo>
                  <a:lnTo>
                    <a:pt x="0" y="13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95480" y="4121280"/>
              <a:ext cx="263520" cy="330120"/>
            </a:xfrm>
            <a:custGeom>
              <a:avLst/>
              <a:gdLst/>
              <a:ahLst/>
              <a:rect l="l" t="t" r="r" b="b"/>
              <a:pathLst>
                <a:path w="180" h="208">
                  <a:moveTo>
                    <a:pt x="0" y="0"/>
                  </a:moveTo>
                  <a:lnTo>
                    <a:pt x="38" y="8"/>
                  </a:lnTo>
                  <a:lnTo>
                    <a:pt x="130" y="83"/>
                  </a:lnTo>
                  <a:lnTo>
                    <a:pt x="138" y="116"/>
                  </a:lnTo>
                  <a:lnTo>
                    <a:pt x="179" y="156"/>
                  </a:lnTo>
                  <a:lnTo>
                    <a:pt x="156" y="207"/>
                  </a:lnTo>
                  <a:lnTo>
                    <a:pt x="117" y="175"/>
                  </a:lnTo>
                  <a:lnTo>
                    <a:pt x="58" y="73"/>
                  </a:lnTo>
                  <a:lnTo>
                    <a:pt x="0" y="0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71160" y="2895480"/>
              <a:ext cx="147600" cy="125640"/>
            </a:xfrm>
            <a:custGeom>
              <a:avLst/>
              <a:gdLst/>
              <a:ahLst/>
              <a:rect l="l" t="t" r="r" b="b"/>
              <a:pathLst>
                <a:path w="101" h="79">
                  <a:moveTo>
                    <a:pt x="0" y="66"/>
                  </a:moveTo>
                  <a:lnTo>
                    <a:pt x="12" y="66"/>
                  </a:lnTo>
                  <a:lnTo>
                    <a:pt x="58" y="78"/>
                  </a:lnTo>
                  <a:lnTo>
                    <a:pt x="100" y="45"/>
                  </a:lnTo>
                  <a:lnTo>
                    <a:pt x="94" y="26"/>
                  </a:lnTo>
                  <a:lnTo>
                    <a:pt x="37" y="0"/>
                  </a:lnTo>
                  <a:lnTo>
                    <a:pt x="0" y="66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16160" y="2563920"/>
              <a:ext cx="77400" cy="315720"/>
            </a:xfrm>
            <a:custGeom>
              <a:avLst/>
              <a:gdLst/>
              <a:ahLst/>
              <a:rect l="l" t="t" r="r" b="b"/>
              <a:pathLst>
                <a:path w="53" h="199">
                  <a:moveTo>
                    <a:pt x="0" y="50"/>
                  </a:moveTo>
                  <a:lnTo>
                    <a:pt x="8" y="198"/>
                  </a:lnTo>
                  <a:lnTo>
                    <a:pt x="52" y="135"/>
                  </a:lnTo>
                  <a:lnTo>
                    <a:pt x="16" y="0"/>
                  </a:lnTo>
                  <a:lnTo>
                    <a:pt x="0" y="50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55520" y="3038400"/>
              <a:ext cx="273960" cy="243000"/>
            </a:xfrm>
            <a:custGeom>
              <a:avLst/>
              <a:gdLst/>
              <a:ahLst/>
              <a:rect l="l" t="t" r="r" b="b"/>
              <a:pathLst>
                <a:path w="187" h="153">
                  <a:moveTo>
                    <a:pt x="0" y="152"/>
                  </a:moveTo>
                  <a:lnTo>
                    <a:pt x="31" y="120"/>
                  </a:lnTo>
                  <a:lnTo>
                    <a:pt x="81" y="120"/>
                  </a:lnTo>
                  <a:lnTo>
                    <a:pt x="106" y="81"/>
                  </a:lnTo>
                  <a:lnTo>
                    <a:pt x="146" y="53"/>
                  </a:lnTo>
                  <a:lnTo>
                    <a:pt x="175" y="0"/>
                  </a:lnTo>
                  <a:lnTo>
                    <a:pt x="186" y="38"/>
                  </a:lnTo>
                  <a:lnTo>
                    <a:pt x="159" y="128"/>
                  </a:lnTo>
                  <a:lnTo>
                    <a:pt x="98" y="148"/>
                  </a:lnTo>
                  <a:lnTo>
                    <a:pt x="56" y="141"/>
                  </a:lnTo>
                  <a:lnTo>
                    <a:pt x="0" y="152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26480" y="4008600"/>
              <a:ext cx="43560" cy="10296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0" y="0"/>
                  </a:moveTo>
                  <a:lnTo>
                    <a:pt x="4" y="64"/>
                  </a:lnTo>
                  <a:lnTo>
                    <a:pt x="29" y="52"/>
                  </a:lnTo>
                  <a:lnTo>
                    <a:pt x="16" y="13"/>
                  </a:lnTo>
                  <a:lnTo>
                    <a:pt x="0" y="0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54280" y="1298520"/>
              <a:ext cx="259200" cy="214200"/>
            </a:xfrm>
            <a:custGeom>
              <a:avLst/>
              <a:gdLst/>
              <a:ahLst/>
              <a:rect l="l" t="t" r="r" b="b"/>
              <a:pathLst>
                <a:path w="177" h="135">
                  <a:moveTo>
                    <a:pt x="0" y="15"/>
                  </a:moveTo>
                  <a:lnTo>
                    <a:pt x="2" y="32"/>
                  </a:lnTo>
                  <a:lnTo>
                    <a:pt x="31" y="74"/>
                  </a:lnTo>
                  <a:lnTo>
                    <a:pt x="82" y="64"/>
                  </a:lnTo>
                  <a:lnTo>
                    <a:pt x="49" y="80"/>
                  </a:lnTo>
                  <a:lnTo>
                    <a:pt x="89" y="102"/>
                  </a:lnTo>
                  <a:lnTo>
                    <a:pt x="53" y="105"/>
                  </a:lnTo>
                  <a:lnTo>
                    <a:pt x="103" y="134"/>
                  </a:lnTo>
                  <a:lnTo>
                    <a:pt x="176" y="47"/>
                  </a:lnTo>
                  <a:lnTo>
                    <a:pt x="93" y="0"/>
                  </a:lnTo>
                  <a:lnTo>
                    <a:pt x="93" y="47"/>
                  </a:lnTo>
                  <a:lnTo>
                    <a:pt x="61" y="9"/>
                  </a:lnTo>
                  <a:lnTo>
                    <a:pt x="0" y="15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35000" y="1270080"/>
              <a:ext cx="216360" cy="8712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4"/>
                  </a:moveTo>
                  <a:lnTo>
                    <a:pt x="27" y="38"/>
                  </a:lnTo>
                  <a:lnTo>
                    <a:pt x="84" y="54"/>
                  </a:lnTo>
                  <a:lnTo>
                    <a:pt x="147" y="24"/>
                  </a:lnTo>
                  <a:lnTo>
                    <a:pt x="111" y="4"/>
                  </a:lnTo>
                  <a:lnTo>
                    <a:pt x="69" y="22"/>
                  </a:lnTo>
                  <a:lnTo>
                    <a:pt x="27" y="0"/>
                  </a:lnTo>
                  <a:lnTo>
                    <a:pt x="0" y="24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96200" y="1413000"/>
              <a:ext cx="100800" cy="586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0" y="31"/>
                  </a:moveTo>
                  <a:lnTo>
                    <a:pt x="5" y="10"/>
                  </a:lnTo>
                  <a:lnTo>
                    <a:pt x="34" y="0"/>
                  </a:lnTo>
                  <a:lnTo>
                    <a:pt x="68" y="19"/>
                  </a:lnTo>
                  <a:lnTo>
                    <a:pt x="28" y="36"/>
                  </a:lnTo>
                  <a:lnTo>
                    <a:pt x="0" y="31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40680" y="1712880"/>
              <a:ext cx="149400" cy="122400"/>
            </a:xfrm>
            <a:custGeom>
              <a:avLst/>
              <a:gdLst/>
              <a:ahLst/>
              <a:rect l="l" t="t" r="r" b="b"/>
              <a:pathLst>
                <a:path w="102" h="77">
                  <a:moveTo>
                    <a:pt x="0" y="35"/>
                  </a:moveTo>
                  <a:lnTo>
                    <a:pt x="39" y="54"/>
                  </a:lnTo>
                  <a:lnTo>
                    <a:pt x="36" y="74"/>
                  </a:lnTo>
                  <a:lnTo>
                    <a:pt x="101" y="76"/>
                  </a:lnTo>
                  <a:lnTo>
                    <a:pt x="63" y="9"/>
                  </a:lnTo>
                  <a:lnTo>
                    <a:pt x="25" y="0"/>
                  </a:lnTo>
                  <a:lnTo>
                    <a:pt x="0" y="35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93600" y="1492200"/>
              <a:ext cx="351360" cy="212760"/>
            </a:xfrm>
            <a:custGeom>
              <a:avLst/>
              <a:gdLst/>
              <a:ahLst/>
              <a:rect l="l" t="t" r="r" b="b"/>
              <a:pathLst>
                <a:path w="240" h="134">
                  <a:moveTo>
                    <a:pt x="0" y="116"/>
                  </a:moveTo>
                  <a:lnTo>
                    <a:pt x="48" y="133"/>
                  </a:lnTo>
                  <a:lnTo>
                    <a:pt x="111" y="69"/>
                  </a:lnTo>
                  <a:lnTo>
                    <a:pt x="239" y="27"/>
                  </a:lnTo>
                  <a:lnTo>
                    <a:pt x="228" y="0"/>
                  </a:lnTo>
                  <a:lnTo>
                    <a:pt x="117" y="26"/>
                  </a:lnTo>
                  <a:lnTo>
                    <a:pt x="29" y="63"/>
                  </a:lnTo>
                  <a:lnTo>
                    <a:pt x="0" y="116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57840" y="2530440"/>
              <a:ext cx="106920" cy="131760"/>
            </a:xfrm>
            <a:custGeom>
              <a:avLst/>
              <a:gdLst/>
              <a:ahLst/>
              <a:rect l="l" t="t" r="r" b="b"/>
              <a:pathLst>
                <a:path w="73" h="83">
                  <a:moveTo>
                    <a:pt x="5" y="82"/>
                  </a:moveTo>
                  <a:lnTo>
                    <a:pt x="59" y="77"/>
                  </a:lnTo>
                  <a:lnTo>
                    <a:pt x="72" y="20"/>
                  </a:lnTo>
                  <a:lnTo>
                    <a:pt x="44" y="0"/>
                  </a:lnTo>
                  <a:lnTo>
                    <a:pt x="0" y="32"/>
                  </a:lnTo>
                  <a:lnTo>
                    <a:pt x="18" y="52"/>
                  </a:lnTo>
                  <a:lnTo>
                    <a:pt x="5" y="82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54320" y="2395440"/>
              <a:ext cx="185760" cy="341280"/>
            </a:xfrm>
            <a:custGeom>
              <a:avLst/>
              <a:gdLst/>
              <a:ahLst/>
              <a:rect l="l" t="t" r="r" b="b"/>
              <a:pathLst>
                <a:path w="127" h="215">
                  <a:moveTo>
                    <a:pt x="0" y="50"/>
                  </a:moveTo>
                  <a:lnTo>
                    <a:pt x="18" y="1"/>
                  </a:lnTo>
                  <a:lnTo>
                    <a:pt x="44" y="0"/>
                  </a:lnTo>
                  <a:lnTo>
                    <a:pt x="28" y="27"/>
                  </a:lnTo>
                  <a:lnTo>
                    <a:pt x="66" y="31"/>
                  </a:lnTo>
                  <a:lnTo>
                    <a:pt x="44" y="66"/>
                  </a:lnTo>
                  <a:lnTo>
                    <a:pt x="71" y="77"/>
                  </a:lnTo>
                  <a:lnTo>
                    <a:pt x="102" y="121"/>
                  </a:lnTo>
                  <a:lnTo>
                    <a:pt x="96" y="144"/>
                  </a:lnTo>
                  <a:lnTo>
                    <a:pt x="126" y="148"/>
                  </a:lnTo>
                  <a:lnTo>
                    <a:pt x="121" y="186"/>
                  </a:lnTo>
                  <a:lnTo>
                    <a:pt x="7" y="214"/>
                  </a:lnTo>
                  <a:lnTo>
                    <a:pt x="42" y="180"/>
                  </a:lnTo>
                  <a:lnTo>
                    <a:pt x="10" y="167"/>
                  </a:lnTo>
                  <a:lnTo>
                    <a:pt x="21" y="144"/>
                  </a:lnTo>
                  <a:lnTo>
                    <a:pt x="47" y="131"/>
                  </a:lnTo>
                  <a:lnTo>
                    <a:pt x="47" y="94"/>
                  </a:lnTo>
                  <a:lnTo>
                    <a:pt x="17" y="100"/>
                  </a:lnTo>
                  <a:lnTo>
                    <a:pt x="10" y="51"/>
                  </a:lnTo>
                  <a:lnTo>
                    <a:pt x="0" y="50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94160" y="3041640"/>
              <a:ext cx="38160" cy="7776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0" y="4"/>
                  </a:moveTo>
                  <a:lnTo>
                    <a:pt x="3" y="44"/>
                  </a:lnTo>
                  <a:lnTo>
                    <a:pt x="11" y="48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0" y="4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98560" y="3137040"/>
              <a:ext cx="73080" cy="56880"/>
            </a:xfrm>
            <a:custGeom>
              <a:avLst/>
              <a:gdLst/>
              <a:ahLst/>
              <a:rect l="l" t="t" r="r" b="b"/>
              <a:pathLst>
                <a:path w="50" h="36">
                  <a:moveTo>
                    <a:pt x="0" y="10"/>
                  </a:moveTo>
                  <a:lnTo>
                    <a:pt x="42" y="35"/>
                  </a:lnTo>
                  <a:lnTo>
                    <a:pt x="49" y="0"/>
                  </a:lnTo>
                  <a:lnTo>
                    <a:pt x="0" y="10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75480" y="1446120"/>
              <a:ext cx="4817520" cy="2795760"/>
            </a:xfrm>
            <a:custGeom>
              <a:avLst/>
              <a:gdLst/>
              <a:ahLst/>
              <a:rect l="l" t="t" r="r" b="b"/>
              <a:pathLst>
                <a:path w="3288" h="1761">
                  <a:moveTo>
                    <a:pt x="683" y="1240"/>
                  </a:moveTo>
                  <a:lnTo>
                    <a:pt x="730" y="1247"/>
                  </a:lnTo>
                  <a:lnTo>
                    <a:pt x="784" y="1354"/>
                  </a:lnTo>
                  <a:lnTo>
                    <a:pt x="829" y="1433"/>
                  </a:lnTo>
                  <a:lnTo>
                    <a:pt x="856" y="1493"/>
                  </a:lnTo>
                  <a:lnTo>
                    <a:pt x="871" y="1560"/>
                  </a:lnTo>
                  <a:lnTo>
                    <a:pt x="954" y="1537"/>
                  </a:lnTo>
                  <a:lnTo>
                    <a:pt x="1058" y="1479"/>
                  </a:lnTo>
                  <a:lnTo>
                    <a:pt x="1105" y="1442"/>
                  </a:lnTo>
                  <a:lnTo>
                    <a:pt x="1138" y="1378"/>
                  </a:lnTo>
                  <a:lnTo>
                    <a:pt x="1076" y="1311"/>
                  </a:lnTo>
                  <a:lnTo>
                    <a:pt x="1042" y="1346"/>
                  </a:lnTo>
                  <a:lnTo>
                    <a:pt x="1015" y="1346"/>
                  </a:lnTo>
                  <a:lnTo>
                    <a:pt x="989" y="1334"/>
                  </a:lnTo>
                  <a:lnTo>
                    <a:pt x="949" y="1263"/>
                  </a:lnTo>
                  <a:lnTo>
                    <a:pt x="946" y="1236"/>
                  </a:lnTo>
                  <a:lnTo>
                    <a:pt x="977" y="1232"/>
                  </a:lnTo>
                  <a:lnTo>
                    <a:pt x="1000" y="1275"/>
                  </a:lnTo>
                  <a:lnTo>
                    <a:pt x="1097" y="1318"/>
                  </a:lnTo>
                  <a:lnTo>
                    <a:pt x="1249" y="1321"/>
                  </a:lnTo>
                  <a:lnTo>
                    <a:pt x="1312" y="1412"/>
                  </a:lnTo>
                  <a:lnTo>
                    <a:pt x="1334" y="1403"/>
                  </a:lnTo>
                  <a:lnTo>
                    <a:pt x="1374" y="1508"/>
                  </a:lnTo>
                  <a:lnTo>
                    <a:pt x="1389" y="1564"/>
                  </a:lnTo>
                  <a:lnTo>
                    <a:pt x="1427" y="1642"/>
                  </a:lnTo>
                  <a:lnTo>
                    <a:pt x="1467" y="1603"/>
                  </a:lnTo>
                  <a:lnTo>
                    <a:pt x="1475" y="1504"/>
                  </a:lnTo>
                  <a:lnTo>
                    <a:pt x="1603" y="1385"/>
                  </a:lnTo>
                  <a:lnTo>
                    <a:pt x="1639" y="1392"/>
                  </a:lnTo>
                  <a:lnTo>
                    <a:pt x="1661" y="1374"/>
                  </a:lnTo>
                  <a:lnTo>
                    <a:pt x="1708" y="1455"/>
                  </a:lnTo>
                  <a:lnTo>
                    <a:pt x="1706" y="1497"/>
                  </a:lnTo>
                  <a:lnTo>
                    <a:pt x="1748" y="1473"/>
                  </a:lnTo>
                  <a:lnTo>
                    <a:pt x="1772" y="1639"/>
                  </a:lnTo>
                  <a:lnTo>
                    <a:pt x="1806" y="1670"/>
                  </a:lnTo>
                  <a:lnTo>
                    <a:pt x="1825" y="1734"/>
                  </a:lnTo>
                  <a:lnTo>
                    <a:pt x="1866" y="1760"/>
                  </a:lnTo>
                  <a:lnTo>
                    <a:pt x="1858" y="1697"/>
                  </a:lnTo>
                  <a:lnTo>
                    <a:pt x="1810" y="1657"/>
                  </a:lnTo>
                  <a:lnTo>
                    <a:pt x="1788" y="1603"/>
                  </a:lnTo>
                  <a:lnTo>
                    <a:pt x="1804" y="1542"/>
                  </a:lnTo>
                  <a:lnTo>
                    <a:pt x="1858" y="1595"/>
                  </a:lnTo>
                  <a:lnTo>
                    <a:pt x="1881" y="1631"/>
                  </a:lnTo>
                  <a:lnTo>
                    <a:pt x="1953" y="1576"/>
                  </a:lnTo>
                  <a:lnTo>
                    <a:pt x="1945" y="1510"/>
                  </a:lnTo>
                  <a:lnTo>
                    <a:pt x="1892" y="1447"/>
                  </a:lnTo>
                  <a:lnTo>
                    <a:pt x="1934" y="1397"/>
                  </a:lnTo>
                  <a:lnTo>
                    <a:pt x="1966" y="1421"/>
                  </a:lnTo>
                  <a:lnTo>
                    <a:pt x="2014" y="1388"/>
                  </a:lnTo>
                  <a:lnTo>
                    <a:pt x="2107" y="1337"/>
                  </a:lnTo>
                  <a:lnTo>
                    <a:pt x="2162" y="1200"/>
                  </a:lnTo>
                  <a:lnTo>
                    <a:pt x="2120" y="1138"/>
                  </a:lnTo>
                  <a:lnTo>
                    <a:pt x="2174" y="1088"/>
                  </a:lnTo>
                  <a:lnTo>
                    <a:pt x="2145" y="1077"/>
                  </a:lnTo>
                  <a:lnTo>
                    <a:pt x="2112" y="1091"/>
                  </a:lnTo>
                  <a:lnTo>
                    <a:pt x="2091" y="1065"/>
                  </a:lnTo>
                  <a:lnTo>
                    <a:pt x="2158" y="1010"/>
                  </a:lnTo>
                  <a:lnTo>
                    <a:pt x="2152" y="1060"/>
                  </a:lnTo>
                  <a:lnTo>
                    <a:pt x="2219" y="1041"/>
                  </a:lnTo>
                  <a:lnTo>
                    <a:pt x="2240" y="1077"/>
                  </a:lnTo>
                  <a:lnTo>
                    <a:pt x="2233" y="1148"/>
                  </a:lnTo>
                  <a:lnTo>
                    <a:pt x="2290" y="1113"/>
                  </a:lnTo>
                  <a:lnTo>
                    <a:pt x="2254" y="1036"/>
                  </a:lnTo>
                  <a:lnTo>
                    <a:pt x="2325" y="959"/>
                  </a:lnTo>
                  <a:lnTo>
                    <a:pt x="2350" y="974"/>
                  </a:lnTo>
                  <a:lnTo>
                    <a:pt x="2466" y="846"/>
                  </a:lnTo>
                  <a:lnTo>
                    <a:pt x="2484" y="757"/>
                  </a:lnTo>
                  <a:lnTo>
                    <a:pt x="2455" y="707"/>
                  </a:lnTo>
                  <a:lnTo>
                    <a:pt x="2381" y="695"/>
                  </a:lnTo>
                  <a:lnTo>
                    <a:pt x="2501" y="581"/>
                  </a:lnTo>
                  <a:lnTo>
                    <a:pt x="2601" y="579"/>
                  </a:lnTo>
                  <a:lnTo>
                    <a:pt x="2702" y="581"/>
                  </a:lnTo>
                  <a:lnTo>
                    <a:pt x="2744" y="514"/>
                  </a:lnTo>
                  <a:lnTo>
                    <a:pt x="2794" y="507"/>
                  </a:lnTo>
                  <a:lnTo>
                    <a:pt x="2790" y="545"/>
                  </a:lnTo>
                  <a:lnTo>
                    <a:pt x="2857" y="499"/>
                  </a:lnTo>
                  <a:lnTo>
                    <a:pt x="2735" y="617"/>
                  </a:lnTo>
                  <a:lnTo>
                    <a:pt x="2723" y="647"/>
                  </a:lnTo>
                  <a:lnTo>
                    <a:pt x="2735" y="789"/>
                  </a:lnTo>
                  <a:lnTo>
                    <a:pt x="2822" y="698"/>
                  </a:lnTo>
                  <a:lnTo>
                    <a:pt x="2819" y="610"/>
                  </a:lnTo>
                  <a:lnTo>
                    <a:pt x="2846" y="563"/>
                  </a:lnTo>
                  <a:lnTo>
                    <a:pt x="2922" y="545"/>
                  </a:lnTo>
                  <a:lnTo>
                    <a:pt x="2957" y="563"/>
                  </a:lnTo>
                  <a:lnTo>
                    <a:pt x="3070" y="492"/>
                  </a:lnTo>
                  <a:lnTo>
                    <a:pt x="3109" y="476"/>
                  </a:lnTo>
                  <a:lnTo>
                    <a:pt x="3093" y="433"/>
                  </a:lnTo>
                  <a:lnTo>
                    <a:pt x="3141" y="405"/>
                  </a:lnTo>
                  <a:lnTo>
                    <a:pt x="3244" y="434"/>
                  </a:lnTo>
                  <a:lnTo>
                    <a:pt x="3287" y="386"/>
                  </a:lnTo>
                  <a:lnTo>
                    <a:pt x="3194" y="340"/>
                  </a:lnTo>
                  <a:lnTo>
                    <a:pt x="3090" y="286"/>
                  </a:lnTo>
                  <a:lnTo>
                    <a:pt x="2963" y="266"/>
                  </a:lnTo>
                  <a:lnTo>
                    <a:pt x="2955" y="306"/>
                  </a:lnTo>
                  <a:lnTo>
                    <a:pt x="2901" y="284"/>
                  </a:lnTo>
                  <a:lnTo>
                    <a:pt x="2813" y="289"/>
                  </a:lnTo>
                  <a:lnTo>
                    <a:pt x="2769" y="239"/>
                  </a:lnTo>
                  <a:lnTo>
                    <a:pt x="2666" y="243"/>
                  </a:lnTo>
                  <a:lnTo>
                    <a:pt x="2614" y="196"/>
                  </a:lnTo>
                  <a:lnTo>
                    <a:pt x="2476" y="176"/>
                  </a:lnTo>
                  <a:lnTo>
                    <a:pt x="2428" y="228"/>
                  </a:lnTo>
                  <a:lnTo>
                    <a:pt x="2338" y="203"/>
                  </a:lnTo>
                  <a:lnTo>
                    <a:pt x="2317" y="246"/>
                  </a:lnTo>
                  <a:lnTo>
                    <a:pt x="2283" y="168"/>
                  </a:lnTo>
                  <a:lnTo>
                    <a:pt x="2185" y="144"/>
                  </a:lnTo>
                  <a:lnTo>
                    <a:pt x="2182" y="168"/>
                  </a:lnTo>
                  <a:lnTo>
                    <a:pt x="2062" y="144"/>
                  </a:lnTo>
                  <a:lnTo>
                    <a:pt x="1977" y="148"/>
                  </a:lnTo>
                  <a:lnTo>
                    <a:pt x="1902" y="165"/>
                  </a:lnTo>
                  <a:lnTo>
                    <a:pt x="2015" y="98"/>
                  </a:lnTo>
                  <a:lnTo>
                    <a:pt x="2028" y="68"/>
                  </a:lnTo>
                  <a:lnTo>
                    <a:pt x="1982" y="35"/>
                  </a:lnTo>
                  <a:lnTo>
                    <a:pt x="1898" y="47"/>
                  </a:lnTo>
                  <a:lnTo>
                    <a:pt x="1919" y="28"/>
                  </a:lnTo>
                  <a:lnTo>
                    <a:pt x="1868" y="0"/>
                  </a:lnTo>
                  <a:lnTo>
                    <a:pt x="1778" y="55"/>
                  </a:lnTo>
                  <a:lnTo>
                    <a:pt x="1693" y="68"/>
                  </a:lnTo>
                  <a:lnTo>
                    <a:pt x="1597" y="99"/>
                  </a:lnTo>
                  <a:lnTo>
                    <a:pt x="1580" y="138"/>
                  </a:lnTo>
                  <a:lnTo>
                    <a:pt x="1480" y="149"/>
                  </a:lnTo>
                  <a:lnTo>
                    <a:pt x="1488" y="189"/>
                  </a:lnTo>
                  <a:lnTo>
                    <a:pt x="1525" y="215"/>
                  </a:lnTo>
                  <a:lnTo>
                    <a:pt x="1443" y="192"/>
                  </a:lnTo>
                  <a:lnTo>
                    <a:pt x="1443" y="239"/>
                  </a:lnTo>
                  <a:lnTo>
                    <a:pt x="1400" y="227"/>
                  </a:lnTo>
                  <a:lnTo>
                    <a:pt x="1387" y="195"/>
                  </a:lnTo>
                  <a:lnTo>
                    <a:pt x="1356" y="219"/>
                  </a:lnTo>
                  <a:lnTo>
                    <a:pt x="1377" y="246"/>
                  </a:lnTo>
                  <a:lnTo>
                    <a:pt x="1358" y="340"/>
                  </a:lnTo>
                  <a:lnTo>
                    <a:pt x="1333" y="172"/>
                  </a:lnTo>
                  <a:lnTo>
                    <a:pt x="1295" y="172"/>
                  </a:lnTo>
                  <a:lnTo>
                    <a:pt x="1254" y="281"/>
                  </a:lnTo>
                  <a:lnTo>
                    <a:pt x="1291" y="306"/>
                  </a:lnTo>
                  <a:lnTo>
                    <a:pt x="1278" y="324"/>
                  </a:lnTo>
                  <a:lnTo>
                    <a:pt x="1209" y="284"/>
                  </a:lnTo>
                  <a:lnTo>
                    <a:pt x="1156" y="272"/>
                  </a:lnTo>
                  <a:lnTo>
                    <a:pt x="1156" y="304"/>
                  </a:lnTo>
                  <a:lnTo>
                    <a:pt x="1055" y="325"/>
                  </a:lnTo>
                  <a:lnTo>
                    <a:pt x="1039" y="304"/>
                  </a:lnTo>
                  <a:lnTo>
                    <a:pt x="946" y="347"/>
                  </a:lnTo>
                  <a:lnTo>
                    <a:pt x="880" y="322"/>
                  </a:lnTo>
                  <a:lnTo>
                    <a:pt x="880" y="396"/>
                  </a:lnTo>
                  <a:lnTo>
                    <a:pt x="850" y="375"/>
                  </a:lnTo>
                  <a:lnTo>
                    <a:pt x="810" y="403"/>
                  </a:lnTo>
                  <a:lnTo>
                    <a:pt x="829" y="434"/>
                  </a:lnTo>
                  <a:lnTo>
                    <a:pt x="757" y="429"/>
                  </a:lnTo>
                  <a:lnTo>
                    <a:pt x="774" y="458"/>
                  </a:lnTo>
                  <a:lnTo>
                    <a:pt x="723" y="434"/>
                  </a:lnTo>
                  <a:lnTo>
                    <a:pt x="726" y="396"/>
                  </a:lnTo>
                  <a:lnTo>
                    <a:pt x="678" y="360"/>
                  </a:lnTo>
                  <a:lnTo>
                    <a:pt x="795" y="390"/>
                  </a:lnTo>
                  <a:lnTo>
                    <a:pt x="829" y="343"/>
                  </a:lnTo>
                  <a:lnTo>
                    <a:pt x="742" y="294"/>
                  </a:lnTo>
                  <a:lnTo>
                    <a:pt x="678" y="272"/>
                  </a:lnTo>
                  <a:lnTo>
                    <a:pt x="625" y="263"/>
                  </a:lnTo>
                  <a:lnTo>
                    <a:pt x="663" y="257"/>
                  </a:lnTo>
                  <a:lnTo>
                    <a:pt x="606" y="232"/>
                  </a:lnTo>
                  <a:lnTo>
                    <a:pt x="565" y="238"/>
                  </a:lnTo>
                  <a:lnTo>
                    <a:pt x="537" y="270"/>
                  </a:lnTo>
                  <a:lnTo>
                    <a:pt x="508" y="259"/>
                  </a:lnTo>
                  <a:lnTo>
                    <a:pt x="475" y="293"/>
                  </a:lnTo>
                  <a:lnTo>
                    <a:pt x="454" y="284"/>
                  </a:lnTo>
                  <a:lnTo>
                    <a:pt x="443" y="310"/>
                  </a:lnTo>
                  <a:lnTo>
                    <a:pt x="412" y="331"/>
                  </a:lnTo>
                  <a:lnTo>
                    <a:pt x="358" y="417"/>
                  </a:lnTo>
                  <a:lnTo>
                    <a:pt x="313" y="453"/>
                  </a:lnTo>
                  <a:lnTo>
                    <a:pt x="240" y="502"/>
                  </a:lnTo>
                  <a:lnTo>
                    <a:pt x="278" y="519"/>
                  </a:lnTo>
                  <a:lnTo>
                    <a:pt x="234" y="535"/>
                  </a:lnTo>
                  <a:lnTo>
                    <a:pt x="247" y="598"/>
                  </a:lnTo>
                  <a:lnTo>
                    <a:pt x="289" y="608"/>
                  </a:lnTo>
                  <a:lnTo>
                    <a:pt x="327" y="563"/>
                  </a:lnTo>
                  <a:lnTo>
                    <a:pt x="347" y="628"/>
                  </a:lnTo>
                  <a:lnTo>
                    <a:pt x="364" y="648"/>
                  </a:lnTo>
                  <a:lnTo>
                    <a:pt x="361" y="678"/>
                  </a:lnTo>
                  <a:lnTo>
                    <a:pt x="416" y="659"/>
                  </a:lnTo>
                  <a:lnTo>
                    <a:pt x="430" y="601"/>
                  </a:lnTo>
                  <a:lnTo>
                    <a:pt x="418" y="595"/>
                  </a:lnTo>
                  <a:lnTo>
                    <a:pt x="462" y="563"/>
                  </a:lnTo>
                  <a:lnTo>
                    <a:pt x="436" y="545"/>
                  </a:lnTo>
                  <a:lnTo>
                    <a:pt x="436" y="492"/>
                  </a:lnTo>
                  <a:lnTo>
                    <a:pt x="508" y="437"/>
                  </a:lnTo>
                  <a:lnTo>
                    <a:pt x="510" y="402"/>
                  </a:lnTo>
                  <a:lnTo>
                    <a:pt x="548" y="393"/>
                  </a:lnTo>
                  <a:lnTo>
                    <a:pt x="573" y="422"/>
                  </a:lnTo>
                  <a:lnTo>
                    <a:pt x="500" y="484"/>
                  </a:lnTo>
                  <a:lnTo>
                    <a:pt x="502" y="543"/>
                  </a:lnTo>
                  <a:lnTo>
                    <a:pt x="531" y="563"/>
                  </a:lnTo>
                  <a:lnTo>
                    <a:pt x="608" y="545"/>
                  </a:lnTo>
                  <a:lnTo>
                    <a:pt x="651" y="562"/>
                  </a:lnTo>
                  <a:lnTo>
                    <a:pt x="542" y="578"/>
                  </a:lnTo>
                  <a:lnTo>
                    <a:pt x="548" y="640"/>
                  </a:lnTo>
                  <a:lnTo>
                    <a:pt x="523" y="620"/>
                  </a:lnTo>
                  <a:lnTo>
                    <a:pt x="500" y="644"/>
                  </a:lnTo>
                  <a:lnTo>
                    <a:pt x="497" y="680"/>
                  </a:lnTo>
                  <a:lnTo>
                    <a:pt x="476" y="702"/>
                  </a:lnTo>
                  <a:lnTo>
                    <a:pt x="436" y="695"/>
                  </a:lnTo>
                  <a:lnTo>
                    <a:pt x="382" y="719"/>
                  </a:lnTo>
                  <a:lnTo>
                    <a:pt x="359" y="702"/>
                  </a:lnTo>
                  <a:lnTo>
                    <a:pt x="332" y="704"/>
                  </a:lnTo>
                  <a:lnTo>
                    <a:pt x="309" y="692"/>
                  </a:lnTo>
                  <a:lnTo>
                    <a:pt x="330" y="657"/>
                  </a:lnTo>
                  <a:lnTo>
                    <a:pt x="326" y="621"/>
                  </a:lnTo>
                  <a:lnTo>
                    <a:pt x="289" y="640"/>
                  </a:lnTo>
                  <a:lnTo>
                    <a:pt x="289" y="672"/>
                  </a:lnTo>
                  <a:lnTo>
                    <a:pt x="292" y="729"/>
                  </a:lnTo>
                  <a:lnTo>
                    <a:pt x="282" y="721"/>
                  </a:lnTo>
                  <a:lnTo>
                    <a:pt x="244" y="731"/>
                  </a:lnTo>
                  <a:lnTo>
                    <a:pt x="234" y="768"/>
                  </a:lnTo>
                  <a:lnTo>
                    <a:pt x="183" y="789"/>
                  </a:lnTo>
                  <a:lnTo>
                    <a:pt x="162" y="822"/>
                  </a:lnTo>
                  <a:lnTo>
                    <a:pt x="122" y="815"/>
                  </a:lnTo>
                  <a:lnTo>
                    <a:pt x="131" y="840"/>
                  </a:lnTo>
                  <a:lnTo>
                    <a:pt x="79" y="844"/>
                  </a:lnTo>
                  <a:lnTo>
                    <a:pt x="83" y="859"/>
                  </a:lnTo>
                  <a:lnTo>
                    <a:pt x="125" y="871"/>
                  </a:lnTo>
                  <a:lnTo>
                    <a:pt x="120" y="884"/>
                  </a:lnTo>
                  <a:lnTo>
                    <a:pt x="144" y="918"/>
                  </a:lnTo>
                  <a:lnTo>
                    <a:pt x="125" y="959"/>
                  </a:lnTo>
                  <a:lnTo>
                    <a:pt x="21" y="953"/>
                  </a:lnTo>
                  <a:lnTo>
                    <a:pt x="3" y="965"/>
                  </a:lnTo>
                  <a:lnTo>
                    <a:pt x="0" y="1057"/>
                  </a:lnTo>
                  <a:lnTo>
                    <a:pt x="12" y="1093"/>
                  </a:lnTo>
                  <a:lnTo>
                    <a:pt x="35" y="1091"/>
                  </a:lnTo>
                  <a:lnTo>
                    <a:pt x="122" y="1097"/>
                  </a:lnTo>
                  <a:lnTo>
                    <a:pt x="159" y="1060"/>
                  </a:lnTo>
                  <a:lnTo>
                    <a:pt x="151" y="1045"/>
                  </a:lnTo>
                  <a:lnTo>
                    <a:pt x="167" y="1014"/>
                  </a:lnTo>
                  <a:lnTo>
                    <a:pt x="207" y="992"/>
                  </a:lnTo>
                  <a:lnTo>
                    <a:pt x="207" y="961"/>
                  </a:lnTo>
                  <a:lnTo>
                    <a:pt x="220" y="956"/>
                  </a:lnTo>
                  <a:lnTo>
                    <a:pt x="255" y="965"/>
                  </a:lnTo>
                  <a:lnTo>
                    <a:pt x="278" y="949"/>
                  </a:lnTo>
                  <a:lnTo>
                    <a:pt x="298" y="933"/>
                  </a:lnTo>
                  <a:lnTo>
                    <a:pt x="319" y="944"/>
                  </a:lnTo>
                  <a:lnTo>
                    <a:pt x="334" y="979"/>
                  </a:lnTo>
                  <a:lnTo>
                    <a:pt x="412" y="1029"/>
                  </a:lnTo>
                  <a:lnTo>
                    <a:pt x="418" y="1073"/>
                  </a:lnTo>
                  <a:lnTo>
                    <a:pt x="436" y="1050"/>
                  </a:lnTo>
                  <a:lnTo>
                    <a:pt x="430" y="1023"/>
                  </a:lnTo>
                  <a:lnTo>
                    <a:pt x="460" y="1029"/>
                  </a:lnTo>
                  <a:lnTo>
                    <a:pt x="395" y="984"/>
                  </a:lnTo>
                  <a:lnTo>
                    <a:pt x="358" y="941"/>
                  </a:lnTo>
                  <a:lnTo>
                    <a:pt x="355" y="913"/>
                  </a:lnTo>
                  <a:lnTo>
                    <a:pt x="393" y="917"/>
                  </a:lnTo>
                  <a:lnTo>
                    <a:pt x="416" y="956"/>
                  </a:lnTo>
                  <a:lnTo>
                    <a:pt x="470" y="991"/>
                  </a:lnTo>
                  <a:lnTo>
                    <a:pt x="470" y="1022"/>
                  </a:lnTo>
                  <a:lnTo>
                    <a:pt x="487" y="1038"/>
                  </a:lnTo>
                  <a:lnTo>
                    <a:pt x="502" y="1065"/>
                  </a:lnTo>
                  <a:lnTo>
                    <a:pt x="533" y="1070"/>
                  </a:lnTo>
                  <a:lnTo>
                    <a:pt x="502" y="1077"/>
                  </a:lnTo>
                  <a:lnTo>
                    <a:pt x="510" y="1097"/>
                  </a:lnTo>
                  <a:lnTo>
                    <a:pt x="531" y="1103"/>
                  </a:lnTo>
                  <a:lnTo>
                    <a:pt x="548" y="1069"/>
                  </a:lnTo>
                  <a:lnTo>
                    <a:pt x="525" y="1054"/>
                  </a:lnTo>
                  <a:lnTo>
                    <a:pt x="537" y="1048"/>
                  </a:lnTo>
                  <a:lnTo>
                    <a:pt x="526" y="1017"/>
                  </a:lnTo>
                  <a:lnTo>
                    <a:pt x="608" y="1010"/>
                  </a:lnTo>
                  <a:lnTo>
                    <a:pt x="606" y="979"/>
                  </a:lnTo>
                  <a:lnTo>
                    <a:pt x="625" y="949"/>
                  </a:lnTo>
                  <a:lnTo>
                    <a:pt x="640" y="914"/>
                  </a:lnTo>
                  <a:lnTo>
                    <a:pt x="651" y="893"/>
                  </a:lnTo>
                  <a:lnTo>
                    <a:pt x="678" y="884"/>
                  </a:lnTo>
                  <a:lnTo>
                    <a:pt x="678" y="896"/>
                  </a:lnTo>
                  <a:lnTo>
                    <a:pt x="709" y="897"/>
                  </a:lnTo>
                  <a:lnTo>
                    <a:pt x="693" y="913"/>
                  </a:lnTo>
                  <a:lnTo>
                    <a:pt x="713" y="933"/>
                  </a:lnTo>
                  <a:lnTo>
                    <a:pt x="757" y="913"/>
                  </a:lnTo>
                  <a:lnTo>
                    <a:pt x="733" y="917"/>
                  </a:lnTo>
                  <a:lnTo>
                    <a:pt x="730" y="902"/>
                  </a:lnTo>
                  <a:lnTo>
                    <a:pt x="734" y="890"/>
                  </a:lnTo>
                  <a:lnTo>
                    <a:pt x="799" y="870"/>
                  </a:lnTo>
                  <a:lnTo>
                    <a:pt x="778" y="884"/>
                  </a:lnTo>
                  <a:lnTo>
                    <a:pt x="757" y="918"/>
                  </a:lnTo>
                  <a:lnTo>
                    <a:pt x="837" y="968"/>
                  </a:lnTo>
                  <a:lnTo>
                    <a:pt x="839" y="998"/>
                  </a:lnTo>
                  <a:lnTo>
                    <a:pt x="782" y="1010"/>
                  </a:lnTo>
                  <a:lnTo>
                    <a:pt x="734" y="984"/>
                  </a:lnTo>
                  <a:lnTo>
                    <a:pt x="667" y="1008"/>
                  </a:lnTo>
                  <a:lnTo>
                    <a:pt x="635" y="1005"/>
                  </a:lnTo>
                  <a:lnTo>
                    <a:pt x="646" y="1014"/>
                  </a:lnTo>
                  <a:lnTo>
                    <a:pt x="585" y="1030"/>
                  </a:lnTo>
                  <a:lnTo>
                    <a:pt x="603" y="1065"/>
                  </a:lnTo>
                  <a:lnTo>
                    <a:pt x="606" y="1100"/>
                  </a:lnTo>
                  <a:lnTo>
                    <a:pt x="646" y="1108"/>
                  </a:lnTo>
                  <a:lnTo>
                    <a:pt x="663" y="1096"/>
                  </a:lnTo>
                  <a:lnTo>
                    <a:pt x="696" y="1112"/>
                  </a:lnTo>
                  <a:lnTo>
                    <a:pt x="751" y="1096"/>
                  </a:lnTo>
                  <a:lnTo>
                    <a:pt x="744" y="1139"/>
                  </a:lnTo>
                  <a:lnTo>
                    <a:pt x="713" y="1209"/>
                  </a:lnTo>
                  <a:lnTo>
                    <a:pt x="659" y="1204"/>
                  </a:lnTo>
                  <a:lnTo>
                    <a:pt x="683" y="1240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9720" y="1066680"/>
              <a:ext cx="1466280" cy="1270080"/>
            </a:xfrm>
            <a:custGeom>
              <a:avLst/>
              <a:gdLst/>
              <a:ahLst/>
              <a:rect l="l" t="t" r="r" b="b"/>
              <a:pathLst>
                <a:path w="1001" h="800">
                  <a:moveTo>
                    <a:pt x="0" y="224"/>
                  </a:moveTo>
                  <a:lnTo>
                    <a:pt x="5" y="209"/>
                  </a:lnTo>
                  <a:lnTo>
                    <a:pt x="64" y="186"/>
                  </a:lnTo>
                  <a:lnTo>
                    <a:pt x="111" y="186"/>
                  </a:lnTo>
                  <a:lnTo>
                    <a:pt x="144" y="138"/>
                  </a:lnTo>
                  <a:lnTo>
                    <a:pt x="114" y="150"/>
                  </a:lnTo>
                  <a:lnTo>
                    <a:pt x="83" y="138"/>
                  </a:lnTo>
                  <a:lnTo>
                    <a:pt x="144" y="101"/>
                  </a:lnTo>
                  <a:lnTo>
                    <a:pt x="186" y="100"/>
                  </a:lnTo>
                  <a:lnTo>
                    <a:pt x="184" y="74"/>
                  </a:lnTo>
                  <a:lnTo>
                    <a:pt x="250" y="92"/>
                  </a:lnTo>
                  <a:lnTo>
                    <a:pt x="209" y="68"/>
                  </a:lnTo>
                  <a:lnTo>
                    <a:pt x="287" y="50"/>
                  </a:lnTo>
                  <a:lnTo>
                    <a:pt x="318" y="64"/>
                  </a:lnTo>
                  <a:lnTo>
                    <a:pt x="375" y="68"/>
                  </a:lnTo>
                  <a:lnTo>
                    <a:pt x="358" y="41"/>
                  </a:lnTo>
                  <a:lnTo>
                    <a:pt x="454" y="76"/>
                  </a:lnTo>
                  <a:lnTo>
                    <a:pt x="519" y="50"/>
                  </a:lnTo>
                  <a:lnTo>
                    <a:pt x="438" y="15"/>
                  </a:lnTo>
                  <a:lnTo>
                    <a:pt x="479" y="10"/>
                  </a:lnTo>
                  <a:lnTo>
                    <a:pt x="547" y="31"/>
                  </a:lnTo>
                  <a:lnTo>
                    <a:pt x="569" y="15"/>
                  </a:lnTo>
                  <a:lnTo>
                    <a:pt x="561" y="0"/>
                  </a:lnTo>
                  <a:lnTo>
                    <a:pt x="726" y="10"/>
                  </a:lnTo>
                  <a:lnTo>
                    <a:pt x="792" y="27"/>
                  </a:lnTo>
                  <a:lnTo>
                    <a:pt x="840" y="40"/>
                  </a:lnTo>
                  <a:lnTo>
                    <a:pt x="660" y="58"/>
                  </a:lnTo>
                  <a:lnTo>
                    <a:pt x="641" y="80"/>
                  </a:lnTo>
                  <a:lnTo>
                    <a:pt x="769" y="74"/>
                  </a:lnTo>
                  <a:lnTo>
                    <a:pt x="744" y="89"/>
                  </a:lnTo>
                  <a:lnTo>
                    <a:pt x="824" y="64"/>
                  </a:lnTo>
                  <a:lnTo>
                    <a:pt x="827" y="88"/>
                  </a:lnTo>
                  <a:lnTo>
                    <a:pt x="787" y="130"/>
                  </a:lnTo>
                  <a:lnTo>
                    <a:pt x="865" y="89"/>
                  </a:lnTo>
                  <a:lnTo>
                    <a:pt x="912" y="74"/>
                  </a:lnTo>
                  <a:lnTo>
                    <a:pt x="951" y="68"/>
                  </a:lnTo>
                  <a:lnTo>
                    <a:pt x="1000" y="83"/>
                  </a:lnTo>
                  <a:lnTo>
                    <a:pt x="955" y="114"/>
                  </a:lnTo>
                  <a:lnTo>
                    <a:pt x="846" y="126"/>
                  </a:lnTo>
                  <a:lnTo>
                    <a:pt x="932" y="130"/>
                  </a:lnTo>
                  <a:lnTo>
                    <a:pt x="865" y="147"/>
                  </a:lnTo>
                  <a:lnTo>
                    <a:pt x="886" y="178"/>
                  </a:lnTo>
                  <a:lnTo>
                    <a:pt x="851" y="198"/>
                  </a:lnTo>
                  <a:lnTo>
                    <a:pt x="883" y="237"/>
                  </a:lnTo>
                  <a:lnTo>
                    <a:pt x="865" y="251"/>
                  </a:lnTo>
                  <a:lnTo>
                    <a:pt x="899" y="253"/>
                  </a:lnTo>
                  <a:lnTo>
                    <a:pt x="859" y="273"/>
                  </a:lnTo>
                  <a:lnTo>
                    <a:pt x="873" y="298"/>
                  </a:lnTo>
                  <a:lnTo>
                    <a:pt x="880" y="334"/>
                  </a:lnTo>
                  <a:lnTo>
                    <a:pt x="838" y="323"/>
                  </a:lnTo>
                  <a:lnTo>
                    <a:pt x="853" y="354"/>
                  </a:lnTo>
                  <a:lnTo>
                    <a:pt x="886" y="361"/>
                  </a:lnTo>
                  <a:lnTo>
                    <a:pt x="830" y="366"/>
                  </a:lnTo>
                  <a:lnTo>
                    <a:pt x="865" y="382"/>
                  </a:lnTo>
                  <a:lnTo>
                    <a:pt x="832" y="401"/>
                  </a:lnTo>
                  <a:lnTo>
                    <a:pt x="803" y="384"/>
                  </a:lnTo>
                  <a:lnTo>
                    <a:pt x="756" y="400"/>
                  </a:lnTo>
                  <a:lnTo>
                    <a:pt x="779" y="443"/>
                  </a:lnTo>
                  <a:lnTo>
                    <a:pt x="796" y="432"/>
                  </a:lnTo>
                  <a:lnTo>
                    <a:pt x="842" y="463"/>
                  </a:lnTo>
                  <a:lnTo>
                    <a:pt x="842" y="494"/>
                  </a:lnTo>
                  <a:lnTo>
                    <a:pt x="792" y="467"/>
                  </a:lnTo>
                  <a:lnTo>
                    <a:pt x="745" y="450"/>
                  </a:lnTo>
                  <a:lnTo>
                    <a:pt x="737" y="479"/>
                  </a:lnTo>
                  <a:lnTo>
                    <a:pt x="763" y="499"/>
                  </a:lnTo>
                  <a:lnTo>
                    <a:pt x="726" y="506"/>
                  </a:lnTo>
                  <a:lnTo>
                    <a:pt x="832" y="512"/>
                  </a:lnTo>
                  <a:lnTo>
                    <a:pt x="764" y="549"/>
                  </a:lnTo>
                  <a:lnTo>
                    <a:pt x="702" y="569"/>
                  </a:lnTo>
                  <a:lnTo>
                    <a:pt x="651" y="583"/>
                  </a:lnTo>
                  <a:lnTo>
                    <a:pt x="628" y="620"/>
                  </a:lnTo>
                  <a:lnTo>
                    <a:pt x="576" y="619"/>
                  </a:lnTo>
                  <a:lnTo>
                    <a:pt x="569" y="645"/>
                  </a:lnTo>
                  <a:lnTo>
                    <a:pt x="540" y="646"/>
                  </a:lnTo>
                  <a:lnTo>
                    <a:pt x="524" y="662"/>
                  </a:lnTo>
                  <a:lnTo>
                    <a:pt x="527" y="701"/>
                  </a:lnTo>
                  <a:lnTo>
                    <a:pt x="497" y="729"/>
                  </a:lnTo>
                  <a:lnTo>
                    <a:pt x="508" y="752"/>
                  </a:lnTo>
                  <a:lnTo>
                    <a:pt x="490" y="799"/>
                  </a:lnTo>
                  <a:lnTo>
                    <a:pt x="460" y="799"/>
                  </a:lnTo>
                  <a:lnTo>
                    <a:pt x="418" y="773"/>
                  </a:lnTo>
                  <a:lnTo>
                    <a:pt x="383" y="747"/>
                  </a:lnTo>
                  <a:lnTo>
                    <a:pt x="345" y="685"/>
                  </a:lnTo>
                  <a:lnTo>
                    <a:pt x="320" y="631"/>
                  </a:lnTo>
                  <a:lnTo>
                    <a:pt x="314" y="595"/>
                  </a:lnTo>
                  <a:lnTo>
                    <a:pt x="329" y="560"/>
                  </a:lnTo>
                  <a:lnTo>
                    <a:pt x="362" y="530"/>
                  </a:lnTo>
                  <a:lnTo>
                    <a:pt x="370" y="510"/>
                  </a:lnTo>
                  <a:lnTo>
                    <a:pt x="337" y="506"/>
                  </a:lnTo>
                  <a:lnTo>
                    <a:pt x="303" y="487"/>
                  </a:lnTo>
                  <a:lnTo>
                    <a:pt x="366" y="487"/>
                  </a:lnTo>
                  <a:lnTo>
                    <a:pt x="329" y="465"/>
                  </a:lnTo>
                  <a:lnTo>
                    <a:pt x="348" y="455"/>
                  </a:lnTo>
                  <a:lnTo>
                    <a:pt x="311" y="463"/>
                  </a:lnTo>
                  <a:lnTo>
                    <a:pt x="289" y="465"/>
                  </a:lnTo>
                  <a:lnTo>
                    <a:pt x="287" y="443"/>
                  </a:lnTo>
                  <a:lnTo>
                    <a:pt x="303" y="415"/>
                  </a:lnTo>
                  <a:lnTo>
                    <a:pt x="266" y="360"/>
                  </a:lnTo>
                  <a:lnTo>
                    <a:pt x="239" y="313"/>
                  </a:lnTo>
                  <a:lnTo>
                    <a:pt x="201" y="299"/>
                  </a:lnTo>
                  <a:lnTo>
                    <a:pt x="125" y="304"/>
                  </a:lnTo>
                  <a:lnTo>
                    <a:pt x="56" y="291"/>
                  </a:lnTo>
                  <a:lnTo>
                    <a:pt x="77" y="279"/>
                  </a:lnTo>
                  <a:lnTo>
                    <a:pt x="24" y="268"/>
                  </a:lnTo>
                  <a:lnTo>
                    <a:pt x="119" y="244"/>
                  </a:lnTo>
                  <a:lnTo>
                    <a:pt x="58" y="249"/>
                  </a:lnTo>
                  <a:lnTo>
                    <a:pt x="0" y="224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86040" y="1658880"/>
              <a:ext cx="133200" cy="10152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0" y="43"/>
                  </a:moveTo>
                  <a:lnTo>
                    <a:pt x="46" y="63"/>
                  </a:lnTo>
                  <a:lnTo>
                    <a:pt x="90" y="4"/>
                  </a:lnTo>
                  <a:lnTo>
                    <a:pt x="7" y="0"/>
                  </a:lnTo>
                  <a:lnTo>
                    <a:pt x="0" y="43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24760" y="1517760"/>
              <a:ext cx="120240" cy="8568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0" y="35"/>
                  </a:moveTo>
                  <a:lnTo>
                    <a:pt x="7" y="3"/>
                  </a:lnTo>
                  <a:lnTo>
                    <a:pt x="72" y="0"/>
                  </a:lnTo>
                  <a:lnTo>
                    <a:pt x="81" y="38"/>
                  </a:lnTo>
                  <a:lnTo>
                    <a:pt x="70" y="53"/>
                  </a:lnTo>
                  <a:lnTo>
                    <a:pt x="29" y="50"/>
                  </a:lnTo>
                  <a:lnTo>
                    <a:pt x="0" y="35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4760" y="1658880"/>
              <a:ext cx="143280" cy="150840"/>
            </a:xfrm>
            <a:custGeom>
              <a:avLst/>
              <a:gdLst/>
              <a:ahLst/>
              <a:rect l="l" t="t" r="r" b="b"/>
              <a:pathLst>
                <a:path w="98" h="95">
                  <a:moveTo>
                    <a:pt x="0" y="48"/>
                  </a:moveTo>
                  <a:lnTo>
                    <a:pt x="36" y="0"/>
                  </a:lnTo>
                  <a:lnTo>
                    <a:pt x="81" y="26"/>
                  </a:lnTo>
                  <a:lnTo>
                    <a:pt x="67" y="42"/>
                  </a:lnTo>
                  <a:lnTo>
                    <a:pt x="94" y="45"/>
                  </a:lnTo>
                  <a:lnTo>
                    <a:pt x="97" y="74"/>
                  </a:lnTo>
                  <a:lnTo>
                    <a:pt x="54" y="94"/>
                  </a:lnTo>
                  <a:lnTo>
                    <a:pt x="0" y="48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58280" y="1495440"/>
              <a:ext cx="295920" cy="144360"/>
            </a:xfrm>
            <a:custGeom>
              <a:avLst/>
              <a:gdLst/>
              <a:ahLst/>
              <a:rect l="l" t="t" r="r" b="b"/>
              <a:pathLst>
                <a:path w="202" h="91">
                  <a:moveTo>
                    <a:pt x="0" y="59"/>
                  </a:moveTo>
                  <a:lnTo>
                    <a:pt x="42" y="14"/>
                  </a:lnTo>
                  <a:lnTo>
                    <a:pt x="83" y="26"/>
                  </a:lnTo>
                  <a:lnTo>
                    <a:pt x="102" y="49"/>
                  </a:lnTo>
                  <a:lnTo>
                    <a:pt x="144" y="49"/>
                  </a:lnTo>
                  <a:lnTo>
                    <a:pt x="117" y="17"/>
                  </a:lnTo>
                  <a:lnTo>
                    <a:pt x="144" y="0"/>
                  </a:lnTo>
                  <a:lnTo>
                    <a:pt x="157" y="22"/>
                  </a:lnTo>
                  <a:lnTo>
                    <a:pt x="184" y="30"/>
                  </a:lnTo>
                  <a:lnTo>
                    <a:pt x="201" y="46"/>
                  </a:lnTo>
                  <a:lnTo>
                    <a:pt x="191" y="65"/>
                  </a:lnTo>
                  <a:lnTo>
                    <a:pt x="146" y="63"/>
                  </a:lnTo>
                  <a:lnTo>
                    <a:pt x="83" y="90"/>
                  </a:lnTo>
                  <a:lnTo>
                    <a:pt x="0" y="59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34080" y="1449360"/>
              <a:ext cx="173880" cy="10800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0" y="53"/>
                  </a:moveTo>
                  <a:lnTo>
                    <a:pt x="41" y="67"/>
                  </a:lnTo>
                  <a:lnTo>
                    <a:pt x="81" y="31"/>
                  </a:lnTo>
                  <a:lnTo>
                    <a:pt x="86" y="51"/>
                  </a:lnTo>
                  <a:lnTo>
                    <a:pt x="110" y="34"/>
                  </a:lnTo>
                  <a:lnTo>
                    <a:pt x="118" y="9"/>
                  </a:lnTo>
                  <a:lnTo>
                    <a:pt x="102" y="0"/>
                  </a:lnTo>
                  <a:lnTo>
                    <a:pt x="59" y="10"/>
                  </a:lnTo>
                  <a:lnTo>
                    <a:pt x="0" y="53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53120" y="1351080"/>
              <a:ext cx="151920" cy="85680"/>
            </a:xfrm>
            <a:custGeom>
              <a:avLst/>
              <a:gdLst/>
              <a:ahLst/>
              <a:rect l="l" t="t" r="r" b="b"/>
              <a:pathLst>
                <a:path w="104" h="54">
                  <a:moveTo>
                    <a:pt x="0" y="0"/>
                  </a:moveTo>
                  <a:lnTo>
                    <a:pt x="9" y="18"/>
                  </a:lnTo>
                  <a:lnTo>
                    <a:pt x="9" y="31"/>
                  </a:lnTo>
                  <a:lnTo>
                    <a:pt x="103" y="53"/>
                  </a:lnTo>
                  <a:lnTo>
                    <a:pt x="97" y="23"/>
                  </a:lnTo>
                  <a:lnTo>
                    <a:pt x="55" y="3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55080" y="1486080"/>
              <a:ext cx="419040" cy="144360"/>
            </a:xfrm>
            <a:custGeom>
              <a:avLst/>
              <a:gdLst/>
              <a:ahLst/>
              <a:rect l="l" t="t" r="r" b="b"/>
              <a:pathLst>
                <a:path w="286" h="91">
                  <a:moveTo>
                    <a:pt x="0" y="10"/>
                  </a:moveTo>
                  <a:lnTo>
                    <a:pt x="15" y="0"/>
                  </a:lnTo>
                  <a:lnTo>
                    <a:pt x="136" y="36"/>
                  </a:lnTo>
                  <a:lnTo>
                    <a:pt x="184" y="61"/>
                  </a:lnTo>
                  <a:lnTo>
                    <a:pt x="238" y="43"/>
                  </a:lnTo>
                  <a:lnTo>
                    <a:pt x="285" y="64"/>
                  </a:lnTo>
                  <a:lnTo>
                    <a:pt x="275" y="90"/>
                  </a:lnTo>
                  <a:lnTo>
                    <a:pt x="88" y="90"/>
                  </a:lnTo>
                  <a:lnTo>
                    <a:pt x="33" y="31"/>
                  </a:lnTo>
                  <a:lnTo>
                    <a:pt x="0" y="10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9640" y="1100160"/>
              <a:ext cx="735480" cy="441360"/>
            </a:xfrm>
            <a:custGeom>
              <a:avLst/>
              <a:gdLst/>
              <a:ahLst/>
              <a:rect l="l" t="t" r="r" b="b"/>
              <a:pathLst>
                <a:path w="502" h="278">
                  <a:moveTo>
                    <a:pt x="0" y="56"/>
                  </a:moveTo>
                  <a:lnTo>
                    <a:pt x="44" y="58"/>
                  </a:lnTo>
                  <a:lnTo>
                    <a:pt x="44" y="91"/>
                  </a:lnTo>
                  <a:lnTo>
                    <a:pt x="74" y="105"/>
                  </a:lnTo>
                  <a:lnTo>
                    <a:pt x="235" y="67"/>
                  </a:lnTo>
                  <a:lnTo>
                    <a:pt x="140" y="113"/>
                  </a:lnTo>
                  <a:lnTo>
                    <a:pt x="87" y="113"/>
                  </a:lnTo>
                  <a:lnTo>
                    <a:pt x="87" y="133"/>
                  </a:lnTo>
                  <a:lnTo>
                    <a:pt x="140" y="165"/>
                  </a:lnTo>
                  <a:lnTo>
                    <a:pt x="171" y="169"/>
                  </a:lnTo>
                  <a:lnTo>
                    <a:pt x="140" y="177"/>
                  </a:lnTo>
                  <a:lnTo>
                    <a:pt x="108" y="172"/>
                  </a:lnTo>
                  <a:lnTo>
                    <a:pt x="81" y="177"/>
                  </a:lnTo>
                  <a:lnTo>
                    <a:pt x="73" y="203"/>
                  </a:lnTo>
                  <a:lnTo>
                    <a:pt x="100" y="208"/>
                  </a:lnTo>
                  <a:lnTo>
                    <a:pt x="58" y="215"/>
                  </a:lnTo>
                  <a:lnTo>
                    <a:pt x="81" y="238"/>
                  </a:lnTo>
                  <a:lnTo>
                    <a:pt x="42" y="251"/>
                  </a:lnTo>
                  <a:lnTo>
                    <a:pt x="45" y="267"/>
                  </a:lnTo>
                  <a:lnTo>
                    <a:pt x="81" y="261"/>
                  </a:lnTo>
                  <a:lnTo>
                    <a:pt x="102" y="274"/>
                  </a:lnTo>
                  <a:lnTo>
                    <a:pt x="108" y="262"/>
                  </a:lnTo>
                  <a:lnTo>
                    <a:pt x="177" y="277"/>
                  </a:lnTo>
                  <a:lnTo>
                    <a:pt x="219" y="263"/>
                  </a:lnTo>
                  <a:lnTo>
                    <a:pt x="235" y="220"/>
                  </a:lnTo>
                  <a:lnTo>
                    <a:pt x="223" y="208"/>
                  </a:lnTo>
                  <a:lnTo>
                    <a:pt x="260" y="208"/>
                  </a:lnTo>
                  <a:lnTo>
                    <a:pt x="283" y="184"/>
                  </a:lnTo>
                  <a:lnTo>
                    <a:pt x="230" y="172"/>
                  </a:lnTo>
                  <a:lnTo>
                    <a:pt x="300" y="148"/>
                  </a:lnTo>
                  <a:lnTo>
                    <a:pt x="281" y="134"/>
                  </a:lnTo>
                  <a:lnTo>
                    <a:pt x="329" y="140"/>
                  </a:lnTo>
                  <a:lnTo>
                    <a:pt x="363" y="113"/>
                  </a:lnTo>
                  <a:lnTo>
                    <a:pt x="448" y="68"/>
                  </a:lnTo>
                  <a:lnTo>
                    <a:pt x="355" y="83"/>
                  </a:lnTo>
                  <a:lnTo>
                    <a:pt x="408" y="64"/>
                  </a:lnTo>
                  <a:lnTo>
                    <a:pt x="369" y="56"/>
                  </a:lnTo>
                  <a:lnTo>
                    <a:pt x="426" y="56"/>
                  </a:lnTo>
                  <a:lnTo>
                    <a:pt x="501" y="34"/>
                  </a:lnTo>
                  <a:lnTo>
                    <a:pt x="461" y="5"/>
                  </a:lnTo>
                  <a:lnTo>
                    <a:pt x="376" y="16"/>
                  </a:lnTo>
                  <a:lnTo>
                    <a:pt x="413" y="1"/>
                  </a:lnTo>
                  <a:lnTo>
                    <a:pt x="225" y="0"/>
                  </a:lnTo>
                  <a:lnTo>
                    <a:pt x="182" y="1"/>
                  </a:lnTo>
                  <a:lnTo>
                    <a:pt x="140" y="25"/>
                  </a:lnTo>
                  <a:lnTo>
                    <a:pt x="95" y="23"/>
                  </a:lnTo>
                  <a:lnTo>
                    <a:pt x="74" y="35"/>
                  </a:lnTo>
                  <a:lnTo>
                    <a:pt x="53" y="39"/>
                  </a:lnTo>
                  <a:lnTo>
                    <a:pt x="0" y="56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71280" y="1228680"/>
              <a:ext cx="275400" cy="196920"/>
            </a:xfrm>
            <a:custGeom>
              <a:avLst/>
              <a:gdLst/>
              <a:ahLst/>
              <a:rect l="l" t="t" r="r" b="b"/>
              <a:pathLst>
                <a:path w="188" h="124">
                  <a:moveTo>
                    <a:pt x="0" y="31"/>
                  </a:moveTo>
                  <a:lnTo>
                    <a:pt x="46" y="26"/>
                  </a:lnTo>
                  <a:lnTo>
                    <a:pt x="23" y="9"/>
                  </a:lnTo>
                  <a:lnTo>
                    <a:pt x="79" y="0"/>
                  </a:lnTo>
                  <a:lnTo>
                    <a:pt x="97" y="26"/>
                  </a:lnTo>
                  <a:lnTo>
                    <a:pt x="142" y="31"/>
                  </a:lnTo>
                  <a:lnTo>
                    <a:pt x="142" y="62"/>
                  </a:lnTo>
                  <a:lnTo>
                    <a:pt x="174" y="62"/>
                  </a:lnTo>
                  <a:lnTo>
                    <a:pt x="187" y="76"/>
                  </a:lnTo>
                  <a:lnTo>
                    <a:pt x="136" y="84"/>
                  </a:lnTo>
                  <a:lnTo>
                    <a:pt x="127" y="123"/>
                  </a:lnTo>
                  <a:lnTo>
                    <a:pt x="73" y="119"/>
                  </a:lnTo>
                  <a:lnTo>
                    <a:pt x="42" y="87"/>
                  </a:lnTo>
                  <a:lnTo>
                    <a:pt x="100" y="76"/>
                  </a:lnTo>
                  <a:lnTo>
                    <a:pt x="31" y="76"/>
                  </a:lnTo>
                  <a:lnTo>
                    <a:pt x="0" y="31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26440" y="1673280"/>
              <a:ext cx="688680" cy="582480"/>
            </a:xfrm>
            <a:custGeom>
              <a:avLst/>
              <a:gdLst/>
              <a:ahLst/>
              <a:rect l="l" t="t" r="r" b="b"/>
              <a:pathLst>
                <a:path w="470" h="367">
                  <a:moveTo>
                    <a:pt x="0" y="81"/>
                  </a:moveTo>
                  <a:lnTo>
                    <a:pt x="0" y="39"/>
                  </a:lnTo>
                  <a:lnTo>
                    <a:pt x="56" y="0"/>
                  </a:lnTo>
                  <a:lnTo>
                    <a:pt x="81" y="2"/>
                  </a:lnTo>
                  <a:lnTo>
                    <a:pt x="58" y="50"/>
                  </a:lnTo>
                  <a:lnTo>
                    <a:pt x="79" y="74"/>
                  </a:lnTo>
                  <a:lnTo>
                    <a:pt x="82" y="49"/>
                  </a:lnTo>
                  <a:lnTo>
                    <a:pt x="103" y="17"/>
                  </a:lnTo>
                  <a:lnTo>
                    <a:pt x="140" y="2"/>
                  </a:lnTo>
                  <a:lnTo>
                    <a:pt x="148" y="62"/>
                  </a:lnTo>
                  <a:lnTo>
                    <a:pt x="204" y="34"/>
                  </a:lnTo>
                  <a:lnTo>
                    <a:pt x="239" y="45"/>
                  </a:lnTo>
                  <a:lnTo>
                    <a:pt x="257" y="62"/>
                  </a:lnTo>
                  <a:lnTo>
                    <a:pt x="273" y="84"/>
                  </a:lnTo>
                  <a:lnTo>
                    <a:pt x="287" y="72"/>
                  </a:lnTo>
                  <a:lnTo>
                    <a:pt x="317" y="92"/>
                  </a:lnTo>
                  <a:lnTo>
                    <a:pt x="320" y="112"/>
                  </a:lnTo>
                  <a:lnTo>
                    <a:pt x="358" y="117"/>
                  </a:lnTo>
                  <a:lnTo>
                    <a:pt x="375" y="130"/>
                  </a:lnTo>
                  <a:lnTo>
                    <a:pt x="346" y="142"/>
                  </a:lnTo>
                  <a:lnTo>
                    <a:pt x="386" y="148"/>
                  </a:lnTo>
                  <a:lnTo>
                    <a:pt x="355" y="171"/>
                  </a:lnTo>
                  <a:lnTo>
                    <a:pt x="394" y="192"/>
                  </a:lnTo>
                  <a:lnTo>
                    <a:pt x="410" y="188"/>
                  </a:lnTo>
                  <a:lnTo>
                    <a:pt x="469" y="229"/>
                  </a:lnTo>
                  <a:lnTo>
                    <a:pt x="435" y="257"/>
                  </a:lnTo>
                  <a:lnTo>
                    <a:pt x="435" y="279"/>
                  </a:lnTo>
                  <a:lnTo>
                    <a:pt x="379" y="233"/>
                  </a:lnTo>
                  <a:lnTo>
                    <a:pt x="358" y="236"/>
                  </a:lnTo>
                  <a:lnTo>
                    <a:pt x="383" y="283"/>
                  </a:lnTo>
                  <a:lnTo>
                    <a:pt x="410" y="290"/>
                  </a:lnTo>
                  <a:lnTo>
                    <a:pt x="410" y="349"/>
                  </a:lnTo>
                  <a:lnTo>
                    <a:pt x="344" y="315"/>
                  </a:lnTo>
                  <a:lnTo>
                    <a:pt x="394" y="366"/>
                  </a:lnTo>
                  <a:lnTo>
                    <a:pt x="308" y="334"/>
                  </a:lnTo>
                  <a:lnTo>
                    <a:pt x="252" y="294"/>
                  </a:lnTo>
                  <a:lnTo>
                    <a:pt x="217" y="302"/>
                  </a:lnTo>
                  <a:lnTo>
                    <a:pt x="208" y="264"/>
                  </a:lnTo>
                  <a:lnTo>
                    <a:pt x="268" y="264"/>
                  </a:lnTo>
                  <a:lnTo>
                    <a:pt x="254" y="244"/>
                  </a:lnTo>
                  <a:lnTo>
                    <a:pt x="289" y="210"/>
                  </a:lnTo>
                  <a:lnTo>
                    <a:pt x="267" y="167"/>
                  </a:lnTo>
                  <a:lnTo>
                    <a:pt x="217" y="169"/>
                  </a:lnTo>
                  <a:lnTo>
                    <a:pt x="217" y="157"/>
                  </a:lnTo>
                  <a:lnTo>
                    <a:pt x="233" y="148"/>
                  </a:lnTo>
                  <a:lnTo>
                    <a:pt x="204" y="132"/>
                  </a:lnTo>
                  <a:lnTo>
                    <a:pt x="175" y="112"/>
                  </a:lnTo>
                  <a:lnTo>
                    <a:pt x="183" y="130"/>
                  </a:lnTo>
                  <a:lnTo>
                    <a:pt x="148" y="135"/>
                  </a:lnTo>
                  <a:lnTo>
                    <a:pt x="26" y="117"/>
                  </a:lnTo>
                  <a:lnTo>
                    <a:pt x="5" y="89"/>
                  </a:lnTo>
                  <a:lnTo>
                    <a:pt x="43" y="93"/>
                  </a:lnTo>
                  <a:lnTo>
                    <a:pt x="0" y="81"/>
                  </a:lnTo>
                </a:path>
              </a:pathLst>
            </a:custGeom>
            <a:solidFill>
              <a:srgbClr val="ffccff"/>
            </a:solidFill>
            <a:ln cap="rnd" w="25560">
              <a:solidFill>
                <a:srgbClr val="dc9ac1"/>
              </a:solidFill>
              <a:round/>
            </a:ln>
            <a:effectLst>
              <a:outerShdw dist="52300" dir="4563564" blurRad="0" rotWithShape="0">
                <a:srgbClr val="d6009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55760" y="1836720"/>
            <a:ext cx="841212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-Business in der chemischen Industrie</a:t>
            </a:r>
            <a:br>
              <a:rPr sz="3200"/>
            </a:br>
            <a:br>
              <a:rPr sz="30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unsch und Wirklichkeit nach 12 Monaten Projekt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ristoph Heinze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nnolit GmbH &amp; Co. K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iter Informatik und Prozeßgestalt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ktleiter e-Ordering und e-business Infrastruktur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nkfurt, 25.01.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65474-05EF-4FA8-B689-F28D61AB7C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D1C2D-2E18-4CCD-8716-7D2591798701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1905120"/>
            <a:ext cx="8610840" cy="4267080"/>
          </a:xfrm>
          <a:prstGeom prst="rect">
            <a:avLst/>
          </a:prstGeom>
          <a:solidFill>
            <a:srgbClr val="ffccff"/>
          </a:solidFill>
          <a:ln w="12600">
            <a:solidFill>
              <a:srgbClr val="d60093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Mögliche Effekte von e-busines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566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e Marktmod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nehmende Preistranspar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höhter Preisdruck u.a. durch Bildung von Allianzen auf Kundenseite oder Marktplät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undenorientierung anstatt Produktorient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ärkere Differenzierung von Spezialitäten und Commod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lobaler Wettbew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e Marktteilneh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nellere Strukturänd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2971800"/>
          <a:ext cx="392040" cy="33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971800"/>
                    <a:ext cx="39204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57200" y="2438280"/>
          <a:ext cx="392040" cy="338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438280"/>
                    <a:ext cx="39204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57200" y="5334120"/>
          <a:ext cx="392040" cy="338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5334120"/>
                    <a:ext cx="39204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57200" y="5791320"/>
          <a:ext cx="392040" cy="3380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791320"/>
                    <a:ext cx="39204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457200" y="1981080"/>
          <a:ext cx="387360" cy="3384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1981080"/>
                    <a:ext cx="38736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57200" y="3657600"/>
          <a:ext cx="387360" cy="3380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3657600"/>
                    <a:ext cx="38736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57200" y="4876920"/>
          <a:ext cx="387360" cy="33804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7200" y="4876920"/>
                    <a:ext cx="38736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52520" y="4170240"/>
          <a:ext cx="392040" cy="33840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2520" y="4170240"/>
                    <a:ext cx="39204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7375A-F9FC-4188-B8E7-1AD1323CE4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7C875-79C3-4859-A579-A626C0A0A322}" type="datetime1">
              <a:rPr lang="en-US"/>
              <a:t>07/28/26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0880" y="1905120"/>
            <a:ext cx="8610840" cy="4267080"/>
          </a:xfrm>
          <a:prstGeom prst="rect">
            <a:avLst/>
          </a:prstGeom>
          <a:solidFill>
            <a:srgbClr val="ffccff"/>
          </a:solidFill>
          <a:ln w="12600">
            <a:solidFill>
              <a:srgbClr val="d60093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Erfolgsfaktoren für e-busines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534520" cy="28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35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lächendeckendes und voll integriertes ERP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inheitliche Infrastruktur bei den Basissyste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inheitliche Kommunikationsplatt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schäftsleitung als Treib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-business Verantwortlicher im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ocus auf Geschäftsprozesse, die Strategien und Kunden-Lieferanten Partnerschaf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ewußtsein bei allen Mitarbei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urze Entscheidungswe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chnelligkeit geht vor 100 % Lösungen. Schnelle Pilotprojek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3520" y="5486400"/>
          <a:ext cx="392040" cy="33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486400"/>
                    <a:ext cx="39204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"/>
          <p:cNvGrpSpPr/>
          <p:nvPr/>
        </p:nvGrpSpPr>
        <p:grpSpPr>
          <a:xfrm>
            <a:off x="533520" y="1981080"/>
            <a:ext cx="387360" cy="3462480"/>
            <a:chOff x="533520" y="1981080"/>
            <a:chExt cx="387360" cy="3462480"/>
          </a:xfrm>
        </p:grpSpPr>
        <p:graphicFrame>
          <p:nvGraphicFramePr>
            <p:cNvPr id="216" name=""/>
            <p:cNvGraphicFramePr/>
            <p:nvPr/>
          </p:nvGraphicFramePr>
          <p:xfrm>
            <a:off x="533520" y="1981080"/>
            <a:ext cx="387360" cy="33840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1981080"/>
                      <a:ext cx="387360" cy="33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"/>
            <p:cNvGraphicFramePr/>
            <p:nvPr/>
          </p:nvGraphicFramePr>
          <p:xfrm>
            <a:off x="533520" y="2362320"/>
            <a:ext cx="387360" cy="33804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3520" y="2362320"/>
                      <a:ext cx="38736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"/>
            <p:cNvGraphicFramePr/>
            <p:nvPr/>
          </p:nvGraphicFramePr>
          <p:xfrm>
            <a:off x="533520" y="2743200"/>
            <a:ext cx="387360" cy="33804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3520" y="2743200"/>
                      <a:ext cx="38736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2" name=""/>
            <p:cNvGraphicFramePr/>
            <p:nvPr/>
          </p:nvGraphicFramePr>
          <p:xfrm>
            <a:off x="533520" y="3124080"/>
            <a:ext cx="387360" cy="338400"/>
          </p:xfrm>
          <a:graphic>
            <a:graphicData uri="http://schemas.openxmlformats.org/presentationml/2006/ole">
              <p:oleObj progId="Word.Document.12" r:id="rId9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3520" y="3124080"/>
                      <a:ext cx="387360" cy="33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4" name=""/>
            <p:cNvGraphicFramePr/>
            <p:nvPr/>
          </p:nvGraphicFramePr>
          <p:xfrm>
            <a:off x="533520" y="3581280"/>
            <a:ext cx="387360" cy="338400"/>
          </p:xfrm>
          <a:graphic>
            <a:graphicData uri="http://schemas.openxmlformats.org/presentationml/2006/ole">
              <p:oleObj progId="Word.Document.12" r:id="rId11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33520" y="3581280"/>
                      <a:ext cx="387360" cy="33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6" name=""/>
            <p:cNvGraphicFramePr/>
            <p:nvPr/>
          </p:nvGraphicFramePr>
          <p:xfrm>
            <a:off x="533520" y="4038480"/>
            <a:ext cx="387360" cy="338400"/>
          </p:xfrm>
          <a:graphic>
            <a:graphicData uri="http://schemas.openxmlformats.org/presentationml/2006/ole">
              <p:oleObj progId="Word.Document.12" r:id="rId13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33520" y="4038480"/>
                      <a:ext cx="387360" cy="33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" name=""/>
            <p:cNvGraphicFramePr/>
            <p:nvPr/>
          </p:nvGraphicFramePr>
          <p:xfrm>
            <a:off x="533520" y="4724280"/>
            <a:ext cx="387360" cy="338400"/>
          </p:xfrm>
          <a:graphic>
            <a:graphicData uri="http://schemas.openxmlformats.org/presentationml/2006/ole">
              <p:oleObj progId="Word.Document.12" r:id="rId15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33520" y="4724280"/>
                      <a:ext cx="387360" cy="33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0" name=""/>
            <p:cNvGraphicFramePr/>
            <p:nvPr/>
          </p:nvGraphicFramePr>
          <p:xfrm>
            <a:off x="533520" y="5105520"/>
            <a:ext cx="387360" cy="338040"/>
          </p:xfrm>
          <a:graphic>
            <a:graphicData uri="http://schemas.openxmlformats.org/presentationml/2006/ole">
              <p:oleObj progId="Word.Document.12" r:id="rId17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33520" y="5105520"/>
                      <a:ext cx="38736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06672-6239-43F1-A862-E0FAB0579C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763B9-B0FA-48D4-84CD-D272FEFE89F7}" type="datetime1">
              <a:rPr lang="en-US"/>
              <a:t>07/28/26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80880" y="1905120"/>
            <a:ext cx="8610840" cy="4267080"/>
          </a:xfrm>
          <a:prstGeom prst="rect">
            <a:avLst/>
          </a:prstGeom>
          <a:solidFill>
            <a:srgbClr val="ffccff"/>
          </a:solidFill>
          <a:ln w="12600">
            <a:solidFill>
              <a:srgbClr val="d60093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Zwischenfazit nach 12 Monat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57120" y="2006640"/>
            <a:ext cx="8593200" cy="433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499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k ist nu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ttel zum Zwec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um strategische Ziele zu erreichen. Der Nutzen für Kunden und Unternehmen muß im Vordergrund ste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tzen aus e-business erst bei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llständiger Einbett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r Prozesse und Systeme in bestehende Landschaf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W Anbieter offenbaren Schwächen bei Analysemöglichkeiten und Integration in Fremdsystem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ße Kluft bei SW Herstellern zwischen Versprechen und Realitä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rkplatzmodelle im PVC Sektor weit weniger relevant als Anfang 2000 prognostizi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EAB16-0504-437B-8471-F0C8D641D43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57D4B-CE3C-437A-859E-A96FDE298757}" type="datetime1">
              <a:rPr lang="en-US"/>
              <a:t>07/28/26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6840" y="2293560"/>
            <a:ext cx="835668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Vielen Dank für Ihre Aufmerksamke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57400" y="4489560"/>
            <a:ext cx="35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ttp://www.vinnolit.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DAD54-7571-4780-93F2-185E1FC72A8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C4B9A-0D48-4C47-A5A3-C56979C713B3}" type="datetime1">
              <a:rPr lang="en-US"/>
              <a:t>07/28/26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1919160"/>
            <a:ext cx="8593200" cy="400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d60093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009800"/>
            <a:ext cx="8356680" cy="66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Zahlen und Fakt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889000"/>
            <a:ext cx="4348080" cy="32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gentumsverhältnisse (01.01.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rmens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satz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arbe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duktionskapazitäten P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VC Exportantei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184280" y="2889360"/>
            <a:ext cx="4629240" cy="29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dvent International &gt; 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maning bei Mün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 1 Mrd. 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. 13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70 kt /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 5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055960"/>
            <a:ext cx="8534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98440"/>
                <a:tab algn="l" pos="596880"/>
                <a:tab algn="l" pos="895320"/>
                <a:tab algn="l" pos="1193760"/>
                <a:tab algn="l" pos="1492200"/>
                <a:tab algn="l" pos="1790640"/>
                <a:tab algn="l" pos="2089080"/>
                <a:tab algn="l" pos="2387520"/>
                <a:tab algn="l" pos="2685960"/>
                <a:tab algn="l" pos="2984400"/>
                <a:tab algn="l" pos="3282840"/>
                <a:tab algn="l" pos="3581280"/>
                <a:tab algn="l" pos="3879720"/>
                <a:tab algn="l" pos="4178160"/>
                <a:tab algn="l" pos="4476600"/>
                <a:tab algn="l" pos="4775040"/>
                <a:tab algn="l" pos="5073480"/>
                <a:tab algn="l" pos="5372280"/>
                <a:tab algn="l" pos="5670720"/>
                <a:tab algn="l" pos="59691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rmengründung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Juli 1993 als 50:50 Joint Venture der Hoechst AG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später Celanese AG) und der Wacker-Chemie Gmb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286848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450EA-7DCD-4F13-9A41-DAEAE4E75920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D9C4D-8DBE-4236-9697-B0811C3D65B4}" type="datetime1">
              <a:rPr lang="en-US"/>
              <a:t>07/28/26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1905120"/>
            <a:ext cx="8610840" cy="4267080"/>
          </a:xfrm>
          <a:prstGeom prst="rect">
            <a:avLst/>
          </a:prstGeom>
          <a:solidFill>
            <a:srgbClr val="ffccff"/>
          </a:solidFill>
          <a:ln w="12600">
            <a:solidFill>
              <a:srgbClr val="d60093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80880" y="709560"/>
          <a:ext cx="8077320" cy="645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09560"/>
                    <a:ext cx="807732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1098360"/>
            <a:ext cx="6248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nnolit - IT Infrastruktu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9F286-5E6C-4BA7-B4CF-2FCC0B67B57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AFE4C-74A7-4CF9-A982-74321B351444}" type="datetime1">
              <a:rPr lang="en-US"/>
              <a:t>07/28/26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7120" y="1919160"/>
            <a:ext cx="8610840" cy="400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d60093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07748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Meilensteine auf dem Weg zum e-busines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7200" y="2260440"/>
            <a:ext cx="3106800" cy="3193200"/>
            <a:chOff x="457200" y="2260440"/>
            <a:chExt cx="3106800" cy="3193200"/>
          </a:xfrm>
        </p:grpSpPr>
        <p:sp>
          <p:nvSpPr>
            <p:cNvPr id="151" name=""/>
            <p:cNvSpPr/>
            <p:nvPr/>
          </p:nvSpPr>
          <p:spPr>
            <a:xfrm>
              <a:off x="457200" y="2260440"/>
              <a:ext cx="3106800" cy="1751040"/>
            </a:xfrm>
            <a:custGeom>
              <a:avLst/>
              <a:gdLst>
                <a:gd name="textAreaLeft" fmla="*/ 0 w 3106800"/>
                <a:gd name="textAreaRight" fmla="*/ 3107160 w 3106800"/>
                <a:gd name="textAreaTop" fmla="*/ 0 h 1751040"/>
                <a:gd name="textAreaBottom" fmla="*/ 1751400 h 17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41280" y="2548080"/>
              <a:ext cx="212112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terner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Workshop mit Führungskräft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02‘2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200" y="4286160"/>
              <a:ext cx="263700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larheit über 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-business Model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094200" y="2260440"/>
            <a:ext cx="3106440" cy="3339360"/>
            <a:chOff x="3094200" y="2260440"/>
            <a:chExt cx="3106440" cy="3339360"/>
          </a:xfrm>
        </p:grpSpPr>
        <p:sp>
          <p:nvSpPr>
            <p:cNvPr id="155" name=""/>
            <p:cNvSpPr/>
            <p:nvPr/>
          </p:nvSpPr>
          <p:spPr>
            <a:xfrm>
              <a:off x="3094200" y="2260440"/>
              <a:ext cx="3106440" cy="1751040"/>
            </a:xfrm>
            <a:custGeom>
              <a:avLst/>
              <a:gdLst>
                <a:gd name="textAreaLeft" fmla="*/ 0 w 3106440"/>
                <a:gd name="textAreaRight" fmla="*/ 3106800 w 3106440"/>
                <a:gd name="textAreaTop" fmla="*/ 0 h 1751040"/>
                <a:gd name="textAreaBottom" fmla="*/ 1751400 h 17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78280" y="2548080"/>
              <a:ext cx="2120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onzeptions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rojekt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03‘- 06‘2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4200" y="4286160"/>
              <a:ext cx="2327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Grobkonzept und Einsatzstrategie für erforderliche Projek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707080" y="2260440"/>
            <a:ext cx="3106800" cy="3034440"/>
            <a:chOff x="5707080" y="2260440"/>
            <a:chExt cx="3106800" cy="3034440"/>
          </a:xfrm>
        </p:grpSpPr>
        <p:sp>
          <p:nvSpPr>
            <p:cNvPr id="159" name=""/>
            <p:cNvSpPr/>
            <p:nvPr/>
          </p:nvSpPr>
          <p:spPr>
            <a:xfrm>
              <a:off x="5707080" y="2260440"/>
              <a:ext cx="3106800" cy="1751040"/>
            </a:xfrm>
            <a:custGeom>
              <a:avLst/>
              <a:gdLst>
                <a:gd name="textAreaLeft" fmla="*/ 0 w 3106800"/>
                <a:gd name="textAreaRight" fmla="*/ 3107160 w 3106800"/>
                <a:gd name="textAreaTop" fmla="*/ 0 h 1751040"/>
                <a:gd name="textAreaBottom" fmla="*/ 1751400 h 17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00640" y="2548080"/>
              <a:ext cx="212112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Realisierung</a:t>
              </a:r>
              <a:br>
                <a:rPr sz="2000"/>
              </a:b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07‘2000 - 1.Q 0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07080" y="4286160"/>
              <a:ext cx="2327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Umsetzung der erarbeiteten Konzep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603AE-1BF9-4931-BCA8-85154209CFE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5530F-71EA-4DD3-A991-CD9C0C1D1FB5}" type="datetime1">
              <a:rPr lang="en-US"/>
              <a:t>07/28/26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1919160"/>
            <a:ext cx="8610840" cy="427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d60093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1080" y="3030480"/>
            <a:ext cx="45158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5960" indent="-331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Geschäftsmodellanaly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31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31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C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31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31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. B2B - e-procur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88320" y="3030480"/>
            <a:ext cx="45208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90000"/>
              </a:lnSpc>
              <a:tabLst>
                <a:tab algn="l" pos="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. C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tabLst>
                <a:tab algn="l" pos="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tabLst>
                <a:tab algn="l" pos="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. B2B - e-procurement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tabLst>
                <a:tab algn="l" pos="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. Order Management 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tabLst>
                <a:tab algn="l" pos="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  <a:tab algn="l" pos="60674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. Neue Geschäftsmod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98320" y="2006640"/>
            <a:ext cx="3957840" cy="750960"/>
            <a:chOff x="598320" y="2006640"/>
            <a:chExt cx="3957840" cy="750960"/>
          </a:xfrm>
        </p:grpSpPr>
        <p:sp>
          <p:nvSpPr>
            <p:cNvPr id="166" name=""/>
            <p:cNvSpPr/>
            <p:nvPr/>
          </p:nvSpPr>
          <p:spPr>
            <a:xfrm>
              <a:off x="621720" y="2136600"/>
              <a:ext cx="345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Konzep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8320" y="2006640"/>
              <a:ext cx="3957840" cy="750960"/>
            </a:xfrm>
            <a:custGeom>
              <a:avLst/>
              <a:gdLst>
                <a:gd name="textAreaLeft" fmla="*/ 0 w 3957840"/>
                <a:gd name="textAreaRight" fmla="*/ 3958200 w 395784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816" y="0"/>
                  </a:lnTo>
                  <a:lnTo>
                    <a:pt x="21600" y="10800"/>
                  </a:lnTo>
                  <a:lnTo>
                    <a:pt x="20816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003b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629240" y="2006640"/>
            <a:ext cx="4130640" cy="750960"/>
            <a:chOff x="4629240" y="2006640"/>
            <a:chExt cx="4130640" cy="750960"/>
          </a:xfrm>
        </p:grpSpPr>
        <p:sp>
          <p:nvSpPr>
            <p:cNvPr id="169" name=""/>
            <p:cNvSpPr/>
            <p:nvPr/>
          </p:nvSpPr>
          <p:spPr>
            <a:xfrm>
              <a:off x="4653720" y="2136600"/>
              <a:ext cx="360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lisierung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29240" y="2006640"/>
              <a:ext cx="4130640" cy="750960"/>
            </a:xfrm>
            <a:custGeom>
              <a:avLst/>
              <a:gdLst>
                <a:gd name="textAreaLeft" fmla="*/ 0 w 4130640"/>
                <a:gd name="textAreaRight" fmla="*/ 4131000 w 413064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816" y="0"/>
                  </a:lnTo>
                  <a:lnTo>
                    <a:pt x="21600" y="10800"/>
                  </a:lnTo>
                  <a:lnTo>
                    <a:pt x="20816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003b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57120" y="1066680"/>
            <a:ext cx="84027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Projektfocus e-busines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8320" y="2757600"/>
            <a:ext cx="3797640" cy="3232080"/>
          </a:xfrm>
          <a:prstGeom prst="rect">
            <a:avLst/>
          </a:prstGeom>
          <a:noFill/>
          <a:ln w="12600">
            <a:solidFill>
              <a:srgbClr val="003b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30680" y="2757600"/>
            <a:ext cx="3976920" cy="3232080"/>
          </a:xfrm>
          <a:prstGeom prst="rect">
            <a:avLst/>
          </a:prstGeom>
          <a:noFill/>
          <a:ln w="12600">
            <a:solidFill>
              <a:srgbClr val="003b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A24DD-BCD1-4D5B-B1CE-5135B66FA4E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D593F-276B-4C6C-9588-F58B7DA2045C}" type="datetime1">
              <a:rPr lang="en-US"/>
              <a:t>07/28/26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1919160"/>
            <a:ext cx="8610840" cy="4195800"/>
          </a:xfrm>
          <a:prstGeom prst="rect">
            <a:avLst/>
          </a:prstGeom>
          <a:solidFill>
            <a:srgbClr val="ffccff"/>
          </a:solidFill>
          <a:ln w="12600">
            <a:solidFill>
              <a:srgbClr val="d60093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981000"/>
            <a:ext cx="8356680" cy="6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Konzeptionsprojekt e-busines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511360"/>
            <a:ext cx="6729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7120" y="2006640"/>
            <a:ext cx="8356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setz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antwortung wichtiger strategischer Schlüsselfragen des e-business zur Ableitung einer Einsatzstrateg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Ableitung und Umsetzung von strategischen, organisatorischen und technischen Maßnahmen aus der Einsatzstrate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t machen“ der Key Player im Unternehmen für die Herausforderungen des e-business und die notwendigen Veränder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FAF35-9DF4-42F7-96E4-DCB5DAC674E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ADF48-9FA0-455C-98E2-A8CCC24B6BFD}" type="datetime1">
              <a:rPr lang="en-US"/>
              <a:t>07/28/2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0880" y="1919160"/>
            <a:ext cx="8610840" cy="427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d60093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6760" y="1066320"/>
            <a:ext cx="840276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Projekt CRM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981080"/>
            <a:ext cx="4113360" cy="286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hal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ndenzentriertes Informations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klamations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nagement technischer Anfra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timierung Vertriebssteue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286000"/>
            <a:ext cx="4191120" cy="375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gehenswe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arbeitung eines Anforderungs- katalo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schreibung an SW Lieferanten und Systemhä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orkshop mit SW Lieferan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inkonz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plementie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o L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oo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ch off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562A4-878A-4914-8CE9-3B4A1353E6A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B1F10-3A85-4B32-8870-0196E6CABFEE}" type="datetime1">
              <a:rPr lang="en-US"/>
              <a:t>07/28/26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57120" y="1919160"/>
            <a:ext cx="8610840" cy="427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d60093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066320"/>
            <a:ext cx="840276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Projekt e-procu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981080"/>
            <a:ext cx="4267080" cy="253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hal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strukturierung des Einkauf-Technik (Organisation, Prozesse und -IT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Warenkörbe über alle Stando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führung eines E-Procurement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3124080"/>
            <a:ext cx="4113360" cy="283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gehenswe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inkonz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renkorbstruktur erarbei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k installie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plementierung und Go L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P 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P B2B 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32CCB-8612-4195-864A-184A23B904F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0B4F9-6723-4D7E-8DB5-9AA37C51AA5E}" type="datetime1">
              <a:rPr lang="en-US"/>
              <a:t>07/28/26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0880" y="1919160"/>
            <a:ext cx="8610840" cy="427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d60093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56760" y="1066320"/>
            <a:ext cx="840276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Projekt e-Ord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981080"/>
            <a:ext cx="4113360" cy="388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hal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sonalisierter Internetzugriff für Kunden auf Vinnolit SAP R/3 zur Informationsbeschaff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7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7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P-/SAP-Kopplung über das Internet für Kund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7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tragseingabe per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7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pplier Managed Inventory (incl. Plandatenaustausc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7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ektronischer Zahlungsverkeh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2971800"/>
            <a:ext cx="4113360" cy="314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gehenswe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inkonz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k installie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rittweise Implementierung und Go L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P 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P Internet 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P A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12920" y="1066680"/>
            <a:ext cx="5083200" cy="359748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PZ incl. Meßwer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uftragsstat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uftragsliste (Historie und offen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Umsätz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Bonusinformation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Rechn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Liefersche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Preishistorie (pro Kun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icherheits-, Produktdatenblät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Lieferantenerklär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Reklamationen (Anlegen, Status, Histori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Vortrag jw-consulting 25.01.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367B0-D446-4060-8DDE-C8A02DD6159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26568-0863-4180-B154-D581C23C1664}" type="datetime1">
              <a:rPr lang="en-US"/>
              <a:t>07/28/26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0:00Z</dcterms:created>
  <dc:creator>Christoph Heinze</dc:creator>
  <dc:description/>
  <dc:language>en-US</dc:language>
  <cp:lastModifiedBy>Dr. Jochen Winkler</cp:lastModifiedBy>
  <cp:lastPrinted>2000-11-06T07:22:35Z</cp:lastPrinted>
  <dcterms:modified xsi:type="dcterms:W3CDTF">2001-01-24T17:08:21Z</dcterms:modified>
  <cp:revision>470</cp:revision>
  <dc:subject>CRM</dc:subject>
  <dc:title>Summit 2000</dc:title>
</cp:coreProperties>
</file>