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91A-FADA-489A-8A3E-0F495D35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588-E29A-4ED5-B725-565F9FFA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9A0-4A17-415D-9233-B3FFCAC2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CA4-278C-46C0-8CF2-27230555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A2B0-B2AF-49AF-B253-663D7646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2A8-15DB-429C-8F57-48E540CF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667-ABB6-4088-B5EC-6FCEEC03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2A8-3F8F-4FAC-9F2E-F0D49A53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8CA-8132-43A0-8BC7-117F0742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63E-5D4D-4803-B9CB-FE69FEDB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D12-B735-4F06-B843-769476C0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067-889F-4D33-879C-E73F12EC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83A38EE-1B6E-4D70-988C-EFAFFA126CF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9528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zlich Willkommen zu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 der </a:t>
            </a:r>
            <a:br>
              <a:rPr sz="3200"/>
            </a:br>
            <a:r>
              <a:rPr b="1" lang="en-US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.01.2001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552720" y="4038480"/>
          <a:ext cx="221004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2720" y="4038480"/>
                    <a:ext cx="221004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F27-CC02-43D1-9458-5B04E16A625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zneimittel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, Radebeu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M / LIMS, Materialwirtscha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066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 - Pha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82D-7294-4D53-8832-EE7ECA8050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gmentierung der ASTA Medica AG in die Divisionen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Onkologi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ProVi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s erste neue Projekt in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7DB-8CDE-4FAE-B7F7-C56B047AD9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F42-012B-4835-BDC3-23ABD64559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83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84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90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96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102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108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14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20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26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32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38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44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50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56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62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68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74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80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86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93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210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16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21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26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42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71480" y="3143160"/>
              <a:ext cx="257400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</a:rPr>
                <a:t>R/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Client /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Workben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89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96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302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33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219320" y="9144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s SAP R/3-System u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-Ons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A7C-004C-43BE-9E37-1F0CBA75BA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onderheit der </a:t>
            </a:r>
            <a:r>
              <a:rPr b="1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 in der Lage, viele SAP R/3 Module in kurzer Zei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 hoher Qualität und Funktionalität einzufüh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etet on top dem Kunden release-feste Add-On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r Einführung 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847-2A9F-4533-A651-33314243A7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CF0-E5C4-4E03-B116-CE11D9DE977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129528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 der </a:t>
            </a:r>
            <a:br>
              <a:rPr sz="3200"/>
            </a:br>
            <a:r>
              <a:rPr b="1" lang="en-US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.01.2001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552720" y="4038480"/>
          <a:ext cx="19638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2720" y="4038480"/>
                    <a:ext cx="1963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05D-DAD7-4C1A-9879-0066A804DA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Teil 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hrungsbericht zum abgeschlossenen R/3-Zusammenführungsprojekt „CHARME“ der Degussa-Hüls AG bezogen auf die Qualitätssich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MS - das neue integrierte LIM-System zum SAP R/3 im Bereich F&amp;E und Qualitätssich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bildung der Lieferantenbeurteilung im R/3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1A2-AAE0-4AC6-8826-846EC41951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Teil 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Business - Wunsch und Wirklich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stern - heute - mor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genwärtige Web-Entwicklungen und Projek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Lieferantenbestellungen über XML (B2B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Kundenaufträge über WAP-Handy (B2C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Bestellanforderungen über Intrane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1B0-B268-4399-A067-1AF24755B0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 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C45-BD36-4BEF-B1F1-9D2AAE769A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95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71840" y="3733920"/>
          <a:ext cx="19638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1840" y="3733920"/>
                    <a:ext cx="1963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00F0-A568-4E38-AA1E-DE28D47F5B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Vinnolit Kunststoff GmbH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F14-E01B-4518-95DB-5E45B0A477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Degussa-Hüls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7B8-E26C-4C5E-A4B6-3AE625E41C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on in gemeinsames Chemie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ertes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planung, -durchführung und -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M für Lackrohsto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 für Technische Kunststo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295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/2001 - Chem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119-6DA9-49AF-BDB8-16C62BC01B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dhaltungsabwicklung (Mitarbeit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sche Amphibolin Werke, Ober-Ramstad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schung und Entwick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/2001 - Chem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7F2-2E9B-466F-A0B6-A47CCE1B4E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dcterms:modified xsi:type="dcterms:W3CDTF">2001-01-23T22:14:08Z</dcterms:modified>
  <cp:revision>51</cp:revision>
  <dc:subject/>
  <dc:title>Kein Folientitel</dc:title>
</cp:coreProperties>
</file>