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2BB-06DC-4CCC-B606-4D21B90B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0BA4-FE8A-4EF4-B89F-B3642E1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CD3-1312-4969-93C8-2BA1BD91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879-6003-4E65-B7E2-76A12D9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175-5C24-4441-94C7-510C3FCB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AFF-0320-41D8-8C59-A88BA52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C9E-65D4-415B-A44F-EF6EFF21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B5C-D448-4218-BDA9-028D2DE4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F38-694E-46D7-B6A3-92D1B963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A50-D1C0-4522-9EFB-16FB2A6A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A09-3360-436C-BF91-D9268CB4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A67-9EE4-45D4-BE40-DF804F42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6E49904-D19E-46C9-BE71-D1082BE8C18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01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552720" y="4038480"/>
          <a:ext cx="221004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2720" y="4038480"/>
                    <a:ext cx="221004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C10-EE6B-47DB-8933-D1648301869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, Radebeu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948-A03F-4DF5-8D89-7D659F5B98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ierung der ASTA Medica AG in die Divisionen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Onkologi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ProVi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erste neue Projekt in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7D0-AB86-4CA8-8812-0EDF817B09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3D1-3A2A-4CC0-AD15-5985A169F2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8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8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9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9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10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0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1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2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3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3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5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5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6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6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7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8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8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9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1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2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2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4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8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9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30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3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219320" y="914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-Ons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5CB-3624-42B2-870F-FEFDA917CC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hoher Qualität und Funktionalität einzufüh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Einführung 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CA0-23DB-4FC6-A0D6-4E922E102E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D0A-1F44-4660-BEF0-E45EF3B9F2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01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552720" y="4038480"/>
          <a:ext cx="1963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2720" y="4038480"/>
                    <a:ext cx="1963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CE6-F62C-49AA-91AA-C2CB17A2E1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Teil 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ungsbericht zum abgeschlossenen R/3-Zusammenführungsprojekt „CHARME“ der Degussa-Hüls AG bezogen auf die Qualitätssich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 - das neue integrierte LIM-System zum SAP R/3 im Bereich F&amp;E und Qualitätssich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bildung der Lieferantenbeurteilung im R/3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6AB-1A7A-43EA-A9E2-FC3EB91E92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Teil 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Business - Wunsch und Wirklich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stern - heute - mor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wärtige Web-Entwicklungen und Proje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Lieferantenbestellungen über XML (B2B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Kundenaufträge über WAP-Handy (B2C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Bestellanforderungen über Intrane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0CE-1AB9-4786-BB57-E9CA98C2BF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C99-5092-4BC2-9251-6940C4DB00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71840" y="3733920"/>
          <a:ext cx="19638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1840" y="3733920"/>
                    <a:ext cx="1963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F8B-E35E-427E-8180-AC26512E47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641-DFED-4E04-827D-1630F0252D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9F4-DA9F-4EEA-A737-ACD029EA45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C0E-2D08-44F2-99DB-D15B548879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5.01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dhaltungsabwicklung (Mitarbei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e Amphibolin Werke, Ober-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 und Ent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437-1170-44BD-8DE8-0806EFD34B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dcterms:modified xsi:type="dcterms:W3CDTF">2001-01-23T22:14:08Z</dcterms:modified>
  <cp:revision>51</cp:revision>
  <dc:subject/>
  <dc:title>Kein Folientitel</dc:title>
</cp:coreProperties>
</file>