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EABC0A31-6951-49E9-904E-28ACA3138C1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1320" y="71010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.01.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7280" y="7101000"/>
            <a:ext cx="14302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pl.-Ing. A. Kutschenbau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9720" y="7101000"/>
            <a:ext cx="30214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eferantenbeurteilung unter Einbeziehung qualitativer Aspek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175212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3733560"/>
            <a:ext cx="8382240" cy="1904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ter Einbeziehung qualitativer Aspek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spiel einer modifikationsfreien Änderung der Lieferantenbeurtei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ösungsansatz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Über einen User-Exit werden die gewünschten Daten aus dem R/3-System übernommen und eine Qualitätsnote umgerech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ktionsdaten werden über eine Vorschalttransaktion erfas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spiel einer modifikationsfreien Änderung der Lieferantenbeurtei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lauf der Datenerfassung mit SAP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ger erfasst W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ensichtliche Schäden werden in einer Q-Meldung erfas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ätskontrolle prüft Material, erstellt Verwendungsentsche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weichungen der Spezifikation werden in einer Q-Meldung erfas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rtigung meldet offensichtliche Feh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ensichtliche Fehler werden in einer Q-Meldung erfas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3657240"/>
            <a:ext cx="9144000" cy="168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ritischer Fehler (Material gesperrt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Z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hr schwerer Fehler (Material teilweise gesperrt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Z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werer Fehler (Material bedingt einsetzbar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Z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chter Feh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Hinwei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Z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447920"/>
            <a:ext cx="9055080" cy="238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spiel einer modifikationsfreien Änderung der Lieferantenbeurtei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bereitung der Lieferantenbeurteilung mit SAP R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Erfasser einer Q-Meldungen entscheidet anhand der Meldungsart, z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lcher Gruppe der Fehler gehör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33520" y="2514600"/>
          <a:ext cx="8610480" cy="39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8610480" cy="39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366840" y="42084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7440" y="1459080"/>
            <a:ext cx="2489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schalttransa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81240" y="17240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2800" y="49680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2743200"/>
            <a:ext cx="1447560" cy="21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191120" y="2743200"/>
          <a:ext cx="1523880" cy="21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743200"/>
                    <a:ext cx="1523880" cy="21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191120" y="2971800"/>
          <a:ext cx="1752480" cy="2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971800"/>
                    <a:ext cx="175248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477120" y="4038480"/>
          <a:ext cx="990360" cy="13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7120" y="4038480"/>
                    <a:ext cx="990360" cy="1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Lieferantenbeurteilung" descr=""/>
          <p:cNvPicPr/>
          <p:nvPr/>
        </p:nvPicPr>
        <p:blipFill>
          <a:blip r:embed="rId7"/>
          <a:stretch/>
        </p:blipFill>
        <p:spPr>
          <a:xfrm>
            <a:off x="1219320" y="1295280"/>
            <a:ext cx="73152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52960" y="3191040"/>
            <a:ext cx="990576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Teilkriterium_Qualität" descr=""/>
          <p:cNvPicPr/>
          <p:nvPr/>
        </p:nvPicPr>
        <p:blipFill>
          <a:blip r:embed="rId1"/>
          <a:stretch/>
        </p:blipFill>
        <p:spPr>
          <a:xfrm>
            <a:off x="1676520" y="2616120"/>
            <a:ext cx="6553080" cy="2387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66840" y="49680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960" y="1676520"/>
            <a:ext cx="5869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sicht Teilkriterien zum Hauptkriterium Qualitä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76480" y="32479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Auswahlkriterien" descr=""/>
          <p:cNvPicPr/>
          <p:nvPr/>
        </p:nvPicPr>
        <p:blipFill>
          <a:blip r:embed="rId1"/>
          <a:stretch/>
        </p:blipFill>
        <p:spPr>
          <a:xfrm>
            <a:off x="838080" y="3006720"/>
            <a:ext cx="8458200" cy="1650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66840" y="49680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800" y="1535040"/>
            <a:ext cx="3266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wertung Qualitätsno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71800" y="1876320"/>
            <a:ext cx="990576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6840" y="49680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9240" y="1447920"/>
            <a:ext cx="32378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wertung Qualitätsno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ZEB_LIBE_QM" descr=""/>
          <p:cNvPicPr/>
          <p:nvPr/>
        </p:nvPicPr>
        <p:blipFill>
          <a:blip r:embed="rId1"/>
          <a:stretch/>
        </p:blipFill>
        <p:spPr>
          <a:xfrm>
            <a:off x="1447920" y="1901880"/>
            <a:ext cx="716256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076480" y="35002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Auswahlkriterien" descr=""/>
          <p:cNvPicPr/>
          <p:nvPr/>
        </p:nvPicPr>
        <p:blipFill>
          <a:blip r:embed="rId1"/>
          <a:stretch/>
        </p:blipFill>
        <p:spPr>
          <a:xfrm>
            <a:off x="533520" y="3335400"/>
            <a:ext cx="8686800" cy="933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2680" y="53352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7680" y="1752480"/>
            <a:ext cx="2489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klamationsber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76480" y="27716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9000" y="45720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9560" y="1382760"/>
            <a:ext cx="24897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klamationsber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zeb_libe_qmel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7897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 im SAP -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eferanten können nach folgenden Kriterien beurteilt werde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e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Qualitä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ef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is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38360" y="28576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6840" y="496800"/>
            <a:ext cx="383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8920" y="1676520"/>
            <a:ext cx="6479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sicht der Qualitätsmeldungen zu einem Liefera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zeb_libe_qmel2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87897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9144000" cy="25225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6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sätzliche Selektionsbeding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weichende Verarbeitungsroutinen für Standard – Kriter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enübernahme aus Fremdsystemen möglic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523880"/>
            <a:ext cx="8915400" cy="13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ögliche Anwendungen für User-Exit in 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6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Symbol" charset="2"/>
              <a:buChar char="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difikationsfre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Symbol" charset="2"/>
              <a:buChar char="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ge Anbindung an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Symbol" charset="2"/>
              <a:buChar char="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iedriger Aufwand bei Releasewechs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achtei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Arial"/>
              <a:buChar char="-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was höhere Laufz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 im SAP -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reneingangsprüf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fälligkeiten / Rekla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47920"/>
            <a:ext cx="8915400" cy="13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s Hauptkriterium Qualität kann nach folgen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ilkriterien unterteilt werd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 im SAP -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s Teilkriterium Auffälligkeiten / Rekla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urteilungsdaten erfa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litätsmeldung (z.B. Mängelrüge) zu einem Material eines Lieferanten wird erfass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urteilungsdaten auswerte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 ermittelt eine Durchschnittsnote in Abhängigkeit v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imaler Umsatzante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zahl Qualitätsmeld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zahl Wareneingä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sten für eine Meldu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 im SAP -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rechnung der Note Qualitä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Noten der Teilkriterien werden unterschiedlich gewicht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.B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eneinga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ote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9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klam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ote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d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ote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e Wareneingang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* 0,4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90 * 0,4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= 36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e Reklamation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* 0,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80 * 0,4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= 3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Note Audit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* 0,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33cc"/>
                </a:solidFill>
                <a:uFillTx/>
                <a:latin typeface="Arial"/>
              </a:rPr>
              <a:t>85 * 0,2 </a:t>
            </a:r>
            <a:r>
              <a:rPr b="1" lang="en-US" sz="2200" spc="-1" strike="noStrike" u="sng">
                <a:solidFill>
                  <a:srgbClr val="3333cc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3333cc"/>
                </a:solidFill>
                <a:uFillTx/>
                <a:latin typeface="Arial"/>
              </a:rPr>
              <a:t>= 17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e Qualitä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= 85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spiel einer modifikationsfreien Änderung der Lieferantenbeurtei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lauf der Datenerfassung ohne SAP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ger meldet WE und offensichtliche Schä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ätskontrolle erstellt Verwendungsentsche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rtigung meldet offensichtliche Feh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3657600"/>
            <a:ext cx="9144000" cy="1836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7000"/>
          </a:bodyPr>
          <a:p>
            <a:pPr marL="4064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ritischer Fehler (Material gesperr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hr schwerer Fehler (Material teilweise gesperr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werer Fehler (Material bedingt einsetzba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chter Feh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Hinwei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8680" y="1611360"/>
            <a:ext cx="881892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spiel einer modifikationsfreien Änderung der Lieferantenbeurtei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bereitung der Lieferantenbeurteilung ohne SAP R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Beschaffung sammelt diese Meldungen und gruppiert diese na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hlerschwere in vier Grupp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spiel einer modifikationsfreien Änderung der Lieferantenbeurtei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lauf der Lieferantenbeurteilung ohne SAP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Daten werden manuell in eine Tabellenkalkulation übertragen und ausgewerte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bei werden für Rohstoffe und Verpackungen unterschiedliche Analysezeiträume verwend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Schreiben (z.B. Reklamationen) an die Lieferanten werden mit einer Textverarbeitung manuell erstell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spiel einer modifikationsfreien Änderung der Lieferantenbeurtei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arische Anforderungen an die Lieferantenbeurteilung im SAP R/3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ezeitraum frei wählb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engruppe frei wählb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ätsnote über Qualitätsmeldungen unterschiedlicher Fehlerschw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0-01-20T10:19:05Z</cp:lastPrinted>
  <dcterms:modified xsi:type="dcterms:W3CDTF">2001-01-26T18:07:41Z</dcterms:modified>
  <cp:revision>29</cp:revision>
  <dc:subject/>
  <dc:title>Kein Folientitel</dc:title>
</cp:coreProperties>
</file>