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4BA9C35-DB65-4DB5-8E30-AE6374C74D2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1320" y="71010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01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7280" y="7101000"/>
            <a:ext cx="14302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-Ing. A. Kutschenbau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30214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ferantenbeurteilung unter Einbeziehung qualitativer Aspek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3733560"/>
            <a:ext cx="8382240" cy="1904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er Einbeziehung qualitativer Aspek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ösungsansatz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 einen User-Exit werden die gewünschten Daten aus dem R/3-System übernommen und eine Qualitätsnote umgerech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ktionsdaten werden über eine Vorschalttransaktion erfas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lauf der Datenerfassung mit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ger erfasst W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nsichtliche Schäden werden in einer Q-Meldung erfas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kontrolle prüft Material, erstellt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weichungen der Spezifikation werden in einer Q-Meldung erfas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tigung meldet offensichtliche Feh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nsichtliche Fehler werden in einer Q-Meldung erfas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365724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tischer Fehler (Material gesperrt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hr schwerer Fehler (Material teilweise gesperrt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werer Fehler (Material bedingt einsetzba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chter Feh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inwe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9055080" cy="23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bereitung der Lieferantenbeurteilung mit SAP R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Erfasser einer Q-Meldungen entscheidet anhand der Meldungsart,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cher Gruppe der Fehler gehö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3520" y="2514600"/>
          <a:ext cx="8610480" cy="39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61048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66840" y="4208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7440" y="1459080"/>
            <a:ext cx="2489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schalttransa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81240" y="17240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80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743200"/>
            <a:ext cx="144756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91120" y="2743200"/>
          <a:ext cx="1523880" cy="21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743200"/>
                    <a:ext cx="152388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191120" y="2971800"/>
          <a:ext cx="1752480" cy="2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971800"/>
                    <a:ext cx="17524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77120" y="4038480"/>
          <a:ext cx="990360" cy="1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038480"/>
                    <a:ext cx="990360" cy="1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Lieferantenbeurteilung" descr=""/>
          <p:cNvPicPr/>
          <p:nvPr/>
        </p:nvPicPr>
        <p:blipFill>
          <a:blip r:embed="rId7"/>
          <a:stretch/>
        </p:blipFill>
        <p:spPr>
          <a:xfrm>
            <a:off x="1219320" y="129528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52960" y="319104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ilkriterium_Qualität" descr=""/>
          <p:cNvPicPr/>
          <p:nvPr/>
        </p:nvPicPr>
        <p:blipFill>
          <a:blip r:embed="rId1"/>
          <a:stretch/>
        </p:blipFill>
        <p:spPr>
          <a:xfrm>
            <a:off x="1676520" y="2616120"/>
            <a:ext cx="6553080" cy="2387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684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960" y="1676520"/>
            <a:ext cx="5869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sicht Teilkriterien zum Hauptkriterium Qual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76480" y="3247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uswahlkriterien" descr=""/>
          <p:cNvPicPr/>
          <p:nvPr/>
        </p:nvPicPr>
        <p:blipFill>
          <a:blip r:embed="rId1"/>
          <a:stretch/>
        </p:blipFill>
        <p:spPr>
          <a:xfrm>
            <a:off x="838080" y="3006720"/>
            <a:ext cx="8458200" cy="1650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684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00" y="1535040"/>
            <a:ext cx="3266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 Qualitätsno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71800" y="187632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84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240" y="1447920"/>
            <a:ext cx="3237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 Qualitätsno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ZEB_LIBE_QM" descr=""/>
          <p:cNvPicPr/>
          <p:nvPr/>
        </p:nvPicPr>
        <p:blipFill>
          <a:blip r:embed="rId1"/>
          <a:stretch/>
        </p:blipFill>
        <p:spPr>
          <a:xfrm>
            <a:off x="1447920" y="1901880"/>
            <a:ext cx="71625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76480" y="3500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uswahlkriterien" descr=""/>
          <p:cNvPicPr/>
          <p:nvPr/>
        </p:nvPicPr>
        <p:blipFill>
          <a:blip r:embed="rId1"/>
          <a:stretch/>
        </p:blipFill>
        <p:spPr>
          <a:xfrm>
            <a:off x="533520" y="3335400"/>
            <a:ext cx="8686800" cy="933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2680" y="53352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7680" y="1752480"/>
            <a:ext cx="2489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klamationsbe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76480" y="27716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000" y="4572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9560" y="1382760"/>
            <a:ext cx="2489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klamationsbe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zeb_libe_qmel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789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 im SAP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eferanten können nach folgenden Kriterien beurteilt werd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alitä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is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38360" y="28576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684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8920" y="1676520"/>
            <a:ext cx="647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sicht der Qualitätsmeldungen zu einem Liefera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zeb_libe_qmel2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789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9144000" cy="2522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ätzliche Selektionsbeding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weichende Verarbeitungsroutinen für Standard – Kriter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übernahme aus Fremdsystemen mögli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23880"/>
            <a:ext cx="89154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ögliche Anwendungen für User-Exit in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Symbol" charset="2"/>
              <a:buChar char="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ifikationsfre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Symbol" charset="2"/>
              <a:buChar char="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ge Anbindung an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Symbol" charset="2"/>
              <a:buChar char="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edriger Aufwand bei Releasewechs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chtei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Arial"/>
              <a:buChar char="-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was höhere Lauf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 im SAP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reneingangsprüf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fälligkeiten / Rekla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47920"/>
            <a:ext cx="89154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Hauptkriterium Qualität kann nach folge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ilkriterien unterteilt werd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 im SAP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Teilkriterium Auffälligkeiten / Rekla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urteilungsdaten erfa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itätsmeldung (z.B. Mängelrüge) zu einem Material eines Lieferanten wird erfas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urteilungsdaten auswert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 ermittelt eine Durchschnittsnote in Abhängigkeit v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aler Umsatzante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zahl Qualitätsmeld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zahl Wareneingä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für eine Meld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 im SAP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der Note Qualitä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Noten der Teilkriterien werden unterschiedlich gewicht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.B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neinga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kla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e Wareneinga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 0,4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90 * 0,4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= 36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e Reklamation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 0,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80 * 0,4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= 3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e Audit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* 0,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85 * 0,2 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= 17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e Qualitä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= 8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lauf der Datenerfassung ohne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ger meldet WE und offensichtliche Schä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kontrolle erstellt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tigung meldet offensichtliche Feh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9144000" cy="1836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4064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tischer Fehler (Material gesperr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hr schwerer Fehler (Material teilweise gesperr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werer Fehler (Material bedingt einsetzba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chter Feh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inwe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8680" y="1611360"/>
            <a:ext cx="8818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bereitung der Lieferantenbeurteilung ohne SAP R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Beschaffung sammelt diese Meldungen und gruppiert diese n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hlerschwere in vier Grupp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lauf der Lieferantenbeurteilung ohne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Daten werden manuell in eine Tabellenkalkulation übertragen und ausgewerte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bei werden für Rohstoffe und Verpackungen unterschiedliche Analysezeiträume verwend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chreiben (z.B. Reklamationen) an die Lieferanten werden mit einer Textverarbeitung manuell erstel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arische Anforderungen an die Lieferantenbeurteilung im SAP R/3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zeitraum frei wähl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ngruppe frei wähl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note über Qualitätsmeldungen unterschiedlicher Fehlerschw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1-26T18:07:41Z</dcterms:modified>
  <cp:revision>29</cp:revision>
  <dc:subject/>
  <dc:title>Kein Folientitel</dc:title>
</cp:coreProperties>
</file>