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00286E6-4459-47A5-B6FC-3158FD162B2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1.02.2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1.02.2002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, web-bas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-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/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pmöglichkeit für einzelne 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s Prüfumfangs auf zusätzliche Sp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oder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bezogene, automatische Nachprüfungen je Material oder Kunde / Mater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spcBef>
                <a:spcPts val="4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sches Erzeugen von Dokumenten für  system-externe Prüfungen (Laufkart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r vorläufiger Verwendungsentschei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lbautomatische 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e relevanten Daten zur Spezifikation, 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4665"/>
          <a:stretch/>
        </p:blipFill>
        <p:spPr>
          <a:xfrm>
            <a:off x="468360" y="1125360"/>
            <a:ext cx="7488360" cy="50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20722"/>
          <a:stretch/>
        </p:blipFill>
        <p:spPr>
          <a:xfrm>
            <a:off x="304920" y="114300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209680"/>
            <a:ext cx="1143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362320"/>
            <a:ext cx="1676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609480" y="1066680"/>
            <a:ext cx="73152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6384"/>
          <a:stretch/>
        </p:blipFill>
        <p:spPr>
          <a:xfrm>
            <a:off x="533520" y="11430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190512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209680"/>
            <a:ext cx="13716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Verlängerung Haltbarkeit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17115" b="6442"/>
          <a:stretch/>
        </p:blipFill>
        <p:spPr>
          <a:xfrm>
            <a:off x="395280" y="105264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Auswahl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0684"/>
          <a:stretch/>
        </p:blipFill>
        <p:spPr>
          <a:xfrm>
            <a:off x="395280" y="1125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Selek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1225" b="6442"/>
          <a:stretch/>
        </p:blipFill>
        <p:spPr>
          <a:xfrm>
            <a:off x="395280" y="1125360"/>
            <a:ext cx="76327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04920" y="106668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334120"/>
            <a:ext cx="9144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562720"/>
            <a:ext cx="1295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2458"/>
          <a:stretch/>
        </p:blipFill>
        <p:spPr>
          <a:xfrm>
            <a:off x="457200" y="11430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1.02.2002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eckung aller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 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n Problem- / Korrektur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,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und Überwachung von Projekten wie z.B.  Frei- und / Schnellbewitterungen oder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fache Stammdaten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2-02-25T12:18:46Z</dcterms:modified>
  <cp:revision>281</cp:revision>
  <dc:subject/>
  <dc:title>Intergriertes SAP R/3 LIMS</dc:title>
</cp:coreProperties>
</file>