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2440" y="379008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676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0580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5952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5244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0580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5952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52440" y="380880"/>
            <a:ext cx="8439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676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190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3241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3241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47720" y="914400"/>
            <a:ext cx="7398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38360" y="9144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990720"/>
            <a:ext cx="83916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19800" y="6391440"/>
            <a:ext cx="79416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Seite </a:t>
            </a:r>
            <a:fld id="{4452A676-D61E-48D3-A099-2240220B021D}" type="slidenum">
              <a:rPr b="0" lang="de-D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19320" y="6391440"/>
            <a:ext cx="60660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1.02.200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776600" y="6391440"/>
            <a:ext cx="62208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Kurt Fant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82080" y="6391440"/>
            <a:ext cx="45720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jwLIM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78800" y="6183360"/>
            <a:ext cx="551880" cy="525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100"/>
            </a:br>
            <a:br>
              <a:rPr sz="1100"/>
            </a:br>
            <a:br>
              <a:rPr sz="20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urt Fantes</a:t>
            </a:r>
            <a:br>
              <a:rPr sz="2400"/>
            </a:br>
            <a:r>
              <a:rPr b="1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Düsseldorf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, den 21.02.2002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Integriertes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LIMS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0948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eitere Bereiche (II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tomatische Prüfkostenabrechnung über alle Prüf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SO- und GMP-kompatib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sicherhei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chiv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griffsschutz / Berechtig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dit-Trail-Funk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eitere Bereiche (III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D / FI voll integrierte, web-basierte Abwicklung für Dienstleistungslabore (in Entwicklu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1904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ung der SAP-Stammdaten für Kunden, Lieferanten, 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1904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ung der SAP-Funktionen zur Preisfind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1904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ung der SAP-Funktionen für Anfragen, Angebote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träge (bei Bedarf über Meta-Transaktione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1904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ung der LIMS-Funktionen für Proben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1904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bindung von Kunden über Intra- und Intern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folgsfaktoren bei der Realisieru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bau auf einem erprobten Prototy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ranchen Know-H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fahrenes, eingespieltes Beratertea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ximale Unterstützung durch Kun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sprinzipien (I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09480" y="129528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eine Modifikation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lle Releasefähigk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ffektive Modellierung komplexer technologischer Prozes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utzung modernster Technik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rennung Oberfläche von  Daten und Fun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nutzerdefinierte Menüs und Mask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sführliche Funktions- und Anwendungsdoku-ment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sprinzipien (II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ation der Geschäftsprozesse (z.B. LIM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öglichst Vermeidung von bidirektionalen Kopplung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isierte Einbindung von Pre- und Postprozesso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etzwerke von Systemen (ALE/IDOCs/XML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zenten (z.B. Chemiewer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leister (z.B. Zentraleinkauf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n, Lieferan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wicklung aller anfallenden Prüf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reigabe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zessbegleitende 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mwelt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orschungs- und Entwicklungs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nder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remdmuster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knüpfen von beliebigen Dokumenten mit Merkmal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d / oder Prob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arallele Erfassung von eigenen Meßwerten und Werten aus Lieferantenzertifika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fassung von qualitativen Ergebnissen zu quantitativen Merkmale mit automatischer Folgea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rganisationsebene Labor und Arbeitsplatz (Laborstand)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ptionale Probenregistrierung je Labor mi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kipmöglichkeit für einzelne Merkma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weiterung des Prüfumfangs auf zusätzliche Spe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ptionale, variable Validierung von Ergebnissen und Proben je Labor / Mitarbeit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ben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ben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mfassende Such- und Auswertefunk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50280" indent="-3502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ternehmensweites, zentrales Stamm- und Bewegungsdatenkonzep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zifikations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4520" indent="-2685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ür Standardspezifika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4520" indent="-2685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ür Kundenspezifika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4520" indent="-2685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ür Lieferantenspezifika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4520" indent="-2685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ltweit zentrale Verwaltung mit standort-spezifischen Anpassungsmöglichkei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4520" indent="-2685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flege von Zusatzdaten zur Spezifik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4520" indent="-2685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sche Spezifikationsversendung bei relevanten Än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sche Prüfkostenabrech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V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2960" indent="-37296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abellarische Werteerfas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tomatischer Zertifikatsdruc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gleich aller aktuellen Bestände bei Spezifikations-änder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 ungeplanten Proben sind alle Prüfparameter bis zur Ergebniseingabe modifizier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üfumfang ungeplanter Proben kann aus allen Prüfplänen und / oder Spezifikationen frei zusammengestellt werd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üfung (FE) gegen alle Spezifikationen eines Stoff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rstellung des Freigabeentscheids für alle Spezifikationen eines Stoff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V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69360" indent="-36936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weiterte Funktionen zur Nachuntersuchung (MHD)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ierte Änderungsfunktion für Haltbarkei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ynamisierung des Prüfumfang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tomatischer, periodischer Prüfanstoß für IPC oder Umweltprüf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Lieferbezogene, automatische Nachprüfungen je Material oder Kunde / Materi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Lotbildung mit automatischer Mittelwertberechnung der Prüfwerte und automatischen Materialumbuchu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griffsschutz / Datensicherh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dit-Trail-Fun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P R/3 QM Worksh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066680"/>
            <a:ext cx="80769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tscheidungsfaktoren für ERP-Syste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iskonfigurationen ERP-System - Q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oraussetzungen für ein integriertes SAP-LI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forderungen an ein solches LI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folgsfaktoren für die Einfüh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twicklungsprinzipien </a:t>
            </a:r>
            <a:r>
              <a:rPr b="1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unktionalität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bau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kuss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" dur="1" fill="hold"/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c09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V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53880" indent="-353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teilte Prüfungen über mehrere Labore incl. Übergabe von Prüfaufträ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wicklung fremdvergebener Prüf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ückstellmuster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waltung von Hilfsstoffen und Reagenzi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lanung, Verwaltung und Durchführung von Frei- und  Schnellbewitterungen sowie Objektmonitorin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nschluß von Meßgeräten / Barcodeleser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üfmittel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7144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r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7144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alibr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0">
              <a:spcBef>
                <a:spcPts val="400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V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Übergreifende Q-Sicht auf Bestän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sches Erzeugen von Dokumenten für  system-externe Prüfungen (Laufkarte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r vorläufiger Verwendungsentscheid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albautomatische Ergänzungsprüf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fbau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1143000"/>
            <a:ext cx="87631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82760" indent="-29232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mmdaten größtenteils in SAP Standardtabell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29232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zifikationen sind als SAP Prüfpläne abgebild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29232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e relevanten Daten zur Spezifikation, d.h. auch die Zertifikatsrelevanz, werden zentral im Prüfplan gepfleg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29232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zifikationen können an beliebige Objekte geknüpft we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unden, Kundengruppen, Lä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29232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M-Stoff“ als zentrales Objekt, dem die „Logistik-Materialien“ zugeordnet si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29232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M-Stoff Charge“ als zentrales Objekt für Q-Da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29232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6" dur="1" fill="hold"/>
                                  <p:tgtEl>
                                    <p:spTgt spid="8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c09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fbau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914400"/>
            <a:ext cx="88394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82760" indent="-29232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urchgängiges stoffbezogenes Spezifikationskonzep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ordnung Spezifikation ==&gt; Stoff ==&gt; Kun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tomatische Spezifikationsermittlung im Kundenauftrag (Auswahl bei fehlender Eindeutigke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nspezifikationsbezogene Verfügbarkeitsprüf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mplette VE-Info über alle verfügbaren Spezifikationen in der Stoff-Bestandssi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zifikation und / oder Kunde als zusätzliches Selektionskriterium in den Stoff-Bestandssich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tomatische Chargenfindung in der Lief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sätzlich automatische Verwendbarkeitsprüfung unter Berücksichtigung von Reklamationen und kundenbezogener Freigaben / Sperr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7" dur="1" fill="hold"/>
                                  <p:tgtEl>
                                    <p:spTgt spid="9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c09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fbau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143000"/>
            <a:ext cx="8077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ertifikatserstell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ur eine Vorlag je Zertifikatstyp notwendig                (Ausnahme =&gt; Zertifikat mit Daten aus der Produktionsket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verse Add-Ons und Zusatzfunktionen zur Zertifikatserstellung verfüg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22860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nuell mit Zusatz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22860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usammenfassung von Prüfwer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22860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ochen- oder Monatszertifikate mit Kennwertberechn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8" dur="1" fill="hold"/>
                                  <p:tgtEl>
                                    <p:spTgt spid="9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c09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entraler Arbeitsvorra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4665"/>
          <a:stretch/>
        </p:blipFill>
        <p:spPr>
          <a:xfrm>
            <a:off x="468360" y="1125360"/>
            <a:ext cx="7488360" cy="506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melden Freigabeprob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20722"/>
          <a:stretch/>
        </p:blipFill>
        <p:spPr>
          <a:xfrm>
            <a:off x="304920" y="1143000"/>
            <a:ext cx="8458200" cy="5029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400800" y="2057400"/>
            <a:ext cx="1143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2209680"/>
            <a:ext cx="1143000" cy="1526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24480" y="2362320"/>
            <a:ext cx="1676520" cy="1522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wendungsentscheid, Bestandseben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0" r="0" b="5901"/>
          <a:stretch/>
        </p:blipFill>
        <p:spPr>
          <a:xfrm>
            <a:off x="609480" y="1066680"/>
            <a:ext cx="7315200" cy="516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wendungsentscheid, Spezifikationseben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0" r="0" b="6384"/>
          <a:stretch/>
        </p:blipFill>
        <p:spPr>
          <a:xfrm>
            <a:off x="533520" y="1143000"/>
            <a:ext cx="7543800" cy="5029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400800" y="1905120"/>
            <a:ext cx="1143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00800" y="2057400"/>
            <a:ext cx="1143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2209680"/>
            <a:ext cx="1371600" cy="1526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wendungsentscheid, Kundeneben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7200" y="1066680"/>
            <a:ext cx="777240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scheidungsfaktoren für ERP-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ndardsoft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deckung aller Geschäftsprozes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urchgängige Transparenz der Prozes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ptimierung von Proze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tzung von Synergi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izienzsteig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einfachung von technologischen Upgrad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wendungsentscheid, Verlängerung Haltbarkeit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17115" b="6442"/>
          <a:stretch/>
        </p:blipFill>
        <p:spPr>
          <a:xfrm>
            <a:off x="395280" y="1052640"/>
            <a:ext cx="727236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standsartbezogene Bestandsauskunft, Auswahl</a:t>
            </a:r>
            <a:br>
              <a:rPr sz="20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0684"/>
          <a:stretch/>
        </p:blipFill>
        <p:spPr>
          <a:xfrm>
            <a:off x="395280" y="1125360"/>
            <a:ext cx="6697800" cy="502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standsartbezogene Bestandsauskunft, Selek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1225" b="6442"/>
          <a:stretch/>
        </p:blipFill>
        <p:spPr>
          <a:xfrm>
            <a:off x="395280" y="1125360"/>
            <a:ext cx="7632720" cy="502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uelle Zertifikat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31732" b="0"/>
          <a:stretch/>
        </p:blipFill>
        <p:spPr>
          <a:xfrm>
            <a:off x="304920" y="1066680"/>
            <a:ext cx="8381880" cy="5257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5800" y="5334120"/>
            <a:ext cx="9144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5562720"/>
            <a:ext cx="1295280" cy="1522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gewählte Funktionen </a:t>
            </a:r>
            <a:r>
              <a:rPr b="1" lang="en-US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stauswert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2458"/>
          <a:stretch/>
        </p:blipFill>
        <p:spPr>
          <a:xfrm>
            <a:off x="457200" y="1143000"/>
            <a:ext cx="754380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gewählte Funktionen </a:t>
            </a:r>
            <a:r>
              <a:rPr b="1" lang="en-US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P-Schnellgraf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543800" cy="517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teile des integriert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AP-LIMS 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chere Produktionsstarts durch Aufbau auf Prototy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urze Einführungszei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elle Funktionalitä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meidung von Schnittstell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Datenredundanz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heitliche Datenba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teile des integriert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AP-LIMS (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zusätzliche Soft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zusätzliche Hard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elle Masken, aber Standard SAP Oberflä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elle Bedie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weiterbark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gebn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 an die individuellen Prozesse und Bedürfnisse des Kunden angepaßtes flexibles System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ttel- und langfristig erheblichen Kostenvorteilen gegenüber einer externen 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100"/>
            </a:br>
            <a:br>
              <a:rPr sz="1100"/>
            </a:br>
            <a:br>
              <a:rPr sz="20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urt Fantes</a:t>
            </a:r>
            <a:br>
              <a:rPr sz="2400"/>
            </a:br>
            <a:r>
              <a:rPr b="1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Düsseldorf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, den 21.02.2002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Integriertes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LIMS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scheidungsfaktoren für ERP-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0663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ternehmensweite einheitliche Datenba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ernehmensweite Integ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nkonsisten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ine ungewollten Redundanz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fügbarkeit und Qualität von Information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Über den gesamten Produktlebenszykl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lang des gesamten primären logistischen Proz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ostenreduzi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nittste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nstige lfd. Ko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skonfigurationen ERP-System - Q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das ERP-System integrierte Standard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618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male Lösung, wenn die angebotenen Funktionen, das Systemhandling und die Flexibilität den Anforderungen genüg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ternes LIMS mit Schnittstellen zum ERP-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618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 dann zu empfehlen wenn keine integrierte Lösung verfügbar 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grierte Standardlösung + externes LI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618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 dann zu empfehlen wenn keine integrierte Lösung verfügbar 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das ERP-System integrierte kundenoptimierte 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618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male Lösung, wenn das Standard ERP-System den Anforderungen nicht genüg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aussetzungen für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terstützung aller unternehmensweit anfallenden Anforderu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urzfristig verfüg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kunftssicheres Konzep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zahlba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dienba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weiter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09480" y="1295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reich Logisti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deckung aller benötigten Prüfar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Überwachung und Anpassung Haltbarkei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erstützung der Lieferantenbeurteilung aus Q-S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iertes Erstellen und Bearbeiten v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eferantenreklama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n Problem- / Korrekturmeld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undenreklama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zifikationserstellung und -bearbei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zifikationsverw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120" y="12949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reich Forschung &amp; Entwick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fache und flexible Probenerstel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hrdimensionale Ergebniserfassung (Werte, Berichte,                Spektren, 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fache Verwaltung von allen nicht in SAP zu führenden Materialien, wie Hilfsstoffen und Reagenz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bilitäts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führung und Überwachung von Projekten wie z.B.  Frei- und / Schnellbewitterungen oder Objektmonito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itere Bereiche (I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mweltschut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54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nfache Stammdatenhalt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54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odisches, automatisches Anlegen von Prob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54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stellen von Berich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ndhaltung (P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54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üfmittelverwaltung innerhalb Q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alibrierplan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alibrieraufträ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alibrierprüf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1T16:24:12Z</dcterms:created>
  <dc:creator>HISS-Nr.:62450</dc:creator>
  <dc:description/>
  <dc:language>en-US</dc:language>
  <cp:lastModifiedBy>Dr. Jochen Winkler</cp:lastModifiedBy>
  <cp:lastPrinted>2002-02-19T08:24:01Z</cp:lastPrinted>
  <dcterms:modified xsi:type="dcterms:W3CDTF">2002-02-25T12:18:46Z</dcterms:modified>
  <cp:revision>281</cp:revision>
  <dc:subject/>
  <dc:title>Intergriertes SAP R/3 LIMS</dc:title>
</cp:coreProperties>
</file>