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71988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37160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719880"/>
            <a:ext cx="277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71988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01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719880"/>
            <a:ext cx="861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285480">
              <a:spcBef>
                <a:spcPts val="550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9588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900" spc="-1" strike="noStrike">
                <a:solidFill>
                  <a:srgbClr val="ff505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.02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2485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248520"/>
            <a:ext cx="13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543800" y="62485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033168D1-A164-486C-A421-92E6F2A224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 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029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1.02.20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Parameter Auswah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600200"/>
          <a:ext cx="75848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5848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822240" y="95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1143000"/>
          <a:ext cx="1257480" cy="2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125748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Detailanga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1295280"/>
          <a:ext cx="8610480" cy="25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6104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886200"/>
            <a:ext cx="80773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der Parameter bildet eine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lmerkmale innerhalb eines Blockes sind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werterfassung ist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Parameter kann beliebig oft ausgewähl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merkmale können hinzugefüg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1752480"/>
            <a:ext cx="2057400" cy="1143000"/>
          </a:xfrm>
          <a:prstGeom prst="wedgeRoundRectCallout">
            <a:avLst>
              <a:gd name="adj1" fmla="val -46912"/>
              <a:gd name="adj2" fmla="val 862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r im Beispi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sgewähl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meter enthält 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Merkmalsauswahl mittels Prüf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523880"/>
          <a:ext cx="3915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3915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676520" y="1905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1752480"/>
            <a:ext cx="1067040" cy="3200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135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143000"/>
          <a:ext cx="109548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43000"/>
                    <a:ext cx="10954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181480" y="1676520"/>
            <a:ext cx="335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rkmale eines    beliebigen Prüfplans  werden in den Prüfauf-trag als Vorschlags-merkmale kop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Merkmalsauswahl mittels Prüfplan (Detailbil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219320"/>
          <a:ext cx="8610480" cy="33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1048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04920" y="4724280"/>
            <a:ext cx="8534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Auswahlmenge, die Einheit, die Prüfmethode, das Labor, die Arbeitsplätze und die Grenzwerte können veränder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zelne Merkmale können hinzugefügt oder gelösch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Registrierung ist ein notwendiger Arbeitsschritt (manuell über eigene Transaktion oder automatis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Probenbegleitblatt (Laufzettel) auf den eingestellten Druckern wird automatisch gedruc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 das betreffende (führende) Labor auf „automatisch registrieren“ eingestellt, wird das Probenbegleitblatt nach einem Popup wahlweise gedruck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 „Einzelwerte Probenantra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066680"/>
          <a:ext cx="2819160" cy="9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281916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04920" y="2209680"/>
          <a:ext cx="658332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09680"/>
                    <a:ext cx="65833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67080" y="1143000"/>
            <a:ext cx="4496040" cy="1066680"/>
          </a:xfrm>
          <a:prstGeom prst="cloudCallout">
            <a:avLst>
              <a:gd name="adj1" fmla="val -23518"/>
              <a:gd name="adj2" fmla="val 67111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447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ser Parameter impliziert  8 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51814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ür die Merkmale 1 bis 7 ist eine Einzelwerterfassung hinterlegt (Stich-probenverfahren). Das letzte Merkmal ist die Summe der Mittelwerte der ersten 7 Merkmale (Formelmerkm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 „Einzelwerte Werterfass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066680"/>
          <a:ext cx="5445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5445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5638680"/>
          <a:ext cx="54864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638680"/>
                    <a:ext cx="548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5880" y="2057400"/>
            <a:ext cx="259092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Mittelwert ist das „eigentliche Merkmal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erkmalstatus 2 heißt „gemessen“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ktuell nicht zu messende Merkmale einer Formel können „geskippt“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Formel kann trotzdem berechnet werden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  „Werteerfassung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066680"/>
          <a:ext cx="861048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324480" y="1066680"/>
            <a:ext cx="1981440" cy="990720"/>
          </a:xfrm>
          <a:prstGeom prst="wedgeEllipseCallout">
            <a:avLst>
              <a:gd name="adj1" fmla="val -75319"/>
              <a:gd name="adj2" fmla="val 1057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1143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lw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of Limi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429000" y="1981080"/>
          <a:ext cx="1838160" cy="9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981080"/>
                    <a:ext cx="183816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52280" y="4800600"/>
            <a:ext cx="8991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lwert wird automatisch berechnet, wenn alle Merkmale vorhanden si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 GPC ist ein qualitatives Merkmal mit „Freitext“ , daher keine Grenzwertverletzung prüfb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066680"/>
          <a:ext cx="8610480" cy="31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2280" y="4267080"/>
            <a:ext cx="86108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ister „Ändern“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e und oder Parameter werden hinzugefügt / gelös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menge kann gesetz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ethode kann geändert werd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 kann geänd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920" y="1219320"/>
          <a:ext cx="861048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61048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0880" y="36576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ister „Preise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schlagswert über ein Arbeitsplatz- oder Labor-Leistungsverzeichnis auswäh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schlagswert kann überschrieb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ntualer Abschlag (Rabatt) oder Zusch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rakterisierung der Prüfaufträge für Sonde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aufträge anle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r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375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Transak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rteerfassung  „Registerkarten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219320"/>
          <a:ext cx="8610480" cy="19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61048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238880" y="2057400"/>
            <a:ext cx="1295640" cy="609480"/>
          </a:xfrm>
          <a:prstGeom prst="wedgeRoundRectCallout">
            <a:avLst>
              <a:gd name="adj1" fmla="val -127819"/>
              <a:gd name="adj2" fmla="val -53648"/>
              <a:gd name="adj3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7800" y="22096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pelk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80773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Register „Info“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Details zur Hinterlegung von Rohdatenverweis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mit Langtext auf Merkmalsebene), Analysen-bedingungen, vordefinierten Bemerk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09720" indent="-1809720">
              <a:lnSpc>
                <a:spcPct val="80000"/>
              </a:lnSpc>
              <a:tabLst>
                <a:tab algn="l" pos="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  <a:tab algn="l" pos="5943600"/>
                <a:tab algn="l" pos="617220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Hinweis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ngtextverarbeitung für gesamten Prüfauftrag in allen Screens verfügbar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4920" y="5410080"/>
          <a:ext cx="644040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5410080"/>
                    <a:ext cx="64404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7010280" y="4648320"/>
            <a:ext cx="1447920" cy="609480"/>
          </a:xfrm>
          <a:prstGeom prst="wedgeRoundRectCallout">
            <a:avLst>
              <a:gd name="adj1" fmla="val -90023"/>
              <a:gd name="adj2" fmla="val 100782"/>
              <a:gd name="adj3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4876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pelk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 Transaktionen/Reports/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auftrag kopieren, ändern, anzei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satzerwart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Key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stumsatz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Key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Änderungsnachweis pro Prüfauftrag und pro Merkm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ffene Merkma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282600">
              <a:lnSpc>
                <a:spcPct val="90000"/>
              </a:lnSpc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 Arbeitsplat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alysenbefund (Popup nach jedem Sichern) mögli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alberechtigungen für Werteerfassungen und Preis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 Labor/Arbeitsplatz mittels SAP-Berechtigungen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 Transaktionen/Reports/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genes Konzept für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Key Account Manag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erlegt in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Stammdaten und im SAP Debitoren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ondere Verantwortlichkeit für externe Sonderproben ist in Sonderrechten hinterle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er Key Account Manager darf externe Proben manuell abschließen; erst danach darf die Probe abgerechne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er Key Account Manager darf seine Umsatzentwicklung kontrollieren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proben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 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9449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üsseldorf, den 21.02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kterisierung Auftragseb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9440" y="1371600"/>
            <a:ext cx="8383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bedienerfreundliche Handhab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jeden Prüfauftrag muss ein  Auftraggeber zugeordnet wer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indeutige Probenbeschreibung zusätzlich zur Proben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Zusammenstellung des Prüfauftrages oder  Auswahl eines Prüfplanes als editierbare Vor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onale Erfassung von wichtigen Auftragsinformationen (Datum, Uhrzeit, Probentyp, Probennahmestelle, Gefahrguthinweis, Langtex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von Prüfaufträ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satzerwartung und Ist-Umsatz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kterisierung Merkmalseb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chlagswerte für Einheit, Methode, untere und obere Grenze können überschrieben werd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hrdimensionale Ergebnis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lmerkmale auch in Kombination mit Einzelwer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litative Merkmale können als Freitexteingabe umfunktioniert werden, indem man auf die Auswahlmenge verzicht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onale Erfassung von wichtigen Zusatzinformationen (Untersuchung auf, Rohdatenverweis, Analysenbedingung, Bemerkungen, theoretischer Wer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issteuerung durch Vorschlagswerte mittels Leistungsverzeichnis auf Werks,- Labor- und Arbeitsplatzebe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lnSpc>
                <a:spcPct val="90000"/>
              </a:lnSpc>
              <a:spcBef>
                <a:spcPts val="55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fangreiche Änderungsfunktionen auch bei der Werterfassung (Hinzufügen, Löschen von Merkmalen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wendungsmöglichk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Forschungspro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Umweltproben (z. B. Arbeitsplatzkonzentrations- oder Emissionsmessunge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externe Auftragsproben (Auftrags LIM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zusätzliche interne Prüfungen/Nachprüf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Wettbewerberprob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ür Sonderproben der Mikrobi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1143000"/>
          <a:ext cx="6934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934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38080" y="5486400"/>
            <a:ext cx="6858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Prüfart steuert den Kopf des Probenauft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 „interne Sonderprobe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700280" y="1371600"/>
          <a:ext cx="56674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71600"/>
                    <a:ext cx="5667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auftrag anlegen „externe Sonderprobe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371600"/>
          <a:ext cx="7467840" cy="21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46784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62120" y="3657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chied zur internen Sonderpro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114800"/>
            <a:ext cx="723924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geber ist ein Deb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724280"/>
            <a:ext cx="77724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 Debitorenstamm hinterle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m.: Die Auftraggeber für interne Sonderproben sind in den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 Stammdaten hinterl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20968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kmalsauswahl mittels Para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MS Stammdatenkonze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Menge aller Merkmale wird in Merkmalsgruppen eingetei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236232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312408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3886200"/>
            <a:ext cx="18288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514600"/>
            <a:ext cx="1523880" cy="1326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kmal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876920"/>
            <a:ext cx="7925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r Gruppe werden Parameter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m Parameter werden ein bis n Merkmale zugeord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638320" y="25905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514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362320"/>
            <a:ext cx="2971800" cy="169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895480"/>
            <a:ext cx="1066680" cy="4572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p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90560" y="25909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62320" y="3124080"/>
            <a:ext cx="167616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057040" y="3124080"/>
            <a:ext cx="1981080" cy="9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7:59:22Z</dcterms:created>
  <dc:creator>ARS</dc:creator>
  <dc:description/>
  <dc:language>en-US</dc:language>
  <cp:lastModifiedBy>Dr. Jochen Winkler</cp:lastModifiedBy>
  <dcterms:modified xsi:type="dcterms:W3CDTF">2002-02-25T12:17:07Z</dcterms:modified>
  <cp:revision>52</cp:revision>
  <dc:subject/>
  <dc:title>Kein Folientitel</dc:title>
</cp:coreProperties>
</file>