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719880"/>
            <a:ext cx="861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71988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0760" y="371988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277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39920" y="1371600"/>
            <a:ext cx="277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1240" y="1371600"/>
            <a:ext cx="277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719880"/>
            <a:ext cx="277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39920" y="3719880"/>
            <a:ext cx="277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51240" y="3719880"/>
            <a:ext cx="277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3716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71988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0760" y="371988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719880"/>
            <a:ext cx="861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6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7600" indent="-285480">
              <a:spcBef>
                <a:spcPts val="550"/>
              </a:spcBef>
              <a:buClr>
                <a:srgbClr val="ff505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6700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88604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0508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0508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0508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95880"/>
            <a:ext cx="106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900" spc="-1" strike="noStrike">
                <a:solidFill>
                  <a:srgbClr val="ff5050"/>
                </a:solidFill>
                <a:latin typeface="Braggadoci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5050"/>
                </a:solidFill>
                <a:latin typeface="Braggadocio"/>
              </a:rPr>
              <a:t>jw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90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.02.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624852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nd Mickl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867280" y="6248520"/>
            <a:ext cx="13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nderprob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543800" y="624852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488939D7-B3F3-4E92-8205-79D308FACC6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80769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rnd Mickl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505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 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nderprob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5029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üsseldorf, den 21.02.200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 für Parameter Auswah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62120" y="1600200"/>
          <a:ext cx="758484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75848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822240" y="95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838080" y="1143000"/>
          <a:ext cx="1257480" cy="20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143000"/>
                    <a:ext cx="1257480" cy="2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meter Detailangab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28600" y="1295280"/>
          <a:ext cx="8610480" cy="25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95280"/>
                    <a:ext cx="8610480" cy="25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228600" y="3886200"/>
            <a:ext cx="80773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der Parameter bildet einen 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elmerkmale innerhalb eines Blockes sind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zelwerterfassung ist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 Parameter kann beliebig oft ausgewählt we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zelmerkmale können hinzugefügt we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1752480"/>
            <a:ext cx="2057400" cy="1143000"/>
          </a:xfrm>
          <a:prstGeom prst="wedgeRoundRectCallout">
            <a:avLst>
              <a:gd name="adj1" fmla="val -46912"/>
              <a:gd name="adj2" fmla="val 862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r im Beispi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sgewähl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ameter enthäl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rkm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 für Merkmalsauswahl mittels Prüfpl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0880" y="1523880"/>
          <a:ext cx="391500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3880"/>
                    <a:ext cx="39150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676520" y="19051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81080" y="1752480"/>
            <a:ext cx="1067040" cy="3200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11350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80880" y="1143000"/>
          <a:ext cx="1095480" cy="21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143000"/>
                    <a:ext cx="10954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5181480" y="1676520"/>
            <a:ext cx="3353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ff505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Merkmale eines    beliebigen Prüfplans  werden in den Prüfauf-trag als Vorschlags-merkmale kopier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 Merkmalsauswahl mittels Prüfplan (Detailbil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04920" y="1219320"/>
          <a:ext cx="8610480" cy="33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19320"/>
                    <a:ext cx="8610480" cy="33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304920" y="4724280"/>
            <a:ext cx="85341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e Auswahlmenge, die Einheit, die Prüfmethode, das Labor, die Arbeitsplätze und die Grenzwerte können veränder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zelne Merkmale können hinzugefügt oder gelösch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stri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e Registrierung ist ein notwendiger Arbeitsschritt (manuell über eigene Transaktion oder automatisch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 Probenbegleitblatt (Laufzettel) auf den eingestellten Druckern wird automatisch gedruck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t das betreffende (führende) Labor auf „automatisch registrieren“ eingestellt, wird das Probenbegleitblatt nach einem Popup wahlweise gedruck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 1 „Einzelwerte Probenantrag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04920" y="1066680"/>
          <a:ext cx="2819160" cy="9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2819160" cy="9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304920" y="2209680"/>
          <a:ext cx="6583320" cy="280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209680"/>
                    <a:ext cx="6583320" cy="28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4267080" y="1143000"/>
            <a:ext cx="4496040" cy="1066680"/>
          </a:xfrm>
          <a:prstGeom prst="cloudCallout">
            <a:avLst>
              <a:gd name="adj1" fmla="val -23518"/>
              <a:gd name="adj2" fmla="val 67111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4120" y="144792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ser Parameter impliziert  8 Merkm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51814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ür die Merkmale 1 bis 7 ist eine Einzelwerterfassung hinterlegt (Stich-probenverfahren). Das letzte Merkmal ist die Summe der Mittelwerte der ersten 7 Merkmale (Formelmerkmal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 1 „Einzelwerte Werterfassung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04920" y="1066680"/>
          <a:ext cx="544500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54450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04920" y="5638680"/>
          <a:ext cx="54864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5638680"/>
                    <a:ext cx="54864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095880" y="2057400"/>
            <a:ext cx="2590920" cy="30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r Mittelwert ist das „eigentliche Merkmal“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erkmalstatus 2 heißt „gemessen“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ktuell nicht zu messende Merkmale einer Formel können „geskippt“ werd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Formel kann trotzdem berechnet werden.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 2  „Werteerfassung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28600" y="1066680"/>
          <a:ext cx="8610480" cy="36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610480" cy="36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6324480" y="1066680"/>
            <a:ext cx="1981440" cy="990720"/>
          </a:xfrm>
          <a:prstGeom prst="wedgeEllipseCallout">
            <a:avLst>
              <a:gd name="adj1" fmla="val -75319"/>
              <a:gd name="adj2" fmla="val 10576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11430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elw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 of Limit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429000" y="1981080"/>
          <a:ext cx="1838160" cy="9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1981080"/>
                    <a:ext cx="183816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152280" y="4800600"/>
            <a:ext cx="899172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elwert wird automatisch berechnet, wenn alle Merkmale vorhanden si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rkmal GPC ist ein qualitatives Merkmal mit „Freitext“ , daher keine Grenzwertverletzung prüfb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rteerfassung  „Registerkarten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28600" y="1066680"/>
          <a:ext cx="8610480" cy="312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610480" cy="31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52280" y="4267080"/>
            <a:ext cx="861084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gister „Ändern“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buClr>
                <a:srgbClr val="ff505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rkmale und oder Parameter werden hinzugefügt / gelös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buClr>
                <a:srgbClr val="ff505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swahlmenge kann gesetzt we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buClr>
                <a:srgbClr val="ff505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üfmethode kann geändert werde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buClr>
                <a:srgbClr val="ff505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heit kann geändert we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rteerfassung  „Registerkarten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04920" y="1219320"/>
          <a:ext cx="8610480" cy="189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19320"/>
                    <a:ext cx="8610480" cy="18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380880" y="3657600"/>
            <a:ext cx="8534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gister „Preise“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505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rschlagswert über ein Arbeitsplatz- oder Labor-Leistungsverzeichnis auswähl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505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rschlagswert kann überschrieben we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505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zentualer Abschlag (Rabatt) oder Zuschl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Überbli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375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arakterisierung der Prüfaufträge für Sonderprob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375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wendungsmöglichkei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375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üfaufträge anle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375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istri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375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rteerfas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375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itere Transak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rteerfassung  „Registerkarten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28600" y="1219320"/>
          <a:ext cx="8610480" cy="199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9320"/>
                    <a:ext cx="8610480" cy="19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7238880" y="2057400"/>
            <a:ext cx="1295640" cy="609480"/>
          </a:xfrm>
          <a:prstGeom prst="wedgeRoundRectCallout">
            <a:avLst>
              <a:gd name="adj1" fmla="val -127819"/>
              <a:gd name="adj2" fmla="val -53648"/>
              <a:gd name="adj3" fmla="val 16667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237800" y="220968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ppelkli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3429000"/>
            <a:ext cx="80773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09720" indent="-1809720">
              <a:lnSpc>
                <a:spcPct val="80000"/>
              </a:lnSpc>
              <a:tabLst>
                <a:tab algn="l" pos="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172200"/>
              </a:tabLst>
            </a:pP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Register „Info“: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ür Details zur Hinterlegung von Rohdatenverweise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09720" indent="-1809720">
              <a:lnSpc>
                <a:spcPct val="80000"/>
              </a:lnSpc>
              <a:tabLst>
                <a:tab algn="l" pos="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1722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mit Langtext auf Merkmalsebene), Analysen-bedingungen, vordefinierten Bemerk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09720" indent="-1809720">
              <a:lnSpc>
                <a:spcPct val="80000"/>
              </a:lnSpc>
              <a:tabLst>
                <a:tab algn="l" pos="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1722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09720" indent="-1809720">
              <a:lnSpc>
                <a:spcPct val="80000"/>
              </a:lnSpc>
              <a:tabLst>
                <a:tab algn="l" pos="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172200"/>
              </a:tabLst>
            </a:pP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Hinweis: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angtextverarbeitung für gesamten Prüfauftrag in allen Screens verfügbar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04920" y="5410080"/>
          <a:ext cx="6440400" cy="36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5410080"/>
                    <a:ext cx="644040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7010280" y="4648320"/>
            <a:ext cx="1447920" cy="609480"/>
          </a:xfrm>
          <a:prstGeom prst="wedgeRoundRectCallout">
            <a:avLst>
              <a:gd name="adj1" fmla="val -90023"/>
              <a:gd name="adj2" fmla="val 100782"/>
              <a:gd name="adj3" fmla="val 16667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48769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ppelkli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itere  Transaktionen/Reports/Funktion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lnSpc>
                <a:spcPct val="90000"/>
              </a:lnSpc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üfauftrag kopieren, ändern, anzei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msatzerwartung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36800" indent="-282600">
              <a:lnSpc>
                <a:spcPct val="90000"/>
              </a:lnSpc>
              <a:buClr>
                <a:srgbClr val="ff5050"/>
              </a:buClr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 Key Account Mana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6800" indent="-282600">
              <a:lnSpc>
                <a:spcPct val="90000"/>
              </a:lnSpc>
              <a:buClr>
                <a:srgbClr val="ff5050"/>
              </a:buClr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 Arbeitsplat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68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stumsatz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36800" indent="-282600">
              <a:lnSpc>
                <a:spcPct val="90000"/>
              </a:lnSpc>
              <a:buClr>
                <a:srgbClr val="ff5050"/>
              </a:buClr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 Key Account Mana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6800" indent="-282600">
              <a:lnSpc>
                <a:spcPct val="90000"/>
              </a:lnSpc>
              <a:buClr>
                <a:srgbClr val="ff5050"/>
              </a:buClr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 Arbeitsplat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68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Änderungsnachweis pro Prüfauftrag und pro Merkm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ffene Merkma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36800" indent="-282600">
              <a:lnSpc>
                <a:spcPct val="90000"/>
              </a:lnSpc>
              <a:buClr>
                <a:srgbClr val="ff5050"/>
              </a:buClr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 Arbeitsplatz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68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nalysenbefund (Popup nach jedem Sichern) möglic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pezialberechtigungen für Werteerfassungen und Preise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 Labor/Arbeitsplatz mittels SAP-Berechtigungen    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itere  Transaktionen/Reports/Funktion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5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genes Konzept für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Key Account Manag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nterlegt in </a:t>
            </a:r>
            <a:r>
              <a:rPr b="1" lang="en-US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S Stammdaten und im SAP Debitorenstam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ondere Verantwortlichkeit für externe Sonderproben ist in Sonderrechten hinterleg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r der Key Account Manager darf externe Proben manuell abschließen; erst danach darf die Probe abgerechnet werd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r der Key Account Manager darf seine Umsatzentwicklung kontrollieren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nderproben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8610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rnd Mickl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 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494496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üsseldorf, den 21.02.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kterisierung Auftragsebe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79440" y="1371600"/>
            <a:ext cx="8383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fache und bedienerfreundliche Handhabu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jeden Prüfauftrag muss ein  Auftraggeber zugeordnet werd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indeutige Probenbeschreibung zusätzlich zur ProbenI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nuelle Zusammenstellung des Prüfauftrages oder  Auswahl eines Prüfplanes als editierbare Vorl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ptionale Erfassung von wichtigen Auftragsinformationen (Datum, Uhrzeit, Probentyp, Probennahmestelle, Gefahrguthinweis, Langtex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rechnung von Prüfaufträg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msatzerwartung und Ist-Umsatz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kterisierung Merkmalsebe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6320" indent="-346320">
              <a:lnSpc>
                <a:spcPct val="90000"/>
              </a:lnSpc>
              <a:spcBef>
                <a:spcPts val="5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orschlagswerte für Einheit, Methode, untere und obere Grenze können überschrieben werden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lnSpc>
                <a:spcPct val="90000"/>
              </a:lnSpc>
              <a:spcBef>
                <a:spcPts val="5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hrdimensionale Ergebniserfas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lnSpc>
                <a:spcPct val="90000"/>
              </a:lnSpc>
              <a:spcBef>
                <a:spcPts val="5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melmerkmale auch in Kombination mit Einzelwer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lnSpc>
                <a:spcPct val="90000"/>
              </a:lnSpc>
              <a:spcBef>
                <a:spcPts val="5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litative Merkmale können als Freitexteingabe umfunktioniert werden, indem man auf die Auswahlmenge verzicht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lnSpc>
                <a:spcPct val="90000"/>
              </a:lnSpc>
              <a:spcBef>
                <a:spcPts val="5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ptionale Erfassung von wichtigen Zusatzinformationen (Untersuchung auf, Rohdatenverweis, Analysenbedingung, Bemerkungen, theoretischer Wer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lnSpc>
                <a:spcPct val="90000"/>
              </a:lnSpc>
              <a:spcBef>
                <a:spcPts val="5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eissteuerung durch Vorschlagswerte mittels Leistungsverzeichnis auf Werks,- Labor- und Arbeitsplatzeben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lnSpc>
                <a:spcPct val="90000"/>
              </a:lnSpc>
              <a:spcBef>
                <a:spcPts val="5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mfangreiche Änderungsfunktionen auch bei der Werterfassung (Hinzufügen, Löschen von Merkmalen)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6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wendungsmöglichkei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150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ür Forschungsprob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150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ür Umweltproben (z. B. Arbeitsplatzkonzentrations- oder Emissionsmessungen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150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ür externe Auftragsproben (Auftrags LIM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150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ür zusätzliche interne Prüfungen/Nachprüfunge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150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ür Wettbewerberprob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150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ür Sonderproben der Mikrobiologi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üfauftrag anle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838080" y="1143000"/>
          <a:ext cx="693432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143000"/>
                    <a:ext cx="693432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838080" y="5486400"/>
            <a:ext cx="685800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e Prüfart steuert den Kopf des Probenauftr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üfauftrag anlegen „interne Sonderprobe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700280" y="1371600"/>
          <a:ext cx="566748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0280" y="1371600"/>
                    <a:ext cx="566748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üfauftrag anlegen „externe Sonderprobe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38080" y="1371600"/>
          <a:ext cx="7467840" cy="21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7467840" cy="21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762120" y="36576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terschied zur internen Sonderprob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4114800"/>
            <a:ext cx="7239240" cy="3988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traggeber ist ein Deb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4724280"/>
            <a:ext cx="77724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m Debitorenstamm hinterleg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m.: Die Auftraggeber für interne Sonderproben sind in den </a:t>
            </a:r>
            <a:r>
              <a:rPr b="1" lang="en-US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S Stammdaten hinterleg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76720" y="2209680"/>
            <a:ext cx="11430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rkmalsauswahl mittels Parame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IMS Stammdatenkonzep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e Menge aller Merkmale wird in Merkmalsgruppen eingeteil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2520" y="2362320"/>
            <a:ext cx="182880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et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62520" y="350532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62520" y="3124080"/>
            <a:ext cx="182880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et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62520" y="3886200"/>
            <a:ext cx="182880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eter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86600" y="2514600"/>
            <a:ext cx="1523880" cy="1326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kmal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kmal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kmal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4876920"/>
            <a:ext cx="79250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451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der Gruppe werden Parameter zugeord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dem Parameter werden ein bis n Merkmale zugeord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5638320" y="2590560"/>
            <a:ext cx="12193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81680" y="2514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362320"/>
            <a:ext cx="2971800" cy="1692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76520" y="2895480"/>
            <a:ext cx="1066680" cy="45720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2971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pp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590560" y="2590920"/>
            <a:ext cx="1447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2362320" y="3124080"/>
            <a:ext cx="1676160" cy="21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2057040" y="3124080"/>
            <a:ext cx="1981080" cy="9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07:59:22Z</dcterms:created>
  <dc:creator>ARS</dc:creator>
  <dc:description/>
  <dc:language>en-US</dc:language>
  <cp:lastModifiedBy>Dr. Jochen Winkler</cp:lastModifiedBy>
  <dcterms:modified xsi:type="dcterms:W3CDTF">2002-02-25T12:17:07Z</dcterms:modified>
  <cp:revision>52</cp:revision>
  <dc:subject/>
  <dc:title>Kein Folientitel</dc:title>
</cp:coreProperties>
</file>