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506F660-F6B8-41F9-B2C8-CB163D7D7A7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1320" y="71010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9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1440" y="7101000"/>
            <a:ext cx="22748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rapport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4n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rapport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rapport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77800" indent="-577800"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natsabschluss und Monatsrappor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rapport (Besonderheite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77800" indent="-57780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e Sicht auf unternehmensspezifische Merkmale (z.B. der Stoff) bei der Planung als auch bei den Auswertun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liebige darunterliegende Struktur,  um das operative Geschäft PP SD MM-IM MM-WM abzubilden (z.B. Chargen, Spezifikationen, verpackte Ware, lose War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743200"/>
            <a:ext cx="9524880" cy="2743200"/>
          </a:xfrm>
          <a:prstGeom prst="ellipse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943600"/>
            <a:ext cx="9068040" cy="106668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prüche an die Systemati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80880" y="1294920"/>
            <a:ext cx="9068040" cy="91440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37160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6480" y="1258920"/>
            <a:ext cx="13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905120"/>
            <a:ext cx="220968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647712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760" y="6553080"/>
            <a:ext cx="1348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5638680"/>
            <a:ext cx="221004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88620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ves Geschä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1440" y="2932200"/>
            <a:ext cx="203256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2560" y="4267080"/>
            <a:ext cx="20444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 -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ied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r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98360" y="2895480"/>
            <a:ext cx="28461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W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eid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.B. 180 Kg Gebinde v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Kg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3320" y="4267080"/>
            <a:ext cx="20325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45080" y="4343400"/>
            <a:ext cx="24728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kaufspre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68760" y="2895480"/>
            <a:ext cx="247284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1n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2n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ss Sivento: Motiv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lem: exaktes untermonatiges Erfassen aller Materialverbrauche und der Produktion (flächendeckende Messtechnik, Verfahrenstechnik: Nachlauf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lständige Kostenträger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erte Stücklisten und Planungsrez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1600200"/>
            <a:ext cx="4724280" cy="21337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1828800"/>
            <a:ext cx="35053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erung der auftragsneutralen Aufwände (Kostenstellenverbrauche, Inventurbuch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3352680"/>
            <a:ext cx="236196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3505320"/>
            <a:ext cx="236232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Statisti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: einmaliges exaktes erfassen der Tankstände von Rohstoffen, Produkten und Halbprodukten oder Energieabrechnungen am Ende des Monats und ausbuchen der Differenzen anteilig auf die Verbrauchenden und Erzeugenden Aufträge des Mon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ss Sivento: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9144000" cy="5527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7780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Standa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zumutbares Handling beim Recherchieren der Aufträge und Ermitteln der Aufteilrege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der daraus folgenden Buchungspositionen außerhalb des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eblicher Aufwand, da die so ermittelten Buchungspositionen einzeln erfasst werden müss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übersichtliches Tableau zum Erfassen aller exakten Bestände (optional automatische Abfrage von Prozessleitsysteme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Oberfläche, die die nötigen Verbrauchs- und Erzeugungszahlen absolut und prozentual präsentiert, und über welche die Differenzen zum SAP-Bestand automatisch aber manuell änderbar erfasst und gespeich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nopfdruck werden alle Positionen verbuch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r Abschluss aller offenen 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3n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08-22T08:01:00Z</cp:lastPrinted>
  <dcterms:modified xsi:type="dcterms:W3CDTF">2001-09-28T07:42:06Z</dcterms:modified>
  <cp:revision>88</cp:revision>
  <dc:subject/>
  <dc:title>Kein Folientitel</dc:title>
</cp:coreProperties>
</file>