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0328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3FBBC5C9-FCC9-4376-A4C5-D6329CDB0CA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1320" y="71010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.09.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6560" y="7101000"/>
            <a:ext cx="9320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teffen Rosch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1440" y="7101000"/>
            <a:ext cx="22748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duktionsplanung und Monatsabschlu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atsrapport und Monatsabschlu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Phys. Steffen Roschek</a:t>
            </a:r>
            <a:br>
              <a:rPr sz="2400"/>
            </a:br>
            <a:r>
              <a:rPr b="1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üsseldorf, den 27.0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b4n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atsrapport und Monatsabschlu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Phys. Steffen Roschek</a:t>
            </a:r>
            <a:br>
              <a:rPr sz="2400"/>
            </a:br>
            <a:r>
              <a:rPr b="1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27.0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atsrapport und Monatsabschlu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77800" indent="-577800">
              <a:spcBef>
                <a:spcPts val="77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forderungen an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onatsabschluss und Monatsrappor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atsrapport (Besonderheite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atsabschlu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forder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2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77800" indent="-57780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leiche Sicht auf unternehmensspezifische Merkmale (z.B. der Stoff) bei der Planung als auch bei den Auswertung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64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3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liebige darunterliegende Struktur,  um das operative Geschäft PP SD MM-IM MM-WM abzubilden (z.B. Chargen, Spezifikationen, verpackte Ware, lose Ware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64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2743200"/>
            <a:ext cx="9524880" cy="2743200"/>
          </a:xfrm>
          <a:prstGeom prst="ellipse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5943600"/>
            <a:ext cx="9068040" cy="1066680"/>
          </a:xfrm>
          <a:custGeom>
            <a:avLst/>
            <a:gdLst>
              <a:gd name="textAreaLeft" fmla="*/ 1994040 w 9068040"/>
              <a:gd name="textAreaRight" fmla="*/ 7074000 w 9068040"/>
              <a:gd name="textAreaTop" fmla="*/ 234360 h 1066680"/>
              <a:gd name="textAreaBottom" fmla="*/ 832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490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prüche an die Systematik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80880" y="1294920"/>
            <a:ext cx="9068040" cy="914400"/>
          </a:xfrm>
          <a:custGeom>
            <a:avLst/>
            <a:gdLst>
              <a:gd name="textAreaLeft" fmla="*/ 1994040 w 9068040"/>
              <a:gd name="textAreaRight" fmla="*/ 7074000 w 906804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371600"/>
            <a:ext cx="2514600" cy="398880"/>
          </a:xfrm>
          <a:prstGeom prst="rect">
            <a:avLst/>
          </a:prstGeom>
          <a:solidFill>
            <a:srgbClr val="969696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(chemis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6480" y="1258920"/>
            <a:ext cx="1381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1905120"/>
            <a:ext cx="220968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Zukauf verzo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1905120"/>
            <a:ext cx="251460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Zukauf unverzo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1905120"/>
            <a:ext cx="251460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eigenhergeste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6477120"/>
            <a:ext cx="2514600" cy="398880"/>
          </a:xfrm>
          <a:prstGeom prst="rect">
            <a:avLst/>
          </a:prstGeom>
          <a:solidFill>
            <a:srgbClr val="969696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(chemis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0760" y="6553080"/>
            <a:ext cx="1348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a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9880" y="5638680"/>
            <a:ext cx="221004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Zukauf verzo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5638680"/>
            <a:ext cx="251460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Zukauf unverzo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5638680"/>
            <a:ext cx="2514600" cy="703800"/>
          </a:xfrm>
          <a:prstGeom prst="rect">
            <a:avLst/>
          </a:prstGeom>
          <a:solidFill>
            <a:srgbClr val="a7b5cb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5b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ff eigenhergestel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3886200"/>
            <a:ext cx="2666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peratives Geschä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01440" y="2932200"/>
            <a:ext cx="2032560" cy="91692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e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gepackte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2560" y="4267080"/>
            <a:ext cx="2044440" cy="119124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 - 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erschiedl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ert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gepackter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98360" y="2895480"/>
            <a:ext cx="2846160" cy="119124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-W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erscheidu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.B. 180 Kg Gebinde v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 Kg 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943320" y="4267080"/>
            <a:ext cx="2032560" cy="119124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-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e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gepackte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45080" y="4343400"/>
            <a:ext cx="2472840" cy="119124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gepackte 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ndenspezifika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kaufspre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68760" y="2895480"/>
            <a:ext cx="2472840" cy="91692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00"/>
            </a:solidFill>
            <a:miter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ndenspezifika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b1n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b2n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300" spc="-1" strike="noStrike">
                <a:solidFill>
                  <a:srgbClr val="000000"/>
                </a:solidFill>
                <a:latin typeface="Arial"/>
              </a:rPr>
              <a:t>Monatsabschluss Sivento: Motiva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41144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blem: exaktes untermonatiges Erfassen aller Materialverbrauche und der Produktion (flächendeckende Messtechnik, Verfahrenstechnik: Nachlauf 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295280"/>
            <a:ext cx="2438640" cy="58068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lständige Kostenträger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295280"/>
            <a:ext cx="2438640" cy="58068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mierte Stücklisten und Planungsrez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1600200"/>
            <a:ext cx="4724280" cy="213372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1828800"/>
            <a:ext cx="350532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ierung der auftragsneutralen Aufwände (Kostenstellenverbrauche, Inventurbuchung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3352680"/>
            <a:ext cx="2361960" cy="33732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e Bewer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3505320"/>
            <a:ext cx="2362320" cy="33732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e Statisti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533412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ösung: einmaliges exaktes erfassen der Tankstände von Rohstoffen, Produkten und Halbprodukten oder Energieabrechnungen am Ende des Monats und ausbuchen der Differenzen anteilig auf die Verbrauchenden und Erzeugenden Aufträge des Mon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300" spc="-1" strike="noStrike">
                <a:solidFill>
                  <a:srgbClr val="000000"/>
                </a:solidFill>
                <a:latin typeface="Arial"/>
              </a:rPr>
              <a:t>Monatsabschluss Sivento: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nforder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9144000" cy="5527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7780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P Standar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zumutbares Handling beim Recherchieren der Aufträge und Ermitteln der Aufteilrege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eln der daraus folgenden Buchungspositionen außerhalb des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heblicher Aufwand, da die so ermittelten Buchungspositionen einzeln erfasst werden müss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forderu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 übersichtliches Tableau zum Erfassen aller exakten Bestände (optional automatische Abfrage von Prozessleitsystemen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 Oberfläche, die die nötigen Verbrauchs- und Erzeugungszahlen absolut und prozentual präsentiert, und über welche die Differenzen zum SAP-Bestand automatisch aber manuell änderbar erfasst und gespeichert wer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 Knopfdruck werden alle Positionen verbuch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chnischer Abschluss aller offenen Aufträ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b3n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Steffen Roschek</dc:creator>
  <dc:description/>
  <dc:language>en-US</dc:language>
  <cp:lastModifiedBy>Dr. Jochen Winkler</cp:lastModifiedBy>
  <cp:lastPrinted>2000-08-22T08:01:00Z</cp:lastPrinted>
  <dcterms:modified xsi:type="dcterms:W3CDTF">2001-09-28T07:42:06Z</dcterms:modified>
  <cp:revision>88</cp:revision>
  <dc:subject/>
  <dc:title>Kein Folientitel</dc:title>
</cp:coreProperties>
</file>