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DF835BC-2E00-49A9-8789-344055CB427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1320" y="71010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9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4320" y="7101000"/>
            <a:ext cx="1092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8.03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marL="201600" indent="-2016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enzen der Plankalk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 von Plankalkulation 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tkostenrechn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nz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2000"/>
          </a:bodyPr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aue Einhaltung der Rezeptur                                    (aus betriebswirtschaftlicher Sicht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inhaltung der geplanten typischen Produktions-menge je Erzeugn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mäßige Verteilung der geplanten Jahresmengen auf die einzelnen Monate (wenn pro Anlage mehrere Erzeugnisse hergestellt werden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eine Abweichungen in der Fahrweise der Anla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oraussetzungen: Modul Produktion, Modul  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Monatsabschluß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1. Erzeugen von Ist-Stücklisten</a:t>
            </a:r>
            <a:br>
              <a:rPr sz="2600"/>
            </a:b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terialentnahme, Materialzugang und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irkstoffgehalt pro Erzeugnis im betrachtete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traum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tsächlicher Verbrauch und tatsächlicher Anfall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Material (Wirkstoff) pro Mengeneinheit de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zeugnisses im betrachteten Zeitraum (rekursive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sitionen möglich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rzeugnisstruktur, Dispositionsstuf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828800"/>
            <a:ext cx="914400" cy="9907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52388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676520"/>
            <a:ext cx="914400" cy="9144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ISST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887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9144000" cy="553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2. Erzeugen von Ist-Rezept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1: Rückmeldung der Fertigungs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ix der tatsächlich belegten Anlagen „Ressourcen“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zeugnisses im betrachteten Zeitrau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2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meldung oder Ermittlung der Belegungs-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tsächliche empfangene Ist-Leistung pro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ngeneinheit des Erzeugnisses im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trachteten 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3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sorgungsrelevante Komponent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r Ist-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200016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ordnung der zu entsorgenden Mengen zu de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sorgungsklassen (Tarif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3. Berechnung der Ist-Anlagentarife</a:t>
            </a:r>
            <a:br>
              <a:rPr sz="2600"/>
            </a:b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: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Kosten je Anlage (Kostenstelle)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Laufzeiten je Anlage und Erzeugnis (*)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illstandszeiten je Anl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jeweils im betrachteten Zeitraum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gebnis: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Anlagentarife (DM / h) für den betrachte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itra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beitsschritte der Istkostenrech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95252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4. Durchführung der Ist-Kalkul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: 1. - 3.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onderheiten: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eigene Kalkulationsversion, dadurch lässt sich da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Ergebnis mit den gleichen Mitteln wie die Plan-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Kalkulation anzeigen, vergleichen und bearb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Betrachtung der Dispositionsstu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spcBef>
                <a:spcPts val="550"/>
              </a:spcBef>
              <a:buNone/>
              <a:tabLst>
                <a:tab algn="l" pos="0"/>
                <a:tab algn="l" pos="380880"/>
                <a:tab algn="l" pos="190512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 Auflösung der rekursiven Stücklisten durch iterative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Berechnung, bis für jedes Erzeugnis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bei zwei aufeinanderfolgenden Kalkulationen ein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vorgegebene Mindestdifferenz unterschritten oder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bis vorgegebene maximale Zyklenzahl erreicht wi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genüberstellung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kalkulation-Istkosten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600200"/>
          <a:ext cx="8478720" cy="27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847872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11-29T10:08:56Z</cp:lastPrinted>
  <dcterms:modified xsi:type="dcterms:W3CDTF">2001-09-27T07:31:11Z</dcterms:modified>
  <cp:revision>102</cp:revision>
  <dc:subject/>
  <dc:title>Kein Folientitel</dc:title>
</cp:coreProperties>
</file>