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CA19DD25-DBDE-4AFA-B765-19938D75310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1320" y="71010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.09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6560" y="7101000"/>
            <a:ext cx="932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4320" y="7101000"/>
            <a:ext cx="1092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üsseldorf, den 27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8.03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marL="201600" indent="-2016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nzen der Plankalk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genüberstellung von Plankalkulation 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nz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2000"/>
          </a:bodyPr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aue Einhaltung der Rezeptur                                    (aus betriebswirtschaftlicher Sicht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inhaltung der geplanten typischen Produktions-menge je Erzeugni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leichmäßige Verteilung der geplanten Jahresmengen auf die einzelnen Monate (wenn pro Anlage mehrere Erzeugnisse hergestellt werden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ine Abweichungen in der Fahrweise der Anlag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Voraussetzungen: Modul Produktion, Modul  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Monatsabschluß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1. Erzeugen von Ist-Stücklisten</a:t>
            </a:r>
            <a:br>
              <a:rPr sz="2600"/>
            </a:b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: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terialentnahme, Materialzugang und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irkstoffgehalt pro Erzeugnis im betrachteten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itraum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gebnis: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atsächlicher Verbrauch und tatsächlicher Anfall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Material (Wirkstoff) pro Mengeneinheit de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zeugnisses im betrachteten Zeitraum (rekursive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ositionen möglich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zeugnisstruktur, Dispositionsstuf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828800"/>
            <a:ext cx="914400" cy="99072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523880"/>
            <a:ext cx="914400" cy="9144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676520"/>
            <a:ext cx="914400" cy="9144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DISST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8878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9144000" cy="5535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2. Erzeugen von Ist-Rezepte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1: Rückmeldung der Fertigungsver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gebnis: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ix der tatsächlich belegten Anlagen „Ressourcen“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zeugnisses im betrachteten Zeitrau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2: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ückmeldung oder Ermittlung der Belegungs-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gebnis: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atsächliche empfangene Ist-Leistung pro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ngeneinheit des Erzeugnisses im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trachteten Zeitra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3: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sorgungsrelevante Komponenten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r Ist-Stückli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gebnis: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ordnung der zu entsorgenden Mengen zu den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sorgungsklassen (Tarif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95252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3. Berechnung der Ist-Anlagentarife</a:t>
            </a:r>
            <a:br>
              <a:rPr sz="2600"/>
            </a:b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: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st-Kosten je Anlage (Kostenstelle)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st-Laufzeiten je Anlage und Erzeugnis (*)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illstandszeiten je Anla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jeweils im betrachteten Zeitraum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gebnis: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st-Anlagentarife (DM / h) für den betrachtet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itra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95252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-20376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4. Durchführung der Ist-Kalkul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: 1. - 3.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sonderheiten: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eigene Kalkulationsversion, dadurch lässt sich da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Ergebnis mit den gleichen Mitteln wie die Plan-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Kalkulation anzeigen, vergleichen und bearb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Betrachtung der Dispositionsstu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Auflösung der rekursiven Stücklisten durch iterative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Berechnung, bis für jedes Erzeugnis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bei zwei aufeinanderfolgenden Kalkulationen ein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vorgegebene Mindestdifferenz unterschritten oder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bis vorgegebene maximale Zyklenzahl erreicht wi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genüberstellu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kalkulation-Istkosten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600200"/>
          <a:ext cx="8478720" cy="275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847872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Steffen Roschek</dc:creator>
  <dc:description/>
  <dc:language>en-US</dc:language>
  <cp:lastModifiedBy>Dr. Jochen Winkler</cp:lastModifiedBy>
  <cp:lastPrinted>2000-11-29T10:08:56Z</cp:lastPrinted>
  <dcterms:modified xsi:type="dcterms:W3CDTF">2001-09-27T07:31:11Z</dcterms:modified>
  <cp:revision>102</cp:revision>
  <dc:subject/>
  <dc:title>Kein Folientitel</dc:title>
</cp:coreProperties>
</file>