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834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8760" y="399708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572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712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48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8876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712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48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3572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380880"/>
            <a:ext cx="8229600" cy="594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"/>
          <p:cNvSpPr/>
          <p:nvPr/>
        </p:nvSpPr>
        <p:spPr>
          <a:xfrm>
            <a:off x="340560" y="6477120"/>
            <a:ext cx="90684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55E17B0F-9912-4A36-A982-803DAF4CB17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144800" y="6477120"/>
            <a:ext cx="93420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130480" y="6477120"/>
            <a:ext cx="65088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.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023640" y="6477120"/>
            <a:ext cx="331776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P R/3 Workshop für die chemische und pharmazeutische Indust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9480" y="838080"/>
            <a:ext cx="7925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001000" y="6400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968400"/>
            <a:ext cx="80769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AP R/3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ür die chemische und pharmazeutische Indust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5104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55627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üsseldorf  27.0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32004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12960" y="3124080"/>
            <a:ext cx="4130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2819520"/>
            <a:ext cx="72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8000" spc="-1" strike="noStrike">
                <a:solidFill>
                  <a:srgbClr val="0033cc"/>
                </a:solidFill>
                <a:latin typeface="Arial"/>
              </a:rPr>
              <a:t>Produkt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Warum Zusatzprogramme als Add-on ?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5334120"/>
            <a:ext cx="75074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Ein integriertes Zusatzprogramm (Add-on) benötigt naturgemäß keine Schnittstellen zum SAP-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066680" y="1523880"/>
            <a:ext cx="2514600" cy="2590920"/>
            <a:chOff x="1066680" y="1523880"/>
            <a:chExt cx="2514600" cy="2590920"/>
          </a:xfrm>
        </p:grpSpPr>
        <p:sp>
          <p:nvSpPr>
            <p:cNvPr id="161" name=""/>
            <p:cNvSpPr/>
            <p:nvPr/>
          </p:nvSpPr>
          <p:spPr>
            <a:xfrm>
              <a:off x="1066680" y="1752480"/>
              <a:ext cx="762120" cy="762120"/>
            </a:xfrm>
            <a:prstGeom prst="ellipse">
              <a:avLst/>
            </a:prstGeom>
            <a:gradFill rotWithShape="0">
              <a:gsLst>
                <a:gs pos="0">
                  <a:srgbClr val="fe9898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57400" y="2666880"/>
              <a:ext cx="1523880" cy="1447920"/>
            </a:xfrm>
            <a:prstGeom prst="ellipse">
              <a:avLst/>
            </a:prstGeom>
            <a:gradFill rotWithShape="0">
              <a:gsLst>
                <a:gs pos="0">
                  <a:srgbClr val="c1e9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P 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152388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ternes Zusatzprogra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85800" y="2057400"/>
            <a:ext cx="1828800" cy="1145160"/>
            <a:chOff x="685800" y="2057400"/>
            <a:chExt cx="1828800" cy="1145160"/>
          </a:xfrm>
        </p:grpSpPr>
        <p:sp>
          <p:nvSpPr>
            <p:cNvPr id="165" name=""/>
            <p:cNvSpPr/>
            <p:nvPr/>
          </p:nvSpPr>
          <p:spPr>
            <a:xfrm rot="18942600">
              <a:off x="1447920" y="2209680"/>
              <a:ext cx="457200" cy="304920"/>
            </a:xfrm>
            <a:prstGeom prst="ellipse">
              <a:avLst/>
            </a:prstGeom>
            <a:solidFill>
              <a:srgbClr val="33cc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8990000">
              <a:off x="1969920" y="2739600"/>
              <a:ext cx="457200" cy="304920"/>
            </a:xfrm>
            <a:prstGeom prst="ellipse">
              <a:avLst/>
            </a:prstGeom>
            <a:solidFill>
              <a:srgbClr val="33cc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5800" y="28954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hnittstel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71600" y="2209680"/>
              <a:ext cx="99072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1523880" y="2057400"/>
              <a:ext cx="99072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181480" y="1752480"/>
            <a:ext cx="3505320" cy="2768760"/>
            <a:chOff x="5181480" y="1752480"/>
            <a:chExt cx="3505320" cy="2768760"/>
          </a:xfrm>
        </p:grpSpPr>
        <p:sp>
          <p:nvSpPr>
            <p:cNvPr id="171" name=""/>
            <p:cNvSpPr/>
            <p:nvPr/>
          </p:nvSpPr>
          <p:spPr>
            <a:xfrm>
              <a:off x="5562720" y="2552760"/>
              <a:ext cx="1676160" cy="1676520"/>
            </a:xfrm>
            <a:prstGeom prst="rect">
              <a:avLst/>
            </a:prstGeom>
            <a:gradFill rotWithShape="0">
              <a:gsLst>
                <a:gs pos="0">
                  <a:srgbClr val="b1e4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P 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81480" y="2247840"/>
              <a:ext cx="2438640" cy="2273400"/>
            </a:xfrm>
            <a:prstGeom prst="donut">
              <a:avLst>
                <a:gd name="adj" fmla="val 17967"/>
              </a:avLst>
            </a:prstGeom>
            <a:gradFill rotWithShape="0">
              <a:gsLst>
                <a:gs pos="0">
                  <a:srgbClr val="fe8383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34320" y="175248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griertes Zusatzprogra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00800" y="2438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Warum Zusatzprogramme als Add-on ?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37920" y="2361960"/>
            <a:ext cx="590724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´s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nutzen systemeigene Tabellen und Routi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´s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arbeiten mit anderen integrierten Zusatzprogrammen zusam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´s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und SAP R/3 sind mit der gleichen Programmiersprache erste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´s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sind zukunftssicher, release-stab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´s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sind individu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85800" y="1143000"/>
            <a:ext cx="1371600" cy="1278000"/>
            <a:chOff x="685800" y="1143000"/>
            <a:chExt cx="1371600" cy="1278000"/>
          </a:xfrm>
        </p:grpSpPr>
        <p:sp>
          <p:nvSpPr>
            <p:cNvPr id="178" name=""/>
            <p:cNvSpPr/>
            <p:nvPr/>
          </p:nvSpPr>
          <p:spPr>
            <a:xfrm>
              <a:off x="900000" y="1314360"/>
              <a:ext cx="943200" cy="943200"/>
            </a:xfrm>
            <a:prstGeom prst="rect">
              <a:avLst/>
            </a:prstGeom>
            <a:gradFill rotWithShape="0">
              <a:gsLst>
                <a:gs pos="0">
                  <a:srgbClr val="c1e9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5800" y="1143000"/>
              <a:ext cx="1371600" cy="1278000"/>
            </a:xfrm>
            <a:prstGeom prst="donut">
              <a:avLst>
                <a:gd name="adj" fmla="val 17967"/>
              </a:avLst>
            </a:prstGeom>
            <a:gradFill rotWithShape="0">
              <a:gsLst>
                <a:gs pos="0">
                  <a:srgbClr val="fe8383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Personalisierte Menü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124080" y="990360"/>
            <a:ext cx="51451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Anwender aus der Produktion akzeptieren das SAP-Standardmenü nic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33520" y="838080"/>
          <a:ext cx="2419200" cy="26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38080"/>
                    <a:ext cx="241920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33520" y="3581280"/>
          <a:ext cx="2197080" cy="26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581280"/>
                    <a:ext cx="219708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3962520" y="3657600"/>
            <a:ext cx="4343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3352680"/>
            <a:ext cx="57913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Anwenderbezogen designte Menüs sind übersichtlich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Auf alle wichtigen Funktionen kann schnell und ohne Umwege zugegriffen w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Menüs können auf Standardtransaktionen und auf Add-ons verweis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Personalisierte Menüs entsprechen dem Berechtigungsprofil und werden vom Anwender angenomm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3505320"/>
            <a:ext cx="228600" cy="2819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Personalisierte Menü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507440" cy="96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er Weg zur Prozessauftragsbearbeitung ist denkbar kur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85800" y="990720"/>
          <a:ext cx="520704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0720"/>
                    <a:ext cx="520704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 rot="17311200">
            <a:off x="4969440" y="1202400"/>
            <a:ext cx="246240" cy="1041480"/>
          </a:xfrm>
          <a:prstGeom prst="upArrow">
            <a:avLst>
              <a:gd name="adj1" fmla="val 16444"/>
              <a:gd name="adj2" fmla="val 16900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Abwicklung der Produktion über Prozessaufträge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4154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Alle </a:t>
            </a:r>
            <a:r>
              <a:rPr b="1" lang="en-US" sz="1800" spc="-1" strike="noStrike">
                <a:solidFill>
                  <a:srgbClr val="ff0000"/>
                </a:solidFill>
                <a:latin typeface="Arial Rounded MT Bold"/>
              </a:rPr>
              <a:t>Standardoperationen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in der Produktion werden mit Prozessaufträgen abgebild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Herstellen Loser 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Abfüllen zu Verpackter 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Umfü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Entpac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Zu berücksichtigen s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Bestands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Chargenverwal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Retrograde Rohstoffentnah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4120" y="2514600"/>
            <a:ext cx="2361960" cy="533520"/>
          </a:xfrm>
          <a:prstGeom prst="rect">
            <a:avLst/>
          </a:prstGeom>
          <a:gradFill rotWithShape="0">
            <a:gsLst>
              <a:gs pos="0">
                <a:srgbClr val="ace9ac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le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809880"/>
            <a:ext cx="2361960" cy="533520"/>
          </a:xfrm>
          <a:prstGeom prst="rect">
            <a:avLst/>
          </a:prstGeom>
          <a:gradFill rotWithShape="0">
            <a:gsLst>
              <a:gs pos="0">
                <a:srgbClr val="fe9f9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ilrückmel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5105520"/>
            <a:ext cx="2361960" cy="533160"/>
          </a:xfrm>
          <a:prstGeom prst="rect">
            <a:avLst/>
          </a:prstGeom>
          <a:gradFill rotWithShape="0">
            <a:gsLst>
              <a:gs pos="0">
                <a:srgbClr val="fefe89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drückmel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6" idx="2"/>
            <a:endCxn id="197" idx="0"/>
          </p:cNvCxnSpPr>
          <p:nvPr/>
        </p:nvCxnSpPr>
        <p:spPr>
          <a:xfrm>
            <a:off x="6514920" y="3048120"/>
            <a:ext cx="108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7" idx="2"/>
            <a:endCxn id="198" idx="0"/>
          </p:cNvCxnSpPr>
          <p:nvPr/>
        </p:nvCxnSpPr>
        <p:spPr>
          <a:xfrm>
            <a:off x="6514920" y="4343040"/>
            <a:ext cx="1080" cy="762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97" idx="2"/>
            <a:endCxn id="202" idx="3"/>
          </p:cNvCxnSpPr>
          <p:nvPr/>
        </p:nvCxnSpPr>
        <p:spPr>
          <a:xfrm flipV="1" rot="16200000">
            <a:off x="6052680" y="3880800"/>
            <a:ext cx="915120" cy="10440"/>
          </a:xfrm>
          <a:prstGeom prst="bentConnector4">
            <a:avLst>
              <a:gd name="adj1" fmla="val -37465"/>
              <a:gd name="adj2" fmla="val -1568214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5972040" y="32767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Abwicklung der Produktion über Prozessaufträge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438280" y="1752120"/>
            <a:ext cx="605952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rozessaufträge zur Herstellung Loser Ware werden einmal monatlich angele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Beim Anlegen eines Prozessauftrags wird die Produktionsplanung berücksichti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Teilrückmeldungen erfolgen tägli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ie Endrückmeldung erfolgt zum Monatsen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85800" y="1143000"/>
            <a:ext cx="1478880" cy="1295280"/>
            <a:chOff x="685800" y="1143000"/>
            <a:chExt cx="1478880" cy="1295280"/>
          </a:xfrm>
        </p:grpSpPr>
        <p:sp>
          <p:nvSpPr>
            <p:cNvPr id="206" name=""/>
            <p:cNvSpPr/>
            <p:nvPr/>
          </p:nvSpPr>
          <p:spPr>
            <a:xfrm>
              <a:off x="685800" y="1143000"/>
              <a:ext cx="1143000" cy="220680"/>
            </a:xfrm>
            <a:prstGeom prst="rect">
              <a:avLst/>
            </a:prstGeom>
            <a:gradFill rotWithShape="0">
              <a:gsLst>
                <a:gs pos="0">
                  <a:srgbClr val="ace9ac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" y="1679400"/>
              <a:ext cx="1143000" cy="222480"/>
            </a:xfrm>
            <a:prstGeom prst="rect">
              <a:avLst/>
            </a:prstGeom>
            <a:gradFill rotWithShape="0">
              <a:gsLst>
                <a:gs pos="0">
                  <a:srgbClr val="fe9f9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5800" y="2217600"/>
              <a:ext cx="1143000" cy="220680"/>
            </a:xfrm>
            <a:prstGeom prst="rect">
              <a:avLst/>
            </a:prstGeom>
            <a:gradFill rotWithShape="0">
              <a:gsLst>
                <a:gs pos="0">
                  <a:srgbClr val="fefe89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9" name=""/>
            <p:cNvCxnSpPr>
              <a:stCxn id="206" idx="2"/>
              <a:endCxn id="207" idx="0"/>
            </p:cNvCxnSpPr>
            <p:nvPr/>
          </p:nvCxnSpPr>
          <p:spPr>
            <a:xfrm>
              <a:off x="1257120" y="1363320"/>
              <a:ext cx="1080" cy="316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10" name=""/>
            <p:cNvCxnSpPr>
              <a:stCxn id="207" idx="2"/>
              <a:endCxn id="208" idx="0"/>
            </p:cNvCxnSpPr>
            <p:nvPr/>
          </p:nvCxnSpPr>
          <p:spPr>
            <a:xfrm>
              <a:off x="1257120" y="1901520"/>
              <a:ext cx="1080" cy="316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11" name=""/>
            <p:cNvCxnSpPr>
              <a:stCxn id="207" idx="2"/>
              <a:endCxn id="212" idx="3"/>
            </p:cNvCxnSpPr>
            <p:nvPr/>
          </p:nvCxnSpPr>
          <p:spPr>
            <a:xfrm flipV="1" rot="16200000">
              <a:off x="1064880" y="1708920"/>
              <a:ext cx="380160" cy="5760"/>
            </a:xfrm>
            <a:prstGeom prst="bentConnector4">
              <a:avLst>
                <a:gd name="adj1" fmla="val -38009"/>
                <a:gd name="adj2" fmla="val -16800000"/>
              </a:avLst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212" name=""/>
            <p:cNvSpPr/>
            <p:nvPr/>
          </p:nvSpPr>
          <p:spPr>
            <a:xfrm>
              <a:off x="995400" y="1459080"/>
              <a:ext cx="25704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Personalisierte Screen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Prozessaufträge werden auf einem für eine </a:t>
            </a: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Anwendergruppe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spezifischen Screen abgewicke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Dieser Screen wird durch Berücksichtigung der Benutzerdaten  zum </a:t>
            </a: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Personalisierten Screen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Der Personalisierter Screen wird vom </a:t>
            </a: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Add-on zur Abwicklung von Prozessaufträgen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gesteu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62120" y="914400"/>
          <a:ext cx="7380000" cy="18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14400"/>
                    <a:ext cx="738000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Personalisierte Screen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819160" y="2819160"/>
            <a:ext cx="56386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em Anwender steht die </a:t>
            </a:r>
            <a:r>
              <a:rPr b="1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66ff"/>
                </a:solidFill>
                <a:latin typeface="Arial Rounded MT Bold"/>
              </a:rPr>
              <a:t>Produktion 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für die</a:t>
            </a:r>
            <a:r>
              <a:rPr b="1" lang="de-DE" sz="1800" spc="-1" strike="noStrike">
                <a:solidFill>
                  <a:srgbClr val="0066ff"/>
                </a:solidFill>
                <a:latin typeface="Arial Rounded MT Bold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Bearbeitung von PA zur Verfüg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er Anwender ist über einen Eintrag in den Benutzervorgaben mit seinem Betrieb verknüp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Er bekommt deshalb auch nur die Produkte seines Betriebes zur Bearbeitung angebo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Eine aufwendige Suchhilfe entfällt (keine MatNr, dafür ist eine lesbare Textinfo mit Einfachklick auswählba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762120" y="914400"/>
          <a:ext cx="7380000" cy="18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14400"/>
                    <a:ext cx="738000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09480" y="1371600"/>
          <a:ext cx="2105280" cy="476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371600"/>
                    <a:ext cx="21052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0" t="0" r="0" b="4099"/>
          <a:stretch/>
        </p:blipFill>
        <p:spPr>
          <a:xfrm>
            <a:off x="457200" y="990720"/>
            <a:ext cx="5754600" cy="41385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Personalisierte Screen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5562360"/>
            <a:ext cx="7431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Nutzer des QM-Moduls melden ihre Produkte über einen </a:t>
            </a:r>
            <a:r>
              <a:rPr b="1" lang="en-US" sz="1800" spc="-1" strike="noStrike">
                <a:solidFill>
                  <a:srgbClr val="ff0000"/>
                </a:solidFill>
                <a:latin typeface="Arial Rounded MT Bold"/>
              </a:rPr>
              <a:t>personalisierten Screen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zur Freigabeanalyse 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19720" y="1219320"/>
            <a:ext cx="419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334120" y="1600200"/>
            <a:ext cx="3276360" cy="3962160"/>
            <a:chOff x="5334120" y="1600200"/>
            <a:chExt cx="3276360" cy="3962160"/>
          </a:xfrm>
        </p:grpSpPr>
        <p:sp>
          <p:nvSpPr>
            <p:cNvPr id="228" name=""/>
            <p:cNvSpPr/>
            <p:nvPr/>
          </p:nvSpPr>
          <p:spPr>
            <a:xfrm>
              <a:off x="5334120" y="1600200"/>
              <a:ext cx="3177720" cy="39621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93320" y="2140200"/>
              <a:ext cx="3017160" cy="30614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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Nur notwendige Daten werden abgefrag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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Die Masken verwenden Begriffe aus der Welt der Anwende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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Geringer Lernaufw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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Hohe Akzeptanz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05732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de-DE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Produk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12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53341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Eine </a:t>
            </a:r>
            <a:r>
              <a:rPr b="1" lang="en-US" sz="1800" spc="-1" strike="noStrike">
                <a:solidFill>
                  <a:srgbClr val="ff0000"/>
                </a:solidFill>
                <a:latin typeface="Arial Rounded MT Bold"/>
              </a:rPr>
              <a:t>Charge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wird angegeben oder ausgewählt. Zahlreiche Prüfungen werden vorgenomm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762120" y="1143000"/>
          <a:ext cx="6780240" cy="13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678024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685800" y="4343400"/>
            <a:ext cx="6934320" cy="7578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einen bereits angelegten Prozessauftrag auswäh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2120" y="2819520"/>
            <a:ext cx="6858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rozessauftrag mit dem Vorschlagswert aus dem Produktionsplan angele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95480" y="37339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990720"/>
            <a:ext cx="7391520" cy="425232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118800" bIns="118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Die Produktion im SAP/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Zusatzprogrammierung im SAP/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ersonalisierte Menü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rozessaufträ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ersonalisierte Scre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rozessaufträge mit </a:t>
            </a:r>
            <a:r>
              <a:rPr b="0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Produ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Zusammenfass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ut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usbl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Überb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Produk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5028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ie </a:t>
            </a:r>
            <a:r>
              <a:rPr b="1" lang="en-US" sz="1800" spc="-1" strike="noStrike">
                <a:solidFill>
                  <a:srgbClr val="ff0000"/>
                </a:solidFill>
                <a:latin typeface="Arial Rounded MT Bold"/>
              </a:rPr>
              <a:t>Mengen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der hergestellten Materialien werden angege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amit sind alle Angaben zu den hergestellten Materialien gemacht (</a:t>
            </a:r>
            <a:r>
              <a:rPr b="1" lang="en-US" sz="1800" spc="-1" strike="noStrike">
                <a:solidFill>
                  <a:srgbClr val="ff0000"/>
                </a:solidFill>
                <a:latin typeface="Arial Rounded MT Bold"/>
              </a:rPr>
              <a:t>ZIEL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838080"/>
          <a:ext cx="8170920" cy="38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8170920" cy="38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Produktion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4038480"/>
            <a:ext cx="768024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Über Registerkarten wird die Materialliste kontrolliert und bei Bedarf modifizie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ie </a:t>
            </a:r>
            <a:r>
              <a:rPr b="1" lang="en-US" sz="1800" spc="-1" strike="noStrike">
                <a:solidFill>
                  <a:srgbClr val="ff0000"/>
                </a:solidFill>
                <a:latin typeface="Arial Rounded MT Bold"/>
              </a:rPr>
              <a:t>Einsatzmengen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der werden zur retrograden Entnahme änderbar vorgeschla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Es werden alle Angaben zu den eingesetzten Materialien gemacht (</a:t>
            </a:r>
            <a:r>
              <a:rPr b="1" lang="en-US" sz="1800" spc="-1" strike="noStrike">
                <a:solidFill>
                  <a:srgbClr val="ff0000"/>
                </a:solidFill>
                <a:latin typeface="Arial Rounded MT Bold"/>
              </a:rPr>
              <a:t>QUELLE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7200" y="990720"/>
          <a:ext cx="820908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82090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5275440" cy="36972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871640" y="2438280"/>
            <a:ext cx="548640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Produk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184680" indent="-18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Nach Start der Transaktion wird auf den Prozessauftrag für die </a:t>
            </a:r>
            <a:r>
              <a:rPr b="1" lang="en-US" sz="1800" spc="-1" strike="noStrike">
                <a:solidFill>
                  <a:srgbClr val="ff0000"/>
                </a:solidFill>
                <a:latin typeface="Arial Rounded MT Bold"/>
              </a:rPr>
              <a:t>Lose Ware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teilrückgemeld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Ggf. werden Prozessaufträge zur Herstellung der </a:t>
            </a:r>
            <a:r>
              <a:rPr b="1" lang="en-US" sz="1800" spc="-1" strike="noStrike">
                <a:solidFill>
                  <a:srgbClr val="ff0000"/>
                </a:solidFill>
                <a:latin typeface="Arial Rounded MT Bold"/>
              </a:rPr>
              <a:t>Verpackten Ware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angelegt und endrückgemeld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4781520" cy="1219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685800" y="4648320"/>
            <a:ext cx="4781520" cy="12189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562720" y="2968560"/>
            <a:ext cx="2895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Nach Anlegen einer neuen Charge wird zum Anlegen der </a:t>
            </a:r>
            <a:r>
              <a:rPr b="0" lang="en-US" sz="1600" spc="-1" strike="noStrike">
                <a:solidFill>
                  <a:srgbClr val="ff0000"/>
                </a:solidFill>
                <a:latin typeface="Arial Rounded MT Bold"/>
              </a:rPr>
              <a:t>Freigabeanalyse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verzweig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473724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ür Verpackte Ware wird die </a:t>
            </a:r>
            <a:r>
              <a:rPr b="0" lang="en-US" sz="1600" spc="-1" strike="noStrike">
                <a:solidFill>
                  <a:srgbClr val="ff0000"/>
                </a:solidFill>
                <a:latin typeface="Arial Rounded MT Bold"/>
              </a:rPr>
              <a:t>Umlagerung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in das Zentrale Lager angebo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2819520"/>
            <a:ext cx="4953240" cy="1371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Zusammenfassung Add-on </a:t>
            </a:r>
            <a:r>
              <a:rPr b="0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Produk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Das Add-on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Auswahllisten zusammengeste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Informationen aus dem System gezo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Das Add-on hat Eingabe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auf  ein Minimum reduzier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gesammel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erglichen und geprüf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erknüpf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umgewande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66ff"/>
                </a:solidFill>
                <a:latin typeface="Arial Rounded MT Bold"/>
              </a:rPr>
              <a:t>Zusammenfassung Add-on </a:t>
            </a: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0066ff"/>
                </a:solidFill>
                <a:latin typeface="Arial Rounded MT Bold"/>
              </a:rPr>
              <a:t>Produk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Das Add-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ruft als </a:t>
            </a:r>
            <a:r>
              <a:rPr b="1" lang="de-DE" sz="1600" spc="-1" strike="noStrike">
                <a:solidFill>
                  <a:srgbClr val="ff0000"/>
                </a:solidFill>
                <a:latin typeface="Arial Rounded MT Bold"/>
              </a:rPr>
              <a:t>Metatransaktion </a:t>
            </a: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BAPIS  auf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schreibt Daten in Standard-Screen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benutzt ausschließlich SAP/Standard Tabell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benutzt ausschließlich SAP/Stammdatenpflege Transa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wertet Rückgabedaten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Das Add-on biet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Benutzerspezifische Auswahlmöglichkeit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Personalisierte Menüs und Screen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die Steuerung von Metatransaktion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Das Add-on ermöglicht spezifische Sonderabwickl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Das Add-on vermeidet Fehlbedienung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Das Add-on senkt den Bedienaufwand dramatis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Nutzen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1066680"/>
            <a:ext cx="7925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m </a:t>
            </a:r>
            <a:r>
              <a:rPr b="0" lang="en-US" sz="2000" spc="-1" strike="noStrike">
                <a:solidFill>
                  <a:srgbClr val="ff0000"/>
                </a:solidFill>
                <a:latin typeface="Arial Rounded MT Bold"/>
              </a:rPr>
              <a:t>SAP-Standard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muss der Anwender in der Produktion für 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bwicklung seiner produktionsbezogenen Geschä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Rounded MT Bold"/>
              </a:rPr>
              <a:t>30-40 Standardeingabemasken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benutz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3124080"/>
            <a:ext cx="7315200" cy="91152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vorgestellte Add-on verlangt die Bedie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nur einer einzigen Mask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Nutze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2066760"/>
            <a:ext cx="6705360" cy="308952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urch die Zusatzprogrammierung wird 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Zeitaufwand im Vergleich zum Standard 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80-90% reduziert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ie Zusatzprogramme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vom Betriebspersonal bedient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Ausblick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Kopplung SAP/Add-on - PL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Elektronische Verfolgung der Materialbewegun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Erstellung eines täglichen Arbeitplans mit Vorschlägen zur  Abarbeit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Automatische Rückmeldung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Bestandsbeobach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Rohstoffanford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Anlagenbelegung/Kapaz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Berücksichtigung des Personalangeb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Kurzfristige operative Planänd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533520" y="968400"/>
            <a:ext cx="80769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AP R/3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ür die chemische und pharmazeutische Indust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265104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55627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üsseldorf   27.0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19320" y="2895480"/>
            <a:ext cx="70866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8000" spc="-1" strike="noStrike">
                <a:solidFill>
                  <a:srgbClr val="0033cc"/>
                </a:solidFill>
                <a:latin typeface="Arial"/>
              </a:rPr>
              <a:t>Produkt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685800" y="3324240"/>
            <a:ext cx="4267080" cy="1280160"/>
            <a:chOff x="685800" y="3324240"/>
            <a:chExt cx="4267080" cy="1280160"/>
          </a:xfrm>
        </p:grpSpPr>
        <p:sp>
          <p:nvSpPr>
            <p:cNvPr id="56" name=""/>
            <p:cNvSpPr/>
            <p:nvPr/>
          </p:nvSpPr>
          <p:spPr>
            <a:xfrm>
              <a:off x="685800" y="4267080"/>
              <a:ext cx="2666880" cy="3373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83"/>
                </a:gs>
                <a:gs pos="100000">
                  <a:srgbClr val="ffff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bsatzplan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28800" y="3324240"/>
              <a:ext cx="3124080" cy="3988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83"/>
                </a:gs>
                <a:gs pos="100000">
                  <a:srgbClr val="ffff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duktionsplan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Arbeitskräfteaufwand für SAP R/3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2057400"/>
            <a:ext cx="3581640" cy="7621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e969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1143000"/>
            <a:ext cx="3124080" cy="398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8d"/>
              </a:gs>
              <a:gs pos="100000">
                <a:srgbClr val="ffff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enabsch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5800" y="1905120"/>
            <a:ext cx="7772400" cy="3124080"/>
            <a:chOff x="685800" y="1905120"/>
            <a:chExt cx="7772400" cy="3124080"/>
          </a:xfrm>
        </p:grpSpPr>
        <p:sp>
          <p:nvSpPr>
            <p:cNvPr id="62" name=""/>
            <p:cNvSpPr/>
            <p:nvPr/>
          </p:nvSpPr>
          <p:spPr>
            <a:xfrm>
              <a:off x="3733920" y="411480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5334120" y="3200400"/>
              <a:ext cx="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34120" y="3200400"/>
              <a:ext cx="1752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7086600" y="190512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86600" y="1905120"/>
              <a:ext cx="1371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3733920" y="4114800"/>
              <a:ext cx="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85800" y="50292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5334120"/>
            <a:ext cx="75074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ie realitätsnahe Abbildung der Produktion erfordert im Vergleich den höchsten Aufw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Systemaufwand  -  Bedienaufwand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5334120"/>
            <a:ext cx="75074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er Bedienungsaufwand lässt sich durch optimierten Systemaufwand begrenz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3708360"/>
            <a:ext cx="5410080" cy="990720"/>
          </a:xfrm>
          <a:prstGeom prst="rightArrow">
            <a:avLst>
              <a:gd name="adj1" fmla="val 66444"/>
              <a:gd name="adj2" fmla="val 50638"/>
            </a:avLst>
          </a:prstGeom>
          <a:gradFill rotWithShape="0">
            <a:gsLst>
              <a:gs pos="0">
                <a:srgbClr val="fefefe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w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-640440" y="2837520"/>
            <a:ext cx="3722760" cy="459720"/>
          </a:xfrm>
          <a:prstGeom prst="rect">
            <a:avLst/>
          </a:prstGeom>
          <a:gradFill rotWithShape="0">
            <a:gsLst>
              <a:gs pos="0">
                <a:srgbClr val="afeaa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gangs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6057360" y="2862360"/>
            <a:ext cx="3733920" cy="459720"/>
          </a:xfrm>
          <a:prstGeom prst="rect">
            <a:avLst/>
          </a:prstGeom>
          <a:gradFill rotWithShape="0">
            <a:gsLst>
              <a:gs pos="0">
                <a:srgbClr val="afeaa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pr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905120" y="2565360"/>
            <a:ext cx="5410080" cy="1022400"/>
            <a:chOff x="1905120" y="2565360"/>
            <a:chExt cx="5410080" cy="1022400"/>
          </a:xfrm>
        </p:grpSpPr>
        <p:sp>
          <p:nvSpPr>
            <p:cNvPr id="76" name=""/>
            <p:cNvSpPr/>
            <p:nvPr/>
          </p:nvSpPr>
          <p:spPr>
            <a:xfrm>
              <a:off x="1905120" y="2565360"/>
              <a:ext cx="5410080" cy="1022400"/>
            </a:xfrm>
            <a:prstGeom prst="rightArrow">
              <a:avLst>
                <a:gd name="adj1" fmla="val 66463"/>
                <a:gd name="adj2" fmla="val 49069"/>
              </a:avLst>
            </a:prstGeom>
            <a:gradFill rotWithShape="0">
              <a:gsLst>
                <a:gs pos="0">
                  <a:srgbClr val="fefe89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dien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05120" y="2743200"/>
              <a:ext cx="1523880" cy="668160"/>
            </a:xfrm>
            <a:prstGeom prst="rect">
              <a:avLst/>
            </a:prstGeom>
            <a:gradFill rotWithShape="0">
              <a:gsLst>
                <a:gs pos="0">
                  <a:srgbClr val="fe8989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905120" y="1397160"/>
            <a:ext cx="5410080" cy="1022040"/>
            <a:chOff x="1905120" y="1397160"/>
            <a:chExt cx="5410080" cy="1022040"/>
          </a:xfrm>
        </p:grpSpPr>
        <p:sp>
          <p:nvSpPr>
            <p:cNvPr id="79" name=""/>
            <p:cNvSpPr/>
            <p:nvPr/>
          </p:nvSpPr>
          <p:spPr>
            <a:xfrm>
              <a:off x="1905120" y="1397160"/>
              <a:ext cx="5410080" cy="1022040"/>
            </a:xfrm>
            <a:prstGeom prst="rightArrow">
              <a:avLst>
                <a:gd name="adj1" fmla="val 66769"/>
                <a:gd name="adj2" fmla="val 49087"/>
              </a:avLst>
            </a:prstGeom>
            <a:gradFill rotWithShape="0">
              <a:gsLst>
                <a:gs pos="0">
                  <a:srgbClr val="fefe8d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dien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08000" y="1574640"/>
              <a:ext cx="3030840" cy="669960"/>
            </a:xfrm>
            <a:prstGeom prst="rect">
              <a:avLst/>
            </a:prstGeom>
            <a:gradFill rotWithShape="0">
              <a:gsLst>
                <a:gs pos="0">
                  <a:srgbClr val="fe8d8d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 rot="20427600">
            <a:off x="6171840" y="1980720"/>
            <a:ext cx="1676520" cy="1067040"/>
          </a:xfrm>
          <a:prstGeom prst="ellipse">
            <a:avLst/>
          </a:prstGeom>
          <a:solidFill>
            <a:srgbClr val="66ccff">
              <a:alpha val="50000"/>
            </a:srgbClr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itaufw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fik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033440" y="1066320"/>
            <a:ext cx="2672280" cy="2671560"/>
            <a:chOff x="4033440" y="1066320"/>
            <a:chExt cx="2672280" cy="2671560"/>
          </a:xfrm>
        </p:grpSpPr>
        <p:cxnSp>
          <p:nvCxnSpPr>
            <p:cNvPr id="83" name=""/>
            <p:cNvCxnSpPr>
              <a:stCxn id="84" idx="0"/>
              <a:endCxn id="85" idx="3"/>
            </p:cNvCxnSpPr>
            <p:nvPr/>
          </p:nvCxnSpPr>
          <p:spPr>
            <a:xfrm flipH="1">
              <a:off x="4033440" y="1066320"/>
              <a:ext cx="1681920" cy="2671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84" name=""/>
            <p:cNvSpPr/>
            <p:nvPr/>
          </p:nvSpPr>
          <p:spPr>
            <a:xfrm>
              <a:off x="4724280" y="1066680"/>
              <a:ext cx="1981440" cy="609480"/>
            </a:xfrm>
            <a:prstGeom prst="rect">
              <a:avLst/>
            </a:prstGeom>
            <a:gradFill rotWithShape="0">
              <a:gsLst>
                <a:gs pos="0">
                  <a:srgbClr val="fefe9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stands- und Warehouse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438280" y="1066680"/>
            <a:ext cx="2672280" cy="2672280"/>
            <a:chOff x="2438280" y="1066680"/>
            <a:chExt cx="2672280" cy="2672280"/>
          </a:xfrm>
        </p:grpSpPr>
        <p:cxnSp>
          <p:nvCxnSpPr>
            <p:cNvPr id="87" name=""/>
            <p:cNvCxnSpPr>
              <a:stCxn id="88" idx="0"/>
              <a:endCxn id="85" idx="5"/>
            </p:cNvCxnSpPr>
            <p:nvPr/>
          </p:nvCxnSpPr>
          <p:spPr>
            <a:xfrm>
              <a:off x="3429000" y="1066680"/>
              <a:ext cx="1681920" cy="2672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88" name=""/>
            <p:cNvSpPr/>
            <p:nvPr/>
          </p:nvSpPr>
          <p:spPr>
            <a:xfrm>
              <a:off x="2438280" y="1066680"/>
              <a:ext cx="1981440" cy="609840"/>
            </a:xfrm>
            <a:prstGeom prst="rect">
              <a:avLst/>
            </a:prstGeom>
            <a:gradFill rotWithShape="0">
              <a:gsLst>
                <a:gs pos="0">
                  <a:srgbClr val="fefe9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trol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nanzbuchhalt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438280" y="2661840"/>
            <a:ext cx="2672280" cy="2672280"/>
            <a:chOff x="2438280" y="2661840"/>
            <a:chExt cx="2672280" cy="2672280"/>
          </a:xfrm>
        </p:grpSpPr>
        <p:cxnSp>
          <p:nvCxnSpPr>
            <p:cNvPr id="90" name=""/>
            <p:cNvCxnSpPr>
              <a:stCxn id="91" idx="2"/>
              <a:endCxn id="85" idx="7"/>
            </p:cNvCxnSpPr>
            <p:nvPr/>
          </p:nvCxnSpPr>
          <p:spPr>
            <a:xfrm flipV="1">
              <a:off x="3429000" y="2661840"/>
              <a:ext cx="1681920" cy="2672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91" name=""/>
            <p:cNvSpPr/>
            <p:nvPr/>
          </p:nvSpPr>
          <p:spPr>
            <a:xfrm>
              <a:off x="2438280" y="4724640"/>
              <a:ext cx="1981440" cy="609480"/>
            </a:xfrm>
            <a:prstGeom prst="rect">
              <a:avLst/>
            </a:prstGeom>
            <a:gradFill rotWithShape="0">
              <a:gsLst>
                <a:gs pos="0">
                  <a:srgbClr val="fefe9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rtri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033800" y="2662200"/>
            <a:ext cx="2671920" cy="2672280"/>
            <a:chOff x="4033800" y="2662200"/>
            <a:chExt cx="2671920" cy="2672280"/>
          </a:xfrm>
        </p:grpSpPr>
        <p:cxnSp>
          <p:nvCxnSpPr>
            <p:cNvPr id="93" name=""/>
            <p:cNvCxnSpPr>
              <a:stCxn id="85" idx="1"/>
              <a:endCxn id="94" idx="2"/>
            </p:cNvCxnSpPr>
            <p:nvPr/>
          </p:nvCxnSpPr>
          <p:spPr>
            <a:xfrm>
              <a:off x="4033800" y="2662200"/>
              <a:ext cx="1681920" cy="2672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94" name=""/>
            <p:cNvSpPr/>
            <p:nvPr/>
          </p:nvSpPr>
          <p:spPr>
            <a:xfrm>
              <a:off x="4724280" y="4724640"/>
              <a:ext cx="1981440" cy="609480"/>
            </a:xfrm>
            <a:prstGeom prst="rect">
              <a:avLst/>
            </a:prstGeom>
            <a:gradFill rotWithShape="0">
              <a:gsLst>
                <a:gs pos="0">
                  <a:srgbClr val="fefe9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litäts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632040" y="2257560"/>
            <a:ext cx="1882800" cy="1882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efe90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Die Produktion im Zusammenspiel mit anderen Modulen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5486040"/>
            <a:ext cx="8076960" cy="685800"/>
          </a:xfrm>
          <a:prstGeom prst="rect">
            <a:avLst/>
          </a:prstGeom>
          <a:noFill/>
          <a:ln w="12600">
            <a:solidFill>
              <a:srgbClr val="0066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ie Produktion ist nicht nur durch </a:t>
            </a:r>
            <a:r>
              <a:rPr b="1" lang="en-US" sz="1800" spc="-1" strike="noStrike">
                <a:solidFill>
                  <a:srgbClr val="0066ff"/>
                </a:solidFill>
                <a:latin typeface="Arial Rounded MT Bold"/>
              </a:rPr>
              <a:t>Stoffströme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gekennzeichnet. Parallel werden </a:t>
            </a:r>
            <a:r>
              <a:rPr b="1" lang="en-US" sz="1800" spc="-1" strike="noStrike">
                <a:solidFill>
                  <a:srgbClr val="0066ff"/>
                </a:solidFill>
                <a:latin typeface="Arial Rounded MT Bold"/>
              </a:rPr>
              <a:t>Forderungen anderer Module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berücksichtigt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2438280"/>
            <a:ext cx="1524240" cy="1524240"/>
          </a:xfrm>
          <a:prstGeom prst="ellipse">
            <a:avLst/>
          </a:prstGeom>
          <a:gradFill rotWithShape="0">
            <a:gsLst>
              <a:gs pos="0">
                <a:srgbClr val="fe8c8c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200040" y="2285640"/>
            <a:ext cx="834120" cy="1828800"/>
            <a:chOff x="3200040" y="2285640"/>
            <a:chExt cx="834120" cy="1828800"/>
          </a:xfrm>
        </p:grpSpPr>
        <p:cxnSp>
          <p:nvCxnSpPr>
            <p:cNvPr id="99" name=""/>
            <p:cNvCxnSpPr>
              <a:stCxn id="100" idx="3"/>
              <a:endCxn id="85" idx="1"/>
            </p:cNvCxnSpPr>
            <p:nvPr/>
          </p:nvCxnSpPr>
          <p:spPr>
            <a:xfrm>
              <a:off x="3429000" y="2285640"/>
              <a:ext cx="605520" cy="376920"/>
            </a:xfrm>
            <a:prstGeom prst="straightConnector1">
              <a:avLst/>
            </a:prstGeom>
            <a:ln w="28440">
              <a:solidFill>
                <a:srgbClr val="66ccff"/>
              </a:solidFill>
              <a:miter/>
              <a:tailEnd len="sm" type="stealth" w="sm"/>
            </a:ln>
          </p:spPr>
        </p:cxnSp>
        <p:cxnSp>
          <p:nvCxnSpPr>
            <p:cNvPr id="101" name=""/>
            <p:cNvCxnSpPr>
              <a:stCxn id="102" idx="3"/>
              <a:endCxn id="85" idx="2"/>
            </p:cNvCxnSpPr>
            <p:nvPr/>
          </p:nvCxnSpPr>
          <p:spPr>
            <a:xfrm>
              <a:off x="3200040" y="3200040"/>
              <a:ext cx="610200" cy="1080"/>
            </a:xfrm>
            <a:prstGeom prst="straightConnector1">
              <a:avLst/>
            </a:prstGeom>
            <a:ln w="28440">
              <a:solidFill>
                <a:srgbClr val="66ccff"/>
              </a:solidFill>
              <a:miter/>
              <a:tailEnd len="sm" type="stealth" w="sm"/>
            </a:ln>
          </p:spPr>
        </p:cxnSp>
        <p:cxnSp>
          <p:nvCxnSpPr>
            <p:cNvPr id="103" name=""/>
            <p:cNvCxnSpPr>
              <a:stCxn id="104" idx="3"/>
              <a:endCxn id="85" idx="3"/>
            </p:cNvCxnSpPr>
            <p:nvPr/>
          </p:nvCxnSpPr>
          <p:spPr>
            <a:xfrm flipV="1">
              <a:off x="3429000" y="3737880"/>
              <a:ext cx="605520" cy="376920"/>
            </a:xfrm>
            <a:prstGeom prst="straightConnector1">
              <a:avLst/>
            </a:prstGeom>
            <a:ln w="28440">
              <a:solidFill>
                <a:srgbClr val="66ccff"/>
              </a:solidFill>
              <a:miter/>
              <a:tailEnd len="sm" type="stealth" w="sm"/>
            </a:ln>
          </p:spPr>
        </p:cxnSp>
      </p:grpSp>
      <p:grpSp>
        <p:nvGrpSpPr>
          <p:cNvPr id="105" name=""/>
          <p:cNvGrpSpPr/>
          <p:nvPr/>
        </p:nvGrpSpPr>
        <p:grpSpPr>
          <a:xfrm>
            <a:off x="5638680" y="1981080"/>
            <a:ext cx="2286000" cy="2438280"/>
            <a:chOff x="5638680" y="1981080"/>
            <a:chExt cx="2286000" cy="2438280"/>
          </a:xfrm>
        </p:grpSpPr>
        <p:sp>
          <p:nvSpPr>
            <p:cNvPr id="106" name=""/>
            <p:cNvSpPr/>
            <p:nvPr/>
          </p:nvSpPr>
          <p:spPr>
            <a:xfrm>
              <a:off x="5867280" y="2895480"/>
              <a:ext cx="2057400" cy="609480"/>
            </a:xfrm>
            <a:prstGeom prst="rect">
              <a:avLst/>
            </a:prstGeom>
            <a:gradFill rotWithShape="0">
              <a:gsLst>
                <a:gs pos="0">
                  <a:srgbClr val="ddfebd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Zwischenproduk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38680" y="3809880"/>
              <a:ext cx="2057400" cy="609480"/>
            </a:xfrm>
            <a:prstGeom prst="rect">
              <a:avLst/>
            </a:prstGeom>
            <a:gradFill rotWithShape="0">
              <a:gsLst>
                <a:gs pos="0">
                  <a:srgbClr val="ddfebd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- und Abfäl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38680" y="1981080"/>
              <a:ext cx="2057400" cy="609480"/>
            </a:xfrm>
            <a:prstGeom prst="rect">
              <a:avLst/>
            </a:prstGeom>
            <a:gradFill rotWithShape="0">
              <a:gsLst>
                <a:gs pos="0">
                  <a:srgbClr val="ddfebd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ndproduk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110200" y="2285280"/>
            <a:ext cx="757080" cy="1829520"/>
            <a:chOff x="5110200" y="2285280"/>
            <a:chExt cx="757080" cy="1829520"/>
          </a:xfrm>
        </p:grpSpPr>
        <p:cxnSp>
          <p:nvCxnSpPr>
            <p:cNvPr id="110" name=""/>
            <p:cNvCxnSpPr>
              <a:stCxn id="85" idx="7"/>
              <a:endCxn id="108" idx="1"/>
            </p:cNvCxnSpPr>
            <p:nvPr/>
          </p:nvCxnSpPr>
          <p:spPr>
            <a:xfrm flipV="1">
              <a:off x="5110200" y="2285280"/>
              <a:ext cx="529200" cy="376920"/>
            </a:xfrm>
            <a:prstGeom prst="straightConnector1">
              <a:avLst/>
            </a:prstGeom>
            <a:ln w="28440">
              <a:solidFill>
                <a:srgbClr val="99ff33"/>
              </a:solidFill>
              <a:miter/>
              <a:tailEnd len="sm" type="stealth" w="sm"/>
            </a:ln>
          </p:spPr>
        </p:cxnSp>
        <p:cxnSp>
          <p:nvCxnSpPr>
            <p:cNvPr id="111" name=""/>
            <p:cNvCxnSpPr>
              <a:stCxn id="85" idx="6"/>
              <a:endCxn id="106" idx="1"/>
            </p:cNvCxnSpPr>
            <p:nvPr/>
          </p:nvCxnSpPr>
          <p:spPr>
            <a:xfrm>
              <a:off x="5333760" y="3200040"/>
              <a:ext cx="533880" cy="1080"/>
            </a:xfrm>
            <a:prstGeom prst="straightConnector1">
              <a:avLst/>
            </a:prstGeom>
            <a:ln w="28440">
              <a:solidFill>
                <a:srgbClr val="99ff33"/>
              </a:solidFill>
              <a:miter/>
              <a:tailEnd len="sm" type="stealth" w="sm"/>
            </a:ln>
          </p:spPr>
        </p:cxnSp>
        <p:cxnSp>
          <p:nvCxnSpPr>
            <p:cNvPr id="112" name=""/>
            <p:cNvCxnSpPr>
              <a:stCxn id="85" idx="5"/>
              <a:endCxn id="107" idx="1"/>
            </p:cNvCxnSpPr>
            <p:nvPr/>
          </p:nvCxnSpPr>
          <p:spPr>
            <a:xfrm>
              <a:off x="5110200" y="3738240"/>
              <a:ext cx="529200" cy="376920"/>
            </a:xfrm>
            <a:prstGeom prst="straightConnector1">
              <a:avLst/>
            </a:prstGeom>
            <a:ln w="28440">
              <a:solidFill>
                <a:srgbClr val="99ff33"/>
              </a:solidFill>
              <a:miter/>
              <a:tailEnd len="sm" type="stealth" w="sm"/>
            </a:ln>
          </p:spPr>
        </p:cxnSp>
      </p:grpSp>
      <p:grpSp>
        <p:nvGrpSpPr>
          <p:cNvPr id="113" name=""/>
          <p:cNvGrpSpPr/>
          <p:nvPr/>
        </p:nvGrpSpPr>
        <p:grpSpPr>
          <a:xfrm>
            <a:off x="1143000" y="1981080"/>
            <a:ext cx="2286000" cy="2438280"/>
            <a:chOff x="1143000" y="1981080"/>
            <a:chExt cx="2286000" cy="2438280"/>
          </a:xfrm>
        </p:grpSpPr>
        <p:sp>
          <p:nvSpPr>
            <p:cNvPr id="102" name=""/>
            <p:cNvSpPr/>
            <p:nvPr/>
          </p:nvSpPr>
          <p:spPr>
            <a:xfrm>
              <a:off x="1143000" y="2895480"/>
              <a:ext cx="2057400" cy="609480"/>
            </a:xfrm>
            <a:prstGeom prst="rect">
              <a:avLst/>
            </a:prstGeom>
            <a:gradFill rotWithShape="0">
              <a:gsLst>
                <a:gs pos="0">
                  <a:srgbClr val="d0ee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nergi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3809880"/>
              <a:ext cx="2057400" cy="609480"/>
            </a:xfrm>
            <a:prstGeom prst="rect">
              <a:avLst/>
            </a:prstGeom>
            <a:gradFill rotWithShape="0">
              <a:gsLst>
                <a:gs pos="0">
                  <a:srgbClr val="d0ee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lagen und Pers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71600" y="1981080"/>
              <a:ext cx="2057400" cy="609480"/>
            </a:xfrm>
            <a:prstGeom prst="rect">
              <a:avLst/>
            </a:prstGeom>
            <a:gradFill rotWithShape="0">
              <a:gsLst>
                <a:gs pos="0">
                  <a:srgbClr val="d0ee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ohstoffe und Zwischenproduk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Zusatzprogrammierungen senken den Bedienaufwand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5257440"/>
            <a:ext cx="7507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155880" indent="-155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Bei fixer Leistung des Systemstandards hat das Ausmaß der Zusatzprogrammierung den entscheidenden Einfluß auf die gesamte System-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-640440" y="2844000"/>
            <a:ext cx="3722760" cy="459720"/>
          </a:xfrm>
          <a:prstGeom prst="rect">
            <a:avLst/>
          </a:prstGeom>
          <a:gradFill rotWithShape="0">
            <a:gsLst>
              <a:gs pos="0">
                <a:srgbClr val="afeaa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gangs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6057360" y="2862360"/>
            <a:ext cx="3733920" cy="459720"/>
          </a:xfrm>
          <a:prstGeom prst="rect">
            <a:avLst/>
          </a:prstGeom>
          <a:gradFill rotWithShape="0">
            <a:gsLst>
              <a:gs pos="0">
                <a:srgbClr val="afeaa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pr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05120" y="1676520"/>
            <a:ext cx="5410080" cy="2895480"/>
            <a:chOff x="1905120" y="1676520"/>
            <a:chExt cx="5410080" cy="2895480"/>
          </a:xfrm>
        </p:grpSpPr>
        <p:grpSp>
          <p:nvGrpSpPr>
            <p:cNvPr id="119" name=""/>
            <p:cNvGrpSpPr/>
            <p:nvPr/>
          </p:nvGrpSpPr>
          <p:grpSpPr>
            <a:xfrm>
              <a:off x="1905120" y="3549600"/>
              <a:ext cx="5410080" cy="1022400"/>
              <a:chOff x="1905120" y="3549600"/>
              <a:chExt cx="5410080" cy="1022400"/>
            </a:xfrm>
          </p:grpSpPr>
          <p:sp>
            <p:nvSpPr>
              <p:cNvPr id="120" name=""/>
              <p:cNvSpPr/>
              <p:nvPr/>
            </p:nvSpPr>
            <p:spPr>
              <a:xfrm>
                <a:off x="1905120" y="3549600"/>
                <a:ext cx="5410080" cy="1022400"/>
              </a:xfrm>
              <a:prstGeom prst="rightArrow">
                <a:avLst>
                  <a:gd name="adj1" fmla="val 66463"/>
                  <a:gd name="adj2" fmla="val 49069"/>
                </a:avLst>
              </a:prstGeom>
              <a:gradFill rotWithShape="0">
                <a:gsLst>
                  <a:gs pos="0">
                    <a:srgbClr val="fefe98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                                           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edienu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05120" y="3727440"/>
                <a:ext cx="1447560" cy="668520"/>
              </a:xfrm>
              <a:prstGeom prst="rect">
                <a:avLst/>
              </a:prstGeom>
              <a:gradFill rotWithShape="0">
                <a:gsLst>
                  <a:gs pos="0">
                    <a:srgbClr val="c1e9fe"/>
                  </a:gs>
                  <a:gs pos="100000">
                    <a:srgbClr val="66cc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AP R/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nd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1905120" y="1676520"/>
              <a:ext cx="5410080" cy="1022400"/>
              <a:chOff x="1905120" y="1676520"/>
              <a:chExt cx="5410080" cy="1022400"/>
            </a:xfrm>
          </p:grpSpPr>
          <p:sp>
            <p:nvSpPr>
              <p:cNvPr id="123" name=""/>
              <p:cNvSpPr/>
              <p:nvPr/>
            </p:nvSpPr>
            <p:spPr>
              <a:xfrm>
                <a:off x="1905120" y="1676520"/>
                <a:ext cx="5410080" cy="1022400"/>
              </a:xfrm>
              <a:prstGeom prst="rightArrow">
                <a:avLst>
                  <a:gd name="adj1" fmla="val 66463"/>
                  <a:gd name="adj2" fmla="val 49069"/>
                </a:avLst>
              </a:prstGeom>
              <a:gradFill rotWithShape="0">
                <a:gsLst>
                  <a:gs pos="0">
                    <a:srgbClr val="fefe98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                                                                                                         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Bedienun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905120" y="1854360"/>
                <a:ext cx="1447560" cy="668160"/>
              </a:xfrm>
              <a:prstGeom prst="rect">
                <a:avLst/>
              </a:prstGeom>
              <a:gradFill rotWithShape="0">
                <a:gsLst>
                  <a:gs pos="0">
                    <a:srgbClr val="c1e9fe"/>
                  </a:gs>
                  <a:gs pos="100000">
                    <a:srgbClr val="66cc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AP R/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nd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" name=""/>
          <p:cNvSpPr/>
          <p:nvPr/>
        </p:nvSpPr>
        <p:spPr>
          <a:xfrm>
            <a:off x="3352680" y="3727440"/>
            <a:ext cx="1524240" cy="66852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668520"/>
              <a:gd name="textAreaBottom" fmla="*/ 668880 h 66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8989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Zusatz-programmie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828800" y="1854360"/>
            <a:ext cx="5486400" cy="2732040"/>
            <a:chOff x="1828800" y="1854360"/>
            <a:chExt cx="5486400" cy="2732040"/>
          </a:xfrm>
        </p:grpSpPr>
        <p:sp>
          <p:nvSpPr>
            <p:cNvPr id="127" name=""/>
            <p:cNvSpPr/>
            <p:nvPr/>
          </p:nvSpPr>
          <p:spPr>
            <a:xfrm>
              <a:off x="3352680" y="1854360"/>
              <a:ext cx="2438640" cy="668160"/>
            </a:xfrm>
            <a:custGeom>
              <a:avLst/>
              <a:gdLst>
                <a:gd name="textAreaLeft" fmla="*/ 0 w 2438640"/>
                <a:gd name="textAreaRight" fmla="*/ 2438640 w 2438640"/>
                <a:gd name="textAreaTop" fmla="*/ 0 h 668160"/>
                <a:gd name="textAreaBottom" fmla="*/ 668520 h 66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05" y="0"/>
                  </a:lnTo>
                  <a:lnTo>
                    <a:pt x="21600" y="10800"/>
                  </a:lnTo>
                  <a:lnTo>
                    <a:pt x="18605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e9898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Zusatz-programmier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28800" y="3519360"/>
              <a:ext cx="5486400" cy="1067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2743200" y="1600200"/>
            <a:ext cx="3352680" cy="3124080"/>
            <a:chOff x="2743200" y="1600200"/>
            <a:chExt cx="3352680" cy="3124080"/>
          </a:xfrm>
        </p:grpSpPr>
        <p:sp>
          <p:nvSpPr>
            <p:cNvPr id="130" name=""/>
            <p:cNvSpPr/>
            <p:nvPr/>
          </p:nvSpPr>
          <p:spPr>
            <a:xfrm>
              <a:off x="3784680" y="2590920"/>
              <a:ext cx="1295280" cy="1143000"/>
            </a:xfrm>
            <a:prstGeom prst="rect">
              <a:avLst/>
            </a:prstGeom>
            <a:gradFill rotWithShape="0">
              <a:gsLst>
                <a:gs pos="0">
                  <a:srgbClr val="b8e6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P R/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43200" y="1600200"/>
              <a:ext cx="3352680" cy="3124080"/>
            </a:xfrm>
            <a:prstGeom prst="donut">
              <a:avLst>
                <a:gd name="adj" fmla="val 33078"/>
              </a:avLst>
            </a:prstGeom>
            <a:gradFill rotWithShape="0">
              <a:gsLst>
                <a:gs pos="0">
                  <a:srgbClr val="fe9898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71800" y="1752480"/>
              <a:ext cx="289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Zusatz-programmi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Zusatzprogrammierung als Ergänzung zum SAP-Standard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5334120"/>
            <a:ext cx="75074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Zusatzprogrammierungen sollen den SAP-Standard sinnvoll ergänz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2666880"/>
            <a:ext cx="1524240" cy="685800"/>
          </a:xfrm>
          <a:prstGeom prst="rect">
            <a:avLst/>
          </a:prstGeom>
          <a:gradFill rotWithShape="0">
            <a:gsLst>
              <a:gs pos="0">
                <a:srgbClr val="fefe94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sierte Menü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76920" y="2666880"/>
            <a:ext cx="1523880" cy="685800"/>
          </a:xfrm>
          <a:prstGeom prst="rect">
            <a:avLst/>
          </a:prstGeom>
          <a:gradFill rotWithShape="0">
            <a:gsLst>
              <a:gs pos="0">
                <a:srgbClr val="fefe94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sierte Scre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3581280"/>
            <a:ext cx="1523880" cy="685800"/>
          </a:xfrm>
          <a:prstGeom prst="rect">
            <a:avLst/>
          </a:prstGeom>
          <a:gradFill rotWithShape="0">
            <a:gsLst>
              <a:gs pos="0">
                <a:srgbClr val="a0e6a0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ta-transaktion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Zusatzprogrammierung als Ergänzung zum SAP-Standard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0" y="1447920"/>
            <a:ext cx="6059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berücksichtigen die Abläufe in den Bereichen, für die sie erstellt wu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erweitern das Standard-SAP um Ihre betrieblichen Abläu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entfalten ihre Vorteile bei Neueinführung von SAP R/3 oder in einer bestehenden Systemumgeb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Betriebliche Abläufe müssen nicht angepass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4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5800" y="1143000"/>
            <a:ext cx="1440000" cy="1136520"/>
            <a:chOff x="685800" y="1143000"/>
            <a:chExt cx="1440000" cy="1136520"/>
          </a:xfrm>
        </p:grpSpPr>
        <p:grpSp>
          <p:nvGrpSpPr>
            <p:cNvPr id="141" name=""/>
            <p:cNvGrpSpPr/>
            <p:nvPr/>
          </p:nvGrpSpPr>
          <p:grpSpPr>
            <a:xfrm>
              <a:off x="796320" y="1143000"/>
              <a:ext cx="1218240" cy="1136520"/>
              <a:chOff x="796320" y="1143000"/>
              <a:chExt cx="1218240" cy="1136520"/>
            </a:xfrm>
          </p:grpSpPr>
          <p:sp>
            <p:nvSpPr>
              <p:cNvPr id="142" name=""/>
              <p:cNvSpPr/>
              <p:nvPr/>
            </p:nvSpPr>
            <p:spPr>
              <a:xfrm>
                <a:off x="1174680" y="1503360"/>
                <a:ext cx="470520" cy="415800"/>
              </a:xfrm>
              <a:prstGeom prst="rect">
                <a:avLst/>
              </a:prstGeom>
              <a:gradFill rotWithShape="0">
                <a:gsLst>
                  <a:gs pos="0">
                    <a:srgbClr val="b8e6fe"/>
                  </a:gs>
                  <a:gs pos="100000">
                    <a:srgbClr val="66cc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96320" y="1143000"/>
                <a:ext cx="1218240" cy="1136520"/>
              </a:xfrm>
              <a:prstGeom prst="donut">
                <a:avLst>
                  <a:gd name="adj" fmla="val 33078"/>
                </a:avLst>
              </a:prstGeom>
              <a:gradFill rotWithShape="0">
                <a:gsLst>
                  <a:gs pos="0">
                    <a:srgbClr val="fe9898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79120" y="1190160"/>
                <a:ext cx="1052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Zusatz-programmieru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685800" y="1531080"/>
              <a:ext cx="553680" cy="249480"/>
            </a:xfrm>
            <a:prstGeom prst="rect">
              <a:avLst/>
            </a:prstGeom>
            <a:gradFill rotWithShape="0">
              <a:gsLst>
                <a:gs pos="0">
                  <a:srgbClr val="fefe94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72120" y="1531080"/>
              <a:ext cx="553680" cy="249480"/>
            </a:xfrm>
            <a:prstGeom prst="rect">
              <a:avLst/>
            </a:prstGeom>
            <a:gradFill rotWithShape="0">
              <a:gsLst>
                <a:gs pos="0">
                  <a:srgbClr val="fefe94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28960" y="1863720"/>
              <a:ext cx="553680" cy="249480"/>
            </a:xfrm>
            <a:prstGeom prst="rect">
              <a:avLst/>
            </a:prstGeom>
            <a:gradFill rotWithShape="0">
              <a:gsLst>
                <a:gs pos="0">
                  <a:srgbClr val="a0e6a0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Zusatzprogrammierung als Ergänzung zum SAP-Standard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09680" y="1295280"/>
            <a:ext cx="60595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berücksichtigen die Qualifikation der Anwe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entlasten von Routineeinga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vermeiden unnötige Systembedienungen und Fehleinga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Anwender werden in die Entwicklung mit einbezo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Key-User sind Mitglieder der Projektorganis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85800" y="1143000"/>
            <a:ext cx="1440000" cy="1136520"/>
            <a:chOff x="685800" y="1143000"/>
            <a:chExt cx="1440000" cy="1136520"/>
          </a:xfrm>
        </p:grpSpPr>
        <p:grpSp>
          <p:nvGrpSpPr>
            <p:cNvPr id="151" name=""/>
            <p:cNvGrpSpPr/>
            <p:nvPr/>
          </p:nvGrpSpPr>
          <p:grpSpPr>
            <a:xfrm>
              <a:off x="796320" y="1143000"/>
              <a:ext cx="1218240" cy="1136520"/>
              <a:chOff x="796320" y="1143000"/>
              <a:chExt cx="1218240" cy="1136520"/>
            </a:xfrm>
          </p:grpSpPr>
          <p:sp>
            <p:nvSpPr>
              <p:cNvPr id="152" name=""/>
              <p:cNvSpPr/>
              <p:nvPr/>
            </p:nvSpPr>
            <p:spPr>
              <a:xfrm>
                <a:off x="1174680" y="1503360"/>
                <a:ext cx="470520" cy="415800"/>
              </a:xfrm>
              <a:prstGeom prst="rect">
                <a:avLst/>
              </a:prstGeom>
              <a:gradFill rotWithShape="0">
                <a:gsLst>
                  <a:gs pos="0">
                    <a:srgbClr val="b8e6fe"/>
                  </a:gs>
                  <a:gs pos="100000">
                    <a:srgbClr val="66cc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96320" y="1143000"/>
                <a:ext cx="1218240" cy="1136520"/>
              </a:xfrm>
              <a:prstGeom prst="donut">
                <a:avLst>
                  <a:gd name="adj" fmla="val 33078"/>
                </a:avLst>
              </a:prstGeom>
              <a:gradFill rotWithShape="0">
                <a:gsLst>
                  <a:gs pos="0">
                    <a:srgbClr val="fe9898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79120" y="1190160"/>
                <a:ext cx="1052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Zusatz-programmieru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685800" y="1531080"/>
              <a:ext cx="553680" cy="249480"/>
            </a:xfrm>
            <a:prstGeom prst="rect">
              <a:avLst/>
            </a:prstGeom>
            <a:gradFill rotWithShape="0">
              <a:gsLst>
                <a:gs pos="0">
                  <a:srgbClr val="fefe94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72120" y="1531080"/>
              <a:ext cx="553680" cy="249480"/>
            </a:xfrm>
            <a:prstGeom prst="rect">
              <a:avLst/>
            </a:prstGeom>
            <a:gradFill rotWithShape="0">
              <a:gsLst>
                <a:gs pos="0">
                  <a:srgbClr val="fefe94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28960" y="1863720"/>
              <a:ext cx="553680" cy="249480"/>
            </a:xfrm>
            <a:prstGeom prst="rect">
              <a:avLst/>
            </a:prstGeom>
            <a:gradFill rotWithShape="0">
              <a:gsLst>
                <a:gs pos="0">
                  <a:srgbClr val="a0e6a0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1:26:31Z</dcterms:created>
  <dc:creator>Degussa AG</dc:creator>
  <dc:description/>
  <dc:language>en-US</dc:language>
  <cp:lastModifiedBy>Dr. Jochen Winkler</cp:lastModifiedBy>
  <cp:lastPrinted>2000-09-11T06:16:39Z</cp:lastPrinted>
  <dcterms:modified xsi:type="dcterms:W3CDTF">2001-09-27T07:45:08Z</dcterms:modified>
  <cp:revision>52</cp:revision>
  <dc:subject/>
  <dc:title>Musterfolie Degussa-Hüls, farbig, TNR 32</dc:title>
</cp:coreProperties>
</file>