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834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2712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6548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8876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2712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6548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04520" y="304560"/>
            <a:ext cx="76438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169920"/>
            <a:ext cx="9144000" cy="6858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ef3f3"/>
              </a:gs>
              <a:gs pos="100000">
                <a:srgbClr val="ff7c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304920"/>
            <a:ext cx="8229600" cy="601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40560" y="6477120"/>
            <a:ext cx="90684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2873BA7-EA16-4454-9599-12834F6CA02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141560" y="6477120"/>
            <a:ext cx="93420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17600" y="6477120"/>
            <a:ext cx="67968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.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023640" y="6477120"/>
            <a:ext cx="331776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P R/3 Workshop für die chemische und pharmazeutische Indust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143920" y="632448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37800" y="2763360"/>
            <a:ext cx="7410600" cy="177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marL="119880" indent="0" algn="ctr">
              <a:lnSpc>
                <a:spcPct val="90000"/>
              </a:lnSpc>
              <a:spcBef>
                <a:spcPts val="2001"/>
              </a:spcBef>
              <a:spcAft>
                <a:spcPts val="5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8000" spc="-1" strike="noStrike">
                <a:solidFill>
                  <a:srgbClr val="0033cc"/>
                </a:solidFill>
                <a:latin typeface="Arial"/>
              </a:rPr>
              <a:t>Planu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1680" y="1015920"/>
            <a:ext cx="382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18280" y="955800"/>
            <a:ext cx="27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9720" y="1015920"/>
            <a:ext cx="78948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AP R/3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ür die chemische und pharmazeutische Indus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8160" y="5565600"/>
            <a:ext cx="78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üsseldorf,  27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4880" y="304560"/>
            <a:ext cx="80582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Performance Tool (Batch Job während der Nacht) 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04520" y="1193400"/>
            <a:ext cx="792468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Übernahme v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stammaktualisieru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ungsrezeptänd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ücklistenaktualisieru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sistenzprüf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andsveränd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63640" y="5270400"/>
            <a:ext cx="7899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 Produktgruppe  ( lose Ware + verpackte Ware )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ktuelle Bestand,  Ist-Produktion,  Ist-Sekundärbedarf und  der Ist-Absat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41400" y="3809880"/>
            <a:ext cx="0" cy="14605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Performance Tool (online)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7000" y="1131840"/>
          <a:ext cx="911700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" y="1131840"/>
                    <a:ext cx="911700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704880" y="3390840"/>
            <a:ext cx="79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nn bei Bedarf auch online gestartet werde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Strategie für Anfangsbestand 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04520" y="1182240"/>
            <a:ext cx="7924680" cy="49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cc"/>
                </a:solidFill>
                <a:latin typeface="Arial"/>
              </a:rPr>
              <a:t>Anfangsbestand aktuellen Mona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 Endbestand des Vormo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cc"/>
                </a:solidFill>
                <a:latin typeface="Arial"/>
              </a:rPr>
              <a:t>Wie hoch ist der Anfangsbestand im Folgemon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der aktuelle Bestand (gut am Monatsend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ochgerechnet aus Ist-Bestand, Plan, Planerfüllung (gut am Monatsanfa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zuletzt gespeiche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cc"/>
                </a:solidFill>
                <a:latin typeface="Arial"/>
              </a:rPr>
              <a:t>Anfangsbestand für alle weiteren M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bestand der vorherigen Planungsperi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Anfangsbestand für Folgemonat berechnet   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04520" y="1092240"/>
            <a:ext cx="7924680" cy="478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AB = AK + RP – RS – RA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 = aktueller Be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P = Restpro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S = Restsekundärbed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 = Restab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P = PP – IP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lan-Produktion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–   Ist-Produk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S = PS – IB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lan-Sekundärbed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–   Ist-Sekundärb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 = PA – IA      (Plan-Absat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–    Ist-Absa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P, RS, RA &gt; 0, sonst = 0 geset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092240"/>
            <a:ext cx="3479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1092240"/>
            <a:ext cx="39117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03360" y="1371600"/>
            <a:ext cx="4403880" cy="660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1371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Anfangsbestand für alle weiteren Monate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04520" y="1092240"/>
            <a:ext cx="7924680" cy="447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AB = AV + PP – SP – X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V = Anfangsbestand Vormo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P = Produktionsplanmenge Vormon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 = Sekundärplanbedarfsmenge Vormon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   = Min (Plan-Absatz, Kann-Absa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092240"/>
            <a:ext cx="3479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1092240"/>
            <a:ext cx="39117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03360" y="1371600"/>
            <a:ext cx="4403880" cy="660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1371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Produktionsplanung interaktiv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4520" y="3930480"/>
            <a:ext cx="7854840" cy="21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pelstatus für: Kann-Absat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e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-Absatz wird nicht gedec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kundärbedarf und Plan-Absatz  werden nicht gedec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41320" y="4403880"/>
          <a:ext cx="565200" cy="2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4403880"/>
                    <a:ext cx="5652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841320" y="4843440"/>
          <a:ext cx="565200" cy="3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1320" y="4843440"/>
                    <a:ext cx="56520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841320" y="5259240"/>
          <a:ext cx="565200" cy="40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1320" y="5259240"/>
                    <a:ext cx="56520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76360" y="1011240"/>
          <a:ext cx="8237520" cy="291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6360" y="1011240"/>
                    <a:ext cx="8237520" cy="29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Mail-Benachrichtigung aus dem Produktionspla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666880"/>
            <a:ext cx="7925040" cy="358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nn die Aktive Version des Produktionsplans geändert wurde, wird beim Speichern ein festgelegter Personenkreis per SAP- und/oder E-Mail automatisch benachrichtig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Mail enthält eine Liste mit allen relevanten Änderung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Änderungen am Kann-Absatz werden in den Absatzsplan übernommen und dort ggf. farblich gekennzeichn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sondere Kennzeichnung, wenn der Kann-Absatz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ch unter den Plan-Absatz veränder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27760" cy="1511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20120" y="5257800"/>
            <a:ext cx="8380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615960" y="992160"/>
          <a:ext cx="789156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992160"/>
                    <a:ext cx="789156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Sonderfunktione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2362320"/>
            <a:ext cx="625968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 Rohstoffbedarf wird für das Werk ermittel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819520"/>
            <a:ext cx="625968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e zu erwartenden Mengen an An- und Abfällen können aufgelistet werd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 Produktionsplan für das Werk oder jeden einzelnen Betrieb wird zusammengestell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4419720"/>
            <a:ext cx="62596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zielle Bilanzierungen können bearbeitet werd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rcRect l="0" t="0" r="0" b="9709"/>
          <a:stretch/>
        </p:blipFill>
        <p:spPr>
          <a:xfrm>
            <a:off x="615960" y="995400"/>
            <a:ext cx="7899480" cy="518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615960" y="992160"/>
          <a:ext cx="7891560" cy="518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960" y="992160"/>
                    <a:ext cx="78915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08040" y="990720"/>
          <a:ext cx="7899480" cy="5181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8040" y="990720"/>
                    <a:ext cx="78994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Zukünftige Erweiterunge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bsatz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rschlagswerte für Plan-Absatz aus vorliegenden Bestellungen ermittel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2666880"/>
            <a:ext cx="792504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roduktions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minplan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pazitätsplan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mpagnenoptimi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zeugung von Bestellanforderungen für Rohstof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hresp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gesplan/Wochenp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Von der Planung zum Monatsabschluß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5194080"/>
            <a:ext cx="6429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169200" indent="-16920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n die Prozeßauftragsbearbeitung schließt sich zum Monatsende der Periodenabschluß und die Auswertung der Bestandsbewegungen 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85800" y="1219320"/>
            <a:ext cx="6353280" cy="2760480"/>
            <a:chOff x="685800" y="1219320"/>
            <a:chExt cx="6353280" cy="2760480"/>
          </a:xfrm>
        </p:grpSpPr>
        <p:sp>
          <p:nvSpPr>
            <p:cNvPr id="195" name=""/>
            <p:cNvSpPr/>
            <p:nvPr/>
          </p:nvSpPr>
          <p:spPr>
            <a:xfrm>
              <a:off x="685800" y="1219320"/>
              <a:ext cx="914400" cy="676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24680" y="3303720"/>
              <a:ext cx="914400" cy="676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95400" y="1219320"/>
              <a:ext cx="1084320" cy="676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Absatz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25960" y="2273400"/>
              <a:ext cx="1104840" cy="676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Produktions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9" name=""/>
            <p:cNvCxnSpPr>
              <a:stCxn id="195" idx="6"/>
              <a:endCxn id="197" idx="1"/>
            </p:cNvCxnSpPr>
            <p:nvPr/>
          </p:nvCxnSpPr>
          <p:spPr>
            <a:xfrm>
              <a:off x="1600200" y="1557000"/>
              <a:ext cx="2955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622760" y="3303720"/>
              <a:ext cx="1087560" cy="676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Prozess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" name=""/>
            <p:cNvCxnSpPr>
              <a:stCxn id="200" idx="3"/>
              <a:endCxn id="196" idx="2"/>
            </p:cNvCxnSpPr>
            <p:nvPr/>
          </p:nvCxnSpPr>
          <p:spPr>
            <a:xfrm>
              <a:off x="5709960" y="3641400"/>
              <a:ext cx="41508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202" name=""/>
            <p:cNvSpPr/>
            <p:nvPr/>
          </p:nvSpPr>
          <p:spPr>
            <a:xfrm>
              <a:off x="3321000" y="3303720"/>
              <a:ext cx="914400" cy="6760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76767"/>
                  </a:solidFill>
                  <a:latin typeface="Arial"/>
                </a:rPr>
                <a:t>Bestands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76767"/>
                  </a:solidFill>
                  <a:latin typeface="Arial"/>
                </a:rPr>
                <a:t>bewegun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0" idx="1"/>
              <a:endCxn id="202" idx="6"/>
            </p:cNvCxnSpPr>
            <p:nvPr/>
          </p:nvCxnSpPr>
          <p:spPr>
            <a:xfrm flipH="1">
              <a:off x="4235040" y="3641400"/>
              <a:ext cx="38808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204" name=""/>
            <p:cNvCxnSpPr>
              <a:stCxn id="202" idx="0"/>
              <a:endCxn id="198" idx="2"/>
            </p:cNvCxnSpPr>
            <p:nvPr/>
          </p:nvCxnSpPr>
          <p:spPr>
            <a:xfrm flipV="1">
              <a:off x="3777840" y="2949120"/>
              <a:ext cx="1080" cy="35496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205" name=""/>
            <p:cNvSpPr/>
            <p:nvPr/>
          </p:nvSpPr>
          <p:spPr>
            <a:xfrm>
              <a:off x="3321000" y="1219320"/>
              <a:ext cx="914400" cy="6760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76767"/>
                  </a:solidFill>
                  <a:latin typeface="Arial"/>
                </a:rPr>
                <a:t>Kan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5" idx="2"/>
              <a:endCxn id="197" idx="3"/>
            </p:cNvCxnSpPr>
            <p:nvPr/>
          </p:nvCxnSpPr>
          <p:spPr>
            <a:xfrm flipH="1">
              <a:off x="2979360" y="1557000"/>
              <a:ext cx="34200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207" name=""/>
            <p:cNvCxnSpPr>
              <a:stCxn id="198" idx="0"/>
              <a:endCxn id="205" idx="4"/>
            </p:cNvCxnSpPr>
            <p:nvPr/>
          </p:nvCxnSpPr>
          <p:spPr>
            <a:xfrm flipV="1">
              <a:off x="3777840" y="1895040"/>
              <a:ext cx="1080" cy="37872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208" name=""/>
            <p:cNvSpPr/>
            <p:nvPr/>
          </p:nvSpPr>
          <p:spPr>
            <a:xfrm>
              <a:off x="4710240" y="2273400"/>
              <a:ext cx="914400" cy="6760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76767"/>
                  </a:solidFill>
                  <a:latin typeface="Arial"/>
                </a:rPr>
                <a:t>Pla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76767"/>
                  </a:solidFill>
                  <a:latin typeface="Arial"/>
                </a:rPr>
                <a:t>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198" idx="3"/>
              <a:endCxn id="208" idx="2"/>
            </p:cNvCxnSpPr>
            <p:nvPr/>
          </p:nvCxnSpPr>
          <p:spPr>
            <a:xfrm>
              <a:off x="4330800" y="2611080"/>
              <a:ext cx="3801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210" name=""/>
            <p:cNvCxnSpPr>
              <a:stCxn id="208" idx="4"/>
              <a:endCxn id="200" idx="0"/>
            </p:cNvCxnSpPr>
            <p:nvPr/>
          </p:nvCxnSpPr>
          <p:spPr>
            <a:xfrm>
              <a:off x="5167080" y="2949480"/>
              <a:ext cx="1080" cy="35496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211" name=""/>
            <p:cNvSpPr/>
            <p:nvPr/>
          </p:nvSpPr>
          <p:spPr>
            <a:xfrm>
              <a:off x="1981080" y="2274840"/>
              <a:ext cx="914400" cy="67320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76767"/>
                  </a:solidFill>
                  <a:latin typeface="Arial"/>
                </a:rPr>
                <a:t>Pla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2" name=""/>
            <p:cNvCxnSpPr>
              <a:stCxn id="197" idx="2"/>
              <a:endCxn id="211" idx="0"/>
            </p:cNvCxnSpPr>
            <p:nvPr/>
          </p:nvCxnSpPr>
          <p:spPr>
            <a:xfrm>
              <a:off x="2437920" y="1895400"/>
              <a:ext cx="1080" cy="38016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213" name=""/>
            <p:cNvCxnSpPr>
              <a:stCxn id="211" idx="6"/>
              <a:endCxn id="198" idx="1"/>
            </p:cNvCxnSpPr>
            <p:nvPr/>
          </p:nvCxnSpPr>
          <p:spPr>
            <a:xfrm>
              <a:off x="2895480" y="2611080"/>
              <a:ext cx="33120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214" name=""/>
          <p:cNvGrpSpPr/>
          <p:nvPr/>
        </p:nvGrpSpPr>
        <p:grpSpPr>
          <a:xfrm>
            <a:off x="3778200" y="3979440"/>
            <a:ext cx="3348000" cy="1054440"/>
            <a:chOff x="3778200" y="3979440"/>
            <a:chExt cx="3348000" cy="1054440"/>
          </a:xfrm>
        </p:grpSpPr>
        <p:sp>
          <p:nvSpPr>
            <p:cNvPr id="215" name=""/>
            <p:cNvSpPr/>
            <p:nvPr/>
          </p:nvSpPr>
          <p:spPr>
            <a:xfrm>
              <a:off x="6039000" y="4357800"/>
              <a:ext cx="1087200" cy="67608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Monats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abschluß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" name=""/>
            <p:cNvCxnSpPr>
              <a:stCxn id="196" idx="4"/>
              <a:endCxn id="215" idx="0"/>
            </p:cNvCxnSpPr>
            <p:nvPr/>
          </p:nvCxnSpPr>
          <p:spPr>
            <a:xfrm>
              <a:off x="6581880" y="3979800"/>
              <a:ext cx="2160" cy="37872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217" name=""/>
            <p:cNvCxnSpPr>
              <a:stCxn id="202" idx="4"/>
              <a:endCxn id="215" idx="1"/>
            </p:cNvCxnSpPr>
            <p:nvPr/>
          </p:nvCxnSpPr>
          <p:spPr>
            <a:xfrm flipH="1" rot="16200000">
              <a:off x="4550400" y="3207240"/>
              <a:ext cx="716760" cy="2261160"/>
            </a:xfrm>
            <a:prstGeom prst="bentConnector2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218" name=""/>
          <p:cNvGrpSpPr/>
          <p:nvPr/>
        </p:nvGrpSpPr>
        <p:grpSpPr>
          <a:xfrm>
            <a:off x="7126200" y="4357800"/>
            <a:ext cx="1255680" cy="676080"/>
            <a:chOff x="7126200" y="4357800"/>
            <a:chExt cx="1255680" cy="676080"/>
          </a:xfrm>
        </p:grpSpPr>
        <p:sp>
          <p:nvSpPr>
            <p:cNvPr id="219" name=""/>
            <p:cNvSpPr/>
            <p:nvPr/>
          </p:nvSpPr>
          <p:spPr>
            <a:xfrm>
              <a:off x="7467480" y="4357800"/>
              <a:ext cx="914400" cy="67608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t-Bestän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0" name=""/>
            <p:cNvCxnSpPr>
              <a:stCxn id="215" idx="3"/>
              <a:endCxn id="219" idx="2"/>
            </p:cNvCxnSpPr>
            <p:nvPr/>
          </p:nvCxnSpPr>
          <p:spPr>
            <a:xfrm>
              <a:off x="7126200" y="4695480"/>
              <a:ext cx="34200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sp>
        <p:nvSpPr>
          <p:cNvPr id="221" name=""/>
          <p:cNvSpPr/>
          <p:nvPr/>
        </p:nvSpPr>
        <p:spPr>
          <a:xfrm>
            <a:off x="652320" y="1020600"/>
            <a:ext cx="7696440" cy="2971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383600" y="5033880"/>
            <a:ext cx="1079280" cy="1057320"/>
            <a:chOff x="7383600" y="5033880"/>
            <a:chExt cx="1079280" cy="1057320"/>
          </a:xfrm>
        </p:grpSpPr>
        <p:sp>
          <p:nvSpPr>
            <p:cNvPr id="223" name=""/>
            <p:cNvSpPr/>
            <p:nvPr/>
          </p:nvSpPr>
          <p:spPr>
            <a:xfrm>
              <a:off x="7383600" y="5419800"/>
              <a:ext cx="1079280" cy="67140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Monats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rappor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19" idx="4"/>
              <a:endCxn id="223" idx="0"/>
            </p:cNvCxnSpPr>
            <p:nvPr/>
          </p:nvCxnSpPr>
          <p:spPr>
            <a:xfrm flipH="1">
              <a:off x="7922880" y="5033880"/>
              <a:ext cx="2160" cy="38664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Funktionalitätsunterschiede zum  SAP/R3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04520" y="837720"/>
            <a:ext cx="3892680" cy="511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600" spc="-1" strike="noStrike">
                <a:solidFill>
                  <a:srgbClr val="3333ff"/>
                </a:solidFill>
                <a:latin typeface="Arial"/>
              </a:rPr>
              <a:t>Plan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Planung erfolgt fü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baren 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en Absatzplan ist das Marketing zuständig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en Produktionsplan ist die Produktion zuständig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ie Kommunikation ist ein automatisches Online Mailsystem installier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7560" y="1041120"/>
            <a:ext cx="3914640" cy="492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600" spc="-1" strike="noStrike">
                <a:solidFill>
                  <a:srgbClr val="3333ff"/>
                </a:solidFill>
                <a:latin typeface="Arial"/>
              </a:rPr>
              <a:t>SAP/R3-Stand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Planung erfolgt stets fü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 Materialnu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Screen für  Marketing und Produk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Mailsystem ist nicht vorges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3400" y="1635120"/>
            <a:ext cx="376416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3400" y="1635120"/>
            <a:ext cx="0" cy="38736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59240" y="2743200"/>
            <a:ext cx="238320" cy="1158840"/>
          </a:xfrm>
          <a:custGeom>
            <a:avLst/>
            <a:gdLst>
              <a:gd name="textAreaLeft" fmla="*/ 0 w 238320"/>
              <a:gd name="textAreaRight" fmla="*/ 86040 w 238320"/>
              <a:gd name="textAreaTop" fmla="*/ 29880 h 1158840"/>
              <a:gd name="textAreaBottom" fmla="*/ 1128960 h 11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38160" y="2763720"/>
            <a:ext cx="7410600" cy="177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0440" indent="-190440" algn="ctr">
              <a:lnSpc>
                <a:spcPct val="90000"/>
              </a:lnSpc>
              <a:spcBef>
                <a:spcPts val="2001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8000" spc="-1" strike="noStrike">
                <a:solidFill>
                  <a:srgbClr val="0033cc"/>
                </a:solidFill>
                <a:latin typeface="Arial"/>
              </a:rPr>
              <a:t>Planu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11680" y="1015920"/>
            <a:ext cx="382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18280" y="955800"/>
            <a:ext cx="27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9720" y="1015920"/>
            <a:ext cx="78948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AP R/3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ür die chemische und pharmazeutische Indus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160" y="5565600"/>
            <a:ext cx="78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üsseldorf,  27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Funktionalitätsunterschiede zum SAP/R3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04880" y="1041480"/>
            <a:ext cx="3930480" cy="342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3333ff"/>
                </a:solidFill>
                <a:latin typeface="Arial"/>
              </a:rPr>
              <a:t>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mulationsmöglichkeit zum  Auffinden von Engpässen bei der Ermittlung des Sekundärbedar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nderfunktionen eines Chemiewer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3333ff"/>
                </a:solidFill>
                <a:latin typeface="Arial"/>
              </a:rPr>
              <a:t>Plan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etzt zu 100% auf dem SAP/R3 Standard auf und damit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000" y="1041120"/>
            <a:ext cx="3915000" cy="492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3333ff"/>
                </a:solidFill>
                <a:latin typeface="Arial"/>
              </a:rPr>
              <a:t>SAP/R3-Stand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mulationsmöglichkeit für eine MaterialN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nderfunktionen sind nicht vorgese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ation in die logistische Kette                        </a:t>
            </a:r>
            <a:r>
              <a:rPr b="1" lang="de-DE" sz="1800" spc="-1" strike="noStrike">
                <a:solidFill>
                  <a:srgbClr val="3333ff"/>
                </a:solidFill>
                <a:latin typeface="Arial"/>
              </a:rPr>
              <a:t>Beschaffung – Produktion - Verk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33840" y="3648240"/>
            <a:ext cx="19015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Gegenüberstellung: Absatzplan -  Produktionsplan  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04520" y="1002960"/>
            <a:ext cx="3801960" cy="353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bsatz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arket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zeugt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Plan-Absätz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rimärbedar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 können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 Mindestbestän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finiert we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27480" y="1003320"/>
            <a:ext cx="3581640" cy="40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Produktions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(Produk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zeugt 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Kann-Absätze</a:t>
            </a:r>
            <a:br>
              <a:rPr sz="2200"/>
            </a:b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Bestände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Sekundärbedarfe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werden berücksichtig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97040" y="5629320"/>
            <a:ext cx="755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32400" y="263520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A + P – S  -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5445000"/>
            <a:ext cx="71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= Anfangsbestand, P = Produktionsmenge, S = Sekundärbedarf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 = Mindestlagerbes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505320" y="2603520"/>
            <a:ext cx="2120400" cy="838080"/>
            <a:chOff x="3505320" y="2603520"/>
            <a:chExt cx="2120400" cy="838080"/>
          </a:xfrm>
        </p:grpSpPr>
        <p:sp>
          <p:nvSpPr>
            <p:cNvPr id="70" name=""/>
            <p:cNvSpPr/>
            <p:nvPr/>
          </p:nvSpPr>
          <p:spPr>
            <a:xfrm>
              <a:off x="3505320" y="2603520"/>
              <a:ext cx="1130040" cy="838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95680" y="2603520"/>
              <a:ext cx="1130040" cy="838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Von Kundenauftrag zur Produktio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22440" y="1244520"/>
            <a:ext cx="7899120" cy="3556080"/>
            <a:chOff x="622440" y="1244520"/>
            <a:chExt cx="7899120" cy="3556080"/>
          </a:xfrm>
        </p:grpSpPr>
        <p:sp>
          <p:nvSpPr>
            <p:cNvPr id="74" name=""/>
            <p:cNvSpPr/>
            <p:nvPr/>
          </p:nvSpPr>
          <p:spPr>
            <a:xfrm>
              <a:off x="622440" y="1244520"/>
              <a:ext cx="1130040" cy="8384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91520" y="3962520"/>
              <a:ext cx="1130040" cy="8380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817640" y="1244520"/>
            <a:ext cx="4509000" cy="2718360"/>
            <a:chOff x="1817640" y="1244520"/>
            <a:chExt cx="4509000" cy="2718360"/>
          </a:xfrm>
        </p:grpSpPr>
        <p:cxnSp>
          <p:nvCxnSpPr>
            <p:cNvPr id="77" name=""/>
            <p:cNvCxnSpPr>
              <a:stCxn id="78" idx="2"/>
              <a:endCxn id="79" idx="1"/>
            </p:cNvCxnSpPr>
            <p:nvPr/>
          </p:nvCxnSpPr>
          <p:spPr>
            <a:xfrm flipH="1" rot="16200000">
              <a:off x="2948040" y="2057040"/>
              <a:ext cx="952920" cy="1003680"/>
            </a:xfrm>
            <a:prstGeom prst="bentConnector2">
              <a:avLst/>
            </a:prstGeom>
            <a:ln w="324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80" name=""/>
            <p:cNvCxnSpPr>
              <a:stCxn id="79" idx="3"/>
              <a:endCxn id="81" idx="0"/>
            </p:cNvCxnSpPr>
            <p:nvPr/>
          </p:nvCxnSpPr>
          <p:spPr>
            <a:xfrm>
              <a:off x="5297400" y="3035160"/>
              <a:ext cx="1029600" cy="928080"/>
            </a:xfrm>
            <a:prstGeom prst="bentConnector2">
              <a:avLst/>
            </a:prstGeom>
            <a:ln w="324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78" name=""/>
            <p:cNvSpPr/>
            <p:nvPr/>
          </p:nvSpPr>
          <p:spPr>
            <a:xfrm>
              <a:off x="2249640" y="1244520"/>
              <a:ext cx="1346040" cy="838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3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bsatz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25800" y="2616120"/>
              <a:ext cx="1371600" cy="838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3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roduktion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4" idx="6"/>
              <a:endCxn id="78" idx="1"/>
            </p:cNvCxnSpPr>
            <p:nvPr/>
          </p:nvCxnSpPr>
          <p:spPr>
            <a:xfrm>
              <a:off x="1817640" y="1663200"/>
              <a:ext cx="432720" cy="1080"/>
            </a:xfrm>
            <a:prstGeom prst="straightConnector1">
              <a:avLst/>
            </a:prstGeom>
            <a:ln w="324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83" name=""/>
          <p:cNvGrpSpPr/>
          <p:nvPr/>
        </p:nvGrpSpPr>
        <p:grpSpPr>
          <a:xfrm>
            <a:off x="5587920" y="3962520"/>
            <a:ext cx="1803960" cy="838080"/>
            <a:chOff x="5587920" y="3962520"/>
            <a:chExt cx="1803960" cy="838080"/>
          </a:xfrm>
        </p:grpSpPr>
        <p:sp>
          <p:nvSpPr>
            <p:cNvPr id="81" name=""/>
            <p:cNvSpPr/>
            <p:nvPr/>
          </p:nvSpPr>
          <p:spPr>
            <a:xfrm>
              <a:off x="5587920" y="3962520"/>
              <a:ext cx="1346400" cy="838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rozes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1" idx="3"/>
              <a:endCxn id="75" idx="2"/>
            </p:cNvCxnSpPr>
            <p:nvPr/>
          </p:nvCxnSpPr>
          <p:spPr>
            <a:xfrm>
              <a:off x="6934320" y="4381200"/>
              <a:ext cx="45792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5028840"/>
            <a:ext cx="79250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84680" indent="-18468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Module 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Absatzplanung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Produktionsplanung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200" spc="-1" strike="noStrike">
                <a:solidFill>
                  <a:srgbClr val="ff3300"/>
                </a:solidFill>
                <a:latin typeface="Arial"/>
              </a:rPr>
              <a:t>Prozeßauftragsbearbeitung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beschreiben den Ablauf vom Kundenauftrag zur Produk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987720" y="3441240"/>
            <a:ext cx="1638000" cy="1359000"/>
            <a:chOff x="3987720" y="3441240"/>
            <a:chExt cx="1638000" cy="1359000"/>
          </a:xfrm>
        </p:grpSpPr>
        <p:sp>
          <p:nvSpPr>
            <p:cNvPr id="87" name=""/>
            <p:cNvSpPr/>
            <p:nvPr/>
          </p:nvSpPr>
          <p:spPr>
            <a:xfrm>
              <a:off x="3987720" y="3954240"/>
              <a:ext cx="1157040" cy="8460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Bestands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bewegun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1" idx="1"/>
              <a:endCxn id="87" idx="6"/>
            </p:cNvCxnSpPr>
            <p:nvPr/>
          </p:nvCxnSpPr>
          <p:spPr>
            <a:xfrm flipH="1">
              <a:off x="5144400" y="4376880"/>
              <a:ext cx="48168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89" name=""/>
            <p:cNvCxnSpPr>
              <a:stCxn id="87" idx="0"/>
              <a:endCxn id="79" idx="2"/>
            </p:cNvCxnSpPr>
            <p:nvPr/>
          </p:nvCxnSpPr>
          <p:spPr>
            <a:xfrm flipH="1" flipV="1">
              <a:off x="4559400" y="3441240"/>
              <a:ext cx="7200" cy="51336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90" name=""/>
          <p:cNvGrpSpPr/>
          <p:nvPr/>
        </p:nvGrpSpPr>
        <p:grpSpPr>
          <a:xfrm>
            <a:off x="3530160" y="1244520"/>
            <a:ext cx="1587960" cy="1371240"/>
            <a:chOff x="3530160" y="1244520"/>
            <a:chExt cx="1587960" cy="1371240"/>
          </a:xfrm>
        </p:grpSpPr>
        <p:sp>
          <p:nvSpPr>
            <p:cNvPr id="91" name=""/>
            <p:cNvSpPr/>
            <p:nvPr/>
          </p:nvSpPr>
          <p:spPr>
            <a:xfrm>
              <a:off x="3987720" y="1244520"/>
              <a:ext cx="1130400" cy="8384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76767"/>
                  </a:solidFill>
                  <a:latin typeface="Arial"/>
                </a:rPr>
                <a:t>Kan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" name=""/>
            <p:cNvCxnSpPr>
              <a:stCxn id="91" idx="2"/>
              <a:endCxn id="78" idx="3"/>
            </p:cNvCxnSpPr>
            <p:nvPr/>
          </p:nvCxnSpPr>
          <p:spPr>
            <a:xfrm flipH="1">
              <a:off x="3530160" y="1663200"/>
              <a:ext cx="45792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93" name=""/>
            <p:cNvCxnSpPr>
              <a:stCxn id="79" idx="0"/>
              <a:endCxn id="91" idx="4"/>
            </p:cNvCxnSpPr>
            <p:nvPr/>
          </p:nvCxnSpPr>
          <p:spPr>
            <a:xfrm flipV="1">
              <a:off x="4546440" y="2082240"/>
              <a:ext cx="7200" cy="5338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5231880" y="2624040"/>
            <a:ext cx="1702080" cy="1338480"/>
            <a:chOff x="5231880" y="2624040"/>
            <a:chExt cx="1702080" cy="1338480"/>
          </a:xfrm>
        </p:grpSpPr>
        <p:sp>
          <p:nvSpPr>
            <p:cNvPr id="95" name=""/>
            <p:cNvSpPr/>
            <p:nvPr/>
          </p:nvSpPr>
          <p:spPr>
            <a:xfrm>
              <a:off x="5732280" y="2624040"/>
              <a:ext cx="1201680" cy="83340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76767"/>
                  </a:solidFill>
                  <a:latin typeface="Arial"/>
                </a:rPr>
                <a:t>Pla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76767"/>
                  </a:solidFill>
                  <a:latin typeface="Arial"/>
                </a:rPr>
                <a:t>Produk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"/>
            <p:cNvCxnSpPr>
              <a:stCxn id="79" idx="3"/>
              <a:endCxn id="95" idx="2"/>
            </p:cNvCxnSpPr>
            <p:nvPr/>
          </p:nvCxnSpPr>
          <p:spPr>
            <a:xfrm>
              <a:off x="5231880" y="3040200"/>
              <a:ext cx="500760" cy="1080"/>
            </a:xfrm>
            <a:prstGeom prst="bentConnector2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97" name=""/>
            <p:cNvCxnSpPr>
              <a:stCxn id="95" idx="4"/>
              <a:endCxn id="81" idx="0"/>
            </p:cNvCxnSpPr>
            <p:nvPr/>
          </p:nvCxnSpPr>
          <p:spPr>
            <a:xfrm flipH="1">
              <a:off x="6325560" y="3457440"/>
              <a:ext cx="7560" cy="50544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98" name=""/>
          <p:cNvGrpSpPr/>
          <p:nvPr/>
        </p:nvGrpSpPr>
        <p:grpSpPr>
          <a:xfrm>
            <a:off x="2351160" y="2082600"/>
            <a:ext cx="1575000" cy="1371960"/>
            <a:chOff x="2351160" y="2082600"/>
            <a:chExt cx="1575000" cy="1371960"/>
          </a:xfrm>
        </p:grpSpPr>
        <p:sp>
          <p:nvSpPr>
            <p:cNvPr id="99" name=""/>
            <p:cNvSpPr/>
            <p:nvPr/>
          </p:nvSpPr>
          <p:spPr>
            <a:xfrm>
              <a:off x="2351160" y="2616120"/>
              <a:ext cx="1130400" cy="83844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76767"/>
                  </a:solidFill>
                  <a:latin typeface="Arial"/>
                </a:rPr>
                <a:t>Pla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" name=""/>
            <p:cNvCxnSpPr>
              <a:stCxn id="78" idx="2"/>
              <a:endCxn id="99" idx="0"/>
            </p:cNvCxnSpPr>
            <p:nvPr/>
          </p:nvCxnSpPr>
          <p:spPr>
            <a:xfrm flipH="1">
              <a:off x="2916000" y="2082600"/>
              <a:ext cx="7200" cy="5338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101" name=""/>
            <p:cNvCxnSpPr>
              <a:stCxn id="99" idx="6"/>
              <a:endCxn id="79" idx="1"/>
            </p:cNvCxnSpPr>
            <p:nvPr/>
          </p:nvCxnSpPr>
          <p:spPr>
            <a:xfrm>
              <a:off x="3481560" y="3034800"/>
              <a:ext cx="4449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Versionsmanagement 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81480" y="1066680"/>
            <a:ext cx="335304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e Inaktiven Versionen dienen der Planung in einer frühen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infache Bearbeitung auch von mehreren Personen ist mögli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09480" y="2438280"/>
            <a:ext cx="6146640" cy="2210040"/>
            <a:chOff x="609480" y="2438280"/>
            <a:chExt cx="6146640" cy="2210040"/>
          </a:xfrm>
        </p:grpSpPr>
        <p:sp>
          <p:nvSpPr>
            <p:cNvPr id="105" name=""/>
            <p:cNvSpPr/>
            <p:nvPr/>
          </p:nvSpPr>
          <p:spPr>
            <a:xfrm>
              <a:off x="2145960" y="2438280"/>
              <a:ext cx="1346400" cy="8384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bsatz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ktive Ver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35080" y="3809880"/>
              <a:ext cx="1371600" cy="838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Produktions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ktive Ver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49560" y="2438280"/>
              <a:ext cx="1130040" cy="8384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76767"/>
                  </a:solidFill>
                  <a:latin typeface="Arial"/>
                </a:rPr>
                <a:t>Kan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" name=""/>
            <p:cNvCxnSpPr>
              <a:stCxn id="107" idx="2"/>
              <a:endCxn id="105" idx="3"/>
            </p:cNvCxnSpPr>
            <p:nvPr/>
          </p:nvCxnSpPr>
          <p:spPr>
            <a:xfrm flipH="1">
              <a:off x="3492000" y="2857320"/>
              <a:ext cx="45792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109" name=""/>
            <p:cNvCxnSpPr>
              <a:stCxn id="106" idx="0"/>
              <a:endCxn id="107" idx="4"/>
            </p:cNvCxnSpPr>
            <p:nvPr/>
          </p:nvCxnSpPr>
          <p:spPr>
            <a:xfrm flipH="1" flipV="1">
              <a:off x="4514040" y="3276000"/>
              <a:ext cx="6840" cy="5338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110" name=""/>
            <p:cNvSpPr/>
            <p:nvPr/>
          </p:nvSpPr>
          <p:spPr>
            <a:xfrm>
              <a:off x="2257200" y="3809880"/>
              <a:ext cx="1130400" cy="838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76767"/>
                  </a:solidFill>
                  <a:latin typeface="Arial"/>
                </a:rPr>
                <a:t>Pla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5" idx="2"/>
              <a:endCxn id="110" idx="0"/>
            </p:cNvCxnSpPr>
            <p:nvPr/>
          </p:nvCxnSpPr>
          <p:spPr>
            <a:xfrm>
              <a:off x="2818800" y="3276360"/>
              <a:ext cx="3960" cy="5338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112" name=""/>
            <p:cNvCxnSpPr>
              <a:stCxn id="110" idx="6"/>
              <a:endCxn id="106" idx="1"/>
            </p:cNvCxnSpPr>
            <p:nvPr/>
          </p:nvCxnSpPr>
          <p:spPr>
            <a:xfrm>
              <a:off x="3387240" y="4228920"/>
              <a:ext cx="44820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5625720" y="3809880"/>
              <a:ext cx="1130400" cy="8384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480" y="2438280"/>
              <a:ext cx="1130040" cy="8384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>
              <a:stCxn id="114" idx="6"/>
              <a:endCxn id="105" idx="1"/>
            </p:cNvCxnSpPr>
            <p:nvPr/>
          </p:nvCxnSpPr>
          <p:spPr>
            <a:xfrm>
              <a:off x="1739160" y="2857320"/>
              <a:ext cx="4071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116" name=""/>
            <p:cNvCxnSpPr>
              <a:stCxn id="106" idx="3"/>
              <a:endCxn id="113" idx="2"/>
            </p:cNvCxnSpPr>
            <p:nvPr/>
          </p:nvCxnSpPr>
          <p:spPr>
            <a:xfrm>
              <a:off x="5206680" y="4228920"/>
              <a:ext cx="4197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117" name=""/>
          <p:cNvGrpSpPr/>
          <p:nvPr/>
        </p:nvGrpSpPr>
        <p:grpSpPr>
          <a:xfrm>
            <a:off x="2821320" y="4648320"/>
            <a:ext cx="3947400" cy="1117440"/>
            <a:chOff x="2821320" y="4648320"/>
            <a:chExt cx="3947400" cy="1117440"/>
          </a:xfrm>
        </p:grpSpPr>
        <p:sp>
          <p:nvSpPr>
            <p:cNvPr id="118" name=""/>
            <p:cNvSpPr/>
            <p:nvPr/>
          </p:nvSpPr>
          <p:spPr>
            <a:xfrm>
              <a:off x="3848040" y="4927680"/>
              <a:ext cx="1371600" cy="838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676767"/>
                  </a:solidFill>
                  <a:latin typeface="Arial"/>
                </a:rPr>
                <a:t>Produktions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676767"/>
                  </a:solidFill>
                  <a:latin typeface="Arial"/>
                </a:rPr>
                <a:t>plan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Inaktive Ver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" name=""/>
            <p:cNvCxnSpPr>
              <a:stCxn id="110" idx="4"/>
              <a:endCxn id="118" idx="1"/>
            </p:cNvCxnSpPr>
            <p:nvPr/>
          </p:nvCxnSpPr>
          <p:spPr>
            <a:xfrm flipH="1" rot="16200000">
              <a:off x="2985120" y="4484520"/>
              <a:ext cx="699120" cy="1026360"/>
            </a:xfrm>
            <a:prstGeom prst="bentConnector2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120" name=""/>
            <p:cNvSpPr/>
            <p:nvPr/>
          </p:nvSpPr>
          <p:spPr>
            <a:xfrm>
              <a:off x="5638680" y="4927680"/>
              <a:ext cx="1130040" cy="8380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76767"/>
                  </a:solidFill>
                  <a:latin typeface="Arial"/>
                </a:rPr>
                <a:t>Produk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8" idx="3"/>
              <a:endCxn id="120" idx="2"/>
            </p:cNvCxnSpPr>
            <p:nvPr/>
          </p:nvCxnSpPr>
          <p:spPr>
            <a:xfrm>
              <a:off x="5219640" y="5346360"/>
              <a:ext cx="4197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609480" y="1295280"/>
            <a:ext cx="3917520" cy="1143000"/>
            <a:chOff x="609480" y="1295280"/>
            <a:chExt cx="3917520" cy="1143000"/>
          </a:xfrm>
        </p:grpSpPr>
        <p:sp>
          <p:nvSpPr>
            <p:cNvPr id="123" name=""/>
            <p:cNvSpPr/>
            <p:nvPr/>
          </p:nvSpPr>
          <p:spPr>
            <a:xfrm>
              <a:off x="2145960" y="1295280"/>
              <a:ext cx="1371600" cy="8384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676767"/>
                  </a:solidFill>
                  <a:latin typeface="Arial"/>
                </a:rPr>
                <a:t>Absatz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676767"/>
                  </a:solidFill>
                  <a:latin typeface="Arial"/>
                </a:rPr>
                <a:t>plan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Inaktive Ver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07" idx="0"/>
              <a:endCxn id="123" idx="3"/>
            </p:cNvCxnSpPr>
            <p:nvPr/>
          </p:nvCxnSpPr>
          <p:spPr>
            <a:xfrm flipV="1" rot="16200000">
              <a:off x="3660120" y="1571040"/>
              <a:ext cx="724320" cy="1010520"/>
            </a:xfrm>
            <a:prstGeom prst="bentConnector2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609480" y="1295280"/>
              <a:ext cx="1130040" cy="83844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1260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Kund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aufträ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>
              <a:stCxn id="125" idx="6"/>
              <a:endCxn id="123" idx="1"/>
            </p:cNvCxnSpPr>
            <p:nvPr/>
          </p:nvCxnSpPr>
          <p:spPr>
            <a:xfrm>
              <a:off x="1739160" y="1714320"/>
              <a:ext cx="4071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Der Absatzpla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5181480"/>
            <a:ext cx="79250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 Gegensatz zum SAP-Standard erlaubt das Add-on die Planung aller Produkte im Überbli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2514600"/>
            <a:ext cx="3352680" cy="2362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68280" y="1015920"/>
          <a:ext cx="8421840" cy="36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015920"/>
                    <a:ext cx="842184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579920" y="1728720"/>
          <a:ext cx="282888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9920" y="1728720"/>
                    <a:ext cx="28288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880080" cy="819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Mail-Benachrichtigung aus dem Absatzpla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792504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nn die Aktive Version des Absatzplans geändert wurde, wird beim Speichern ein festgelegter Personenkreis per SAP- und/oder E-Mail automatisch benachrichtig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e Mail enthält eine Liste mit allen Änderun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e Änderungen am Plan-Absatz werden in den Produktionsplan übernommen und dort farblich gekennzeichn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5943600" cy="12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Der Produktionspla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4876920"/>
            <a:ext cx="79250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 Produktionsplan enthält Fertig- und Halbfertigproduk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Produkte sind parallel planb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kundärbedarf wird ermittelt und berücksichtig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09680" y="995400"/>
          <a:ext cx="832644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995400"/>
                    <a:ext cx="832644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1:26:31Z</dcterms:created>
  <dc:creator>Degussa AG</dc:creator>
  <dc:description/>
  <dc:language>en-US</dc:language>
  <cp:lastModifiedBy>Dr. Jochen Winkler</cp:lastModifiedBy>
  <cp:lastPrinted>2000-11-29T07:27:14Z</cp:lastPrinted>
  <dcterms:modified xsi:type="dcterms:W3CDTF">2001-09-27T07:41:42Z</dcterms:modified>
  <cp:revision>56</cp:revision>
  <dc:subject/>
  <dc:title>Musterfolie Degussa-Hüls, farbig, TNR 3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Daten\Power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