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907588" cy="7621588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7256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6424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8088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7256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6424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880" y="423360"/>
            <a:ext cx="914400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0772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60520" indent="-20808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9640" y="1015920"/>
            <a:ext cx="8017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00280" y="10159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01760" y="1100160"/>
            <a:ext cx="909144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86160" y="7101000"/>
            <a:ext cx="90612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FA76B436-2902-4179-88C1-31BC58B3780D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270600" y="7101000"/>
            <a:ext cx="57708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.09.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904040" y="7101000"/>
            <a:ext cx="92124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Thomas Mickle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959720" y="7101000"/>
            <a:ext cx="220752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entrale Rezepturdatenbank und Verwalt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520920" y="6870600"/>
            <a:ext cx="6058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Zentrale Rezepturdatenbank und -verwalt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ipl. Ing. Thomas Mickley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sulting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üsseldorf, den 26.9.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809880" y="2666880"/>
          <a:ext cx="990720" cy="68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666880"/>
                    <a:ext cx="9907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Vorstellung der</a:t>
            </a:r>
            <a:r>
              <a:rPr b="0" lang="de-DE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RezepturVerwaltu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85920" indent="-38592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mwandlung von Entwicklungsrezepturen in Rezepturen für die  Produk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6200">
              <a:spcBef>
                <a:spcPts val="12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omatische Generierung von SAP-Stücklis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620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pplung von externen Systemen und Maschin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27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swert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620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wendungsnachweise in Projekten und in Prob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620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wicklungshistorie (Zwischenschritt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6200">
              <a:spcBef>
                <a:spcPts val="1250"/>
              </a:spcBef>
              <a:spcAft>
                <a:spcPts val="1250"/>
              </a:spcAft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che zu Forschungsthemen z.B. alle Rezepturen zum Thema „Wasserfeste Farben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1375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tegration des Berechtigungskonzept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üme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9144000" cy="3589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85920" indent="-385920">
              <a:spcBef>
                <a:spcPts val="550"/>
              </a:spcBef>
              <a:spcAft>
                <a:spcPts val="2750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tegriertes Syste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spcAft>
                <a:spcPts val="2750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ugriff auf alle im SAP vorhandenen Da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spcAft>
                <a:spcPts val="2750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eine Modifikation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spcAft>
                <a:spcPts val="2750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wenderspezifische Pflegemask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spcAft>
                <a:spcPts val="2750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rweiterba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80880" y="42372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Zentrale Rezepturdatenbank und -verwalt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880" y="1440000"/>
            <a:ext cx="9144000" cy="53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rmAutofit/>
          </a:bodyPr>
          <a:p>
            <a:pPr marL="208080" indent="-208080"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ipl. Ing. Thomas Mickley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sulting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üsseldorf, den 26.9.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3809880" y="2666880"/>
          <a:ext cx="990720" cy="68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666880"/>
                    <a:ext cx="9907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143000" y="21337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700"/>
              </a:spcBef>
              <a:spcAft>
                <a:spcPts val="1749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nforderungen an die Rezepturverwaltu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700"/>
              </a:spcBef>
              <a:spcAft>
                <a:spcPts val="1749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Vorstellung der </a:t>
            </a:r>
            <a:r>
              <a:rPr b="0" lang="de-DE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RezepturVerwaltu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700"/>
              </a:spcBef>
              <a:spcAft>
                <a:spcPts val="1749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Resüme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700"/>
              </a:spcBef>
              <a:spcAft>
                <a:spcPts val="1749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Diskus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Zentrale Rezepturdatenbank und -verwalt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5257800" y="4191120"/>
          <a:ext cx="3048120" cy="203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4191120"/>
                    <a:ext cx="3048120" cy="20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forderungen an die Rezepturverwalt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9144000" cy="38941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85920" indent="-38592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mmeln von Informationen über die Zusammensetzung von  Forschungs- und Entwicklungsansätz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uordnung zu Forschungsthemen bzw. Projek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knüpfung mit Laborproben und deren Ergebniss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knüpfung mit Dokumenten z.B. Prüfberichte und Diagramm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ugriff auf Informationen in anderen Forschungsabteil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Überführung von Entwicklungsrezepturen in die Produk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Vorstellung der</a:t>
            </a:r>
            <a:r>
              <a:rPr b="0" lang="de-DE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RezepturVerwaltu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9144000" cy="35049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85920" indent="-38592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ntwicklung mit Hilfe der ABAP Workbenc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Nutzung von SAP-Strukturen und Ergänzung durch eigene   Struktur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eine Modifikation am SAP-Standar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flegemasken sind auf Anwender abgestimm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liebig definierbare Statusverwalt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Vorstellung der</a:t>
            </a:r>
            <a:r>
              <a:rPr b="0" lang="de-DE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RezepturVerwaltu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8000"/>
          </a:bodyPr>
          <a:p>
            <a:pPr marL="203760" indent="0">
              <a:spcBef>
                <a:spcPts val="550"/>
              </a:spcBef>
              <a:spcAft>
                <a:spcPts val="1375"/>
              </a:spcAft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fteilung in Kopf und Position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2720" indent="-203400">
              <a:spcBef>
                <a:spcPts val="499"/>
              </a:spcBef>
              <a:spcAft>
                <a:spcPts val="1250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p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28908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k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28908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28908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trie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28908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zeptura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28908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atzgröß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28908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rian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2720" indent="-203400">
              <a:spcBef>
                <a:spcPts val="1250"/>
              </a:spcBef>
              <a:spcAft>
                <a:spcPts val="1250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ition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28908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itionsnumm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28908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itionsart z.B. Textposi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28908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insatzstof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28908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28908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geneinhe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Vorstellung der</a:t>
            </a:r>
            <a:r>
              <a:rPr b="0" lang="de-DE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RezepturVerwaltu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usatzinformation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27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kumente an Kopf- und Positionsda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5868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d, Excel, Grafiken usw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5868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rt der entsprechenden Applik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5868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icherung der Dokumente an zentraler Stel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5868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kumente können gegen Änderungen geschützt werd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1375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knüpfung mit Laborprob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5868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ierung von Prüfaufträg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5868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ugriff auf die Prüfergebnisse und Berich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nterlegen von Preis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5868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alkulation von Entwicklungskos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5868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alkulation von Rezepturkosten in der Produk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Vorstellung der</a:t>
            </a:r>
            <a:r>
              <a:rPr b="0" lang="de-DE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RezepturVerwaltu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>
              <a:spcBef>
                <a:spcPts val="550"/>
              </a:spcBef>
              <a:spcAft>
                <a:spcPts val="2750"/>
              </a:spcAft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usatzinformation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knüpfung mit Projekten im 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592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wendungsnachwei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592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ch Varianten sind Entwicklungsstadien auswertb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1375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tusverwalt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592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Entwicklung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592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stansatz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592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igegeben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592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gebrochen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1375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finition von Suchbegriff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592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swahl aus Katalo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592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flege der Katalo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5T12:09:53Z</dcterms:created>
  <dc:creator>Thomas Mickley</dc:creator>
  <dc:description/>
  <dc:language>en-US</dc:language>
  <cp:lastModifiedBy>Dr. Jochen Winkler</cp:lastModifiedBy>
  <cp:lastPrinted>2000-08-22T08:01:00Z</cp:lastPrinted>
  <dcterms:modified xsi:type="dcterms:W3CDTF">2001-09-19T18:56:31Z</dcterms:modified>
  <cp:revision>27</cp:revision>
  <dc:subject/>
  <dc:title>Kein Folientitel</dc:title>
</cp:coreProperties>
</file>