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B34CCCE1-A9F7-4B67-B24C-5462E1BF7C6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.09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2207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trale Rezepturdatenbank und Verwal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6.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Generierung von SAP-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plung von externen Systemen und Masch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3589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iert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alle im SAP vorhandenen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Modifik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wenderspezifisch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6.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257800" y="4191120"/>
          <a:ext cx="30481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191120"/>
                    <a:ext cx="30481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führung von Entwicklungsrezepturen in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 mit Hilfe der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AP-Strukturen und Ergänzung durch eigene   Struk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 am SAP-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flegemasken sind auf Anwender abgestimm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liebig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teilung in Kopf und Posi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atzgröß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art z.B. Text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atzst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spcAft>
                <a:spcPts val="275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9-19T18:56:31Z</dcterms:modified>
  <cp:revision>27</cp:revision>
  <dc:subject/>
  <dc:title>Kein Folientitel</dc:title>
</cp:coreProperties>
</file>