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1B63C0C-B14D-4F4F-9868-A0637C9581E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.09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2392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en 26.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99000"/>
          </a:bodyPr>
          <a:p>
            <a:pPr marL="205920" indent="-205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920" indent="-20592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freigabe erte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in Produktion überfü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, Proben und Dokumen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0000"/>
            <a:ext cx="91440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ilensteine für Terminieru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 auf Projekt bzw. Unterproj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kosten intern/ex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zepturdatenbank und des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von Netzplä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und Überwachung von Term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erial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dar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flu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rtigungshilfsmitt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9144000" cy="404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Abbildung und Steuerung von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ache Bedienbarkeit durch angepaßt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rmin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zusätzlicher Kompon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leasesic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für Forschung und Entwicklu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den 26.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lauf von F&amp;E Projek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&amp;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40000"/>
              </a:lnSpc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rojektsystem im 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Struktur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spcAft>
                <a:spcPts val="250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Mas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grammierung mit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313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stansätze und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cheidung ob es produktiv genutzt werden ka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Entwicklung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teilung in Unter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einer umfangreichen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Word, Excel und Graf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884240" y="1608120"/>
          <a:ext cx="613584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4240" y="1608120"/>
                    <a:ext cx="61358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371600"/>
            <a:ext cx="9144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7:43:11Z</cp:lastPrinted>
  <dcterms:modified xsi:type="dcterms:W3CDTF">2001-09-19T18:55:22Z</dcterms:modified>
  <cp:revision>79</cp:revision>
  <dc:subject/>
  <dc:title>Kein Folientitel</dc:title>
</cp:coreProperties>
</file>