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843912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2440" y="3790080"/>
            <a:ext cx="843912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2440" y="379008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6760" y="379008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271728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05800" y="1294920"/>
            <a:ext cx="271728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59520" y="1294920"/>
            <a:ext cx="271728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52440" y="3790080"/>
            <a:ext cx="271728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05800" y="3790080"/>
            <a:ext cx="271728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59520" y="3790080"/>
            <a:ext cx="271728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52440" y="1294920"/>
            <a:ext cx="8439120" cy="4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843912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411804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1804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52440" y="380880"/>
            <a:ext cx="84391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1804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52440" y="379008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411804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6760" y="379008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52440" y="3790080"/>
            <a:ext cx="843912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52440" y="1294920"/>
            <a:ext cx="843912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190440" indent="-19044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3440" indent="-19044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7648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7648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7648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747720" y="914400"/>
            <a:ext cx="73980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38360" y="91440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71520" y="990720"/>
            <a:ext cx="83916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119800" y="6391440"/>
            <a:ext cx="794160" cy="19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Seite </a:t>
            </a:r>
            <a:fld id="{CA055E6C-1F80-4712-8CE8-7D20AC4B3050}" type="slidenum">
              <a:rPr b="0" lang="de-DE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019320" y="6391440"/>
            <a:ext cx="606600" cy="19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6.09.200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776600" y="6391440"/>
            <a:ext cx="622080" cy="19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Kurt Fant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582080" y="6391440"/>
            <a:ext cx="457200" cy="19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jwLIM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85280" y="6183360"/>
            <a:ext cx="551880" cy="525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900" spc="-1" strike="noStrike">
                <a:solidFill>
                  <a:srgbClr val="ff0000"/>
                </a:solidFill>
                <a:latin typeface="Braggadocio"/>
              </a:rPr>
              <a:t>jw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1100"/>
            </a:br>
            <a:br>
              <a:rPr sz="1100"/>
            </a:br>
            <a:br>
              <a:rPr sz="20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Kurt Fantes</a:t>
            </a:r>
            <a:br>
              <a:rPr sz="2400"/>
            </a:br>
            <a:r>
              <a:rPr b="1" lang="de-DE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sulting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Düsseldorf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, den 26.9.2001</a:t>
            </a: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42372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Integriertes </a:t>
            </a: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LIMS</a:t>
            </a:r>
            <a:br>
              <a:rPr sz="3100"/>
            </a:b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forderungen an ein integriertes SAP R/3 LIM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Weitere Bereiche (II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80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utomatische Prüfkostenabrechnung über alle Prüfung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SO- und GMP-kompatib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sicherhei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chivi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griffsschutz / Berechtig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dit-Trail-Funktion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forderungen an ein integriertes SAP R/3 LIM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Weitere Bereiche (III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D / FI voll integrierte, web-basierte Abwicklung für Dienstleistungslabore (in Entwicklung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utzung der SAP-Stammdaten für Kunden, Lieferanten, ..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utzung der SAP-Funktionen zur Preisfind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utzung der SAP-Funktionen für Anfragen, Angebote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ufträge (bei Bedarf über Meta-Transaktione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utzung der LIMS-Funktionen für Probenmanag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nbindung von Kunden über Intra- und Interne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folgsfaktoren bei der Realisieru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29528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ufbau auf einem erprobten Prototyp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ranchen Know-How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rfahrenes, eingespieltes Beratertea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Maximale Unterstützung durch Kund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wicklungsprinzipien (I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spcBef>
                <a:spcPts val="71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eine Modifikatione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1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olle Releasefähigkei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1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ffektive Modellierung komplexer technologischer Prozes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1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Nutzung modernster Technik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1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Trennung Oberfläche von  Daten und Funk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1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nutzerdefinierte Menüs und Mask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1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usführliche Funktions- und Anwendungsdokument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wicklungsprinzipien (II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spcBef>
                <a:spcPts val="71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tegration der Geschäftsprozesse (z.B. LIMS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öglichst Vermeidung von bidirektionalen Kopplunge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isierte Einbindung von Pre- und Postprozessor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1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Netzwerke von Systemen (ALE/IDOCs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zenten (z.B. Chemiewerk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stleister (z.B. Zentraleinkauf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unden, Lieferan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alität </a:t>
            </a: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S (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439120" cy="477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bwicklung aller anfallenden Prüf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reigabeprob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zessbegleitende Prüf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mweltprob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orschungs- und Entwicklungsprob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nderprob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remdmusterprüf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rücksichtigung von Nachweis- un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stimmungsgrenzen bei der Ergebniserfass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erknüpfen von beliebigen Dokumenten mit Merkmal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und / oder Probe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alität </a:t>
            </a: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S (I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439120" cy="477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186480" indent="-1864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arallele Erfassung von eigenen Meßwerten und Werten aus Lieferantenzertifika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6480" indent="-1864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rfassung von qualitativen Ergebnissen zu quantitativen Merkmale mit automatischer Folgeak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6480" indent="-1864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Übergreifende Q-Sicht auf Bestän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6480" indent="-1864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Organisationsebene Labor und Arbeitsplatz (Laborstand)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6480" indent="-1864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Optionale Probenregistrierung je Labo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6480" indent="-1864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Optionale, variable Validierung von Ergebnissen und Proben je Labor / Mitarbeit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6480" indent="-1864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obenverwalt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benmanag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mfassende Such- und Auswertefunktion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alität </a:t>
            </a: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S (II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439120" cy="477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176760" indent="-17676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Unternehmensweites, zentrales Stamm- und Bewegungsdatenkonzep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6760" indent="-17676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pezifikationsverwalt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31360" indent="-17712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ür Standardspezifikation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1360" indent="-17712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ür Kundenspezifikation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1360" indent="-17712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ür Lieferantenspezifikation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1360" indent="-17712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ltweit zentrale Verwaltung mit standort-spezifischen Anpassungsmöglichkei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1360" indent="-17712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tomatische Spezifikationsversendung bei relevanten Änder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760" indent="-17676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utomatische Prüfkostenabrechn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6760" indent="-17676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obenahmeplan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alität </a:t>
            </a: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S (IV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178920" indent="-17892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Tabellarische Werteerfass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utomatischer Zertifikatsdruc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bgleich aller aktuellen Bestände bei Spezifikationsänder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i ungeplanten Proben sind alle Prüfparameter bis zur Ergebniseingabe modifizierba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üfumfang ungeplanter Proben kann aus allen Prüfplänen und / oder Spezifikationen frei zusammengestellt werde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üfung (FE) gegen alle Spezifikationen eines Stoff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arstellung des Verwendungsentscheids für alle Spezifikationen eines Stoff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8920"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alität </a:t>
            </a: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S (V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171360" indent="-17136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rweiterte Funktionen zur Nachuntersuchung (MHD)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tegrierte Änderungsfunktion für Haltbarkei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ynamisierung des Prüfumfang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utomatischer, periodischer Prüfanstoß für IPC oder Umweltprüf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Lieferbezogene automatische Nachprüfungen je Material oder Kunde/Materia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Lotbildung, mit automatischer Mittelwertberechnung der Prüfwerte und automatischen Materialumbuchunge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Zugriffsschutz / Datensicherhei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udit-Trail-Funk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P R/3 QM Worksho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1066680"/>
            <a:ext cx="80769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Entscheidungsfaktoren für ERP-Syste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Basiskonfigurationen ERP-System - Q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Voraussetzungen für ein integriertes SAP-LI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Anforderungen an ein solches LI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Erfolgsfaktoren für die Einführ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Entwicklungsprinzipien </a:t>
            </a:r>
            <a:r>
              <a:rPr b="0" lang="de-DE" sz="2200" spc="-1" strike="noStrike">
                <a:solidFill>
                  <a:srgbClr val="ff0000"/>
                </a:solidFill>
                <a:latin typeface="Braggadocio"/>
              </a:rPr>
              <a:t>j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Funktionalität</a:t>
            </a: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5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LI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Aufbau</a:t>
            </a: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5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LI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Diskussi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711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alität </a:t>
            </a: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S (V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159840" indent="-15984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erteilte Prüfungen über mehrere Labore incl. Übergabe von Prüfaufträ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59840" indent="-15984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bwicklung fremdvergebener Prüf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59840" indent="-15984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Rückstellmusterverwalt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59840" indent="-15984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erwaltung von Hilfsstoffen und Reagenzi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59840" indent="-15984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lanung, Verwaltung und Durchführung von Frei- und / Schnellbewitterungen sowie Objektmonitoring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59840" indent="-15984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nschluß von Meßgeräten / Barcodeleser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59840" indent="-15984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üfmittelverwalt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79880" indent="-16020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art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9880" indent="-16020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alibri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9880" indent="0"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fbau </a:t>
            </a: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S (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914400"/>
            <a:ext cx="87631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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tammdaten größtenteils in SAP Standardtabell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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pezifikationen sind als SAP Prüfpläne abgebild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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lle relevanten Daten zur Spezifikation ,d.h. auch die Zertifikatsrelevanz, werden zentral im Prüfplan gepfleg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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pezifikationen können an beliebige Objekte geknüpft we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unden, Kundengruppen, Lä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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QM-Stoff“ als zentrales Objekt, dem die „Logistik-Materialien“ zugeordnet si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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QM-Stoff Charge“ als zentrales Objekt für Q-Da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fbau </a:t>
            </a: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S (I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52280" y="914400"/>
            <a:ext cx="883944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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urchgängiges stoffbezogenes Spezifikationskonzep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ordnung Spezifikation ==&gt; Stoff ==&gt; Kund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tomatische Spezifikationsermittlung im Kundenauftrag (Auswahl bei fehlender Eindeutigkei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undenspezifikationsbezogene Verfügbarkeitsprüf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mplette VE-Info über alle verfügbaren Spezifikationen in der Stoff-Bestandssic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zifikation und / oder Kunde als zusätzliches Selektionskriterium in der Stoff-Bestandssich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tomatische Chargenfindung in der Lief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sätzlich automatische Verwendbarkeitsprüfung unter Berücksichtigung von Reklamationen und kundenbezogener Freigaben / Sperru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fbau </a:t>
            </a: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S (II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1143000"/>
            <a:ext cx="80773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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Zertifikatserstell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ur eine Vorlag je Zertifikatstyp notwendig                (Ausnahme =&gt; Zertifikat mit Daten aus der Produktionsket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verse Add-Ons und Zusatzfunktionen zur Zertifikatserstellung verfügb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228600">
              <a:lnSpc>
                <a:spcPct val="120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anuell mit Zusatzd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228600">
              <a:lnSpc>
                <a:spcPct val="120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Zusammenfassung von Prüfwer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228600">
              <a:lnSpc>
                <a:spcPct val="120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Wochen- oder Monatszertifikate mit Kennwertberechnu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entraler Arbeitsvorra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4"/>
          <a:stretch/>
        </p:blipFill>
        <p:spPr>
          <a:xfrm>
            <a:off x="457200" y="1066680"/>
            <a:ext cx="7772400" cy="518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melden Freigabeprob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0722"/>
          <a:stretch/>
        </p:blipFill>
        <p:spPr>
          <a:xfrm>
            <a:off x="304920" y="1143000"/>
            <a:ext cx="8458200" cy="50292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400800" y="2057400"/>
            <a:ext cx="1143000" cy="1522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324480" y="2209680"/>
            <a:ext cx="1143000" cy="1526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324480" y="2362320"/>
            <a:ext cx="1676520" cy="1522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melden Sonderprobe, externer Auftrag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0" t="0" r="0" b="16346"/>
          <a:stretch/>
        </p:blipFill>
        <p:spPr>
          <a:xfrm>
            <a:off x="457200" y="1066680"/>
            <a:ext cx="7924680" cy="497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melden Sonderprobe, interner Auftrag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0" t="0" r="0" b="13201"/>
          <a:stretch/>
        </p:blipFill>
        <p:spPr>
          <a:xfrm>
            <a:off x="457200" y="1066680"/>
            <a:ext cx="7848720" cy="510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melden Sonderprobe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ameterauswahl  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0" t="0" r="0" b="19230"/>
          <a:stretch/>
        </p:blipFill>
        <p:spPr>
          <a:xfrm>
            <a:off x="380880" y="1066680"/>
            <a:ext cx="8382240" cy="50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Wertespezifikation Sonderprobe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457200" y="1066680"/>
            <a:ext cx="7696080" cy="510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scheidungsfaktoren für ERP-Syste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33160" y="114264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tandardsoftwa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bdeckung aller Geschäftsprozes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urchgängige Transparenz der Prozes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Optimierung von Prozess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Nutzung von Synergi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ffizienzsteiger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ereinfachung von technologischen Upgrad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Werteeingabe Sonderprobe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rcRect l="0" t="0" r="0" b="18595"/>
          <a:stretch/>
        </p:blipFill>
        <p:spPr>
          <a:xfrm>
            <a:off x="380880" y="1066680"/>
            <a:ext cx="8458200" cy="516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wendungsentscheid, Bestandsebene </a:t>
            </a: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0" b="5901"/>
          <a:stretch/>
        </p:blipFill>
        <p:spPr>
          <a:xfrm>
            <a:off x="609480" y="1066680"/>
            <a:ext cx="7315200" cy="516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erwendungsentscheid, Spezifikationsebene </a:t>
            </a: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0" t="0" r="0" b="6384"/>
          <a:stretch/>
        </p:blipFill>
        <p:spPr>
          <a:xfrm>
            <a:off x="533520" y="1143000"/>
            <a:ext cx="7543800" cy="50292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400800" y="1905120"/>
            <a:ext cx="1143000" cy="1522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400800" y="2057400"/>
            <a:ext cx="1143000" cy="1522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400800" y="2209680"/>
            <a:ext cx="1371600" cy="1526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wendungsentscheid, Kundenebene </a:t>
            </a: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7200" y="1066680"/>
            <a:ext cx="7772400" cy="518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2289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uelle Zertifikat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31732" b="0"/>
          <a:stretch/>
        </p:blipFill>
        <p:spPr>
          <a:xfrm>
            <a:off x="380880" y="685800"/>
            <a:ext cx="838224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808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usgewählte Funktionen </a:t>
            </a:r>
            <a:r>
              <a:rPr b="1" lang="de-DE" sz="2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0066ff"/>
                </a:solidFill>
                <a:latin typeface="Arial"/>
              </a:rPr>
              <a:t>LIMS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elektionsmask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38810"/>
          <a:stretch/>
        </p:blipFill>
        <p:spPr>
          <a:xfrm>
            <a:off x="554040" y="1295280"/>
            <a:ext cx="8034480" cy="477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808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usgewählte Funktionen </a:t>
            </a:r>
            <a:r>
              <a:rPr b="1" lang="de-DE" sz="2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0066ff"/>
                </a:solidFill>
                <a:latin typeface="Arial"/>
              </a:rPr>
              <a:t>LIMS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Listauswert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2458"/>
          <a:stretch/>
        </p:blipFill>
        <p:spPr>
          <a:xfrm>
            <a:off x="457200" y="1143000"/>
            <a:ext cx="7543800" cy="49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808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sgewählte Funktionen </a:t>
            </a:r>
            <a:r>
              <a:rPr b="1" lang="en-US" sz="2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200" spc="-1" strike="noStrike">
                <a:solidFill>
                  <a:srgbClr val="0066ff"/>
                </a:solidFill>
                <a:latin typeface="Arial"/>
              </a:rPr>
              <a:t>LIMS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P-Schnellgrafi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7543800" cy="517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rteile des integrierte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AP-LIMS (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ichere Produktionsstarts durch Aufbau auf Prototyp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urze Einführungszei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dividuelle Funktionalitä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ermeidung von Schnittstell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eine Datenredundanz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inheitliche Datenba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rteile des integrierte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AP-LIMS (I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eine zusätzliche Softwa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eine zusätzliche Hardwa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dividuelle Masken, aber Standard SAP Oberfläch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dividuelle Bedien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rweiterbarkei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scheidungsfaktoren für ERP-Syste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6840" y="106668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Unternehmensweite einheitliche Datenba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15264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nehmensweite Integ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15264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konsistenz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15264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eine ungewollten Redundanz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erfügbarkeit und Qualität von Informationen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1526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über den gesamten Produktlebenszyklu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1526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ntlang des gesamten primären logistischen Proze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ostenreduzier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1526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1526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1526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chnittstell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1526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nstige lfd. Kos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gebn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761976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in an die individuellen Prozesse und Bedürfnisse des Kunden angepaßtes flexibles System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ittel- und langfristig erheblichen Kostenvorteilen gegenüber einer externen Lös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1100"/>
            </a:br>
            <a:br>
              <a:rPr sz="1100"/>
            </a:br>
            <a:br>
              <a:rPr sz="20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Kurt Fantes</a:t>
            </a:r>
            <a:br>
              <a:rPr sz="2400"/>
            </a:br>
            <a:r>
              <a:rPr b="1" lang="de-DE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sulting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Düsseldorf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, den 26.9.2001</a:t>
            </a: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42372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Integriertes </a:t>
            </a: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LIMS</a:t>
            </a:r>
            <a:br>
              <a:rPr sz="3100"/>
            </a:b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siskonfigurationen ERP-System - Q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0663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 das ERP-System integrierte Standardlös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6640" indent="-36180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Optimale Lösung wenn die angebotenen Funktionen, das Systemhandling und die Flexibilität den Anforderungen genüg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xternes LIMS mit Schnittstellen zum ERP-Syste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6640" indent="-36180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ur dann zu empfehlen wenn keine integrierte Lösung verfügbar is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tegrierte Standardlösung + externes LI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6640" indent="-36180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ur dann zu empfehlen wenn keine integrierte Lösung verfügbar is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 das ERP-System integrierte kundenoptimierte Lös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6640" indent="-36180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Optimale Lösung wenn das Standard ERP-System den Anforderungen nicht genüg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raussetzungen für ein integriertes SAP R/3 LIM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Unterstützung aller unternehmensweit anfallenden Anforderunge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urzfristig verfügba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zukunftssicheres Konzep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zahlbar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dienbar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rweiterba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forderungen an ein integriertes SAP R/3 LIM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reich Logisti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bdeckung alle benötigten Prüfar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Überwachung und Anpassung Haltbarkei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stützung der Lieferantenbeurteilung aus Q-Sich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griertes Erstellen und Bearbeiten v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80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Lieferantenreklamation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80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ternen Problem- / Korrekturmeldung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80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Kundenreklamation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zifikationserstellung und -bearbeit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zifikationsverwalt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forderungen an ein integriertes SAP R/3 LIM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reich Forschung &amp; Entwickl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5552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fache und flexible Probenerstell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5552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hrdimensionale Ergebniserfassung (Werte, Berichte,                Spektren,..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5552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fache Verwaltung von allen nicht in SAP zu führenden Materialien wie Hilfsstoffen und Reagenzi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5552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bilitätsprüf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5552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urchführung und Überwachung von Projekten wie z.B.  Frei- und / Schnellbewitterungen oder Objektmonitor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forderungen an ein integriertes SAP R/3 LIM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Weitere Bereiche (I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mweltschutz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80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infache Stammdatenhalt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80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iodisches, automatisches Anlegen von Prob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80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rstellen von Bericht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standhaltung (PM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80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üfmittelverwaltung innerhalb Q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4572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alibrierplan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4572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alibrieraufträ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4572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alibrierprüf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1T16:24:12Z</dcterms:created>
  <dc:creator>HISS-Nr.:62450</dc:creator>
  <dc:description/>
  <dc:language>en-US</dc:language>
  <cp:lastModifiedBy>Dr. Jochen Winkler</cp:lastModifiedBy>
  <cp:lastPrinted>1998-06-23T09:46:52Z</cp:lastPrinted>
  <dcterms:modified xsi:type="dcterms:W3CDTF">2001-09-27T07:18:44Z</dcterms:modified>
  <cp:revision>247</cp:revision>
  <dc:subject/>
  <dc:title>Intergriertes SAP R/3 LIMS</dc:title>
</cp:coreProperties>
</file>