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190440" indent="-1904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7B887A9-6C11-4436-8D1F-6E80958DBBB8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6.09.200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8528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6.9.2001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voll integrierte, web-bas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Stammdaten für Kunden, Lieferanten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zur Preisf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LIMS-Funktionen für Prob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ücksichtigung von Nachweis- 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stimmungsgrenzen bei der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ß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 von qualitativen Ergebnissen zu quantitativen Merkmale mit automatischer Folgea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greifend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rganisationsebene Labor und Arbeitsplatz (Laborstand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 Probenregistrierung je 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, variable Validierung von Ergebnissen und Proben je Labor / Mitarbei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s, zentral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360" indent="-1771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ahme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78920" indent="-17892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Verwendungs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für IPC oder Umwelt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eferbezogene automatische Nachprüfungen je Material oder Kunde/Mater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,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159840" indent="-1598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 incl. Übergabe von Prüfaufträ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/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60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-160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8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9144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größtenteils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 ,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Kundengruppen,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“ als zentrales Objekt, dem die „Logistik-Materialien“ zugeordnet s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 Charge“ als zentrales Objekt für Q-D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9144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s stoffbezogenes Spezifikationskonz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pezifikation ==&gt; Stoff ==&gt;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Kunden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pezifikationsbezogene Verfügbarkeits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der Stoff-Bestands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r Stoff-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 automatische Verwendbarkeitsprüfung unter Berücksichtigung von Reklamationen und kundenbezogener Freigaben / Sper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1430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457200" y="10666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0722"/>
          <a:stretch/>
        </p:blipFill>
        <p:spPr>
          <a:xfrm>
            <a:off x="304920" y="114300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2209680"/>
            <a:ext cx="11430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362320"/>
            <a:ext cx="1676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, externer Auftra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16346"/>
          <a:stretch/>
        </p:blipFill>
        <p:spPr>
          <a:xfrm>
            <a:off x="457200" y="1066680"/>
            <a:ext cx="792468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, interner Auftra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13201"/>
          <a:stretch/>
        </p:blipFill>
        <p:spPr>
          <a:xfrm>
            <a:off x="457200" y="1066680"/>
            <a:ext cx="784872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Sonderprob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auswahl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19230"/>
          <a:stretch/>
        </p:blipFill>
        <p:spPr>
          <a:xfrm>
            <a:off x="380880" y="1066680"/>
            <a:ext cx="8382240" cy="50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spezifikation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457200" y="106668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rteeingabe Sonderprob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18595"/>
          <a:stretch/>
        </p:blipFill>
        <p:spPr>
          <a:xfrm>
            <a:off x="380880" y="1066680"/>
            <a:ext cx="845820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wendungsentscheid, Bestandsebene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609480" y="1066680"/>
            <a:ext cx="73152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endungsentscheid, Spezifikationsebene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6384"/>
          <a:stretch/>
        </p:blipFill>
        <p:spPr>
          <a:xfrm>
            <a:off x="533520" y="11430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00800" y="190512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209680"/>
            <a:ext cx="13716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wendungsentscheid, Kundenebene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7200" y="10666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80880" y="68580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lektionsmask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38810"/>
          <a:stretch/>
        </p:blipFill>
        <p:spPr>
          <a:xfrm>
            <a:off x="554040" y="1295280"/>
            <a:ext cx="803448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2458"/>
          <a:stretch/>
        </p:blipFill>
        <p:spPr>
          <a:xfrm>
            <a:off x="457200" y="11430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5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6.9.2001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ie angebotenen Funktionen, das Systemhandling und die Flexibilität den Anforderungen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 wenn das Standard ERP-System den Anforderungen nicht genüg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ung der 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s 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n Problem- / Korrektur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dimensionale Ergebniserfassung (Werte, Berichte,                Spektr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555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und Überwachung von Projekten wie z.B.  Frei- und / Schnellbewitterungen oder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ache Stammdaten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62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4572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1998-06-23T09:46:52Z</cp:lastPrinted>
  <dcterms:modified xsi:type="dcterms:W3CDTF">2001-09-27T07:18:44Z</dcterms:modified>
  <cp:revision>247</cp:revision>
  <dc:subject/>
  <dc:title>Intergriertes SAP R/3 LIMS</dc:title>
</cp:coreProperties>
</file>