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162-D9F1-42F4-8BB9-8F2EC60E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3CE-EDBC-4485-9FA8-6B9E0883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EB4-FBB4-474F-BE9F-99ABF1BA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DAA-6699-4007-A797-F569603F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E2B-33D5-474F-8CD1-BC34280D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817-3BDF-4343-BF33-42179FB8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774-CA62-4573-A38D-DB1B562F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D255-7DFD-4BBC-899E-D653163D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5A0-90EB-4FB4-879E-E5123E44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4A5-77DA-48A8-8440-FF1A33D9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9FE-A912-4974-9F2F-27DE2CA6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BC85-6403-434C-B5C1-176A5AE3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F280909-BEB1-4812-B8D2-F7872775F15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95280"/>
            <a:ext cx="80010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 (1.Tei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FCA-5C73-433F-92A0-DEAEFF4F381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0AC-1789-4251-96A3-B70B1BBE793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73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74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80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86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92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98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04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10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16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22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34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40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46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52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58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64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70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76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83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89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200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06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11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16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22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79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86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92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23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as SAP R/3-System, </a:t>
            </a: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85E-FC86-4BAC-803C-3031F1FA2E5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762120"/>
            <a:ext cx="7848360" cy="75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Arial"/>
              </a:rPr>
              <a:t>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L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roduktionsPla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onatsAb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IstHerstellkos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Forschung&amp;Entwicklung (in Plan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RezepturVerwaltung (in Plan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KundenDaten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stellanford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stel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StreckenBestel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KundenAuftrag (in Plan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237-94CE-4982-8B0A-CB0C6750A4B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742-D1C4-46EC-ADF6-6E014F47B0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838080"/>
            <a:ext cx="80010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 Marriott Hote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. September 20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37A-8FBF-45DB-987B-0328B864E6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axisbericht zur Implementierung von QM im GB Coatings &amp; Colorants sowie im GB High Performance Polymers der Degussa A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MS – das integrierte LIM-System zum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satz des SAP R/3-Moduls Projektsystem (PS) liefert die gewünschte Transparenz in der Forschung und Entwickl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48C-967E-4213-993D-2AC91F6AE9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onsplanung - mit Absatzplanung, Sekundär-bedarfsauflösung und Sonderfunktionen, wie z.B.: Ermittlung des Rohstoffbedarf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on - Erhebliche Zeiteinsparung durch Add-On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onatsabschluß - Fortsetzung der SAP-Standardgrob-planung in eine Ist-Analyse (Monatsrappor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st-Hestellkostenrechnung - Nachkalkulation der Halb- und Fertigproduk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morg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902-61D1-4679-BB96-FD2132A64D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 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 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83C-065B-4851-8F86-BEB4116AD2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295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015-79C8-4264-8427-AE90B38636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D11-A974-4D56-A5A5-63E2D0724A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pharma GmbH &amp; Co., Gerli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709-EDE6-4317-BA14-65627116E1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in gemeinsames Chemie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iertes 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planung, -durchführung und -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herstell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spcBef>
                <a:spcPts val="40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 und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M für Lackrohsto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MS für Technische Kunststof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95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/2001 - Chem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07B-30AE-4E6F-A9DD-1C44F9283A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zneimittelbestellungen über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, Radebeul und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M / LIMS, Materialwirtscha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gmentierung (System-Splitting bei Unternehmens- restrukturierungen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0666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kte 2000/2001 - Pha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1FB-F831-45F7-A9C7-A342540BB5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1-09-10T14:14:09Z</dcterms:modified>
  <cp:revision>97</cp:revision>
  <dc:subject/>
  <dc:title>Kein Folientitel</dc:title>
</cp:coreProperties>
</file>