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CFE-18B8-4907-960A-2D7A6EE7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55B-3838-4DE1-A1AF-D9221204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3A4-C550-4B0D-B7DF-4D39A2AE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39D-A41E-42F6-A859-FF145C46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4E3-30A8-4A75-96C8-E31C59BC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84B-25BB-4FA1-A7D2-22773107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3C3-2A7A-493D-A415-CC46A16E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E1D-4AEB-4658-8ED3-4E270D15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360-4F93-44E6-9820-7896D953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5CE-C5CA-4D42-A97C-72E2792C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EEB-966D-4C0A-BEB3-6C33632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51A-BB52-446F-A42E-B6D41A1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F333D28-DF45-4D22-94EC-15469EE743B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 (1.Te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9FF-5462-4EE0-A4E4-BFAEB2AA69A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F17-1E88-4E4A-8968-295AE1F67E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7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B69-61E8-49D8-AE91-28D6D40BD79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762120"/>
            <a:ext cx="7848360" cy="75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Herstellkos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ecken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484-9FC4-49FF-A9F7-20032EA604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367-EC3C-492E-97B1-5F6AC0914C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838080"/>
            <a:ext cx="8001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. September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3E0-9FB2-41F6-9E4D-FE7E353C86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axisbericht zur Implementierung von QM im GB Coatings &amp; Colorants sowie im GB High Performance Polymers der Degussa 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 – das integrierte LIM-System zu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satz des SAP R/3-Moduls Projektsystem (PS) liefert die gewünschte Transparenz in der Forschung und Entwickl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12B-F9E2-4D35-834F-594CD8B5FC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planung - mit Absatzplanung, Sekundär-bedarfsauflösung und Sonderfunktionen, wie z.B.: Ermittlung des Rohstoffbedarf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 - Erhebliche Zeiteinsparung durch Add-O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ß - Fortsetzung der SAP-Standardgrob-planung in eine Ist-Analyse (Monatsrappor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Hestellkostenrechnung - Nachkalkulation der Halb- und Fertigprodu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mor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AE3-8E25-4668-82D7-34771C1616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67F-6248-40F4-893B-63E4528EED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A5A-1E8A-4249-AF20-C3FB96124C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D50-DA3F-41B2-BEEC-12DAAA19DC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220-FFFB-417B-8799-8A79760F7A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40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 und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3F1-F968-4F61-A387-B80D0D489D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Radebeul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ierung (System-Splitting bei Unternehmens- restrukturierunge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030-2389-43FC-977C-0A753279E9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9-10T14:14:09Z</dcterms:modified>
  <cp:revision>97</cp:revision>
  <dc:subject/>
  <dc:title>Kein Folientitel</dc:title>
</cp:coreProperties>
</file>