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Gegenwärtige Projekte und Weiterentwicklunge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egenwärtige Projekte (1)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gussa-Hüls AG / SG Sivento, Rheinfel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tergation in gemeinsames Chemie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tegriertes LI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hop-floor, Prodplanung und -abrech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undendatenb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innolit Kunststoff GmbH, Burgkir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Integriertes LI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gussa-Hüls AG / SG Creanova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QM Lackrohstoffe, Technische Kunststof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fracor GmbH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entrale Instandhaltungsabwicklung (Mitarbei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Gegenwärtige Projekte (2)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ventis Pharma Deutschland GmbH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fträge über Intern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sta Medica GmbH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QM, LIMS-Kopplung, Materialwirtscha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atharinenhospital, Stuttg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otheke, Stationsanbindung, Eigenherstellung, Zytostatika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linikum Stuttga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pplung Stationen an Klinik-Apotheke bei 3 verschiedenen R/3 Systemen und 4 Buchungskreis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linikum Wupper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othekenlogist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Entwicklungen (1)</a:t>
            </a:r>
            <a:br>
              <a:rPr sz="3200"/>
            </a:b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- Chemie / Pharma / Medizin -</a:t>
            </a:r>
            <a:br>
              <a:rPr sz="3200"/>
            </a:b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LIMS V.3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off / Charge, 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unden- und andere Spezifika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teilte Labore incl. Prüfkostenabrech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tomatischer, periodischer Prüfansto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 z.B. für Umwelt- und Prozeßprüfungen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orschung, Umwelt, Abf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istorienda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üfkörperabwick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zusätzlich für Pharm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bilitätsprüf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ikrobiologische Untersuch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ertifikatser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Entwicklungen (2)</a:t>
            </a:r>
            <a:br>
              <a:rPr sz="3200"/>
            </a:b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- Chemie / Pharma -</a:t>
            </a:r>
            <a:br>
              <a:rPr sz="3200"/>
            </a:b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Produktion V.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natspla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agesproduktion (Lose Ware, Verpackte Wa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lagenauslas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hargenbestandslist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natsabschluß, Monatsra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pplung von Leitständen über Produktions-Add-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Kundendat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eue Funktion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ntwicklungen (3)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Medizin -</a:t>
            </a:r>
            <a:br>
              <a:rPr sz="3200"/>
            </a:b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Apothe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tationsanbindung (Barco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pothekenlogist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beziehung fremde Hä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Eigenhe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ezepturen, Defektur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Zytostatikazubereit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ensch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enindividuelle Zuberei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nbeziehung fremde Hä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Entwicklungen (4)</a:t>
            </a:r>
            <a:br>
              <a:rPr sz="32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- Medizin -</a:t>
            </a:r>
            <a:br>
              <a:rPr sz="3200"/>
            </a:b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Klinik-Sterilisation (i.V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Blutbank (i.V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Klinisch-Chemisches La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Entwicklungen (5)</a:t>
            </a:r>
            <a:br>
              <a:rPr sz="3200"/>
            </a:b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- Chemie / Pharma / Medizin -</a:t>
            </a:r>
            <a:br>
              <a:rPr sz="3200"/>
            </a:b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stelldatenaustausch für Medikamente von Klinik-Apotheken an Pharmalieferanten über SAP Business Connector u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bindung von Klinik-Stationen an externe Klinik-Apotheken, Großhändler und Pharmalieferanten über ALE bzw. BC / XML oder nur XML für Fertigarzneimittel und patientenindividuelle Zuberei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opplung lokaler R/3 Systeme an Einkaufsdienstleister bei unterschiedlichen Material-, Kreditoren- und Debitorennummer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00" y="652140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Dr. Jochen Winkl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Gegenwärtige Projekte und Weiterentwicklunge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Dr. Jochen Wink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1999-09-17T17:27:28Z</cp:lastPrinted>
  <dcterms:modified xsi:type="dcterms:W3CDTF">2000-03-26T11:52:57Z</dcterms:modified>
  <cp:revision>233</cp:revision>
  <dc:subject/>
  <dc:title>Round table Wuppertal</dc:title>
</cp:coreProperties>
</file>