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9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0.png" ContentType="image/png"/>
  <Override PartName="/ppt/media/image3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media/image27.png" ContentType="image/png"/>
  <Override PartName="/ppt/media/image31.wmf" ContentType="image/x-wmf"/>
  <Override PartName="/ppt/media/image28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SAP R/3 Add-ons für</a:t>
            </a:r>
            <a:br>
              <a:rPr sz="3200"/>
            </a:b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die Apotheke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00ffff"/>
                </a:solidFill>
                <a:latin typeface="Arial Rounded MT Bold"/>
              </a:rPr>
              <a:t>http://www.jw-consulting.com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SAP, 99-09-23, 10:00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Eigenfertigung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7616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efek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Rezept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Zytosta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tikettendruck / Barcodeverarb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Herstellanweis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Add-ons Eigenfertigung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95480" y="297144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1. Defektu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 Rounded MT Bold"/>
              </a:rPr>
              <a:t>2. Zytosta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237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SAP R/3 Einführung </a:t>
            </a:r>
            <a:br>
              <a:rPr sz="3200"/>
            </a:br>
            <a:r>
              <a:rPr b="1" lang="en-US" sz="2000" spc="-1" strike="noStrike">
                <a:solidFill>
                  <a:srgbClr val="00ffff"/>
                </a:solidFill>
                <a:latin typeface="Arial Rounded MT Bold"/>
              </a:rPr>
              <a:t>in der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Apotheke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7920" y="342864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1. Projektumfa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2. SAP R/3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3. Add-ons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4. Add-ons Eigenfertig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514600" y="0"/>
          <a:ext cx="46292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0"/>
                    <a:ext cx="462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152388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Add-ons Eigenfertig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971800" y="29714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 Rounded MT Bold"/>
              </a:rPr>
              <a:t>1. Defektu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2. Zytosta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458200" cy="1218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Projektumfang 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Abbildung der apothekenspezifis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Bedürfnisse in SAP R/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Integration der Apothekenfunktionalitä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rgänzung für Defekturen / Rezeptu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rgänzung für Zytostatikaabwick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nschluß Kommissionier-Robo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porting</a:t>
            </a: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Anwenderorientierte Menü-   u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Oberflächengestal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c0128"/>
                </a:solidFill>
                <a:latin typeface="Arial Rounded MT Bold"/>
              </a:rPr>
              <a:t>Releasefähigkeit / keine Modifikationen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0" y="6521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Nutzen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Höhere Qua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ISO 9000, GLP, TF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ofortige Verfügbarkeitsprüfungen (Integ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Patientenbindung (Transplantate, Blutproduk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Verfallsdatenkontrolle, Rückrufaktio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Größere Sicherh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urchgängige Chargenverfol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ückenlose Kontrolle durch Arzt (Behandlungssche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Vereinfachte Arbeitsabläu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aten werden nur einmal erfaß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nforderungen mittels Scanntechn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-3236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Verbesserte Transpar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-2426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sten, Umlaufvermö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36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82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Projekt SAP R/3 für</a:t>
            </a:r>
            <a:br>
              <a:rPr sz="3200"/>
            </a:b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die Apotheke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 consulting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SAP, 99-09-23, 10:00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SAP R/3 Modul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739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MM : Materialwirtschaft (-IM, -P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QM : Qualitätssiche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PP  : Rezeptur, Defektur, Zytostat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SD  : Liefer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itwirku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CO : Contro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FI    : Finanz- und Rechnungswe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-27396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Modul BC  : Basisbetreu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61048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Projektumfang Apotheke 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nwenderorientierte Menü- und Oberflächengestal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rtikelstamm (PZN, AML, Merkma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rzneimittelli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inhaltung Transfusionsgeset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Chargenverfolgung / -dok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tationsanforde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onderanforderung von S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rzt- / Oberarztfreiga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lektronische Unterschr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nforderungsabwickl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39240" indent="-27972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Kommissionierung (ein- bzw. zweistufi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61048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Projektumfang Apotheke 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387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chalterbetri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Weitergabe an andere Statio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Weitergabe an Patien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Verfallsdatenkontrol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Praxisgerechte Bestandsführung auf Statio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urchläu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touren von Station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darfbestimm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inka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estandsführung Apothe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253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Disposition Apothe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87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87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61048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Projektumfang Apotheke (3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80" y="6480000"/>
            <a:ext cx="1044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Apothe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30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chnungsprüf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ogistische Rechnungsprüf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Verfallsdatenkontrolle / Rückru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Permanente Invent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apothe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Lieferstation am Wochene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touren von fremden Häus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Sammelfak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Barcodedruck /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Euro, Jahr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nschluß Lab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Altdatenübernah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000" indent="-219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Re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30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30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1999-09-13T18:35:25Z</cp:lastPrinted>
  <dcterms:modified xsi:type="dcterms:W3CDTF">2000-02-24T18:34:16Z</dcterms:modified>
  <cp:revision>112</cp:revision>
  <dc:subject/>
  <dc:title>Round table Wuppertal</dc:title>
</cp:coreProperties>
</file>