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1908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96B8D6BA-A1C8-4BAC-ABBE-1448539A08F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42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.10.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86600"/>
            <a:ext cx="3321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       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18432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orkshop </a:t>
            </a:r>
            <a:r>
              <a:rPr b="0" lang="de-DE" sz="2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8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3200" spc="-1" strike="noStrike">
                <a:solidFill>
                  <a:srgbClr val="0066ff"/>
                </a:solidFill>
                <a:latin typeface="Arial"/>
              </a:rPr>
              <a:t>StationsAnbind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übeck, den 25.10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auf Basis R/3 Materialstamm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9144000" cy="564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auf Basis R/3 Materialstamm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9144000" cy="564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auf Basis R/3 Materialstamm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9144000" cy="564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auf Basis R/3 Materialstamm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9144000" cy="564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auf Basis R/3 Materialstamm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9144000" cy="564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auf Basis R/3 Materialstamm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9144000" cy="564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Einfüh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Stationsanforderung von Arzneimitteln über Intran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tionsanforderung von Nichtarzneimittel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Verbesserter Einkauf / Dispo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e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zinischer Sachbeda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ürobeda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tschaftsbeda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beda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ustechn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nstleistungs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9144000" cy="564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arcodeleser (St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nterstützt durch Hitlis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ationskatalog (Hauskatalog und stationsspezifischer Katalo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xtanforder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dddddd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dddddd"/>
                </a:solidFill>
                <a:latin typeface="Arial"/>
              </a:rPr>
              <a:t>Externer Katalog (BMEca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7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rmalanforderu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ür Artikel mit R/3 Materialstämm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onderanforderung</a:t>
            </a:r>
            <a:r>
              <a:rPr b="1" lang="de-DE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ür teure oder patientenindividuelle Artikel bzw. ohne R/3 Matstam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ichtung (Apotheke / Wirtschaftsabteilu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mmissionieru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lief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üh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tionsanforderung von Arzneimitteln über Intran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tionsanforderung von Nichtarzneimittel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esserter Einkauf / Dispo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rektartik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ückstandsbe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gerartik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läuf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el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(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zinischer Sachbeda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Externer Katalo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ürobeda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Lieferantenkatalo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tschaftsbeda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in externer Katalo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beda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hrere Lagerorte pro Kostenstel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ueraufträ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zeigen weiterer Produktinformation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(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ustechn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r Hitlisten und Stationskatalo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nige Artikel zur Auswahl (Batterien, Lampen, Gase,..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chaffungsmittelliste (BM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hranksystem auf Stationen für Lagerartik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anforderung / Sollmen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usätzlich erweiterte 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nstleistungsanforder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ustechn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örungsmeldung (Auftragsstatu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H-Auftra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techn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nstleistungen wie Haustechni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skunftssystem für Equipmentda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0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Einfüh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Stationsanforderung von Arzneimitteln über Intran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Stationsanforderung von Nichtarzneimittel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esserter Einkauf / Dispo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besserter Einkauf / Disposition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elloptimierung u.a. dur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größenoptimierung im Planungshorizo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ellwertoptimierung pro Lieferant durch Substit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fache flexible Interak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arenz im R/3 und im Browser dur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usverwaltung (in Bearbeitung, bestellt, Wareneingang erfolgt, storniert, abgelehnt,..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ierung der Lagerbestän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tzung von vorteilhaften Einkaufskondi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faches, rationelles Arbeiten des Einkäuf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besserter Einkauf / Disposition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zeugen der Bestellvorschlagslis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agerartikel mit / ohne Reichweiten- und Mindestbestandsdispos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urchläufer  mit Materialstam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urchläufer ohne Materialstam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 Katalog (z.B.ABDA) enthal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r textuell beschrieben (Bestelltextkatalo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nuelle Dispos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werten und Bearbeiten der Bestellvorschlagslis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6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andlung von Bestellvorschlägen in Bestel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ückstandsbe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orkshop </a:t>
            </a:r>
            <a:r>
              <a:rPr b="0" lang="de-DE" sz="2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8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3200" spc="-1" strike="noStrike">
                <a:solidFill>
                  <a:srgbClr val="0066ff"/>
                </a:solidFill>
                <a:latin typeface="Arial"/>
              </a:rPr>
              <a:t>StationsAnbind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übeck, den 25.10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üh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Stationsanforderung von Arzneimitteln über Intran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Stationsanforderung von Nichtarzneimittel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Verbesserter Einkauf / Dispo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führung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tharinenhospital Stuttg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ädtisches Krankenhaus Wuppert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iklinikum Mai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iklinikum Bon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iklinikum Lübe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führung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itersparnis auf S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tzung modernster Techn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ringer Schulungs- und Wartungsaufw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le betriebswirtschaftliche und logistische Einbindung in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satz modernster Technologi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ner auf S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browser auf S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ine-Kopplung zum R/3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Einfüh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tionsanforderung von Arzneimitteln über Intran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Stationsanforderung von Nichtarzneimittel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Verbesserter Einkauf / Dispo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onsanforderung von Arzneimitteln über Intra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wser auf S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server gekoppelt mit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bindung ABDA Artikelst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sche AML Arzneimittelsub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tliste, letzte Anforderung und Stationskatalo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bindung Kommissionierauto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sonalabga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auf Basis R/3 Materialstamm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9144000" cy="564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0-01-20T10:19:05Z</cp:lastPrinted>
  <dcterms:modified xsi:type="dcterms:W3CDTF">2001-10-24T10:54:32Z</dcterms:modified>
  <cp:revision>627</cp:revision>
  <dc:subject/>
  <dc:title>Kein Folientitel</dc:title>
</cp:coreProperties>
</file>