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ADC3D452-4DE6-4A09-AE7A-62F64895ECF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.10.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orkshop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StationsAnbind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übeck, den 25.10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nstleistung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rcodeleser (S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terstützt durch Hitli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ationskatalog (Hauskatalog und stationsspezifischer Katalo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anford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dddddd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dddddd"/>
                </a:solidFill>
                <a:latin typeface="Arial"/>
              </a:rPr>
              <a:t>Externer Katalog (BMEca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rmalanforder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Artikel mit R/3 Materialstämm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nderanforderung</a:t>
            </a: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teure oder patientenindividuelle Artikel bzw. ohne R/3 Matstam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ichtung (Apotheke / Wirtschaftsabteilu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missionieru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rekt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läu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l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Externer 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Lieferantenkatalo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in externer 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hrere Lagerorte pro Kostenstel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ueraufträ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zeigen weiterer Produktinformatio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4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r Hitlisten und Stationskatalo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nige Artikel zur Auswahl (Batterien, Lampen, Gase,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chaffungsmittelliste (BM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ranksystem auf Stationen für Lagerartik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anforderung / Sollme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usätzlich erweiterte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nstleistungs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örungsmeldung (Auftragsstatu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nstleistungen wie Haustechn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kunftssystem für Equipmentdat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0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esserter Einkauf / Dispositio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elloptimierung u.a. du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größenoptimierung im Planungshorizo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wertoptimierung pro Lieferant durch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fache flexible Interak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arenz im R/3 und im Browser du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usverwaltung (in Bearbeitung, bestellt, Wareneingang erfolgt, storniert, abgelehnt,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51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erung der Lagerbestän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von vorteilhaften Einkaufskondi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faches, rationelles Arbeiten des Einkäuf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esserter Einkauf / Dispositio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zeugen der Bestellvorschlags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agerartikel mit / ohne Reichweiten- und Mindestbestandsdis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läufer  mit Materialsta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läufer ohne Materialstam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 Katalog (z.B.ABDA) enthal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ur textuell beschrieben (Bestelltextkatalo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uelle Dis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werten und Bearbeiten der Bestellvorschlags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wandlung von Bestellvorschlägen in Bestell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orkshop </a:t>
            </a:r>
            <a:r>
              <a:rPr b="0" lang="de-DE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0" lang="de-DE" sz="28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3200" spc="-1" strike="noStrike">
                <a:solidFill>
                  <a:srgbClr val="0066ff"/>
                </a:solidFill>
                <a:latin typeface="Arial"/>
              </a:rPr>
              <a:t>StationsAnbind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übeck, den 25.10.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tharinenhospital Stuttg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dtisches Krankenhaus Wupper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Mai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Bon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iklinikum Lüb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führung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tersparnis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ung modernster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inger Schulungs- und Wart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le betriebswirtschaftliche und logistische Einbindung i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satz modernster 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n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brows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ine-Kopplung zum R/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onsanforderung von Arzneimitteln über Intr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Stationsanforderung von Nichtarzneimitteln über Intra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b2b2b2"/>
                </a:solidFill>
                <a:latin typeface="Arial"/>
              </a:rPr>
              <a:t>Verbesserter Einkauf / Dis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sanforderung von Arzneimitteln über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 auf S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server gekoppelt mit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bindung ABDA Artike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che AML Arzneimittelsubstit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liste, letzte Anforderung und Station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bindung Kommissionierauto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alabga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auf Basis R/3 Materialstamm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9144000" cy="564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6480" y="16527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1-10-24T10:54:32Z</dcterms:modified>
  <cp:revision>627</cp:revision>
  <dc:subject/>
  <dc:title>Kein Folientitel</dc:title>
</cp:coreProperties>
</file>