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227-D2FA-47AC-8709-8C1861FD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8A4-F13B-4BE7-ADEA-0285A5D1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01C-E5EC-4673-B33F-72B1FDDA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7DB-5E80-47D8-860F-1A671B9F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3F9-4FF7-4F71-AB09-3FF0F2FB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937-A8F7-406E-9B2B-B414F512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F0E-4901-4062-A3D7-B88BB3C2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F66-6477-472D-8FF4-39B7A7C2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3C2-8F39-4AC7-BBEF-CBE6B2CA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7F8-1B4C-4AE9-ADB6-70D5A4D0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5A1-8B95-49C5-AE56-2AC5BF3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A41-FEA2-4AB3-B4DD-2950CFF7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AE52-5852-4E11-9BD1-BC1B877BC8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hyperlink" Target="http://139.18.160.3:9911/jwWebAccess/logon.do?org=0001&amp;branch=211&amp;station=CH11" TargetMode="External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hyperlink" Target="http://139.18.160.3:9911/jwWebAccess/logon.do?org=0001&amp;branch=311&amp;station=AUG1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1640" y="1981080"/>
            <a:ext cx="44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leitung - Rahmenbedin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zneimittel und Labordiagnos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ytosta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genher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250 Betten Maximalversor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7 Fremdhä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6320" y="472428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usgangssituation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700200" y="171360"/>
          <a:ext cx="7743600" cy="651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171360"/>
                    <a:ext cx="77436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4960" y="33480"/>
          <a:ext cx="807552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33480"/>
                    <a:ext cx="807552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8640" y="33480"/>
          <a:ext cx="822816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3480"/>
                    <a:ext cx="822816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34960" y="14400"/>
          <a:ext cx="807552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4400"/>
                    <a:ext cx="807552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058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mor" descr=""/>
          <p:cNvPicPr/>
          <p:nvPr/>
        </p:nvPicPr>
        <p:blipFill>
          <a:blip r:embed="rId1"/>
          <a:stretch/>
        </p:blipFill>
        <p:spPr>
          <a:xfrm>
            <a:off x="246240" y="57240"/>
            <a:ext cx="86515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240" y="167652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usgangssituation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6280" y="2286000"/>
            <a:ext cx="612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MOR 1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arenwirtschaft, Rechnungslegung, CO, Eigenher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MUSE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lektronische Stationsanforderung der Normalbestel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onderanforderungen: Pap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ytomodul: Zen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Diagnostikaanforderungen: Pap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83480" y="4222800"/>
            <a:ext cx="691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selsituation Schnittestellen zu SAP (FI Medienbruch Rechnungsdurchlauf, 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hlende Transparenz auf Artikelebe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atientenbezug (DRG, Sonderanforderung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Komplexe logistische Strukturen (zB.: OEs, Buchungskrei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5280" y="1676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Zeitsch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84920" y="2409840"/>
            <a:ext cx="6035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26. April 200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arktanalys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Dezember 2004 jwConsul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onzeptphasen, Systemintegration, Hardware, Kommissionier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Datenmigration,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Schu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12080" y="4419720"/>
            <a:ext cx="371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ugust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48720" y="16765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Zielse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51440" y="2286000"/>
            <a:ext cx="7120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Vollständige Integration der Prozesse in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weiterte Funktionalität zu A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lektronische Anbindung der Stationen inkl. Sonderanforde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hnungsle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Rezepttax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w Zytomod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5120" y="1752480"/>
            <a:ext cx="1351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ob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4320" y="2438280"/>
            <a:ext cx="3178440" cy="204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P R/3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OR-Daten sind keine SAP 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standsführung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stellungen mi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isbindu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chträgliche Korrektu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rechtig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dienung de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64400" y="2438280"/>
            <a:ext cx="3967920" cy="131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jw-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bilität zu R3, 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unktionsumfang durch veränderte Ansprü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d veränderte Umgeb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361960" y="2057400"/>
            <a:ext cx="10666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057400"/>
            <a:ext cx="16765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3352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12720" y="3809880"/>
            <a:ext cx="8169120" cy="1785240"/>
            <a:chOff x="612720" y="3809880"/>
            <a:chExt cx="8169120" cy="1785240"/>
          </a:xfrm>
        </p:grpSpPr>
        <p:sp>
          <p:nvSpPr>
            <p:cNvPr id="79" name=""/>
            <p:cNvSpPr/>
            <p:nvPr/>
          </p:nvSpPr>
          <p:spPr>
            <a:xfrm>
              <a:off x="3207600" y="4648320"/>
              <a:ext cx="197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Konsequenz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09680" y="4495680"/>
              <a:ext cx="99072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181480" y="3809880"/>
              <a:ext cx="198144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2720" y="5257800"/>
              <a:ext cx="157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rsonalzuwac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6640" y="5257800"/>
              <a:ext cx="182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mstrukturierun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70680" y="5257800"/>
              <a:ext cx="15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a Ware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38560" y="5257800"/>
              <a:ext cx="28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Unterstützung MM, FI, EDV, j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24240" y="5776920"/>
            <a:ext cx="992880" cy="3373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u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92960" y="5791320"/>
            <a:ext cx="992880" cy="3373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u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25040" y="5791320"/>
            <a:ext cx="992880" cy="3373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u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0000" y="167652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eistungskennz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85440" y="2743200"/>
            <a:ext cx="4213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66.317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forderunge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468.886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forderzeilen (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.443 pro T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9.744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onderanforderungen (30 pro T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9.500 Bestellungen bei Lieferanten (60 pro Tag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47.300 Bestzeilen bei Lieferanten (145 pro Tag)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24.000 Zytostatikazubereitungen (96 pro Tag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5.000 Herstellungsanforderungen (20 pro T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7240" y="1676520"/>
            <a:ext cx="474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tationsanforderung der Arzneimit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jwWebAccess</a:t>
            </a:r>
            <a:r>
              <a:rPr b="1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47920" y="3124080"/>
          <a:ext cx="49536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124080"/>
                    <a:ext cx="4953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248520" y="3124080"/>
          <a:ext cx="4953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3124080"/>
                    <a:ext cx="4953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91920" y="3657600"/>
            <a:ext cx="204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zneimittelbestell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rurgie 1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40240" y="3657600"/>
            <a:ext cx="204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zneimittelbestell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genklini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9640" y="4419720"/>
            <a:ext cx="396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fassen der Arzneimit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anforde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deranforde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. Substitution gemäß Vorgabe (AM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zt- und Oberarztfrei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funktionen in AML und AB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kstoffsu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34920"/>
            <a:ext cx="80773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7:00:06Z</dcterms:created>
  <dc:creator>j</dc:creator>
  <dc:description/>
  <dc:language>en-US</dc:language>
  <cp:lastModifiedBy>j</cp:lastModifiedBy>
  <dcterms:modified xsi:type="dcterms:W3CDTF">2006-10-29T14:03:48Z</dcterms:modified>
  <cp:revision>29</cp:revision>
  <dc:subject/>
  <dc:title>PowerPoint-Präsentation</dc:title>
</cp:coreProperties>
</file>