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D73-A73C-4D94-9081-5768FCA9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758-89B9-4E0D-884E-9CC2ECD1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464-1447-43C5-88A1-82895F92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9AA-29A6-4F09-9AA1-C0FF26C4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3F4-27E0-49B5-8E5B-321691B9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C60-F281-4E14-B4AA-CF5277A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D85-0B57-4636-9372-270E2EC1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9EC-6606-4570-B117-175554D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AD2-387E-4EDA-90BD-54F135C6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42B-168D-447B-B936-5EFF794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523-B1AF-4A99-9BEC-28F6CDEC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E21-AAAB-42AA-8272-C6D9635A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40EA-B584-419A-B234-6A7E97E7D8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04200" y="167652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pothekenmanagement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on der Anforderung zur Belieferung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360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2360" y="30492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3 – Able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95560" y="495360"/>
          <a:ext cx="67546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495360"/>
                    <a:ext cx="67546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47840" y="1195560"/>
          <a:ext cx="8248320" cy="44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195560"/>
                    <a:ext cx="8248320" cy="44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356256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85880" y="152280"/>
            <a:ext cx="36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Query Sonderanford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95360" y="628560"/>
          <a:ext cx="8115120" cy="608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360" y="628560"/>
                    <a:ext cx="811512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00200" y="1676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itere Modul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11040" y="2822400"/>
            <a:ext cx="517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 Anbi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steuerung Listung - Nichtl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lterab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M-Dok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tbarkeitskontro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thekensuchhil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6440" y="16765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terialsteuerung Listung - Nichtl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7620120" cy="358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5486400"/>
            <a:ext cx="7620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70400" y="1676520"/>
            <a:ext cx="21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chalterabgab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524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02760" y="1676520"/>
            <a:ext cx="30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TM - Dokumentation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5448240" cy="1657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79246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20480" y="1676520"/>
            <a:ext cx="28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altbarkeitskontroll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2266920"/>
            <a:ext cx="550548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807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20480" y="1676520"/>
            <a:ext cx="28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altbarkeitskontroll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6160" y="2438280"/>
            <a:ext cx="802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itere Verbesserung der Ergonomie und Funktionalitä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geartik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at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yto-Mehrplatz uv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PO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Bestellanforderungen durch Verbrauchsdoku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08320" y="16765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Ziel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02800" y="30492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forderungen S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7867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0600" y="743040"/>
            <a:ext cx="8362800" cy="603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3360" y="2286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ormalanfor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59440" y="22860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1 -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25400" y="361800"/>
          <a:ext cx="7694640" cy="613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361800"/>
                    <a:ext cx="7694640" cy="61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59440" y="22860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1 -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7080" y="355680"/>
          <a:ext cx="6551640" cy="61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355680"/>
                    <a:ext cx="6551640" cy="61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06800" y="22860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1 -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1280" y="971640"/>
          <a:ext cx="900288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971640"/>
                    <a:ext cx="900288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6320" y="22860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2 – Substitution - B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68480" y="374760"/>
          <a:ext cx="7008840" cy="61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374760"/>
                    <a:ext cx="7008840" cy="61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4040" y="22860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2 – Substitution - B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1162080"/>
            <a:ext cx="6324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24480" cy="4971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4040" y="45720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2 – Substitution - B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24280" y="5410080"/>
            <a:ext cx="4152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7:00:06Z</dcterms:created>
  <dc:creator>j</dc:creator>
  <dc:description/>
  <dc:language>en-US</dc:language>
  <cp:lastModifiedBy>j</cp:lastModifiedBy>
  <dcterms:modified xsi:type="dcterms:W3CDTF">2006-12-25T13:13:12Z</dcterms:modified>
  <cp:revision>38</cp:revision>
  <dc:subject/>
  <dc:title>PowerPoint-Präsentation</dc:title>
</cp:coreProperties>
</file>