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42D-547C-416D-AA7A-0CA43730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858-1428-4ECD-A9DB-0274D44C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B7C-D3B2-47C4-BB0F-5CB9048D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ED1-A103-4A36-966F-637A7E2B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354-AA2C-4B77-96DC-435801D6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473-FA33-4ADA-AE12-F36E9225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0AC-0DEB-4314-ABA0-1B751639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E4D-C55A-4535-99EA-054C81CB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1AE-753B-477D-8BEF-627941BC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F29-7589-4D1E-BF90-E3DA74BB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29E-DC5C-4553-B3F2-975C6DEE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C10-E356-4C1E-8250-4C34A5D1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6260-47A6-4892-A61B-6684BD929A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04200" y="167652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pothekenmanagement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von der Anforderung zur Belieferung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360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2360" y="30492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3 – Able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95560" y="495360"/>
          <a:ext cx="67546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495360"/>
                    <a:ext cx="67546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47840" y="1195560"/>
          <a:ext cx="8248320" cy="44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1195560"/>
                    <a:ext cx="8248320" cy="44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666880" y="4419720"/>
            <a:ext cx="356256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85880" y="152280"/>
            <a:ext cx="36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Query Sonderanforde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95360" y="628560"/>
          <a:ext cx="8115120" cy="608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360" y="628560"/>
                    <a:ext cx="811512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00200" y="16765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eitere Modul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11040" y="2822400"/>
            <a:ext cx="517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 Anbi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steuerung Listung - Nichtl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alterabga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M-Dok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tbarkeitskontro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othekensuchhil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36440" y="16765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aterialsteuerung Listung - Nichtl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7620120" cy="358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5486400"/>
            <a:ext cx="7620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470400" y="1676520"/>
            <a:ext cx="21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chalterabgab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524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02760" y="1676520"/>
            <a:ext cx="30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TM - Dokumentation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5448240" cy="1657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79246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120480" y="1676520"/>
            <a:ext cx="28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altbarkeitskontroll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2266920"/>
            <a:ext cx="550548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4114800"/>
            <a:ext cx="8077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20480" y="1676520"/>
            <a:ext cx="28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altbarkeitskontroll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6160" y="2438280"/>
            <a:ext cx="8021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itere Verbesserung der Ergonomie und Funktionalitä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geartik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Mat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yto-Mehrplatz uv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PO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Bestellanforderungen durch Verbrauchsdoku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08320" y="16765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Ziel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02800" y="30492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nforderungen S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78678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0600" y="743040"/>
            <a:ext cx="8362800" cy="603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23360" y="2286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Normalanfor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59440" y="22860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1 -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25400" y="361800"/>
          <a:ext cx="7694640" cy="613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361800"/>
                    <a:ext cx="7694640" cy="61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59440" y="22860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1 -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97080" y="355680"/>
          <a:ext cx="6551640" cy="61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355680"/>
                    <a:ext cx="6551640" cy="61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06800" y="22860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1 - Sub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1280" y="971640"/>
          <a:ext cx="900288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971640"/>
                    <a:ext cx="900288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6320" y="228600"/>
            <a:ext cx="56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2 – Substitution - B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68480" y="374760"/>
          <a:ext cx="7008840" cy="61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374760"/>
                    <a:ext cx="7008840" cy="61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4040" y="228600"/>
            <a:ext cx="56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2 – Substitution - B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1162080"/>
            <a:ext cx="63244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24480" cy="4971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4040" y="457200"/>
            <a:ext cx="56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onderanforderung 2 – Substitution - B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24280" y="5410080"/>
            <a:ext cx="4152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7:00:06Z</dcterms:created>
  <dc:creator>j</dc:creator>
  <dc:description/>
  <dc:language>en-US</dc:language>
  <cp:lastModifiedBy>j</cp:lastModifiedBy>
  <dcterms:modified xsi:type="dcterms:W3CDTF">2006-12-25T13:13:12Z</dcterms:modified>
  <cp:revision>38</cp:revision>
  <dc:subject/>
  <dc:title>PowerPoint-Präsentation</dc:title>
</cp:coreProperties>
</file>