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12225B0E-82F2-4641-A194-28082879A30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69880" y="7101000"/>
            <a:ext cx="7416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Mai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04040" y="7101000"/>
            <a:ext cx="921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1800" y="7101000"/>
            <a:ext cx="22442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5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20880" y="114624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961240" y="3881520"/>
          <a:ext cx="304776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1240" y="3881520"/>
                    <a:ext cx="3047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057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orstellung des Projektes eLab als ein Beispi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60000"/>
              </a:lnSpc>
              <a:spcBef>
                <a:spcPts val="624"/>
              </a:spcBef>
              <a:spcAft>
                <a:spcPts val="1562"/>
              </a:spcAft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ür ein Webbasiertes Bestell-Syste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24"/>
              </a:spcBef>
              <a:spcAft>
                <a:spcPts val="1562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kuss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2160" y="11462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uftragbasierendes LI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bwicklung der Geschäftsprozesse über das Intranet bzw. Inter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einfachung und Harmonisierung der Geschäftsprozes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irekte Kopplung von Kunden (SAP und Non-SAP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erstärkung der Kundenbind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550"/>
              </a:spcBef>
              <a:spcAft>
                <a:spcPts val="1375"/>
              </a:spcAft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reichen neuer Kund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uftragsbearbeitung im SAP (</a:t>
            </a: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20880" y="114624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76520" y="1447920"/>
            <a:ext cx="6400800" cy="5585760"/>
            <a:chOff x="1676520" y="1447920"/>
            <a:chExt cx="6400800" cy="5585760"/>
          </a:xfrm>
        </p:grpSpPr>
        <p:grpSp>
          <p:nvGrpSpPr>
            <p:cNvPr id="162" name=""/>
            <p:cNvGrpSpPr/>
            <p:nvPr/>
          </p:nvGrpSpPr>
          <p:grpSpPr>
            <a:xfrm>
              <a:off x="1676520" y="1447920"/>
              <a:ext cx="2857680" cy="2279160"/>
              <a:chOff x="1676520" y="1447920"/>
              <a:chExt cx="2857680" cy="2279160"/>
            </a:xfrm>
          </p:grpSpPr>
          <p:sp>
            <p:nvSpPr>
              <p:cNvPr id="163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76800" y="2017440"/>
                <a:ext cx="114120" cy="1253880"/>
              </a:xfrm>
              <a:custGeom>
                <a:avLst/>
                <a:gdLst>
                  <a:gd name="textAreaLeft" fmla="*/ 0 w 114120"/>
                  <a:gd name="textAreaRight" fmla="*/ 41040 w 114120"/>
                  <a:gd name="textAreaTop" fmla="*/ 32400 h 1253880"/>
                  <a:gd name="textAreaBottom" fmla="*/ 1221480 h 125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676520" y="1447920"/>
              <a:ext cx="6400800" cy="5585760"/>
              <a:chOff x="1676520" y="1447920"/>
              <a:chExt cx="6400800" cy="5585760"/>
            </a:xfrm>
          </p:grpSpPr>
          <p:sp>
            <p:nvSpPr>
              <p:cNvPr id="166" name=""/>
              <p:cNvSpPr/>
              <p:nvPr/>
            </p:nvSpPr>
            <p:spPr>
              <a:xfrm>
                <a:off x="4991400" y="1447920"/>
                <a:ext cx="2057400" cy="1482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34120" y="1903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77200" y="2246040"/>
                <a:ext cx="2057400" cy="15951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91400" y="1447920"/>
                <a:ext cx="205092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34120" y="1903320"/>
                <a:ext cx="2051280" cy="229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77200" y="2246040"/>
                <a:ext cx="2050920" cy="226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9920" y="2587320"/>
                <a:ext cx="2057400" cy="15966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eistungen :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H-Wertbestimmun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91000" y="452556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48200" y="4981320"/>
                <a:ext cx="2905200" cy="1596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05400" y="5438520"/>
                <a:ext cx="2905200" cy="15951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047760" y="4070160"/>
                <a:ext cx="297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48120" y="4070160"/>
                <a:ext cx="0" cy="34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34200" y="258732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76520" y="1447920"/>
                <a:ext cx="2857680" cy="2279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Kundenauftrag : 1LW.02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eistungen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H-Wertbestimmu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4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Ausseh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be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91000" y="452556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H-Wertbes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48200" y="4981320"/>
                <a:ext cx="2879640" cy="2664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1 Leistung: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Ausseh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705400" y="5438520"/>
                <a:ext cx="2879640" cy="15951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benauftrag 1 Leistung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Dichtebest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erkmale + Methode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emperatur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ich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362320" y="1904760"/>
              <a:ext cx="114480" cy="133308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34560 h 1333080"/>
                <a:gd name="textAreaBottom" fmla="*/ 1298520 h 133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kturierung kann erfolge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ftragsbezoge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iodisch (z.B. monatlich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osten können abgerechnet werden auf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borkostenstell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rechnung von Kosten und Erlös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ktura als Folgebeleg aus CS-Aufträ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e Verrechnung der PM-Aufträg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chnung geht über EDI, Fax oder Post zum Kund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rechnen auch an andere Objekte möglich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D-Auftrag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erne Faktur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-Auftrag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68480" indent="-208080">
              <a:spcBef>
                <a:spcPts val="575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Kostenstellen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847800" y="1506600"/>
            <a:ext cx="8569080" cy="4174920"/>
            <a:chOff x="847800" y="1506600"/>
            <a:chExt cx="8569080" cy="4174920"/>
          </a:xfrm>
        </p:grpSpPr>
        <p:sp>
          <p:nvSpPr>
            <p:cNvPr id="58" name=""/>
            <p:cNvSpPr/>
            <p:nvPr/>
          </p:nvSpPr>
          <p:spPr>
            <a:xfrm>
              <a:off x="847800" y="2225520"/>
              <a:ext cx="5184720" cy="3456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6520" y="2873520"/>
              <a:ext cx="2664000" cy="2160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8121600" y="2370240"/>
              <a:ext cx="78264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8048520" y="4457880"/>
              <a:ext cx="1079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448160" y="2873520"/>
              <a:ext cx="1224000" cy="216036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Web-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48520" y="1506600"/>
              <a:ext cx="129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un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0520" y="3881520"/>
              <a:ext cx="647640" cy="144360"/>
            </a:xfrm>
            <a:prstGeom prst="leftRightArrow">
              <a:avLst>
                <a:gd name="adj1" fmla="val 50000"/>
                <a:gd name="adj2" fmla="val 893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45240" y="2801520"/>
              <a:ext cx="230328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16520" y="4314960"/>
              <a:ext cx="208908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96880" y="4097160"/>
              <a:ext cx="2057400" cy="360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1f1f"/>
                  </a:solidFill>
                  <a:latin typeface="Braggadocio"/>
                </a:rPr>
                <a:t>jw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M-System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08880" y="3449520"/>
              <a:ext cx="1008000" cy="824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2C oder B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49600" y="1506600"/>
              <a:ext cx="129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basiertes Dienstleistungs-Bestell-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pl. Ing. Thomas Mickley</a:t>
            </a: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0.05.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undenanbindung B2B und B2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56520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2C – Business to Custom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 kommuniziert manuell über Browser  mit dem Web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B2B – Business to Busines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nsystem übergibt automatisch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-4795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Kundensystem übernimmt automatisch Dat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spcBef>
                <a:spcPts val="55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3516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 eLa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371600" y="1295280"/>
            <a:ext cx="6172200" cy="5715000"/>
            <a:chOff x="1371600" y="1295280"/>
            <a:chExt cx="6172200" cy="5715000"/>
          </a:xfrm>
        </p:grpSpPr>
        <p:sp>
          <p:nvSpPr>
            <p:cNvPr id="74" name=""/>
            <p:cNvSpPr/>
            <p:nvPr/>
          </p:nvSpPr>
          <p:spPr>
            <a:xfrm>
              <a:off x="1371600" y="1981080"/>
              <a:ext cx="184320" cy="214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33720" y="5410080"/>
              <a:ext cx="5143320" cy="1600200"/>
            </a:xfrm>
            <a:prstGeom prst="rect">
              <a:avLst/>
            </a:prstGeom>
            <a:solidFill>
              <a:srgbClr val="a7b5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182880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08520" y="3738600"/>
              <a:ext cx="86832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3768840"/>
              <a:ext cx="901800" cy="6872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d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5610240"/>
              <a:ext cx="2057400" cy="360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1f1f"/>
                  </a:solidFill>
                  <a:latin typeface="Braggadocio"/>
                </a:rPr>
                <a:t>jw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LIM-System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4520" y="6473880"/>
              <a:ext cx="17146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/ R3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52880" y="5033880"/>
              <a:ext cx="2971800" cy="34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6200" y="2168640"/>
              <a:ext cx="1600200" cy="342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29480" y="2168640"/>
              <a:ext cx="160020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628720" y="2282400"/>
              <a:ext cx="1028520" cy="8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57680" y="2282760"/>
              <a:ext cx="95220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8320" y="2590920"/>
              <a:ext cx="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724280" y="25905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486400" y="2590920"/>
              <a:ext cx="91440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715000" y="2590560"/>
              <a:ext cx="9525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25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076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1964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34120" y="4456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5788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1295280"/>
              <a:ext cx="68580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3352680"/>
              <a:ext cx="114480" cy="1143000"/>
            </a:xfrm>
            <a:custGeom>
              <a:avLst/>
              <a:gdLst>
                <a:gd name="textAreaLeft" fmla="*/ 0 w 114480"/>
                <a:gd name="textAreaRight" fmla="*/ 41400 w 1144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72200" y="3581280"/>
              <a:ext cx="1371600" cy="80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chtung von  Auftrag und Prüfergebnis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19440" y="3425760"/>
              <a:ext cx="2057400" cy="34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7208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P R/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15000" y="1825560"/>
              <a:ext cx="18288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n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Entwicklung mit der SAP-Workbench in ABAP 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olle Integration in den SAP-Standa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Interaktion mit anderen Modulen wie z.B.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QM, MM, SD, FI, CO, CS, …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Einheitliches und übergreifendes System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im SAP / R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e Modifikationen am SAP-Standar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Gewährleistung der Releasesicher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SAP R/3 ist Master bezüglich aller Stammdat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Synchronisation mit Webserver erfolgt periodisch oder auf Anforderu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Kein direkter Zugriff auf SAP-Tabellen vom </a:t>
            </a:r>
            <a:br>
              <a:rPr sz="2500"/>
            </a:b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xisbeispi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ftragsvergabe im Intranet bzw. Interne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uftragsbearbeitung und Prüfabwicklung im SAP (</a:t>
            </a:r>
            <a:r>
              <a:rPr b="0" lang="de-DE" sz="22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LIM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Verrechnung von Kosten und Erlösen eines Auftrag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Thomas Mickley</dc:creator>
  <dc:description/>
  <dc:language>en-US</dc:language>
  <cp:lastModifiedBy>winkler</cp:lastModifiedBy>
  <cp:lastPrinted>2000-08-22T08:01:00Z</cp:lastPrinted>
  <dcterms:modified xsi:type="dcterms:W3CDTF">2004-05-04T05:20:15Z</dcterms:modified>
  <cp:revision>128</cp:revision>
  <dc:subject/>
  <dc:title>eLab</dc:title>
</cp:coreProperties>
</file>