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2AD559B-BC53-4087-9366-DAFA2EF53DB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800" y="7101000"/>
            <a:ext cx="2244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961240" y="3881520"/>
          <a:ext cx="3047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3881520"/>
                    <a:ext cx="3047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057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rstellung des Projektes eLab als ein 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60000"/>
              </a:lnSpc>
              <a:spcBef>
                <a:spcPts val="624"/>
              </a:spcBef>
              <a:spcAft>
                <a:spcPts val="1562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ür ein Webbasiertes Bestell-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2160" y="11462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basierend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der Geschäftsprozesse über das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und Harmonisierung d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rekte Kopplung von Kunden (SAP und Non-SA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tärkung der Kundenbin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reichen neuer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62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66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ierung kann erfolg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ragsbezo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isch (z.B. monat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osten können abgerechnet werden auf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rkosten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a als Folgebeleg aus CS-Aufträ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e Verrechnung der PM-Aufträ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hnung geht über EDI, Fax oder Post zum Kun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rechnen auch an andere Objekte möglich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e Faktur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ostenstelle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47800" y="1506600"/>
            <a:ext cx="8569080" cy="4174920"/>
            <a:chOff x="847800" y="1506600"/>
            <a:chExt cx="8569080" cy="4174920"/>
          </a:xfrm>
        </p:grpSpPr>
        <p:sp>
          <p:nvSpPr>
            <p:cNvPr id="58" name=""/>
            <p:cNvSpPr/>
            <p:nvPr/>
          </p:nvSpPr>
          <p:spPr>
            <a:xfrm>
              <a:off x="847800" y="2225520"/>
              <a:ext cx="5184720" cy="3456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6520" y="2873520"/>
              <a:ext cx="2664000" cy="216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8121600" y="237024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8048520" y="445788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48160" y="2873520"/>
              <a:ext cx="1224000" cy="216036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b-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4852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un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520" y="3881520"/>
              <a:ext cx="647640" cy="144360"/>
            </a:xfrm>
            <a:prstGeom prst="leftRightArrow">
              <a:avLst>
                <a:gd name="adj1" fmla="val 50000"/>
                <a:gd name="adj2" fmla="val 893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45240" y="2801520"/>
              <a:ext cx="23032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16520" y="4314960"/>
              <a:ext cx="208908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4097160"/>
              <a:ext cx="2057400" cy="36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08880" y="3449520"/>
              <a:ext cx="10080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2C oder 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960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 kommuniziert manuell über Browser  mit dem 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gib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nimm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71600" y="1295280"/>
            <a:ext cx="6172200" cy="5715000"/>
            <a:chOff x="1371600" y="1295280"/>
            <a:chExt cx="6172200" cy="5715000"/>
          </a:xfrm>
        </p:grpSpPr>
        <p:sp>
          <p:nvSpPr>
            <p:cNvPr id="74" name=""/>
            <p:cNvSpPr/>
            <p:nvPr/>
          </p:nvSpPr>
          <p:spPr>
            <a:xfrm>
              <a:off x="1371600" y="1981080"/>
              <a:ext cx="184320" cy="214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3720" y="5410080"/>
              <a:ext cx="5143320" cy="160020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82880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8520" y="3738600"/>
              <a:ext cx="8683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768840"/>
              <a:ext cx="90180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5610240"/>
              <a:ext cx="205740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4520" y="6473880"/>
              <a:ext cx="1714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/ R3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52880" y="5033880"/>
              <a:ext cx="29718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2948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628720" y="2282400"/>
              <a:ext cx="102852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7680" y="2282760"/>
              <a:ext cx="9522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2590920"/>
              <a:ext cx="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724280" y="25905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486400" y="2590920"/>
              <a:ext cx="9144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715000" y="2590560"/>
              <a:ext cx="952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788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352680"/>
              <a:ext cx="114480" cy="114300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220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208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ntwicklung mit der SAP-Workbench in ABAP 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lle Integration in den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raktion mit anderen Modulen wie z.B.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QM, MM, SD, FI, CO, CS,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inheitliches und übergreifendes System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Modifikationen am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Gewährleistung der Releasesicher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AP R/3 ist Master bezüglich aller Stammdat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ynchronisation mit Webserver erfolgt periodisch oder auf Anforde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 direkter Zugriff auf SAP-Tabellen vom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bearbeitung und Prüfabwicklung im SAP (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errechnung von Kosten und Erlösen eines Auftrag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winkler</cp:lastModifiedBy>
  <cp:lastPrinted>2000-08-22T08:01:00Z</cp:lastPrinted>
  <dcterms:modified xsi:type="dcterms:W3CDTF">2004-05-04T05:20:15Z</dcterms:modified>
  <cp:revision>128</cp:revision>
  <dc:subject/>
  <dc:title>eLab</dc:title>
</cp:coreProperties>
</file>