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907588" cy="7621588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48E6BE32-4BF0-4028-B1B8-D3AA7C1FC31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69880" y="7101000"/>
            <a:ext cx="7416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Mai 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6840" y="7101000"/>
            <a:ext cx="13525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10.05.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okumentenverwaltung am Beispiel Ine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520" y="1865160"/>
            <a:ext cx="8316720" cy="4176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-41904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ystematisierung in Baumstruktu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arstellung und Erreichbarkeit der Dokumente über das Intranet mittels Browse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infache Pfleg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ezentrale Dokumentenablag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62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okumentenverwaltung am Beispiel Ine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okumentenverwaltung am Beispiel Ine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5800" y="222552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infache Administration in Exc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ierarchie ist frei definierb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okumente können zentral oder dezentral gespeichert werd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okumentenverwaltung am Beispiel Ine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okumentenverwaltung am Beispiel Ine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4880" y="1649520"/>
            <a:ext cx="8532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565200" indent="-565200">
              <a:lnSpc>
                <a:spcPct val="10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flege des Menübaumes in Exc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0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us Excel heraus erfolgt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9920" indent="-47952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ktualisierung der Datenb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9920" indent="-47952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ktualisierung der Benutzeroberfläc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4880" y="4602240"/>
            <a:ext cx="8532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565200" indent="-565200">
              <a:lnSpc>
                <a:spcPct val="10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ffektive und Effiziente Lös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0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ahezu kein Schulungsaufw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608880" y="4025880"/>
            <a:ext cx="2539800" cy="2959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04880" y="1865160"/>
            <a:ext cx="8532720" cy="3810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Anforderungen an ein 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verwaltung am Beispiel Ineo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0" lang="de-DE" sz="2500" spc="-1" strike="noStrike">
                <a:solidFill>
                  <a:srgbClr val="b2b2b2"/>
                </a:solidFill>
                <a:latin typeface="Braggadocio"/>
              </a:rPr>
              <a:t>jweb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Faz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4880" y="1649520"/>
            <a:ext cx="8856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565200" indent="-565200">
              <a:lnSpc>
                <a:spcPct val="10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gration der Dokumente in den Geschäftsproz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0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ezentraler Zugriff auf die Dokum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9920" indent="-479520">
              <a:lnSpc>
                <a:spcPct val="10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ranet, Interne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9920" indent="-479520">
              <a:lnSpc>
                <a:spcPct val="10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AP / R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0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Zentrale Speicherung der Dokum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9920" indent="-47952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chutz vor unberechtigten Änd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weiterbar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öglichkeit der Skal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44520" y="1433520"/>
            <a:ext cx="9352080" cy="5342040"/>
            <a:chOff x="344520" y="1433520"/>
            <a:chExt cx="9352080" cy="5342040"/>
          </a:xfrm>
        </p:grpSpPr>
        <p:sp>
          <p:nvSpPr>
            <p:cNvPr id="91" name=""/>
            <p:cNvSpPr/>
            <p:nvPr/>
          </p:nvSpPr>
          <p:spPr>
            <a:xfrm>
              <a:off x="3513240" y="3594240"/>
              <a:ext cx="5713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45240" y="3594240"/>
              <a:ext cx="5713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631800" y="5754600"/>
              <a:ext cx="1008000" cy="9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344520" y="3594240"/>
              <a:ext cx="84780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089240" y="2801880"/>
              <a:ext cx="1503360" cy="24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16160" y="3089160"/>
              <a:ext cx="1143000" cy="2081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32160" y="3738600"/>
              <a:ext cx="57132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32160" y="3665520"/>
              <a:ext cx="1225800" cy="647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kumen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40160" y="3809880"/>
              <a:ext cx="609480" cy="228600"/>
            </a:xfrm>
            <a:prstGeom prst="leftRightArrow">
              <a:avLst>
                <a:gd name="adj1" fmla="val 50000"/>
                <a:gd name="adj2" fmla="val 530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265960" y="222552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21600" y="3089160"/>
              <a:ext cx="1143000" cy="2081160"/>
            </a:xfrm>
            <a:prstGeom prst="rect">
              <a:avLst/>
            </a:prstGeom>
            <a:solidFill>
              <a:srgbClr val="b6fd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37240" y="3736800"/>
              <a:ext cx="720720" cy="4572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73600" y="3809880"/>
              <a:ext cx="609840" cy="228600"/>
            </a:xfrm>
            <a:prstGeom prst="leftRightArrow">
              <a:avLst>
                <a:gd name="adj1" fmla="val 50000"/>
                <a:gd name="adj2" fmla="val 5310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0520" y="237024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8408880" y="1433520"/>
              <a:ext cx="78264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8553600" y="3449520"/>
              <a:ext cx="1079280" cy="10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488880" y="1433520"/>
              <a:ext cx="100800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6"/>
            <a:stretch/>
          </p:blipFill>
          <p:spPr>
            <a:xfrm>
              <a:off x="8337600" y="5897520"/>
              <a:ext cx="7761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2166600">
              <a:off x="1568160" y="2585880"/>
              <a:ext cx="609480" cy="144720"/>
            </a:xfrm>
            <a:prstGeom prst="leftRightArrow">
              <a:avLst>
                <a:gd name="adj1" fmla="val 50000"/>
                <a:gd name="adj2" fmla="val 838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52520" y="3881520"/>
              <a:ext cx="609480" cy="144360"/>
            </a:xfrm>
            <a:prstGeom prst="leftRightArrow">
              <a:avLst>
                <a:gd name="adj1" fmla="val 50000"/>
                <a:gd name="adj2" fmla="val 840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8842400">
              <a:off x="1624680" y="5481720"/>
              <a:ext cx="609480" cy="144720"/>
            </a:xfrm>
            <a:prstGeom prst="leftRightArrow">
              <a:avLst>
                <a:gd name="adj1" fmla="val 50000"/>
                <a:gd name="adj2" fmla="val 838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9211400">
              <a:off x="7689960" y="2441160"/>
              <a:ext cx="609480" cy="144360"/>
            </a:xfrm>
            <a:prstGeom prst="leftRightArrow">
              <a:avLst>
                <a:gd name="adj1" fmla="val 50000"/>
                <a:gd name="adj2" fmla="val 840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331600">
              <a:off x="7616520" y="5538960"/>
              <a:ext cx="609480" cy="144360"/>
            </a:xfrm>
            <a:prstGeom prst="leftRightArrow">
              <a:avLst>
                <a:gd name="adj1" fmla="val 50000"/>
                <a:gd name="adj2" fmla="val 840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61240" y="4025880"/>
              <a:ext cx="609480" cy="144360"/>
            </a:xfrm>
            <a:prstGeom prst="leftRightArrow">
              <a:avLst>
                <a:gd name="adj1" fmla="val 50000"/>
                <a:gd name="adj2" fmla="val 840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4520" y="453060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1800" y="654696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53600" y="438624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93240" y="654696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608880" y="4025880"/>
            <a:ext cx="2539800" cy="2959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4880" y="1865160"/>
            <a:ext cx="8532720" cy="3810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Anforderungen an ein 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nverwaltung am Beispiel Ineo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500" spc="-1" strike="noStrike">
                <a:solidFill>
                  <a:srgbClr val="ff6600"/>
                </a:solidFill>
                <a:latin typeface="Braggadocio"/>
              </a:rPr>
              <a:t>eb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0" r="0" b="4774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0" r="0" b="4774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0" b="3445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0160" y="714240"/>
            <a:ext cx="95058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000160" y="209520"/>
          <a:ext cx="4897440" cy="720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209520"/>
                    <a:ext cx="4897440" cy="720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8880" y="2297160"/>
            <a:ext cx="914400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565200" indent="-565200">
              <a:lnSpc>
                <a:spcPct val="10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okumente können folgenden Objekten  zugeordnet werde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9920" indent="-47952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Kundenauftr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9920" indent="-47952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b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9920" indent="-47952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tammdaten (Dienstleistun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905120"/>
            <a:ext cx="899136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Zugriff vom SA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se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hreib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Zugriff vom Webserver über Browse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s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hreib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Zugriffe werden über Berechtigungen gesteue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49240" y="1752480"/>
            <a:ext cx="83520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Alle Arten von Dokumenten sind verwendb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Browser lesbare Formate empfohl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ilder (jpg, gif, bm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robat (pdf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ord (do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cel (xl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w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608880" y="4025880"/>
            <a:ext cx="2539800" cy="2959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04880" y="1865160"/>
            <a:ext cx="8532720" cy="3810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Anforderungen an ein 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verwaltung am Beispiel Ineo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verwaltung am Beispiel eLab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0" lang="de-DE" sz="2500" spc="-1" strike="noStrike">
                <a:solidFill>
                  <a:srgbClr val="b2b2b2"/>
                </a:solidFill>
                <a:latin typeface="Braggadocio"/>
              </a:rPr>
              <a:t>jweb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Faz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608880" y="4025880"/>
            <a:ext cx="2539800" cy="2959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04880" y="1865160"/>
            <a:ext cx="8532720" cy="3810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Anforderungen an ein 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verwaltung am Beispiel Ineo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verwaltung am Beispiel eLab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500" spc="-1" strike="noStrike">
                <a:solidFill>
                  <a:srgbClr val="ff6600"/>
                </a:solidFill>
                <a:latin typeface="Braggadocio"/>
              </a:rPr>
              <a:t>eb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Faz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6600"/>
                </a:solidFill>
                <a:latin typeface="Braggadocio"/>
              </a:rPr>
              <a:t>e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49240" y="1752480"/>
            <a:ext cx="835200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Webbasierte Lösung für verschiedene Einsatzgebie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Keine Installation von zusätzlicher Software auf den lokalen PC‘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Zentrale Verwaltung der Dokum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ezentrale Zugriffe auf die Dokum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Hohes Maß an Integr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6600"/>
                </a:solidFill>
                <a:latin typeface="Braggadocio"/>
              </a:rPr>
              <a:t>e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046240" y="1616040"/>
            <a:ext cx="5823000" cy="4991040"/>
            <a:chOff x="2046240" y="1616040"/>
            <a:chExt cx="5823000" cy="4991040"/>
          </a:xfrm>
        </p:grpSpPr>
        <p:sp>
          <p:nvSpPr>
            <p:cNvPr id="151" name=""/>
            <p:cNvSpPr/>
            <p:nvPr/>
          </p:nvSpPr>
          <p:spPr>
            <a:xfrm>
              <a:off x="3211560" y="2759040"/>
              <a:ext cx="3200400" cy="262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54280" y="4245120"/>
              <a:ext cx="1143000" cy="799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97280" y="4245120"/>
              <a:ext cx="114300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54280" y="3559320"/>
              <a:ext cx="2286000" cy="685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40160" y="2873520"/>
              <a:ext cx="262872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Braggadocio"/>
                </a:rPr>
                <a:t>jw</a:t>
              </a:r>
              <a:r>
                <a:rPr b="0" lang="de-DE" sz="1000" spc="-1" strike="noStrike">
                  <a:solidFill>
                    <a:srgbClr val="ff9900"/>
                  </a:solidFill>
                  <a:latin typeface="Braggadocio"/>
                </a:rPr>
                <a:t>e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okumenten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54280" y="4473720"/>
              <a:ext cx="1028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enb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97280" y="4473720"/>
              <a:ext cx="1143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eiabl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25960" y="3787920"/>
              <a:ext cx="11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2046240" y="5502240"/>
              <a:ext cx="84780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170080" y="2577960"/>
              <a:ext cx="504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2046240" y="1616040"/>
              <a:ext cx="10065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640560" y="6311880"/>
              <a:ext cx="981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tu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32520" y="2558880"/>
              <a:ext cx="7239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ra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6846840" y="1730520"/>
              <a:ext cx="78264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6789600" y="5359320"/>
              <a:ext cx="1079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065320" y="6378480"/>
              <a:ext cx="7304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166600">
              <a:off x="2854080" y="2876400"/>
              <a:ext cx="954000" cy="114480"/>
            </a:xfrm>
            <a:prstGeom prst="leftRightArrow">
              <a:avLst>
                <a:gd name="adj1" fmla="val 50000"/>
                <a:gd name="adj2" fmla="val 16589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8842400">
              <a:off x="2728080" y="5372280"/>
              <a:ext cx="860400" cy="106560"/>
            </a:xfrm>
            <a:prstGeom prst="leftRightArrow">
              <a:avLst>
                <a:gd name="adj1" fmla="val 50000"/>
                <a:gd name="adj2" fmla="val 1607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9211400">
              <a:off x="6000840" y="2779560"/>
              <a:ext cx="914400" cy="113040"/>
            </a:xfrm>
            <a:prstGeom prst="leftRightArrow">
              <a:avLst>
                <a:gd name="adj1" fmla="val 50000"/>
                <a:gd name="adj2" fmla="val 1610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331600">
              <a:off x="5967360" y="5312880"/>
              <a:ext cx="874800" cy="112680"/>
            </a:xfrm>
            <a:prstGeom prst="leftRightArrow">
              <a:avLst>
                <a:gd name="adj1" fmla="val 50000"/>
                <a:gd name="adj2" fmla="val 1545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6600"/>
                </a:solidFill>
                <a:latin typeface="Braggadocio"/>
              </a:rPr>
              <a:t>e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880" y="1289160"/>
            <a:ext cx="899172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 hat Atribute wie z.B.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itel, Autor, Beschreibung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tus, Änderungsdatum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 kann in einen Hierarchiebaum eingeordnet werd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okument hat frei definierbare Merkmale/Suchbegriff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obligatorische Merkmale (z.B. Abteilung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fakultative Merkma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Merkmale als Festwerte oder als Freitext definierb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6600"/>
                </a:solidFill>
                <a:latin typeface="Braggadocio"/>
              </a:rPr>
              <a:t>e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8880" y="1289160"/>
            <a:ext cx="899172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nsuche über Atribu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nsuche über Hierarchi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nsuche über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Merkmale/Suchbegriff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Indizierte Volltextsuch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okumentensuche über Objektlin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6600"/>
                </a:solidFill>
                <a:latin typeface="Braggadocio"/>
              </a:rPr>
              <a:t>e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8880" y="1289160"/>
            <a:ext cx="899172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 kann beliebig viele Dateien aufnehm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Jede Datei ist versionsgefüh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Zurückholen von alten Versionen oder gelöschten Dateien möglich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Check-In  und Check-Out Funktionalitä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okument kann geprüft, freigegeben und verteilt werd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okumentbezogene Berechtigungsvergab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6600"/>
                </a:solidFill>
                <a:latin typeface="Braggadocio"/>
              </a:rPr>
              <a:t>e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8880" y="1289160"/>
            <a:ext cx="899172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erknüpfung mit SAP/R3 Objekten z.B.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üfmethod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üfauftra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erknüpfung mit anderen Objekten z.B.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otus No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ebanwendung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6600"/>
                </a:solidFill>
                <a:latin typeface="Braggadocio"/>
              </a:rPr>
              <a:t>e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928880" y="1289160"/>
          <a:ext cx="6240240" cy="56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1289160"/>
                    <a:ext cx="6240240" cy="56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6600"/>
                </a:solidFill>
                <a:latin typeface="Braggadocio"/>
              </a:rPr>
              <a:t>e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8880" y="1289160"/>
            <a:ext cx="8991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Weitere optionale Zusät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Verschlüsselu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okumentensignieru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Access Control Lis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Mehrsprachige Ausleg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Standard Deutsc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unde kann selber leicht weitere Sprachen hinzufüg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608880" y="4025880"/>
            <a:ext cx="2539800" cy="29592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04880" y="1865160"/>
            <a:ext cx="8532720" cy="3810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Anforderungen an ein 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verwaltung am Beispiel Ineo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verwaltung am Beispiel eLab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0" lang="de-DE" sz="2500" spc="-1" strike="noStrike">
                <a:solidFill>
                  <a:srgbClr val="b2b2b2"/>
                </a:solidFill>
                <a:latin typeface="Braggadocio"/>
              </a:rPr>
              <a:t>jweb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44520" y="1865160"/>
            <a:ext cx="9144000" cy="3522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 können ein beliebiges Format haben z.B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c, xls, ppt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tml, pdf, xml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jpg, gif, tif, bmp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peg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mp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AD… , chemische Frome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5440" y="1288800"/>
            <a:ext cx="9217080" cy="5329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6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5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500" spc="-1" strike="noStrike">
                <a:solidFill>
                  <a:srgbClr val="ff3535"/>
                </a:solidFill>
                <a:latin typeface="Arial"/>
              </a:rPr>
              <a:t> hat Erfahrungen und praxiserprobte Lösungen be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em Aufbau einfacher Dokumentenserve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er Verwaltung von Dokumenten mittels SAP R/3 und Webserver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er betriebswirtschaftlich richtigen Verknüpfung von Dokumenten mit Geschäftsprozess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er Kopplung von SAP R/3 Systemen mit Webservern und der dafür notwendigen Synchronisatio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er Programmierung von Dialogen, die ohne Lernaufwand genutzt werden könn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6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fe0000"/>
                </a:solidFill>
                <a:latin typeface="Arial"/>
              </a:rPr>
              <a:t>Ihr Vorteil wä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ine professionelle Beratung und Projektarbeit in der Chemie, Pharmazie und Medizin,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eb- und/oder SAP R/3 basierte Speziallösungen entsprechend Ihren Anforderungen,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ine garantierte Termineinhaltung un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in vorher vereinbartes Kostenbudget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10.05.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 sind Bestandteil der Geschäftsprozess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estellungen, Lieferavise, Rechnungen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spcBef>
                <a:spcPts val="55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pezifikationen, Ausschreibungen, Pflichtenhefte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spcBef>
                <a:spcPts val="55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oduktdaten (Produktbeschreibungen, Gebrauchs-anweisungen, Bedienungshinweise, Packungsbeilagen)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spcBef>
                <a:spcPts val="55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rbeitsergebnisse (Forschungsberichte, Analyse-ergebnisse, Konzepte, Spektren, Bilder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spcBef>
                <a:spcPts val="55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spcBef>
                <a:spcPts val="55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1440000"/>
            <a:ext cx="9144000" cy="2154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eschäftsdokument Untersuchungsbericht ist beispielsweise verknüpft mit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dokumenten (darunter z.B. Methodenbeschreibu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der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kt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5800" y="359424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 fontScale="99000"/>
          </a:bodyPr>
          <a:p>
            <a:pPr marL="559440" indent="-55944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okument Methodenbeschreibung ist beispielsweise verknüpft mit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2560" indent="-4744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schäftsdokumen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2560" indent="-4744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ktren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8880" y="553896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565200" indent="-56520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as heißt es gilt eine n : m Bezieh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880" y="1288800"/>
            <a:ext cx="9036000" cy="3090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okumente können entsprechend eines Thesaurus in einen Hierarchiebaum eingeordnet werden, z.B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wicklungsberich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str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tterfeste Anstri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enanstri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zielle Beschich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nststoffbeschicht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8880" y="4457880"/>
            <a:ext cx="9036000" cy="23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Außerdem oder stattdessen können Dokumente mit Schlagwörtern versehen werden, z.B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eihalt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serlös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V-beständ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8880" y="1937880"/>
            <a:ext cx="9036000" cy="1297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Zusätzlich können Hierarchieknoten und Dokumente klassifiziert und mit Attributen versehen werden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8880" y="3738600"/>
            <a:ext cx="9036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okumente können miteinander verknüpft werden z.B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fahrensanweis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htlin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608880" y="4025880"/>
            <a:ext cx="2539800" cy="2959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04880" y="1865160"/>
            <a:ext cx="8532720" cy="3810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Anforderungen an ein 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nverwaltung am Beispiel Ineo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verwaltung am Beispiel eLab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0" lang="de-DE" sz="2500" spc="-1" strike="noStrike">
                <a:solidFill>
                  <a:srgbClr val="b2b2b2"/>
                </a:solidFill>
                <a:latin typeface="Braggadocio"/>
              </a:rPr>
              <a:t>jweb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Faz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winkler</cp:lastModifiedBy>
  <cp:lastPrinted>2000-08-22T08:01:00Z</cp:lastPrinted>
  <dcterms:modified xsi:type="dcterms:W3CDTF">2004-05-06T21:40:46Z</dcterms:modified>
  <cp:revision>202</cp:revision>
  <dc:subject/>
  <dc:title>eLab</dc:title>
</cp:coreProperties>
</file>