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49CB5361-8A21-4710-8C11-88651B60056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6840" y="7101000"/>
            <a:ext cx="13525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1865160"/>
            <a:ext cx="8316720" cy="4176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ystematisierung in Baumstruktu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rstellung und Erreichbarkeit der Dokumente über das Intranet mittels Brows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fache Pfle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zentrale Dokumentenabla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2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800" y="222552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fache Administration in Exc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erarchie ist frei definierb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zentral oder dezentral gespeicher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4880" y="1649520"/>
            <a:ext cx="8532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flege des Menübaumes in Exc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us Excel heraus erfolg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Datenb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ktualisierung der Benutzeroberflä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880" y="4602240"/>
            <a:ext cx="85327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ktive und Effiziente Lös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hezu kein Schulungsaufw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4880" y="164952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ion der Dokumente in den Geschäftsproz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zentraler Zugriff auf die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ranet, Intern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P / R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entrale Speicherung der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chutz vor unberechtigten Änd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weiter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öglichkeit der Ska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4520" y="1433520"/>
            <a:ext cx="9352080" cy="5342040"/>
            <a:chOff x="344520" y="1433520"/>
            <a:chExt cx="9352080" cy="5342040"/>
          </a:xfrm>
        </p:grpSpPr>
        <p:sp>
          <p:nvSpPr>
            <p:cNvPr id="91" name=""/>
            <p:cNvSpPr/>
            <p:nvPr/>
          </p:nvSpPr>
          <p:spPr>
            <a:xfrm>
              <a:off x="3513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45240" y="3594240"/>
              <a:ext cx="5713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31800" y="5754600"/>
              <a:ext cx="100800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44520" y="3594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089240" y="2801880"/>
              <a:ext cx="1503360" cy="24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16160" y="3089160"/>
              <a:ext cx="1143000" cy="2081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2160" y="3738600"/>
              <a:ext cx="57132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160" y="3665520"/>
              <a:ext cx="1225800" cy="647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kumen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0160" y="3809880"/>
              <a:ext cx="609480" cy="228600"/>
            </a:xfrm>
            <a:prstGeom prst="leftRightArrow">
              <a:avLst>
                <a:gd name="adj1" fmla="val 50000"/>
                <a:gd name="adj2" fmla="val 530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65960" y="222552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1600" y="3089160"/>
              <a:ext cx="1143000" cy="2081160"/>
            </a:xfrm>
            <a:prstGeom prst="rect">
              <a:avLst/>
            </a:prstGeom>
            <a:solidFill>
              <a:srgbClr val="b6fd7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37240" y="3736800"/>
              <a:ext cx="72072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73600" y="3809880"/>
              <a:ext cx="609840" cy="228600"/>
            </a:xfrm>
            <a:prstGeom prst="leftRightArrow">
              <a:avLst>
                <a:gd name="adj1" fmla="val 50000"/>
                <a:gd name="adj2" fmla="val 5310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520" y="2370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8408880" y="1433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8553600" y="3449520"/>
              <a:ext cx="107928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488880" y="1433520"/>
              <a:ext cx="100800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8337600" y="5897520"/>
              <a:ext cx="7761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2166600">
              <a:off x="1568160" y="258588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52520" y="388152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8842400">
              <a:off x="1624680" y="5481720"/>
              <a:ext cx="609480" cy="144720"/>
            </a:xfrm>
            <a:prstGeom prst="leftRightArrow">
              <a:avLst>
                <a:gd name="adj1" fmla="val 50000"/>
                <a:gd name="adj2" fmla="val 838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211400">
              <a:off x="7689960" y="24411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331600">
              <a:off x="7616520" y="553896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61240" y="4025880"/>
              <a:ext cx="609480" cy="144360"/>
            </a:xfrm>
            <a:prstGeom prst="leftRightArrow">
              <a:avLst>
                <a:gd name="adj1" fmla="val 50000"/>
                <a:gd name="adj2" fmla="val 840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4520" y="453060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180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53600" y="438624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3240" y="6546960"/>
              <a:ext cx="1143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5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0" b="4774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3445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0160" y="714240"/>
            <a:ext cx="95058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000160" y="209520"/>
          <a:ext cx="4897440" cy="720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9520"/>
                    <a:ext cx="4897440" cy="720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8880" y="2297160"/>
            <a:ext cx="91440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folgenden Objekten  zugeordnet werde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Kundenauftr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b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39920" indent="-47952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ammdaten (Dienstleistun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905120"/>
            <a:ext cx="899136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SA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griff vom Webserver über Brow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hreib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Zugriffe werden über Berechtigungen gesteu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verwaltung am Beispiel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49240" y="1752480"/>
            <a:ext cx="83520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lle Arten von Dokumenten sind verwendb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Browser lesbare Formate empfohl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ilder (jpg, gif, bm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robat (pd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d (do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(x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4400" indent="-20808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10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de-DE" sz="25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9240" y="1752480"/>
            <a:ext cx="835200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basierte Lösung für verschiedene Einsatzgebie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Installation von zusätzlicher Software auf den lokalen PC‘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Zentrale Verwaltung der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zentrale Zugriffe auf die Doku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s Maß an Integr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46240" y="1616040"/>
            <a:ext cx="5823000" cy="4991040"/>
            <a:chOff x="2046240" y="1616040"/>
            <a:chExt cx="5823000" cy="4991040"/>
          </a:xfrm>
        </p:grpSpPr>
        <p:sp>
          <p:nvSpPr>
            <p:cNvPr id="151" name=""/>
            <p:cNvSpPr/>
            <p:nvPr/>
          </p:nvSpPr>
          <p:spPr>
            <a:xfrm>
              <a:off x="3211560" y="2759040"/>
              <a:ext cx="3200400" cy="262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4280" y="4245120"/>
              <a:ext cx="1143000" cy="799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97280" y="4245120"/>
              <a:ext cx="114300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54280" y="3559320"/>
              <a:ext cx="2286000" cy="6858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40160" y="2873520"/>
              <a:ext cx="26287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Braggadocio"/>
                </a:rPr>
                <a:t>jw</a:t>
              </a:r>
              <a:r>
                <a:rPr b="0" lang="de-DE" sz="1000" spc="-1" strike="noStrike">
                  <a:solidFill>
                    <a:srgbClr val="ff9900"/>
                  </a:solidFill>
                  <a:latin typeface="Braggadocio"/>
                </a:rPr>
                <a:t>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okumenten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54280" y="4473720"/>
              <a:ext cx="1028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97280" y="4473720"/>
              <a:ext cx="1143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eiabl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5960" y="378792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2046240" y="5502240"/>
              <a:ext cx="8478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170080" y="2577960"/>
              <a:ext cx="504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046240" y="1616040"/>
              <a:ext cx="10065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640560" y="6311880"/>
              <a:ext cx="9810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tu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2520" y="2558880"/>
              <a:ext cx="723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r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6846840" y="173052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6789600" y="535932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065320" y="6378480"/>
              <a:ext cx="7304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66600">
              <a:off x="2854080" y="2876400"/>
              <a:ext cx="954000" cy="114480"/>
            </a:xfrm>
            <a:prstGeom prst="leftRightArrow">
              <a:avLst>
                <a:gd name="adj1" fmla="val 50000"/>
                <a:gd name="adj2" fmla="val 16589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8842400">
              <a:off x="2728080" y="5372280"/>
              <a:ext cx="860400" cy="106560"/>
            </a:xfrm>
            <a:prstGeom prst="leftRightArrow">
              <a:avLst>
                <a:gd name="adj1" fmla="val 50000"/>
                <a:gd name="adj2" fmla="val 1607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211400">
              <a:off x="6000840" y="2779560"/>
              <a:ext cx="914400" cy="113040"/>
            </a:xfrm>
            <a:prstGeom prst="leftRightArrow">
              <a:avLst>
                <a:gd name="adj1" fmla="val 50000"/>
                <a:gd name="adj2" fmla="val 1610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331600">
              <a:off x="5967360" y="5312880"/>
              <a:ext cx="874800" cy="112680"/>
            </a:xfrm>
            <a:prstGeom prst="leftRightArrow">
              <a:avLst>
                <a:gd name="adj1" fmla="val 50000"/>
                <a:gd name="adj2" fmla="val 1545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hat Atribute wie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itel, Autor, Beschreibung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tus, Änderungsdatum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kann in einen Hierarchiebaum eingeordne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 hat frei definierbare Merkmale/Suchbegrif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obligatorische Merkmale (z.B. Abteilung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akultative Merkm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Merkmale als Festwerte oder als Freitext definierb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Atribu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Hierarchi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suche über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Merkmale/Suchbegriff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dizierte Volltextsuch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ensuche über Objektlin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 kann beliebig viele Dateien aufnehm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ede Datei ist versionsgefüh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Zurückholen von alten Versionen oder gelöschten Dateien möglich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heck-In  und Check-Out Funktional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 kann geprüft, freigegeben und verteilt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bezogene Berechtigungsvergab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8880" y="1289160"/>
            <a:ext cx="899172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knüpfung mit SAP/R3 Objekten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üfmetho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üfauftra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knüpfung mit anderen Objekten z.B.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ebanwendung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28880" y="1289160"/>
          <a:ext cx="6240240" cy="56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289160"/>
                    <a:ext cx="624024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6600"/>
                </a:solidFill>
                <a:latin typeface="Braggadocio"/>
              </a:rPr>
              <a:t>e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8880" y="1289160"/>
            <a:ext cx="8991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itere optionale Zusät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Dokumentensignieru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Access Control Lis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30000"/>
              </a:lnSpc>
              <a:spcBef>
                <a:spcPts val="1562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Mehrsprachige Ausleg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Standard Deutsch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08080">
              <a:lnSpc>
                <a:spcPct val="130000"/>
              </a:lnSpc>
              <a:spcBef>
                <a:spcPts val="143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300" spc="-1" strike="noStrike">
                <a:solidFill>
                  <a:srgbClr val="000000"/>
                </a:solidFill>
                <a:latin typeface="Arial"/>
              </a:rPr>
              <a:t>Kunde kann selber leicht weitere Sprachen hinzufüg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4520" y="1865160"/>
            <a:ext cx="9144000" cy="3522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können ein beliebiges Format haben z.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c, xls, ppt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html, pdf, xml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jpg, gif, tif, bmp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peg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mp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D… , chemische Fromel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1288800"/>
            <a:ext cx="9217080" cy="5329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5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ff3535"/>
                </a:solidFill>
                <a:latin typeface="Arial"/>
              </a:rPr>
              <a:t> hat Erfahrungen und praxiserprobte Lösungen be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m Aufbau einfacher Dokumenten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Verwaltung von Dokumenten mittels SAP R/3 und Webserver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betriebswirtschaftlich richtigen Verknüpfung von Dokumenten mit Geschäfts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Kopplung von SAP R/3 Systemen mit Webservern und der dafür notwendigen Synchronis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er Programmierung von Dialogen, die ohne Lernaufwand genutzt werden könn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fe0000"/>
                </a:solidFill>
                <a:latin typeface="Arial"/>
              </a:rPr>
              <a:t>Ihr Vorteil wä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- und/oder SAP R/3 basierte Speziallösungen entsprechend Ihren Anforderungen,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e garantierte Termineinhaltung u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 vorher vereinbartes Kostenbudget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 sind Bestandteil der Geschäftsprozes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stellungen, Lieferavise, Rechnungen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pezifikationen, Ausschreibungen, Pflichtenheft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duktdaten (Produktbeschreibungen, Gebrauchs-anweisungen, Bedienungshinweise, Packungsbeilagen)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rbeitsergebnisse (Forschungsberichte, Analyse-ergebnisse, Konzepte, Spektren, Bilder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1440000"/>
            <a:ext cx="9144000" cy="215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eschäftsdokument Untersuchungsbericht ist beispielsweise verknüpft mit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dokumenten (darunter z.B. Methodenbeschreib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der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ktr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5800" y="359424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 fontScale="99000"/>
          </a:bodyPr>
          <a:p>
            <a:pPr marL="559440" indent="-55944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 Methodenbeschreibung ist beispielsweise verknüpft mi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2560" indent="-4744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schäftsdokume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22560" indent="-4744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ktren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8880" y="55389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565200" indent="-56520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s heißt es gilt eine n : m Bezieh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8880" y="1288800"/>
            <a:ext cx="9036000" cy="3090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entsprechend eines Thesaurus in einen Hierarchiebaum eingeordnet werden, z.B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twicklungsberich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tr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terfeste Anstr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nanstri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zielle Besch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stoffbeschichtun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8880" y="4457880"/>
            <a:ext cx="9036000" cy="23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ßerdem oder stattdessen können Dokumente mit Schlagwörtern versehen werden, z.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hal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serlös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V-be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e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8880" y="1937880"/>
            <a:ext cx="9036000" cy="1297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Zusätzlich können Hierarchieknoten und Dokumente klassifiziert und mit Attributen versehen werden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8880" y="3738600"/>
            <a:ext cx="9036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kumente können miteinander verknüpft werden z.B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fahrensanwei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htlin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6608880" y="4025880"/>
            <a:ext cx="2539800" cy="2959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04880" y="1865160"/>
            <a:ext cx="8532720" cy="3810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Anforderungen an ein 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Dokumentenverwaltung am Beispiel Ineo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verwaltung am Beispiel eLab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0" lang="de-DE" sz="2500" spc="-1" strike="noStrike">
                <a:solidFill>
                  <a:srgbClr val="b2b2b2"/>
                </a:solidFill>
                <a:latin typeface="Braggadocio"/>
              </a:rPr>
              <a:t>jweb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Dokumentenmanage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  </a:t>
            </a:r>
            <a:r>
              <a:rPr b="1" lang="de-DE" sz="2500" spc="-1" strike="noStrike">
                <a:solidFill>
                  <a:srgbClr val="b2b2b2"/>
                </a:solidFill>
                <a:latin typeface="Arial"/>
              </a:rPr>
              <a:t>Faz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winkler</cp:lastModifiedBy>
  <cp:lastPrinted>2000-08-22T08:01:00Z</cp:lastPrinted>
  <dcterms:modified xsi:type="dcterms:W3CDTF">2004-05-06T21:40:46Z</dcterms:modified>
  <cp:revision>202</cp:revision>
  <dc:subject/>
  <dc:title>eLab</dc:title>
</cp:coreProperties>
</file>