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5.jpeg" ContentType="image/jpeg"/>
  <Override PartName="/ppt/media/image35.png" ContentType="image/png"/>
  <Override PartName="/ppt/media/image29.png" ContentType="image/png"/>
  <Override PartName="/ppt/media/image18.png" ContentType="image/png"/>
  <Override PartName="/ppt/media/image9.png" ContentType="image/png"/>
  <Override PartName="/ppt/media/image10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13.png" ContentType="image/png"/>
  <Override PartName="/ppt/media/image32.png" ContentType="image/png"/>
  <Override PartName="/ppt/media/image33.png" ContentType="image/png"/>
  <Override PartName="/ppt/media/image11.png" ContentType="image/png"/>
  <Override PartName="/ppt/media/image8.jpeg" ContentType="image/jpeg"/>
  <Override PartName="/ppt/media/image7.jpeg" ContentType="image/jpe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20.png" ContentType="image/png"/>
  <Override PartName="/ppt/media/image2.jpeg" ContentType="image/jpe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843912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2440" y="3790080"/>
            <a:ext cx="843912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244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676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05800" y="129492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59520" y="129492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52440" y="379008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05800" y="379008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59520" y="379008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5244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52440" y="380880"/>
            <a:ext cx="8439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244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676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52440" y="3790080"/>
            <a:ext cx="843912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5244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190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3241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3241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47720" y="914400"/>
            <a:ext cx="7398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38360" y="9144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71520" y="990720"/>
            <a:ext cx="83916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19800" y="6391440"/>
            <a:ext cx="79416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Seite </a:t>
            </a:r>
            <a:fld id="{B159DEB0-F3EE-4BB3-995F-E3D9FEB2D940}" type="slidenum">
              <a:rPr b="0" lang="de-D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019320" y="6391440"/>
            <a:ext cx="60660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8.03.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776600" y="6391440"/>
            <a:ext cx="62208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Kurt Fant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574520" y="6391440"/>
            <a:ext cx="73152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CAQ-System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78800" y="6183360"/>
            <a:ext cx="551880" cy="525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2800"/>
            </a:b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AP R/3</a:t>
            </a:r>
            <a:br>
              <a:rPr sz="3600"/>
            </a:b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Workshop</a:t>
            </a:r>
            <a:br>
              <a:rPr sz="3600"/>
            </a:b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CAQ-Systeme mit R/3</a:t>
            </a:r>
            <a:br>
              <a:rPr sz="3600"/>
            </a:br>
            <a:br>
              <a:rPr sz="36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8.03.2004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rl</a:t>
            </a:r>
            <a:br>
              <a:rPr sz="2400"/>
            </a:br>
            <a:br>
              <a:rPr sz="1800"/>
            </a:br>
            <a:br>
              <a:rPr sz="18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urt Fantes</a:t>
            </a:r>
            <a:br>
              <a:rPr sz="2200"/>
            </a:br>
            <a:r>
              <a:rPr b="1" lang="de-DE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200"/>
            </a:b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br>
              <a:rPr sz="2200"/>
            </a:br>
            <a:br>
              <a:rPr sz="2200"/>
            </a:b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Integriertes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LIMS</a:t>
            </a: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294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elle Anforderungen an moderne CAQ Syst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843912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okumentenverwaltung und -steu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stembasierte (papierlose) QM-Dokumen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ückenlose Dokumentation aller qualitätsbezogenen Da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Über den gesamten Produktlebenszyklus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von der Entwicklung bis zur letzten Kundenreklama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ntlang des primären logistischen Prozesses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z.B. Chargenverfolgu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wachung und Lenkung von Dokumen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pezifikations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O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üfberich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ertifik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234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ösungsansätze zur Einführung / Optimierung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ines CAQ-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Nutzung der vorhandenen Standardfunktion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 QM Modu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erer SAP Module (WM / LES / PS / …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Erweiterungen des SAP Standa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transak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weiterungen zum SAP Standa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satz komplexer Erweiterungen und Business Add-I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weils unter Berücksichtigung aller integrativen Aspek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 der angestrebten Komplettlösung 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234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il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ober Prozessablau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3440" y="1901880"/>
            <a:ext cx="1143000" cy="82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üfauftrag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tomatisch oder manue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1901880"/>
            <a:ext cx="1873080" cy="82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uck Probeziehanweisung / Etiketten (option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80160" y="1901880"/>
            <a:ext cx="1231920" cy="82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rie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option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08520" y="1901880"/>
            <a:ext cx="1487520" cy="82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enverteil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je nach Prüfpla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60480" y="3645000"/>
            <a:ext cx="157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rgebniserfass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364520" y="1901880"/>
            <a:ext cx="1368360" cy="82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ufzetteldru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option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3645000"/>
            <a:ext cx="114480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Validie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(option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32200" y="3645000"/>
            <a:ext cx="191304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rwendungsentsche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32680" y="3645000"/>
            <a:ext cx="160344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uck / Mailversand Analysenbef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16160" y="2405160"/>
            <a:ext cx="342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48160" y="2405160"/>
            <a:ext cx="342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21240" y="2405160"/>
            <a:ext cx="343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05600" y="2405160"/>
            <a:ext cx="343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540160" y="3987360"/>
            <a:ext cx="59184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75000" y="39877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645240" y="3987360"/>
            <a:ext cx="48744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732880" y="2387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961480" y="2387520"/>
            <a:ext cx="0" cy="79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88440" y="3186000"/>
            <a:ext cx="8572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8800" y="3186000"/>
            <a:ext cx="0" cy="80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8800" y="398772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164360" y="5013360"/>
            <a:ext cx="160344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uck / Fax / Mailversand Zertifik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956720" y="4292640"/>
            <a:ext cx="0" cy="72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tegration in die Logis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8713800" cy="55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234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unktionsdefizite existierender Syst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843912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wicklung aller anfallenden Prüfungen in einem Syste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reneingangs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ynamisierung des Prüfumfan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llele Erfassung von Lieferantenzertifikatsda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zessbegleitende 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isches Anlegen der Prüfaufträ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saustausch mit der Produk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igabe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ynamisierung des Prüfumfan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üfung gegen alle Spezifikationen eines Materi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234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sdefizite existierender Syst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843912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wicklung aller anfallenden Prüfungen in einem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mwelt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omatisches Anlegen von periodischen Prob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schungs- und Entwicklungs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i ungeplanten Proben sollen alle Prüfparameter bis zur Ergebniseingabe modifizierbar se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üfumfang ungeplanter Proben soll aus allen Prüfplänen und / oder Spezifikationen frei zusammengestellt werden könn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librier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flege aller Stammdaten im QM Umfel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omatischer, periodischer Prüfanstoß für Kalibrierprüfung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ntarlisten und Prüfrhythmenübersic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mdmuster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gemeine Sonder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234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sdefizite existierender Syst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843912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lobales, harmonisiertes Stamm- und Bewegungsdatenkonzep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ort und Buchungskreis übergreifende Prozes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zifikations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lektronische Verwaltung und Versendung von Spezifikatio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ür Standardspezifikatio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ür Kundenspezifikatio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ür Lieferantenspezifikatio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erksspezifikationen inkl. weltweit zentraler Verwaltung mit standort-spezifischen Anpassungsmöglichkeiten</a:t>
            </a:r>
            <a:br>
              <a:rPr sz="18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(APS = Additional plant specification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flege von Zusatzdaten zur Spezifik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784836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ispiel interne Spezifikation, incl. PDF-Versand per e-m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79280" y="765000"/>
            <a:ext cx="8856000" cy="5976720"/>
            <a:chOff x="179280" y="765000"/>
            <a:chExt cx="8856000" cy="597672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179280" y="765000"/>
              <a:ext cx="4946040" cy="59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876760" y="1280520"/>
              <a:ext cx="1199520" cy="308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199480" y="866880"/>
              <a:ext cx="3835800" cy="5769720"/>
              <a:chOff x="5199480" y="866880"/>
              <a:chExt cx="3835800" cy="5769720"/>
            </a:xfrm>
          </p:grpSpPr>
          <p:pic>
            <p:nvPicPr>
              <p:cNvPr id="10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199480" y="866880"/>
                <a:ext cx="3835800" cy="576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7148880" y="3751560"/>
                <a:ext cx="1199160" cy="20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234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sdefizite existierender Syst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843912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ben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bildung komplexer Laborstruktur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envertei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enregistr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exible Statusverwal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beitsvorrä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mfassender zentraler Arbeitsvorr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aillierbar bis auf Arbeitsplatz- Bearbeiterebe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ssourcenpla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sourcenauslastung auf Schicht / Arbeitsplat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ftragsüberga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isti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P R/3 QM Workshop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1066680"/>
            <a:ext cx="842472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ntscheidungsfaktoren für ERP-Syste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asiskonfigurationen ERP-System – CAQ-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rundsätzliche Anforderungen an moderne CAQ Syste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ative Aspekte von CAQ-Syste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Funktionelle Anforderungen am moderne CAQ Syste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rundsätzliche Lösungsansätz zur Realisierung und Optimierung von CAQ-Systeme mit SAP R/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Realisierungsbeispiele von CAQ-Systemen anhand von Funktionsdefiziten existierender Syste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: Arbeitsvorrat Selek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687888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ispiel: Zentraler Arbeitsvorrat Trefferlis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1280" y="620640"/>
            <a:ext cx="8964720" cy="613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6769080" cy="3203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24000" y="333360"/>
            <a:ext cx="8351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: Zentraler Arbeitsvorrat Bearbeiterzuord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39628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: Zentraler Arbeitsvorra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elektion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6769080" cy="614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: Zentraler Arbeitsvorra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refferliste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8000" y="765000"/>
            <a:ext cx="892800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: Auftragsübergabe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712000" cy="507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234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sdefizite existierender Syst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enlogisti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scher Anstoß der Probenah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uck von Probenetiketten (mit Barcod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strierung von Proben (per Scann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ierte Rückstellmusterverwaltung (mit SAP WM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ierte Prüfmittelverwalt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flege aller Stammdaten im QM Umfel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scher, periodischer Prüfanstoß für Kalibrier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entarlisten und Prüfrhythmenübersic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istische Auswert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499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ventarlisten und Prüfrhythmenübersich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52080" y="1294920"/>
            <a:ext cx="414324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863640" indent="0"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45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08000" y="549360"/>
            <a:ext cx="8785080" cy="61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391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bellarische Ergebnisdarstellung Kalibrieru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52080" y="1294920"/>
            <a:ext cx="414324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863640" indent="0"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45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4920" y="692280"/>
            <a:ext cx="9001080" cy="607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rafische Ergebnisdarstellu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52080" y="1294920"/>
            <a:ext cx="414324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863640" indent="0"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45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08000" y="1413000"/>
            <a:ext cx="896472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scheidungsfaktoren für ERP-Syst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0663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ternehmensweite einheitliche Datenba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38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ternehmensweite Integ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38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enkonsisten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38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ine ungewollten Redundanz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fügbarkeit und Qualität von Information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38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Über den gesamten Produktlebenszykl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38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lang des gesamten primären logistischen Proz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ostenreduzi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38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38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38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nittstel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38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nstige lfd. Ko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234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sdefizite existierender Syst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matische detaillierte Leistungs- und Prüfkostenabrechn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orspezifische Leistungsverzeichnisse auf Methodenebe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rechnung auf Basis der tatsächlich durchgeführten Prüfungen (Einzelwert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rechnung externer Leistungen auf Auftragsebe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t Simulationsfunk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borspezifisches Leistungsverzeichn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4360" y="1160640"/>
            <a:ext cx="7127640" cy="50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istungsabrechnung und Statistik - Selek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187280" y="1054080"/>
            <a:ext cx="5935680" cy="525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istungsabrechnung und Statisti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785440" cy="626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234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sdefizite existierender Syst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ternes Informations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übersicht mit umfassenden Qualitätsinforma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ion &lt;–&gt; Lab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tomatischer Versand von Prüfergebnissen per Druck, Fax oder E-Ma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reitstellen von „Realtime“ SPC-Da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rafische Aufbereitung der Qualitätslage in der Produk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abor &lt;–&gt; Vertrie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tomatischer Versand von Prüfergebnissen per Druck, Fax oder E-Ma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tomatischer Anstoß von Retest-Prüfungen mit elektronischer Antw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tomatischer Anstoß von Ergänzungs-Prüfungen mit elektronischer Antw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Stoffbestandssic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64764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250920" y="4221000"/>
          <a:ext cx="2847960" cy="115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4221000"/>
                    <a:ext cx="284796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431640" y="1892160"/>
          <a:ext cx="185760" cy="189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1640" y="1892160"/>
                    <a:ext cx="185760" cy="1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539640" y="2349360"/>
          <a:ext cx="171720" cy="162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2349360"/>
                    <a:ext cx="17172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395280" y="2205000"/>
          <a:ext cx="171360" cy="162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5280" y="2205000"/>
                    <a:ext cx="17136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755640" y="2708280"/>
          <a:ext cx="162000" cy="162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5640" y="2708280"/>
                    <a:ext cx="16200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04920" y="3254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nktionsdefizite existierender Syst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45964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24000" y="1890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nktionsdefizite existierender Syst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50920" y="700200"/>
            <a:ext cx="8569080" cy="59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234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sdefizite existierender Syst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PC / Statistiken / Repo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terial bezo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hargen bezo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erioden bezo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ionslinien bezog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499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 direkt in SA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gabe nach MS-Excel zur weiteren Bearbei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bgleich aller aktuellen Bestände bei Spezifikations-änderun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499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skonfigurationen ERP-System – CAQ-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3640" y="1052640"/>
            <a:ext cx="850716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 das ERP-System integrierte Standardlö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618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ptimale Lösung, wenn die angebotenen Funktionen, das Systemhandling und die Flexibilität den Anforderungen genüg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xternes CAQ-System mit Schnittstellen zum ERP-Syste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618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r dann zu empfehlen wenn keine integrierte Lösung verfügbar i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ierte Standardlösung + externes CAQ-Syste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618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r dann zu empfehlen wenn keine integrierte Lösung verfügbar i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m ERP-System realisierte, kundenoptimierte Lö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618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ptimale Lösung, wenn das Standard ERP-System den Anforderungen nicht genüg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95280" y="-100080"/>
            <a:ext cx="822960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0066ff"/>
                </a:solidFill>
                <a:latin typeface="Arial"/>
              </a:rPr>
              <a:t>LIM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stauswert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496000" cy="62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95280" y="0"/>
            <a:ext cx="82296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LIM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P-Schnellgraf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8000" y="549360"/>
            <a:ext cx="8928000" cy="61992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258920" y="4365720"/>
            <a:ext cx="6626160" cy="2156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80880" y="0"/>
            <a:ext cx="8229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66ff"/>
                </a:solidFill>
                <a:latin typeface="Arial"/>
              </a:rPr>
              <a:t>LIMS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XCEL-Graf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0" y="549360"/>
            <a:ext cx="9143640" cy="6308280"/>
            <a:chOff x="0" y="549360"/>
            <a:chExt cx="9143640" cy="6308280"/>
          </a:xfrm>
        </p:grpSpPr>
        <p:pic>
          <p:nvPicPr>
            <p:cNvPr id="169" name="" descr=""/>
            <p:cNvPicPr/>
            <p:nvPr/>
          </p:nvPicPr>
          <p:blipFill>
            <a:blip r:embed="rId1"/>
            <a:stretch/>
          </p:blipFill>
          <p:spPr>
            <a:xfrm>
              <a:off x="0" y="549360"/>
              <a:ext cx="9143640" cy="63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5171760" y="1428120"/>
              <a:ext cx="448920" cy="1584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623680" y="1428120"/>
              <a:ext cx="1422360" cy="1584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808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gewählte Funktionen </a:t>
            </a:r>
            <a:r>
              <a:rPr b="1" lang="en-US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LIMS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Managementauswertung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47817" b="0"/>
          <a:stretch/>
        </p:blipFill>
        <p:spPr>
          <a:xfrm>
            <a:off x="395280" y="836640"/>
            <a:ext cx="5761080" cy="58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234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sdefizite existierender Syst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okumentenverwal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lattformübergreifender,  offener Ansatz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tegrierte zentrale Verwaltung von QM relevanten Dokumenten wie z. B. Methodenbeschreibungen oder QM Handbücher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ugriff und Pflege über Standardbrowser aus Inter- und Intran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rekter Zugriff aus SA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ollständiger Funktionsumfa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lltextsuch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finition von Suchbegriffen und Schlagwort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ersionier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heck-In / Check-Out Funktion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reigabestrategi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rechtigungsverwalt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erschlüssel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okumentsignier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234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i="1" lang="de-DE" sz="2200" spc="-1" strike="noStrike">
                <a:solidFill>
                  <a:srgbClr val="000000"/>
                </a:solidFill>
                <a:latin typeface="Arial"/>
              </a:rPr>
              <a:t>Dokumenten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467360" y="1916280"/>
            <a:ext cx="6128640" cy="4004640"/>
            <a:chOff x="1467360" y="1916280"/>
            <a:chExt cx="6128640" cy="4004640"/>
          </a:xfrm>
        </p:grpSpPr>
        <p:sp>
          <p:nvSpPr>
            <p:cNvPr id="179" name=""/>
            <p:cNvSpPr/>
            <p:nvPr/>
          </p:nvSpPr>
          <p:spPr>
            <a:xfrm>
              <a:off x="2693880" y="2833200"/>
              <a:ext cx="3368520" cy="210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54960" y="4025880"/>
              <a:ext cx="1203120" cy="641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58080" y="4025880"/>
              <a:ext cx="1202760" cy="64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54960" y="3475440"/>
              <a:ext cx="2405880" cy="55008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934720" y="2925000"/>
              <a:ext cx="27669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0000"/>
                  </a:solidFill>
                  <a:latin typeface="Braggadocio"/>
                </a:rPr>
                <a:t>jw</a:t>
              </a:r>
              <a:r>
                <a:rPr b="0" lang="de-DE" sz="1000" spc="-1" strike="noStrike">
                  <a:solidFill>
                    <a:srgbClr val="ff9900"/>
                  </a:solidFill>
                  <a:latin typeface="Braggadocio"/>
                </a:rPr>
                <a:t>e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Dokumentenmanag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054960" y="4209120"/>
              <a:ext cx="1082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atenba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258080" y="4209120"/>
              <a:ext cx="1202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ateiabla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56520" y="3659040"/>
              <a:ext cx="120312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eb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7" name="" descr=""/>
            <p:cNvPicPr/>
            <p:nvPr/>
          </p:nvPicPr>
          <p:blipFill>
            <a:blip r:embed="rId1"/>
            <a:stretch/>
          </p:blipFill>
          <p:spPr>
            <a:xfrm>
              <a:off x="1467360" y="5034600"/>
              <a:ext cx="892080" cy="6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1597680" y="2688120"/>
              <a:ext cx="531360" cy="18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A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2"/>
            <a:stretch/>
          </p:blipFill>
          <p:spPr>
            <a:xfrm>
              <a:off x="1467360" y="1916280"/>
              <a:ext cx="105912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6530400" y="5715000"/>
              <a:ext cx="1032480" cy="18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otus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t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10680" y="2673000"/>
              <a:ext cx="761760" cy="18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tran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2" name="" descr=""/>
            <p:cNvPicPr/>
            <p:nvPr/>
          </p:nvPicPr>
          <p:blipFill>
            <a:blip r:embed="rId3"/>
            <a:stretch/>
          </p:blipFill>
          <p:spPr>
            <a:xfrm>
              <a:off x="6520320" y="2007720"/>
              <a:ext cx="824040" cy="64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4"/>
            <a:stretch/>
          </p:blipFill>
          <p:spPr>
            <a:xfrm>
              <a:off x="6460200" y="4920120"/>
              <a:ext cx="1135800" cy="82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1487520" y="5737680"/>
              <a:ext cx="769680" cy="18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2166600">
              <a:off x="2319120" y="2926800"/>
              <a:ext cx="1004400" cy="91440"/>
            </a:xfrm>
            <a:prstGeom prst="leftRightArrow">
              <a:avLst>
                <a:gd name="adj1" fmla="val 50000"/>
                <a:gd name="adj2" fmla="val 21866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8842400">
              <a:off x="2292480" y="4917960"/>
              <a:ext cx="690480" cy="111240"/>
            </a:xfrm>
            <a:prstGeom prst="leftRightArrow">
              <a:avLst>
                <a:gd name="adj1" fmla="val 50000"/>
                <a:gd name="adj2" fmla="val 1235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9211400">
              <a:off x="5630040" y="2848680"/>
              <a:ext cx="962280" cy="91080"/>
            </a:xfrm>
            <a:prstGeom prst="leftRightArrow">
              <a:avLst>
                <a:gd name="adj1" fmla="val 50000"/>
                <a:gd name="adj2" fmla="val 2103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2331600">
              <a:off x="5595120" y="4882320"/>
              <a:ext cx="920880" cy="90360"/>
            </a:xfrm>
            <a:prstGeom prst="leftRightArrow">
              <a:avLst>
                <a:gd name="adj1" fmla="val 50000"/>
                <a:gd name="adj2" fmla="val 20288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234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sdefizite existierender Syst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ammdatenpfle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ukturiert dokumentierte Prozes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stemunterstützung (Workflow-Szenarie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sistenz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tegriertes Reklamations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eferantenreklamationen inkl. Lieferantenbeurtei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s Problem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nreklamationen inkl. Retourenabwick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bsicherung einer spezifikationsgerechten Auslief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 Spezifikationseben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 Kundenebe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499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sdefizite existierender Syst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1125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86364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arantiezeiten für Produkt/Kunden-Kombina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ische Chargenfindung unter Einbezug einer Garantiezeit je Kunde/Materi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nderabwicklung für Inter-Company-Geschäf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icherung der spezifikationsgerechten Auslief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ische Spezifikationsfindung im Kundenauftrag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zifikationsbezogene Verfügbarkeitsprüf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ische Chargenfindung zur Spezifik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te Prüfung der Chargeneignung in der Liefer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391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sdefizite existierender Syst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52080" y="1294920"/>
            <a:ext cx="414324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üfung (FE) gegen alle Spezifikationen eines Stoff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640720" cy="59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sdefizite existierender Syst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832320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rstellung des Freigabeentscheids für alle Spezifikationen eines Stoff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58920" y="3357720"/>
            <a:ext cx="64908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68360" y="1916280"/>
          <a:ext cx="5759280" cy="43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916280"/>
                    <a:ext cx="575928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svoraussetzungen für CAQ Syste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120" y="1294920"/>
            <a:ext cx="7620120" cy="487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otentielle Unterstützung aller unternehmensweit anfallenden Anforderunge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ukunftssichere Technologi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odularitä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infache Bedienung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ertifizierbarke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zahlb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sdefizite existierender Syst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0880" y="980640"/>
            <a:ext cx="7772400" cy="54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erarchische Spezifikationsfindung für extern beschaffte Produk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pezifikationen können zu folgenden Ebenen angelegt werden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eferant/Logistik-Werk/Stof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ogistik-Werk/Stof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eferant/QM-Werk/Stof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QM-Werk/Stof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PS für die Produk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tomatische Ergänzung eines Standardprüfpla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gabe von erlaubten Regeln für die Ergänzung und Substitution von Dat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PS für  Inter-Company-Geschäf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tomatische Erzeugung eines werksspezifischen Kontroll-Prüfauftrages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sdefizite existierender Syst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125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ustomer related product monito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lexible Prüfrhythmen für Produkte und/oder Produkt/Kundenkombinatio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igene Prüfvorgaben mögli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ltbarkei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i WE aus Inter-Company-Geschäf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i Retestprüf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s der Bestandssich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stützung externer IPC durch Druck der Prüfaufträ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sdefizite existierender Syst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gänzungsprüf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ischer Anstoß aus der Lieferung oder manue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ische Benachrichtigung des verantwortlichen Lab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ische Benachrichtigung des Verursach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-dimensionaler Verwendungsentsche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ste Eben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standsart der gesamten Char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weite Eben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zifikationsfreigab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itte Eben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undefreigaben /-sperrunge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wendungsentscheid, Bestandseben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rcRect l="0" t="0" r="0" b="590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wendungsentscheid, Spezifikationseben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0" y="620640"/>
            <a:ext cx="9144000" cy="6237360"/>
            <a:chOff x="0" y="620640"/>
            <a:chExt cx="9144000" cy="6237360"/>
          </a:xfrm>
        </p:grpSpPr>
        <p:pic>
          <p:nvPicPr>
            <p:cNvPr id="221" name="" descr=""/>
            <p:cNvPicPr/>
            <p:nvPr/>
          </p:nvPicPr>
          <p:blipFill>
            <a:blip r:embed="rId1"/>
            <a:srcRect l="0" t="0" r="0" b="6384"/>
            <a:stretch/>
          </p:blipFill>
          <p:spPr>
            <a:xfrm>
              <a:off x="0" y="620640"/>
              <a:ext cx="9144000" cy="623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7093080" y="1773360"/>
              <a:ext cx="1143000" cy="152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93080" y="1916280"/>
              <a:ext cx="1143000" cy="152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093080" y="1628640"/>
              <a:ext cx="1371600" cy="152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wendungsentscheid, Kundeneben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-2289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uelle Zertifikat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rcRect l="0" t="0" r="31732" b="0"/>
          <a:stretch/>
        </p:blipFill>
        <p:spPr>
          <a:xfrm>
            <a:off x="0" y="54936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2800"/>
            </a:b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AP R/3</a:t>
            </a:r>
            <a:br>
              <a:rPr sz="3600"/>
            </a:b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Workshop</a:t>
            </a:r>
            <a:br>
              <a:rPr sz="3600"/>
            </a:b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CAQ-Systeme mit R/3</a:t>
            </a:r>
            <a:br>
              <a:rPr sz="3600"/>
            </a:br>
            <a:br>
              <a:rPr sz="36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8.03.2004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rl</a:t>
            </a:r>
            <a:br>
              <a:rPr sz="2400"/>
            </a:br>
            <a:br>
              <a:rPr sz="1800"/>
            </a:br>
            <a:br>
              <a:rPr sz="18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urt Fantes</a:t>
            </a:r>
            <a:br>
              <a:rPr sz="2200"/>
            </a:br>
            <a:r>
              <a:rPr b="1" lang="de-DE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200"/>
            </a:b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br>
              <a:rPr sz="2200"/>
            </a:br>
            <a:br>
              <a:rPr sz="2200"/>
            </a:b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Integriertes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LIMS</a:t>
            </a: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ive Aspekte CAQ-System &lt;&gt; ERP-Syste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94920" y="112536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isti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1713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sches Anlegen von Prüfaufträ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1713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sierte Bestandsbuchungen z. B. nach Freigabe- /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erwendungsentscheid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1713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sicherung der spezifikationsgerechten Auslief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1713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unterstütze Kommunikation QM &lt;&gt; Logis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1713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l time Informationsbereitstellung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rol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1713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sche Prüfkostenabrech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H&amp;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1713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ion der EH&amp;S Da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294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elle Anforderungen an moderne CAQ Syst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39120" cy="532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Qualitätsmanag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benverwal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ssourcenplanung /-verwal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okumentation von Personalqualifikation /- schu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vorrat (Master Schedul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benlogis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rüfplan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zifikationsmanagemen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lexibles Planen von periodischen 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Online Datenaustaus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tomatisierte Übernahme von Qualitätsdate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z. B. von GC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gabe von Daten an PIM Systeme oder Neuronale Net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294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elle Anforderungen an moderne CAQ Syst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439120" cy="51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76920" indent="-37692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bwicklung aller anfallenden Prüfungen in einem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872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nahmep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872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areneingangs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872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zessbegleitende 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872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endkontrol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872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test-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872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mwelt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872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orschungs- und Entwicklungs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872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alibrier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872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lgemeine Sonder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872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remdmuster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294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elle Anforderungen an moderne CAQ Syst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843912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eferantenbeurteil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üfmittel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waltung der genutzten Prüfmittel inklusive Statusverwalt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omatisches Anlegen der Kalibrieraufträ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beitsvorrat mit Vorscha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üfungshistorien / -statistik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wertungen / Statistische Prozesskontrol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fische und tabellarische Darstellung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wnloadfunktionen (z. B. nach MS EXCE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iertes Reklamations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eferantenreklamation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e Problemmeldung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undenreklamation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1T16:24:12Z</dcterms:created>
  <dc:creator>HISS-Nr.:62450</dc:creator>
  <dc:description/>
  <dc:language>en-US</dc:language>
  <cp:lastModifiedBy>winkler</cp:lastModifiedBy>
  <cp:lastPrinted>2002-02-19T08:24:01Z</cp:lastPrinted>
  <dcterms:modified xsi:type="dcterms:W3CDTF">2004-03-18T08:41:08Z</dcterms:modified>
  <cp:revision>461</cp:revision>
  <dc:subject/>
  <dc:title>Intergriertes SAP R/3 LIMS</dc:title>
</cp:coreProperties>
</file>