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18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2.png" ContentType="image/png"/>
  <Override PartName="/ppt/media/image33.png" ContentType="image/png"/>
  <Override PartName="/ppt/media/image11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29492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3790080"/>
            <a:ext cx="271728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2440" y="380880"/>
            <a:ext cx="8439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379008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294920"/>
            <a:ext cx="411804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3790080"/>
            <a:ext cx="8439120" cy="22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294920"/>
            <a:ext cx="843912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190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7720" y="914400"/>
            <a:ext cx="7398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8360" y="9144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990720"/>
            <a:ext cx="839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9800" y="6391440"/>
            <a:ext cx="79416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3FAFE65-7399-4166-A7E6-BF322CF54DF2}" type="slidenum">
              <a:rPr b="0" lang="de-D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19320" y="6391440"/>
            <a:ext cx="60660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.03.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76600" y="6391440"/>
            <a:ext cx="62208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urt Fan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4520" y="6391440"/>
            <a:ext cx="731520" cy="1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AQ-Syste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78800" y="6183360"/>
            <a:ext cx="551880" cy="52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AQ-Systeme mit R/3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.03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verwaltung und -steu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basierte (papierlose) QM-Dokumen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ückenlose Dokumentation aller qualitätsbezogenen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Über den gesamten Produktlebenszyklu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von der Entwicklung bis zur letzten Kundenreklam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lang des primären logistischen Prozess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z.B. Chargenverfolg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achung und Lenkung von Dokum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berich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ösungsansätze zur Einführung / Optimierung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es CAQ-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Nutzung der vorhandenen Standard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QM Modu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erer SAP Module (WM / LES / PS /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rweiterungen des SAP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trans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weiterungen zum SAP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satz komplexer Erweiterungen und Business Add-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weils unter Berücksichtigung aller integrativen Aspek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 der angestrebten Komplettlösung 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il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ber Prozessabl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3440" y="1901880"/>
            <a:ext cx="114300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üfauftr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sch oder manu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1901880"/>
            <a:ext cx="187308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Probeziehanweisung / Etiketten 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80160" y="1901880"/>
            <a:ext cx="12319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08520" y="1901880"/>
            <a:ext cx="148752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enver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e nach Prüfpl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3645000"/>
            <a:ext cx="157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gebniserfass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64520" y="1901880"/>
            <a:ext cx="1368360" cy="82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ufzetteldru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3645000"/>
            <a:ext cx="11448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Valid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opt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2200" y="3645000"/>
            <a:ext cx="19130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wendungsentsche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32680" y="364500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Mailversand Analysenbef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6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4051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2124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5600" y="24051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40160" y="3987360"/>
            <a:ext cx="5918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5000" y="3987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645240" y="3987360"/>
            <a:ext cx="48744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32880" y="2387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961480" y="2387520"/>
            <a:ext cx="0" cy="79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440" y="3186000"/>
            <a:ext cx="8572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800" y="3186000"/>
            <a:ext cx="0" cy="80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800" y="398772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4360" y="5013360"/>
            <a:ext cx="160344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uck / Fax / Mailversand Zertifik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56720" y="429264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egration in die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13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neinga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lele Erfassung von Lieferantenzertifikats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s Anlegen der Prüfaufträ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saustausch mit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igabe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sierung des Prüfumfa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üfung gegen alle Spezifikationen eines Mate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welt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s Anlegen von periodischen Prob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schungs- und Entwicklungs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i ungeplanten Proben sollen alle Prüfparameter bis zur Ergebniseingabe modifizierbar se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üfumfang ungeplanter Proben soll aus allen Prüfplänen und / oder Spezifikationen frei zusammengestellt werden kön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gemeine Sonderpro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lobales, harmonisiertes Stamm- und Bewegungs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 und Buchungskreis übergreifend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lektronische Verwaltung und Versendung von 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Standard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Kund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Lieferantenspezifik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sspezifikationen inkl. weltweit zentraler Verwaltung mit standort-spezifischen Anpassungsmöglichkeiten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APS = Additional plant specific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flege von Zusatzdaten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 interne Spezifikation, incl. PDF-Versand per e-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9280" y="765000"/>
            <a:ext cx="8856000" cy="5976720"/>
            <a:chOff x="179280" y="765000"/>
            <a:chExt cx="8856000" cy="59767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4946040" cy="59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876760" y="1280520"/>
              <a:ext cx="1199520" cy="308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199480" y="866880"/>
              <a:ext cx="3835800" cy="5769720"/>
              <a:chOff x="5199480" y="866880"/>
              <a:chExt cx="3835800" cy="576972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9480" y="866880"/>
                <a:ext cx="3835800" cy="57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7148880" y="3751560"/>
                <a:ext cx="1199160" cy="20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bildung komplexer Laborstruk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ve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enregistr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Status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beitsvorrä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fassender zentraler Arbeitsvor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lierbar bis auf Arbeitsplatz- Bearbeiter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sourcenplan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sourcenauslastung auf Schicht / Arbeitspla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überga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R/3 QM Worksho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066680"/>
            <a:ext cx="84247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iskonfigurationen ERP-System – CAQ-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sätzliche Anforderungen an moderne CAQ 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ative Aspekte von CAQ-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elle Anforderungen am moderne CAQ Syste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rundsätzliche Lösungsansätz zur Realisierung und Optimierung von CAQ-Systeme mit SAP R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Monotype Sorts" charset="2"/>
              <a:buChar char="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alisierungsbeispiele von CAQ-Systemen anhand von Funktionsdefiziten existierender 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711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Arbeitsvorrat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8788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ispiel: Zentraler Arbeitsvorrat Trefferlis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280" y="620640"/>
            <a:ext cx="8964720" cy="61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3203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33360"/>
            <a:ext cx="83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 Bearbeiterzu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96280" cy="38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elektion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676908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Zentraler Arbeitsvorra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refferliste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928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: Auftragsüberga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712000" cy="50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 Anstoß der Probenah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ck von Probenetiketten (mit Barc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ierung von Proben (per Scann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erte Rückstellmusterverwaltung (mit SAP WM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 Prüfmittelverwalt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lege aller Stammdaten im QM Umf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r, periodischer Prüfanstoß für 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sche Auswer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ntarlisten und Prüfrhythmenübersich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78508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bellarische Ergebnisdarstellung Kalibrier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92280"/>
            <a:ext cx="900108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fische Ergebnisdarstellu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6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scheidungsfaktoren für ERP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ternehmensweite einheitliche Datenba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nehmensweit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konsiste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e ungewollten Redundan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ügbarkeit und Qualität von Information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 den gesamten Produktlebenszyk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lang des gesamten primären logistischen Proz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stenreduzi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381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stige lfd. Ko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sche detaillierte Leistungs- und Prüfkostenabrechn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spezifische Leistungsverzeichnisse auf Metho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auf Basis der tatsächlich durchgeführten Prüfungen (Einzelwer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echnung externer Leistungen auf Auftrags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 Simulationsfun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spezifisches Leistungsverzeich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160640"/>
            <a:ext cx="7127640" cy="50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 - Selek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054080"/>
            <a:ext cx="59356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abrechnung und Statisti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nes Infor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übersicht mit umfassenden Qualitäts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 &lt;–&gt; La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eitstellen von „Realtime“ SPC-Da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afische Aufbereitung der Qualitätslage in der Produ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bor &lt;–&gt; Vertri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Versand von Prüfergebnissen per Druck, Fax oder E-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Retest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tomatischer Anstoß von Ergänzungs-Prüfungen mit elektronischer Antw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alität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S Stoffbestandssic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47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250920" y="4221000"/>
          <a:ext cx="284796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21000"/>
                    <a:ext cx="28479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31640" y="1892160"/>
          <a:ext cx="185760" cy="18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1640" y="1892160"/>
                    <a:ext cx="18576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9640" y="2349360"/>
          <a:ext cx="171720" cy="1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2349360"/>
                    <a:ext cx="1717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2205000"/>
          <a:ext cx="171360" cy="16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280" y="2205000"/>
                    <a:ext cx="1713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55640" y="2708280"/>
          <a:ext cx="162000" cy="16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270828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2544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defizite existierender 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596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189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ktionsdefizite existierender 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700200"/>
            <a:ext cx="8569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C / Statistiken /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arg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en bezo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ionslinien bezo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abe direkt in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nach MS-Excel zur weiteren 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gleich aller aktuellen Bestände bei Spezifikations-än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konfigurationen ERP-System – CAQ-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3640" y="1052640"/>
            <a:ext cx="85071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 das ERP-System integrierte Standard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ie angebotenen Funktionen, das Systemhandling und die Flexibilität den Anforderungen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ternes CAQ-System mit Schnittstellen zum ERP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tegrierte Standardlösung + externes CAQ-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dann zu empfehlen wenn keine integrierte Lösung verfügbar 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m ERP-System realisierte, kundenoptimierte Lös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618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timale Lösung, wenn das Standard ERP-System den Anforderungen nicht genü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-10008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2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stauswer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-Schnell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8928000" cy="6199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58920" y="4365720"/>
            <a:ext cx="6626160" cy="21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CEL-Graf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549360"/>
            <a:ext cx="9143640" cy="6308280"/>
            <a:chOff x="0" y="549360"/>
            <a:chExt cx="9143640" cy="630828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9143640" cy="63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171760" y="1428120"/>
              <a:ext cx="448920" cy="15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3680" y="1428120"/>
              <a:ext cx="1422360" cy="158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gewählte Funktionen </a:t>
            </a:r>
            <a:r>
              <a:rPr b="1" lang="en-US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IMS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anagementauswertun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47817" b="0"/>
          <a:stretch/>
        </p:blipFill>
        <p:spPr>
          <a:xfrm>
            <a:off x="395280" y="836640"/>
            <a:ext cx="576108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lattformübergreifender,  offener Ansat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grierte zentrale Verwaltung von QM relevanten Dokumenten wie z. B. Methodenbeschreibungen oder QM Handbüch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griff und Pflege über Standardbrowser aus Inter- und Intra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rekter Zugriff aus S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llständiger Funktionsumfa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lltextsu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finition von Suchbegriffen und Schlagwor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ck-In / Check-Out Funk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reigabestrategi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rechtigung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okumentsig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i="1" lang="de-DE" sz="2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67360" y="1916280"/>
            <a:ext cx="6128640" cy="4004640"/>
            <a:chOff x="1467360" y="1916280"/>
            <a:chExt cx="6128640" cy="4004640"/>
          </a:xfrm>
        </p:grpSpPr>
        <p:sp>
          <p:nvSpPr>
            <p:cNvPr id="179" name=""/>
            <p:cNvSpPr/>
            <p:nvPr/>
          </p:nvSpPr>
          <p:spPr>
            <a:xfrm>
              <a:off x="2693880" y="2833200"/>
              <a:ext cx="3368520" cy="210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4960" y="4025880"/>
              <a:ext cx="1203120" cy="641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8080" y="4025880"/>
              <a:ext cx="1202760" cy="64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4960" y="3475440"/>
              <a:ext cx="2405880" cy="550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34720" y="2925000"/>
              <a:ext cx="27669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54960" y="4209120"/>
              <a:ext cx="1082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58080" y="4209120"/>
              <a:ext cx="1202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56520" y="3659040"/>
              <a:ext cx="120312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1467360" y="5034600"/>
              <a:ext cx="892080" cy="6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597680" y="2688120"/>
              <a:ext cx="5313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1467360" y="1916280"/>
              <a:ext cx="105912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530400" y="5715000"/>
              <a:ext cx="10324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0680" y="2673000"/>
              <a:ext cx="76176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6520320" y="2007720"/>
              <a:ext cx="82404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6460200" y="4920120"/>
              <a:ext cx="1135800" cy="82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487520" y="5737680"/>
              <a:ext cx="769680" cy="18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66600">
              <a:off x="2319120" y="2926800"/>
              <a:ext cx="1004400" cy="91440"/>
            </a:xfrm>
            <a:prstGeom prst="leftRightArrow">
              <a:avLst>
                <a:gd name="adj1" fmla="val 50000"/>
                <a:gd name="adj2" fmla="val 2186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8842400">
              <a:off x="2292480" y="4917960"/>
              <a:ext cx="690480" cy="111240"/>
            </a:xfrm>
            <a:prstGeom prst="leftRightArrow">
              <a:avLst>
                <a:gd name="adj1" fmla="val 50000"/>
                <a:gd name="adj2" fmla="val 1235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9211400">
              <a:off x="5630040" y="2848680"/>
              <a:ext cx="962280" cy="91080"/>
            </a:xfrm>
            <a:prstGeom prst="leftRightArrow">
              <a:avLst>
                <a:gd name="adj1" fmla="val 50000"/>
                <a:gd name="adj2" fmla="val 2103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331600">
              <a:off x="5595120" y="4882320"/>
              <a:ext cx="920880" cy="90360"/>
            </a:xfrm>
            <a:prstGeom prst="leftRightArrow">
              <a:avLst>
                <a:gd name="adj1" fmla="val 50000"/>
                <a:gd name="adj2" fmla="val 2028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115920"/>
            <a:ext cx="82234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mmdatenpf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ukturiert dokumentierte 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unterstützung (Workflow-Szenari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istenz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reklamationen inkl. Lieferantenbeurtei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s Problem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enreklamationen inkl. Retourenabwickl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sicherung einer spezifikationsgerechten 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Spezifikationsebe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Kundeneb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rantiezeiten für Produkt/Kunden-Kombination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unter Einbezug einer Garantiezeit je Kunde/Mate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abwicklung für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Spezifikationsfindung im Kundenauftra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bezogene Verfügbarkeitsprüf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Chargenfindung zur Spezifik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te Prüfung der Chargeneignung in der Lief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3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2080" y="1294920"/>
            <a:ext cx="414324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üfung (FE) gegen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407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244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2440" y="1294920"/>
            <a:ext cx="8323200" cy="47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stellung des Freigabeentscheids für alle Spezifikationen eines Stoff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3357720"/>
            <a:ext cx="64908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68360" y="1916280"/>
          <a:ext cx="575928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575928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voraussetzungen für CAQ Syste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7620120" cy="48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tentielle Unterstützung aller unternehmensweit anfallenden Anforderung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kunftssichere 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ularitä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ache Bedien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ertifizierbar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zahl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980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archische Spezifikationsfindung für extern beschaffte Produk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pezifikationen können zu folgenden Ebenen angelegt werden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ogistik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nt/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2793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M-Werk/St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die Produk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gänzung eines Standardprüfpl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gabe von erlaubten Regeln für die Ergänzung und Substitution von 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PS für  Inter-Company-Geschäf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tomatische Erzeugung eines werksspezifischen Kontroll-Prüfauftrag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ustomer related product monito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lexible Prüfrhythmen für Produkte und/oder Produkt/Kundenkombin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gene Prüfvorgaben mögli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ltbarkei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WE aus Inter-Company-Geschäf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 Retestprüf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der Bestandssic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ung externer IPC durch Druck der Prüfaufträ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sdefizite existierender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gänzungsprüf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r Anstoß aus der Lieferung oder manu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antwortlichen Lab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sche Benachrichtigung des Verursa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-dimensionaler Verwendungsentsche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andsart der gesamten Ch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ei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zifikationsfreiga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tte Eb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defreigaben /-sperrunge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Bestand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0" b="590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Spezifikations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620640"/>
            <a:ext cx="9144000" cy="6237360"/>
            <a:chOff x="0" y="620640"/>
            <a:chExt cx="9144000" cy="62373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rcRect l="0" t="0" r="0" b="6384"/>
            <a:stretch/>
          </p:blipFill>
          <p:spPr>
            <a:xfrm>
              <a:off x="0" y="620640"/>
              <a:ext cx="914400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7093080" y="177336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3080" y="1916280"/>
              <a:ext cx="11430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93080" y="1628640"/>
              <a:ext cx="1371600" cy="1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endungsentscheid, Kundenebe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elle Zertifik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31732" b="0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28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orkshop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CAQ-Systeme mit R/3</a:t>
            </a:r>
            <a:br>
              <a:rPr sz="3600"/>
            </a:br>
            <a:br>
              <a:rPr sz="36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8.03.2004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2400"/>
            </a:br>
            <a:br>
              <a:rPr sz="1800"/>
            </a:br>
            <a:br>
              <a:rPr sz="18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urt Fantes</a:t>
            </a:r>
            <a:br>
              <a:rPr sz="2200"/>
            </a:br>
            <a:r>
              <a:rPr b="1" lang="de-DE" sz="18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200"/>
            </a:b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br>
              <a:rPr sz="2200"/>
            </a:b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2372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tegriertes </a:t>
            </a:r>
            <a:r>
              <a:rPr b="1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LIMS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ve Aspekte CAQ-System &lt;&gt; ERP-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isti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s Anlegen von Prüfaufträ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ierte Bestandsbuchungen z. B. nach Freigabe- 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wendungsentscheid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icherung der spezifikationsgerechten 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unterstütze Kommunikation QM &lt;&gt;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time Informationsbereitstell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Prüfkostenabrech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H&amp;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713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75000"/>
              <a:buFont typeface="Wingdings" charset="2"/>
              <a:buChar char="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der EH&amp;S 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3912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Qualitäts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ssourcenplanung /-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ation von Personalqualifikation /- schu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orrat (Master Schedu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en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üfplanu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pezifikationsmanag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exibles Planen von periodischen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line Datenaustaus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tomatisierte Übernahme von Qualitätsda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von G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be von Daten an PIM Systeme oder Neuronale Net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391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wicklung aller anfallenden Prüfungen in einem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reneingang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zessbegleitende 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endkontrol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est-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elt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orschungs- und Entwicklungs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libri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Sond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872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mdmusterprüf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lle Anforderungen an moderne CAQ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4391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antenbeur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üfmittel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waltung der genutzten Prüfmittel inklusive Statusverwal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sches Anlegen der Kalibri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beitsvorrat mit Vorscha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üfungshistorien / -statistik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 / Statistische Prozesskontro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fische und tabellarische Darstell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loadfunktionen (z. B. nach MS EXC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iertes Reklamations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eferantenrekla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 Problemmeld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ndenrekla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HISS-Nr.:62450</dc:creator>
  <dc:description/>
  <dc:language>en-US</dc:language>
  <cp:lastModifiedBy>winkler</cp:lastModifiedBy>
  <cp:lastPrinted>2002-02-19T08:24:01Z</cp:lastPrinted>
  <dcterms:modified xsi:type="dcterms:W3CDTF">2004-03-18T08:41:08Z</dcterms:modified>
  <cp:revision>461</cp:revision>
  <dc:subject/>
  <dc:title>Intergriertes SAP R/3 LIMS</dc:title>
</cp:coreProperties>
</file>