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907588" cy="7621588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633880" y="70866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B0959F01-E5E5-4F1D-916F-2DF6CEDFAC4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786000" y="7086600"/>
            <a:ext cx="6897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.03.20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23880" y="7078680"/>
            <a:ext cx="12193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r. J. Wink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181480" y="7086600"/>
            <a:ext cx="184320" cy="21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80880" y="6934320"/>
            <a:ext cx="838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7086600"/>
            <a:ext cx="19047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canner, Materialanforderungen und Dokumen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rl, den 18.03.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Dokumentenverwaltung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kturierte Ablage von Dokumenten mit zusätzlichen Informationen, wie z.B. Titel, Beschreibung und Langtex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chbegriffe können flexibel definiert werden, z.B. als freie Suchbegriffe und als Suchbegriffe mit Werteauswah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zierte Volltextsuche über eine Datenban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sionsverwaltung mit der Möglichkeit des Wiederherstellen von alten oder gelöschten Version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zeige von Änderungen und Aktionen am Dokument durch Historienverwaltung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Dokumentenverwaltung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eck-Out und Check-I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unktionalitä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ung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vo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okumen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reigab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vo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okumen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okumentenvertei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rechtigungsverwal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chlüsse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okumentensign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Dokumentenverwaltung (3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triebssystem Windows oder Linu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richtung eines hierarchischen Fileverzeichnisses, z.B. periodisch geordn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hl geeigneter Datei - Idente, z.B. eineindeutige Nummern und zusätzlich aussagefähige (ASCII) Beschreibung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fügbarkeit des Dokumentenservers im LAN für R/3, Webserver und Dokumentenquellen, z.B. Laborgerä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e Verknüpfung der Dokumente zu den Geschäftsprozessen erfolgt im R/3 oder auf dem Webserver. Zur Wiederauffindbarkeit werden die Informationen auf beiden Systemen synchron gehalt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Dokumentenverwaltung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(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556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angzeitspeich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i Generationswechsel des Betriebssystems ist der Dokumentenserver upzudate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bei sollte nach längerer Zeit auch eine Umspeicherung der Dokumente auf eine neue Hardware vorgenommen werd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größeren Abständen sind die Formate der Dokumente zu prüfen und gegebenenfalls auch upzudat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13240" y="3594240"/>
            <a:ext cx="57132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45240" y="3594240"/>
            <a:ext cx="57132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ion von Web, R/3 und Dokumenten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31800" y="5754600"/>
            <a:ext cx="1008000" cy="954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44520" y="3594240"/>
            <a:ext cx="847800" cy="863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089240" y="2801880"/>
            <a:ext cx="1503360" cy="24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16160" y="3089160"/>
            <a:ext cx="1143000" cy="208116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32160" y="3738600"/>
            <a:ext cx="571320" cy="4572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32160" y="3665520"/>
            <a:ext cx="1225800" cy="647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kumen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40160" y="3809880"/>
            <a:ext cx="609480" cy="228600"/>
          </a:xfrm>
          <a:prstGeom prst="leftRight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265960" y="222552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91040" y="29289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1600" y="3089160"/>
            <a:ext cx="1143000" cy="2081160"/>
          </a:xfrm>
          <a:prstGeom prst="rect">
            <a:avLst/>
          </a:prstGeom>
          <a:solidFill>
            <a:srgbClr val="b6fd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37240" y="3736800"/>
            <a:ext cx="720720" cy="4572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673600" y="3809880"/>
            <a:ext cx="609840" cy="228600"/>
          </a:xfrm>
          <a:prstGeom prst="leftRightArrow">
            <a:avLst>
              <a:gd name="adj1" fmla="val 50000"/>
              <a:gd name="adj2" fmla="val 531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0520" y="237024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P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12880" y="4025880"/>
            <a:ext cx="216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8408880" y="1433520"/>
            <a:ext cx="782640" cy="798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8553600" y="3449520"/>
            <a:ext cx="1079280" cy="1024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488880" y="1433520"/>
            <a:ext cx="1008000" cy="955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8337600" y="5897520"/>
            <a:ext cx="776160" cy="792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rot="2166600">
            <a:off x="1568160" y="2585880"/>
            <a:ext cx="609480" cy="144720"/>
          </a:xfrm>
          <a:prstGeom prst="leftRightArrow">
            <a:avLst>
              <a:gd name="adj1" fmla="val 50000"/>
              <a:gd name="adj2" fmla="val 8383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52520" y="3881520"/>
            <a:ext cx="609480" cy="144360"/>
          </a:xfrm>
          <a:prstGeom prst="leftRightArrow">
            <a:avLst>
              <a:gd name="adj1" fmla="val 50000"/>
              <a:gd name="adj2" fmla="val 8404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8842400">
            <a:off x="1624680" y="5481720"/>
            <a:ext cx="609480" cy="144720"/>
          </a:xfrm>
          <a:prstGeom prst="leftRightArrow">
            <a:avLst>
              <a:gd name="adj1" fmla="val 50000"/>
              <a:gd name="adj2" fmla="val 8383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9211400">
            <a:off x="7689960" y="2441160"/>
            <a:ext cx="609480" cy="144360"/>
          </a:xfrm>
          <a:prstGeom prst="leftRightArrow">
            <a:avLst>
              <a:gd name="adj1" fmla="val 50000"/>
              <a:gd name="adj2" fmla="val 8404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2331600">
            <a:off x="7616520" y="5538960"/>
            <a:ext cx="609480" cy="144360"/>
          </a:xfrm>
          <a:prstGeom prst="leftRightArrow">
            <a:avLst>
              <a:gd name="adj1" fmla="val 50000"/>
              <a:gd name="adj2" fmla="val 8404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761240" y="4025880"/>
            <a:ext cx="609480" cy="144360"/>
          </a:xfrm>
          <a:prstGeom prst="leftRightArrow">
            <a:avLst>
              <a:gd name="adj1" fmla="val 50000"/>
              <a:gd name="adj2" fmla="val 8404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4520" y="453060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P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1800" y="654696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P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553600" y="438624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193240" y="654696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81160" y="17812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dministration in Exc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ugriff vom Webserver – Dokumente hinzufü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ugriff vom SAP R/3 – Hinzufügen neuer Dokumen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774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Dokumentenverwaltung (1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439640"/>
            <a:ext cx="449604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487600" y="1217520"/>
          <a:ext cx="3919680" cy="576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7600" y="1217520"/>
                    <a:ext cx="3919680" cy="5761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en 2003 / 2004 (Chemi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440000"/>
            <a:ext cx="9144000" cy="66182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en-US" sz="7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LI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LIMS-Sonderprob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 </a:t>
            </a: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LIMS-Auftragslab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 </a:t>
            </a: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Produktionsplanung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 </a:t>
            </a: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Produk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 </a:t>
            </a: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Monatsabrechn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IstHerstellkostenrechn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Produktkalkul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Mengenbilanz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en-US" sz="15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aterialanforderung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en-US" sz="15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cannersoftware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b2b2b2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Bestell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RezepturVerwalt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Projek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en-US" sz="15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okumentenverwaltung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Störungsmeld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en 2003 / 2004 (Chemi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440000"/>
            <a:ext cx="9144000" cy="66182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en-US" sz="7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LI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LIMS-Sonderprob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 </a:t>
            </a: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LIMS-Auftragslab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 </a:t>
            </a: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Produktionsplanung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 </a:t>
            </a: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Produk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 </a:t>
            </a: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Monatsabrechn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IstHerstellkostenrechn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Produktkalkul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Mengenbilanz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en-US" sz="15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aterialanforderung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Scannersoftware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Bestell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RezepturVerwalt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Projek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Dokumentenverwaltung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Störungsmeld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 nach Freigab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439640"/>
            <a:ext cx="449604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44520" y="496800"/>
            <a:ext cx="956160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2400" spc="-1" strike="noStrike">
                <a:solidFill>
                  <a:srgbClr val="0000ff"/>
                </a:solidFill>
                <a:latin typeface="Arial"/>
              </a:rPr>
              <a:t>Materialanforderung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über Brows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rontend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 Windows oder Linux, Brow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Webserv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 Linux, Unix oder Windows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pache, Java, J2EE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BMS (z.B. MySQL, Oracle, Microsoft SQL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vtl. Verzeichnisserver (z.B. LDA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Enterprisesystem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 SAP R/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fassung der benötigten Materialien (Scanner oder manuel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reigabe der Materialanford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lage der Materialanforderungen auf dem Web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llung / Druck von Repor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tomat. Übergabe der Materialanforderungen an R/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nchronisation der Materialstämme, User und Kostenstellen zwischen R/3 (Master) und Webserver (Slav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en 2003 / 2004 (Chemi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440000"/>
            <a:ext cx="9144000" cy="66182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en-US" sz="7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LI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LIMS-Sonderprob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 </a:t>
            </a: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LIMS-Auftragslab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 </a:t>
            </a: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Produktionsplanung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 </a:t>
            </a: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Produk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 </a:t>
            </a: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Monatsabrechn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IstHerstellkostenrechn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Produktkalkul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Mengenbilanz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Materialanforderung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en-US" sz="15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cannersoftware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Bestell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RezepturVerwalt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Projek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Dokumentenverwaltung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Störungsmeld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Scannersoftware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439640"/>
            <a:ext cx="536436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istikeinsat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3081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renein- und -ausgän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3081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ktionszugänge / -verbräuch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3081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gen- und Haltbarkeitsdat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3081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gerbewegung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3081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ntur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0">
              <a:spcBef>
                <a:spcPts val="400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va Technolog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3081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nfache Phasenscann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3081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A‘s (z.B. PalmO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3081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ine Scanner (Kabel, WLAN oder GSM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3081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line Scann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0">
              <a:spcBef>
                <a:spcPts val="400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bind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3081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server od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3081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kt an SAP R/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0">
              <a:spcBef>
                <a:spcPts val="40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168880" y="1433520"/>
          <a:ext cx="924120" cy="146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68880" y="1433520"/>
                    <a:ext cx="924120" cy="14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944880" y="5178600"/>
          <a:ext cx="1513080" cy="14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44880" y="5178600"/>
                    <a:ext cx="151308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5889600" y="3017880"/>
          <a:ext cx="1208160" cy="201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89600" y="3017880"/>
                    <a:ext cx="1208160" cy="20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Scannersoftware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82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55680" indent="-3556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5568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fassung aller gängigen Barco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51"/>
              </a:spcBef>
              <a:buNone/>
              <a:tabLst>
                <a:tab algn="l" pos="0"/>
                <a:tab algn="l" pos="35568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5568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htzeitdarstellung der Materialbezeichnung beim Scannen (bis ca. 20.000 Materialien handhabba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51"/>
              </a:spcBef>
              <a:buNone/>
              <a:tabLst>
                <a:tab algn="l" pos="0"/>
                <a:tab algn="l" pos="35568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5568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 Funktionalität mit Belegdru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51"/>
              </a:spcBef>
              <a:buNone/>
              <a:tabLst>
                <a:tab algn="l" pos="0"/>
                <a:tab algn="l" pos="35568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5568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senden der Daten über lokale Arbeitsplatz-PC‘s oder direkt über das Netzwe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51"/>
              </a:spcBef>
              <a:buNone/>
              <a:tabLst>
                <a:tab algn="l" pos="35568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35568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lständige Integration in andere </a:t>
            </a:r>
            <a:r>
              <a:rPr b="0" lang="en-US" sz="16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ftware oder direkt in SAP R/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51"/>
              </a:spcBef>
              <a:buNone/>
              <a:tabLst>
                <a:tab algn="l" pos="0"/>
                <a:tab algn="l" pos="35568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51"/>
              </a:spcBef>
              <a:buNone/>
              <a:tabLst>
                <a:tab algn="l" pos="0"/>
                <a:tab algn="l" pos="35568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0"/>
                <a:tab algn="l" pos="35568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0"/>
                <a:tab algn="l" pos="35568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76520" y="5249880"/>
            <a:ext cx="1905120" cy="1485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113600" y="2514600"/>
          <a:ext cx="1371600" cy="118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13600" y="2514600"/>
                    <a:ext cx="137160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en 2003 / 2004 (Chemi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440000"/>
            <a:ext cx="9144000" cy="66182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Braggadocio"/>
              </a:rPr>
              <a:t> </a:t>
            </a:r>
            <a:r>
              <a:rPr b="0" lang="en-US" sz="7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LI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LIMS-Sonderprob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 </a:t>
            </a: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LIMS-Auftragslab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 </a:t>
            </a: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Produktionsplanung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 </a:t>
            </a: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Produk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 </a:t>
            </a: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Monatsabrechn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IstHerstellkostenrechn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Produktkalkul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Mengenbilanz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Materialanforderung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Scannersoftware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Bestell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RezepturVerwalt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a7b5cb"/>
                </a:solidFill>
                <a:latin typeface="Braggadocio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Projek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en-US" sz="15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okumentenverwaltung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a7b5cb"/>
                </a:solidFill>
                <a:latin typeface="Braggadocio"/>
              </a:rPr>
              <a:t>jweb</a:t>
            </a:r>
            <a:r>
              <a:rPr b="1" lang="en-US" sz="1600" spc="-1" strike="noStrike">
                <a:solidFill>
                  <a:srgbClr val="a7b5cb"/>
                </a:solidFill>
                <a:latin typeface="Arial"/>
              </a:rPr>
              <a:t>Störungsmeld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Dr.Jochen Winkler</dc:creator>
  <dc:description/>
  <dc:language>en-US</dc:language>
  <cp:lastModifiedBy>winkler</cp:lastModifiedBy>
  <cp:lastPrinted>2000-01-20T10:19:05Z</cp:lastPrinted>
  <dcterms:modified xsi:type="dcterms:W3CDTF">2004-03-18T10:33:22Z</dcterms:modified>
  <cp:revision>482</cp:revision>
  <dc:subject/>
  <dc:title>Kein Folientitel</dc:title>
</cp:coreProperties>
</file>