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677-5888-4416-B814-97EC04AC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8EE-A824-4EE6-A274-A88E563C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177-8F29-4006-A098-232A4E5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432-1371-4978-92FD-4591B4BF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69F0-E398-4CBF-B99A-82F75DB0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025A-BC3E-40E3-AEC8-48703417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17D1-0493-4D0E-B532-2BB84E7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964-E254-43D6-BCF4-EA65416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F716-5602-4117-8AAD-E77AE1B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968-71FF-4BB0-81C7-1A1D7E5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DFDA-EB40-4F2D-ACA0-BFA5AF8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60E-538D-4567-AA0A-510426A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FAF8-E404-437F-97BA-C5E127C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AEF-C102-4A73-B306-2530047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0AF-B1DA-47F1-B951-7FE47D6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90A-6B61-4ED1-A9F4-AF0784C6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601E-9A01-484D-A2A5-D012DD7D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273-FD04-4EB3-9016-FC23934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0A4-0062-4DD4-BC68-6B5A142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C18-1FE1-4D93-A1F1-E6DEB48F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ACC-33EE-40D3-BD6F-2513F56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6B7-034B-4EDB-8798-BB4EA79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66D-93E4-4922-BAC4-0F7C930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519-6F9E-44CC-988C-C09DFB5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403E30D-6C45-465B-A1AD-54536A5B46D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3354AD5-1961-4524-85B7-DE2A229340A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AQ-Systeme mit SAP R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0AA-CB06-4029-B407-99258FDCE9F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sätzliche Anforderungen an moderne CAQ –System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das bestehende ERP -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7D4-CB2A-40F6-98D7-E2230D6333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elle Anforderungen an moderne CAQ-Syste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r relevanten Prüf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weiterer qualitätsbezogener Prozesse und 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alisierung von CAQ-Systemen mit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7EC-7E2D-47A0-8A22-2262E9D982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er, Materialwirtschaft und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softw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0F4-2322-495A-A1E7-855C51069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0E0-CEC4-4193-B3AF-A0B8F7A74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A63-3C06-418D-A2A3-A6F14A36E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793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Haas Marl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FEF-21E9-4AEA-89FF-1F008C73F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4AF-475C-4E09-BA79-280B3CB5E9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838080"/>
            <a:ext cx="800100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AQ-Systeme mit SAP R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077-8724-41A4-9A6D-A65D677A25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winkler</cp:lastModifiedBy>
  <cp:lastPrinted>2001-02-12T08:25:41Z</cp:lastPrinted>
  <dcterms:modified xsi:type="dcterms:W3CDTF">2004-03-16T15:25:30Z</dcterms:modified>
  <cp:revision>258</cp:revision>
  <dc:subject/>
  <dc:title>Kein Folientitel</dc:title>
</cp:coreProperties>
</file>