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98D-99B5-40C8-9614-9122B7B2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E98-A8D4-4E91-90C5-31846E4D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F610-C55B-4D9B-9252-3F0D1E51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51D-EE68-4550-8533-9CC1BE78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F98D-5543-4421-9337-BB141052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C493-07F4-49E5-B06F-8C4CF572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44AB-76C3-4AE7-9DBD-3748CA8A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E683-813F-4CB7-ACA7-7B005D87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2407-D918-40BD-9113-D24FAAF6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824C-63A6-4C6E-965A-9F0F5ED8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2BF5-11F7-404B-8D35-6415CC26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24F1-03B6-4C31-980D-58C36F90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C271-C4EB-4338-8609-6854A015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9218-E645-4AF4-94A4-E33A0A0B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5B16-5E4D-4564-B881-88A0277C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5F22-6884-4B0A-9604-29E5DB8A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53AD-2B51-43F8-A9C2-57377AE4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AEA-C9B4-4006-9E73-AF762A2C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309E-0908-4C17-BB87-DC7449D6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B63B-8C5F-4810-8CFC-AA678DC0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809F-4CC1-4195-8C6C-76FF9EB5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1C9B-6321-447B-873A-84DED414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14EC-B66B-4CC7-AF5E-8DFB7B4D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17DB-6D78-44B9-A980-BB975B96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550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207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2416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3464353-CD6B-4511-8D5F-F5363C47CBF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3300"/>
                </a:solidFill>
                <a:latin typeface="Braggadoci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5FABD90-58A8-424D-99BC-61103CAB3150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685800"/>
            <a:ext cx="83818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8.03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838080"/>
            <a:ext cx="800100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erzlich Willkommen zum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CAQ-Systeme mit SAP R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er congress hotel,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7EF-0900-4B8A-A818-F399E33DBF2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8.03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ndsätzliche Anforderungen an moderne CAQ –Systeme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s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on in das bestehende ERP -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34D-D5E3-489B-AF4C-9C4EC3CA8C2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8.03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unktionelle Anforderungen an moderne CAQ-Syste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eckung aller relevanten Prüfprozes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eckung weiterer qualitätsbezogener Prozesse und 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alisierung von CAQ-Systemen mit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88E-69EF-4B1C-B067-470F39C077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8.03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hemen heute: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er, Materialwirtschaft und 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1800" spc="-1" strike="noStrike">
                <a:solidFill>
                  <a:srgbClr val="ffcc66"/>
                </a:solidFill>
                <a:latin typeface="Braggadocio"/>
              </a:rPr>
              <a:t>e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anford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1800" spc="-1" strike="noStrike">
                <a:solidFill>
                  <a:srgbClr val="ffcc66"/>
                </a:solidFill>
                <a:latin typeface="Braggadocio"/>
              </a:rPr>
              <a:t>e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nersoftw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68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1800" spc="-1" strike="noStrike">
                <a:solidFill>
                  <a:srgbClr val="ffcc66"/>
                </a:solidFill>
                <a:latin typeface="Braggadocio"/>
              </a:rPr>
              <a:t>e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kumentenverwal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148-EBC5-49B3-9870-B8D4A671A3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8.03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s Beratungsunternehmen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wurde am 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. Juli 1996 von Dr. Jochen Winkler gegründet und fir-miert seit Mai 2002 als 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GmbH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on Anfang an spezialisierte sich das Unternehmen auf die komplette Einführung von SAP R/3-Systemen in Unternehmen der Prozessindust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roduktspektrum heute:  Unternehmensausrichtu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SAP R/3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Chemische Industrie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Add-ons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Pharmazeutische Industr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3433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Web-Applications 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</a:t>
            </a: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Mediz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990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ing Gmb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615-232D-4719-BA78-6F40C0B08F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8.03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BIC Polyolefine GmbH, Gelsenkirch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acker Chemie GmbH, Nünchritz, Burg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Aerosil &amp; Silanes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Superabsorber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fracor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dustriepark Wolfgang GmbH, Hanau-Wolfga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EOS Phenol GmbH &amp; Co. KG, Gladbec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ockhausen GmbH &amp; Co. KG, Krefel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GmbH &amp; Co. KG, Isma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OXENO Olefinchemie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Goldschmidt AG, 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7621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770-64C6-4361-B046-61A23E232C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8.03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793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zupharma GmbH &amp; Co., Gerlin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ventis Pharma Deutschland GmbH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Coatings &amp; Colorant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 / GB High Performance Polymers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ta Medica AG und Arzneimittelwerk Dresden GmbH (AWD), Radebeul, Künsebeck, Frankfu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egussa AG, Frankfurt (Charme-Projek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F IT Services GmbH, Ludwigshaf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ASF Pigment GmbH (Masterbatch), Kö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KW Stickstoffwerke Piesteritz GmbH, Wittenbe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CI Augsburg GmbH, Augsbur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oHaas Marl GmbH, Mar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ug aus der Kundenli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827-3176-4EC5-BE10-A6509FEB79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8.03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e direkten Ansprechpartner sind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26880">
              <a:spcBef>
                <a:spcPts val="499"/>
              </a:spcBef>
              <a:buClr>
                <a:srgbClr val="ff33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el Rötheme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55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ww.jwconsulting.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55E-7475-4CE0-8807-453BBD6F26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 18.03.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523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838080"/>
            <a:ext cx="8001000" cy="48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AP R/3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Arial"/>
              </a:rPr>
              <a:t>CAQ-Systeme mit SAP R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er congress hotel,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xel Röthemei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D9E-DD01-4AA6-A3B0-65FC14C4749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w</a:t>
            </a: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08:57:14Z</dcterms:created>
  <dc:creator>ARS</dc:creator>
  <dc:description/>
  <dc:language>en-US</dc:language>
  <cp:lastModifiedBy>winkler</cp:lastModifiedBy>
  <cp:lastPrinted>2001-02-12T08:25:41Z</cp:lastPrinted>
  <dcterms:modified xsi:type="dcterms:W3CDTF">2004-03-16T15:25:30Z</dcterms:modified>
  <cp:revision>258</cp:revision>
  <dc:subject/>
  <dc:title>Kein Folientitel</dc:title>
</cp:coreProperties>
</file>