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15B696E-D34D-4B66-B708-16B26F33B7E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32000" y="6381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2000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Logistic Execution in der Produktion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 mit SAP R/3 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5. Febr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Serialisierung von Gebind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439120" cy="53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Nutzung SAP Serialnumm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Vortei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s Gebinde kann unabhängig von der Fertigungslosgröße (Chargengröße) einzeln in der Bestandsführung angesprochen werden z.B. um einzelne Gebinde zu sper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Nachtei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 Warenbewegung erfordert die Erfassung einer Serial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ine Integration zu SAP-W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chränkung in der Auswahl der Basis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k eingeschränkter Funktionsumfang führt in der Prozessindustrie schnell zu hohem Zusatzaufw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Serialisierung von Gebind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43912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700" spc="-1" strike="noStrike">
                <a:solidFill>
                  <a:srgbClr val="ff0000"/>
                </a:solidFill>
                <a:latin typeface="Arial"/>
              </a:rPr>
              <a:t>Nutzung SAP Lagereinheitennumm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700" spc="-1" strike="noStrike">
                <a:solidFill>
                  <a:srgbClr val="ff0000"/>
                </a:solidFill>
                <a:latin typeface="Arial"/>
              </a:rPr>
              <a:t>Vor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hr hohe Integration in das SAP Lagerverwaltungs-Management Modul (Gebindeverfolgung bis zum Lagerplatz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 Standard Funktionen für scannergestützte Warenbewegungen für Lagereinh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700" spc="-1" strike="noStrike">
                <a:solidFill>
                  <a:srgbClr val="ff0000"/>
                </a:solidFill>
                <a:latin typeface="Arial"/>
              </a:rPr>
              <a:t>Nach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gängige Nutzung von SAP-WM für die Lagerung dieser Gebinde, zumindest bis zum Verwendungsentscheid. (Dann Gruppierung der Gebinde in homogene Qualitäten = Chargensplit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z.B. Anforder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 (operativ und dispositi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und Rückmel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abrechnung und -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u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Absatzplanung bei 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 % des Absatzes mit 1 bis 3 planungsrelevanten Endverbrauch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Produktionsplanung 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ige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agesabsatz-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Produktionscontrolli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komplex zu bedienende,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Funktionsumfang Add-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zur Visualisierung der gesamten Arbeitsumgebung in der Produktion mit allen Umfeldfunktion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gemeine und detaillierte Information über die Produktions- und Qualitätssituation aller Produktionslini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einsamer Arbeitsvorrat 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Vorraussetzung - Produktionsverfahr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inuierliche 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Kontinuierliche Ressourcenauslastung, stabile Produktionsbeding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mpagn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zur Minimierung von Rüstzeiten und -kost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it optimaler Ressourcenauslastung und bedarfsnaher Fertig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gerfertigung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nonym, Absatzplanung für konkrete Produktpalette liegt vo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auftrags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dukte liegen in schwer vorplanbaren Varianten vor (z.B. Farb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roß-)Auftrags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Zulieferer für wenige Produkte und an wenige Kunden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64500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Funktionsumfang Add-on </a:t>
            </a:r>
            <a:r>
              <a:rPr b="1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Serien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svorber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gener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en und Label D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Prozess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fassung und Visualisierung von Prüfungen zu manuellen oder automatischen Prüfpunkten, abhängig von den verwendeten Einstellungen im Modul QM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von Qualitäts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einflusst durch Produktion und Q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erfassung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rolle von Produktionsstatus,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: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Qualitätssicherung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ierung des Arbeitsvorrates (In-prozess- und Endkontro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Maske zur Darstellung des Arbeitsvorrates (Produktionslinien,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ses bei schlechter Qualitäts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Comic Sans MS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onstige interne Logistikprozess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älterverwaltung / scannergestützte Warentransporte innerhalb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ichtbu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fassen von Störmeldungen über SAP Modul P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onstige interne Logistikprozess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älte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er Prozessindustrie werden häufig Zwischenprodukte in Zwischenbehältern, Zwischentanks oder ähnlichem geführt, um von dort weiteren Veredlungsstufen zugeführt zu werde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 Prozesse werden häufig nur auf Papier oder in externen Systemen dokumentie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orteile für die Nutzung von SAP-W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der SAP Standard Funktionen für scannergestützte Warenbewegungen im Modul WM, um produktionsinterne Bewegungen elektronisch zu erfass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der Kapazitätsverwaltung von Lagerplätz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der Ein- und Auslagerstrategien für die Behälterfin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onstige interne Logistikprozess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292640"/>
            <a:ext cx="6264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benahme (Auftra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gangsregistrierung (Quitt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 Zuordnung zu Prüfplätzen (Aufträge mit Quitt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lagerung in Rückstellm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lagerung Rückstellm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orgung von Proben und Rückstellm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5280" y="1628640"/>
            <a:ext cx="8497800" cy="2592360"/>
            <a:chOff x="395280" y="1628640"/>
            <a:chExt cx="8497800" cy="2592360"/>
          </a:xfrm>
        </p:grpSpPr>
        <p:sp>
          <p:nvSpPr>
            <p:cNvPr id="177" name=""/>
            <p:cNvSpPr/>
            <p:nvPr/>
          </p:nvSpPr>
          <p:spPr>
            <a:xfrm>
              <a:off x="395280" y="1628640"/>
              <a:ext cx="8424720" cy="2592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844640"/>
              <a:ext cx="1008000" cy="6314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0360" y="1844640"/>
              <a:ext cx="5759280" cy="18730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27640" y="227628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6720" y="2997000"/>
              <a:ext cx="50508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0000" y="220500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3640" y="220500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51280" y="299700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916360" y="2491920"/>
              <a:ext cx="28728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8360" y="2492280"/>
              <a:ext cx="7192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6360" y="2781360"/>
              <a:ext cx="93492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32360" y="2421000"/>
              <a:ext cx="6476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356000" y="3213000"/>
              <a:ext cx="7207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6360" y="2781360"/>
              <a:ext cx="38876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4720" y="2565360"/>
              <a:ext cx="7192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04000" y="2133360"/>
              <a:ext cx="1440000" cy="107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48360" y="2781360"/>
              <a:ext cx="10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48360" y="2997000"/>
              <a:ext cx="10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308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08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24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40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56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213336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ückstellmuster Regall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6360" y="32130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43640" y="342900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76360" y="2133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7640" y="1989000"/>
              <a:ext cx="1152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4360" y="1989000"/>
              <a:ext cx="503280" cy="93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27280" y="2060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0360" y="2421000"/>
              <a:ext cx="216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64000" y="2060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6360" y="2060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2000" y="220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56000" y="2925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80000" y="3141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2636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280" y="3789360"/>
              <a:ext cx="84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nnergestützte Transport, Registrier- und Einlagerungsprozesse im Produktprüflab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3141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6360" y="3429000"/>
              <a:ext cx="129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6720" y="3429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ie Erfahrung zeigt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 „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Große Potentiale Ihres R/3 Systems sind ungenutzt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asis für die effiziente Abbildung der logistis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forderungen im Umfeld von Produktion u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ualitätsmanagement im SAP R/3 i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e bereichsübergreifende Prozessanaly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e für den Gesamtprozess optimale Lös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effizienten Einsatz von SAP Standard Funk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uell ergänzt um Erweiterungen / Metatransaktion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lisierungsvariant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ziente Nutzung der SAP R/3 Standard Module PP, PI, QM, CO, MM-WM, u.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tenträger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swerkzeu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zubildende interne 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ung weiterer interner oder externer Lösung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SAP A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nstrukt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sierung Maßgeschneiderte Lösung (auf Basis SAP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pezifische Mask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ätzliche Funktionalitä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20000" cy="2443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Logistik in der Produktion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 mit SAP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5. Febr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oduktionstypen mit SAP R/3 Standard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7921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8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P Fertigu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mit oder ohne Chargen zum Fertigungsauftra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Arbeitsplätze, Stücklisten, Arbeitspläne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P-PI Produktion in der Prozessindustr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mit oder ohne Chargen zum Prozessauftra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in Produktionskampagnen (eingeschränk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Schnittstellen zu Prozessleitsysteme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sourcen, Stücklisten, Planungsrezepte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P Serienfertig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mit oder ohne Chargen zum (Serienauftrag) Produktkosten- 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sammler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Entkopplung der Fertigungslosgrößen vom Produktcontrolling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inien, Stücklisten, Linienplan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e Kostenträgerrechnung im System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39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uftragsbezogenes Produkt-Contr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ertigungsauftrag Prozessauftrag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as auftragsbezogene Produkt-Controlling steht vor allem für die Kostenkontrolle von einzelnen Produktionslosen zur Verfügung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Periodisches Produkt-Control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roduktkostensammler /(Serienauftrag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as periodische Produkt-Controlling steht für die regelmäßige, periodische Kostenkontrolle von Produkten zur Verfügung, die über längere Zeiträume hinweg auf die gleiche Art und Weise gefertigt werden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e Kostenträgerrechnung im System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391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Auftragsbezogenes Produkt-Contro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Plan-, Soll- und Istkosten zu Fertigungslos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989000"/>
            <a:ext cx="7417080" cy="4104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263700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781360"/>
            <a:ext cx="2519280" cy="24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g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onenten und Kapazitätsbedar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onentenverbr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istungsempfä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33720"/>
            <a:ext cx="59770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ftrag je Fertigungslos (z.B. Charge) anlegen und frei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781360"/>
            <a:ext cx="2519640" cy="225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kost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llkost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kost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P Ermittlung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weichung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445000"/>
            <a:ext cx="59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trag je Fertigungslos abrechnen und abschließ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e Kostenträgerrechnung im System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391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Periodisches Produkt-Control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Plan-, Soll- und Istkosten werden periodisch gesammel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989000"/>
            <a:ext cx="4248360" cy="4104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63700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38200" cy="12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og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mponentenverbr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reneing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060640"/>
            <a:ext cx="3745080" cy="128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auftrag aus der Bedarfs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yp 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mponenten und   Kapazitätsbedar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2519640" cy="192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lankost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llkost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stkost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bweichung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2205000"/>
            <a:ext cx="3097440" cy="133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wiger“ Produktkostensammler zum Material und Fertigungs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ammda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4005360"/>
            <a:ext cx="1223640" cy="1168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eriodis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bweichung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rmitt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378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24360" y="53006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49417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24360" y="3789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genmanagement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43912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Durchgängiges Chargenmanagement ?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Nach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 Warenbewegung erfordert die Erfassung einer Chargen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ösung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findungsstrateg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Vor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ückenlose Ermittlung von Herkunfts- und Verarbeitungs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zielte Verwendungseinschränkungen / Sperrungen von Char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zielte Rückholungen vom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werte- und Statistikfunktionalitä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genmanagement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80640"/>
            <a:ext cx="829476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rgenrückverfolgbarke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Wingdings" charset="2"/>
              <a:buChar char="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, für Verarbeitung und interne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Wingdings" charset="2"/>
              <a:buChar char="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pstream, Richtung Hersteller, Lieferanten inkl. Spedite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Wingdings" charset="2"/>
              <a:buChar char="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wnstream, Richtung Weiterverarbeiter, Konsumenten inkl. Spedite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4-02-25T14:19:16Z</dcterms:modified>
  <cp:revision>428</cp:revision>
  <dc:subject/>
  <dc:title>Optimierte Planung und Produktion mit periodischem Produktcontrolling  in der </dc:title>
</cp:coreProperties>
</file>