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7377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2200" y="1523880"/>
            <a:ext cx="6172200" cy="19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4266720"/>
            <a:ext cx="5486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71600" y="5182560"/>
            <a:ext cx="5486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2200" y="1523880"/>
            <a:ext cx="6172200" cy="19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71600" y="4266720"/>
            <a:ext cx="26773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183200" y="4266720"/>
            <a:ext cx="26773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71600" y="5182560"/>
            <a:ext cx="26773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183200" y="5182560"/>
            <a:ext cx="26773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2200" y="1523880"/>
            <a:ext cx="6172200" cy="19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71600" y="4266720"/>
            <a:ext cx="17665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26680" y="4266720"/>
            <a:ext cx="17665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82120" y="4266720"/>
            <a:ext cx="17665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71600" y="5182560"/>
            <a:ext cx="17665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26680" y="5182560"/>
            <a:ext cx="17665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082120" y="5182560"/>
            <a:ext cx="17665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2200" y="1523880"/>
            <a:ext cx="6172200" cy="19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4266720"/>
            <a:ext cx="54864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2200" y="1523880"/>
            <a:ext cx="6172200" cy="19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4266720"/>
            <a:ext cx="54864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2200" y="1523880"/>
            <a:ext cx="6172200" cy="19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71600" y="4266720"/>
            <a:ext cx="26773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183200" y="4266720"/>
            <a:ext cx="26773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2200" y="1523880"/>
            <a:ext cx="6172200" cy="19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2200" y="1523880"/>
            <a:ext cx="6172200" cy="918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2200" y="1523880"/>
            <a:ext cx="6172200" cy="19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71600" y="4266720"/>
            <a:ext cx="26773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83200" y="4266720"/>
            <a:ext cx="26773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371600" y="5182560"/>
            <a:ext cx="26773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2200" y="1523880"/>
            <a:ext cx="6172200" cy="19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71600" y="4266720"/>
            <a:ext cx="54864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2200" y="1523880"/>
            <a:ext cx="6172200" cy="19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71600" y="4266720"/>
            <a:ext cx="26773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183200" y="4266720"/>
            <a:ext cx="26773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183200" y="5182560"/>
            <a:ext cx="26773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2200" y="1523880"/>
            <a:ext cx="6172200" cy="19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1600" y="4266720"/>
            <a:ext cx="26773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183200" y="4266720"/>
            <a:ext cx="26773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371600" y="5182560"/>
            <a:ext cx="5486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2200" y="1523880"/>
            <a:ext cx="6172200" cy="19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1600" y="4266720"/>
            <a:ext cx="5486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371600" y="5182560"/>
            <a:ext cx="5486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2200" y="1523880"/>
            <a:ext cx="6172200" cy="19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4266720"/>
            <a:ext cx="26773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183200" y="4266720"/>
            <a:ext cx="26773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371600" y="5182560"/>
            <a:ext cx="26773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183200" y="5182560"/>
            <a:ext cx="26773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2200" y="1523880"/>
            <a:ext cx="6172200" cy="19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1600" y="4266720"/>
            <a:ext cx="17665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6680" y="4266720"/>
            <a:ext cx="17665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082120" y="4266720"/>
            <a:ext cx="17665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371600" y="5182560"/>
            <a:ext cx="17665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6680" y="5182560"/>
            <a:ext cx="17665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082120" y="5182560"/>
            <a:ext cx="17665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2200" y="1523880"/>
            <a:ext cx="6172200" cy="19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71600" y="4266720"/>
            <a:ext cx="54864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2200" y="1523880"/>
            <a:ext cx="6172200" cy="19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71600" y="4266720"/>
            <a:ext cx="26773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183200" y="4266720"/>
            <a:ext cx="26773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2200" y="1523880"/>
            <a:ext cx="6172200" cy="19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2200" y="1523880"/>
            <a:ext cx="6172200" cy="918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2200" y="1523880"/>
            <a:ext cx="6172200" cy="19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4266720"/>
            <a:ext cx="26773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183200" y="4266720"/>
            <a:ext cx="26773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71600" y="5182560"/>
            <a:ext cx="26773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2200" y="1523880"/>
            <a:ext cx="6172200" cy="19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4266720"/>
            <a:ext cx="26773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183200" y="4266720"/>
            <a:ext cx="26773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183200" y="5182560"/>
            <a:ext cx="26773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2200" y="1523880"/>
            <a:ext cx="6172200" cy="19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4266720"/>
            <a:ext cx="26773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183200" y="4266720"/>
            <a:ext cx="26773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71600" y="5182560"/>
            <a:ext cx="5486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77777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2560" y="1978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92320">
              <a:spcBef>
                <a:spcPts val="550"/>
              </a:spcBef>
              <a:buClr>
                <a:srgbClr val="ff3300"/>
              </a:buClr>
              <a:buFont typeface="Wingding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28760" indent="-279360">
              <a:spcBef>
                <a:spcPts val="55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717560" indent="-1983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381400" indent="-27972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381400" indent="-27972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381400" indent="-27972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869600" y="6477120"/>
            <a:ext cx="713880" cy="122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lie </a:t>
            </a:r>
            <a:fld id="{75854C93-2A57-4C3D-AC98-5BE97C855082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4532400" y="6405480"/>
            <a:ext cx="360" cy="122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854840" y="704880"/>
            <a:ext cx="3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04920" y="990720"/>
            <a:ext cx="8458200" cy="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477120"/>
            <a:ext cx="13716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5360" y="6095880"/>
            <a:ext cx="60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Braggadocio"/>
              </a:rPr>
              <a:t>j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3132000" y="6381720"/>
            <a:ext cx="280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effen Rosche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2200" y="1523880"/>
            <a:ext cx="6172200" cy="19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77777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853400" y="704880"/>
            <a:ext cx="3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92320" algn="ctr">
              <a:spcBef>
                <a:spcPts val="1250"/>
              </a:spcBef>
              <a:buClr>
                <a:srgbClr val="ff3300"/>
              </a:buClr>
              <a:buFont typeface="Wingding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80880" indent="668520" algn="ctr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760320" indent="758880" algn="ctr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381400" indent="-279720" algn="ctr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381400" indent="-27972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381400" indent="-27972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9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9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9.png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0.png"/><Relationship Id="rId1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47640" y="1484280"/>
            <a:ext cx="6120000" cy="24433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99"/>
                </a:solidFill>
                <a:latin typeface="Comic Sans MS"/>
              </a:rPr>
              <a:t>Logistic Execution in der Produktion</a:t>
            </a:r>
            <a:br>
              <a:rPr sz="3200"/>
            </a:br>
            <a:r>
              <a:rPr b="1" lang="de-DE" sz="3200" spc="-1" strike="noStrike">
                <a:solidFill>
                  <a:srgbClr val="000099"/>
                </a:solidFill>
                <a:latin typeface="Comic Sans MS"/>
              </a:rPr>
              <a:t> mit SAP R/3  </a:t>
            </a:r>
            <a:endParaRPr b="1" lang="en-US" sz="3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52440" y="3908520"/>
            <a:ext cx="8439120" cy="21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777777"/>
                </a:solidFill>
                <a:latin typeface="Arial"/>
              </a:rPr>
              <a:t>Steffen Roschek</a:t>
            </a:r>
            <a:br>
              <a:rPr sz="2200"/>
            </a:br>
            <a:r>
              <a:rPr b="1" lang="en-US" sz="20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en-US" sz="2200" spc="-1" strike="noStrike">
                <a:solidFill>
                  <a:srgbClr val="777777"/>
                </a:solidFill>
                <a:latin typeface="Arial"/>
              </a:rPr>
              <a:t>Consulting GmbH</a:t>
            </a:r>
            <a:r>
              <a:rPr b="1" lang="en-US" sz="2900" spc="-1" strike="noStrike">
                <a:solidFill>
                  <a:srgbClr val="777777"/>
                </a:solidFill>
                <a:latin typeface="Arial"/>
              </a:rPr>
              <a:t> </a:t>
            </a:r>
            <a:br>
              <a:rPr sz="2200"/>
            </a:b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777777"/>
                </a:solidFill>
                <a:latin typeface="Arial"/>
              </a:rPr>
              <a:t>Marl, den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777777"/>
                </a:solidFill>
                <a:latin typeface="Arial"/>
              </a:rPr>
              <a:t>5. Februar 200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777777"/>
                </a:solidFill>
                <a:latin typeface="Arial"/>
              </a:rPr>
              <a:t>http://www.jwconsulting.d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200" spc="-1" strike="noStrike">
                <a:solidFill>
                  <a:srgbClr val="000099"/>
                </a:solidFill>
                <a:latin typeface="Comic Sans MS"/>
              </a:rPr>
              <a:t>Serialisierung von Gebinden</a:t>
            </a:r>
            <a:endParaRPr b="1" lang="en-US" sz="3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80880" y="980640"/>
            <a:ext cx="8439120" cy="532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0">
              <a:lnSpc>
                <a:spcPct val="120000"/>
              </a:lnSpc>
              <a:spcBef>
                <a:spcPts val="726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900" spc="-1" strike="noStrike">
                <a:solidFill>
                  <a:srgbClr val="ff0000"/>
                </a:solidFill>
                <a:latin typeface="Arial"/>
              </a:rPr>
              <a:t>Nutzung SAP Serialnummer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120000"/>
              </a:lnSpc>
              <a:spcBef>
                <a:spcPts val="726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900" spc="-1" strike="noStrike">
                <a:solidFill>
                  <a:srgbClr val="ff0000"/>
                </a:solidFill>
                <a:latin typeface="Arial"/>
              </a:rPr>
              <a:t>Vorteile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lnSpc>
                <a:spcPct val="120000"/>
              </a:lnSpc>
              <a:spcBef>
                <a:spcPts val="1125"/>
              </a:spcBef>
              <a:buClr>
                <a:srgbClr val="ff3300"/>
              </a:buClr>
              <a:buSzPct val="75000"/>
              <a:buFont typeface="Monotype Sorts" charset="2"/>
              <a:buChar char="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des Gebinde kann unabhängig von der Fertigungslosgröße (Chargengröße) einzeln in der Bestandsführung angesprochen werden z.B. um einzelne Gebinde zu sperr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120000"/>
              </a:lnSpc>
              <a:spcBef>
                <a:spcPts val="726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900" spc="-1" strike="noStrike">
                <a:solidFill>
                  <a:srgbClr val="ff0000"/>
                </a:solidFill>
                <a:latin typeface="Arial"/>
              </a:rPr>
              <a:t>Nachteile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lnSpc>
                <a:spcPct val="120000"/>
              </a:lnSpc>
              <a:spcBef>
                <a:spcPts val="1125"/>
              </a:spcBef>
              <a:buClr>
                <a:srgbClr val="ff3300"/>
              </a:buClr>
              <a:buSzPct val="75000"/>
              <a:buFont typeface="Monotype Sorts" charset="2"/>
              <a:buChar char="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de Warenbewegung erfordert die Erfassung einer Serialnumm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lnSpc>
                <a:spcPct val="120000"/>
              </a:lnSpc>
              <a:spcBef>
                <a:spcPts val="1125"/>
              </a:spcBef>
              <a:buClr>
                <a:srgbClr val="ff3300"/>
              </a:buClr>
              <a:buSzPct val="75000"/>
              <a:buFont typeface="Monotype Sorts" charset="2"/>
              <a:buChar char="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eine Integration zu SAP-W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lnSpc>
                <a:spcPct val="120000"/>
              </a:lnSpc>
              <a:spcBef>
                <a:spcPts val="1125"/>
              </a:spcBef>
              <a:buClr>
                <a:srgbClr val="ff3300"/>
              </a:buClr>
              <a:buSzPct val="75000"/>
              <a:buFont typeface="Monotype Sorts" charset="2"/>
              <a:buChar char="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inschränkung in der Auswahl der Basismengeneinhei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lnSpc>
                <a:spcPct val="120000"/>
              </a:lnSpc>
              <a:spcBef>
                <a:spcPts val="1125"/>
              </a:spcBef>
              <a:buClr>
                <a:srgbClr val="ff3300"/>
              </a:buClr>
              <a:buSzPct val="75000"/>
              <a:buFont typeface="Monotype Sorts" charset="2"/>
              <a:buChar char="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k eingeschränkter Funktionsumfang führt in der Prozessindustrie schnell zu hohem Zusatzaufwan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200" spc="-1" strike="noStrike">
                <a:solidFill>
                  <a:srgbClr val="000099"/>
                </a:solidFill>
                <a:latin typeface="Comic Sans MS"/>
              </a:rPr>
              <a:t>Serialisierung von Gebinden</a:t>
            </a:r>
            <a:endParaRPr b="1" lang="en-US" sz="3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80880" y="980640"/>
            <a:ext cx="8439120" cy="547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700" spc="-1" strike="noStrike">
                <a:solidFill>
                  <a:srgbClr val="ff0000"/>
                </a:solidFill>
                <a:latin typeface="Arial"/>
              </a:rPr>
              <a:t>Nutzung SAP Lagereinheitennummer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700" spc="-1" strike="noStrike">
                <a:solidFill>
                  <a:srgbClr val="ff0000"/>
                </a:solidFill>
                <a:latin typeface="Arial"/>
              </a:rPr>
              <a:t>Vorteile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lnSpc>
                <a:spcPct val="120000"/>
              </a:lnSpc>
              <a:spcBef>
                <a:spcPts val="1125"/>
              </a:spcBef>
              <a:buClr>
                <a:srgbClr val="ff3300"/>
              </a:buClr>
              <a:buSzPct val="75000"/>
              <a:buFont typeface="Monotype Sorts" charset="2"/>
              <a:buChar char="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Sehr hohe Integration in das SAP Lagerverwaltungs-Management Modul (Gebindeverfolgung bis zum Lagerplatz)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lnSpc>
                <a:spcPct val="120000"/>
              </a:lnSpc>
              <a:spcBef>
                <a:spcPts val="1125"/>
              </a:spcBef>
              <a:buClr>
                <a:srgbClr val="ff3300"/>
              </a:buClr>
              <a:buSzPct val="75000"/>
              <a:buFont typeface="Monotype Sorts" charset="2"/>
              <a:buChar char="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Nutzung der SAP Standard Funktionen für scannergestützte Warenbewegungen für Lagereinheit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700" spc="-1" strike="noStrike">
                <a:solidFill>
                  <a:srgbClr val="ff0000"/>
                </a:solidFill>
                <a:latin typeface="Arial"/>
              </a:rPr>
              <a:t>Nachteile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lnSpc>
                <a:spcPct val="120000"/>
              </a:lnSpc>
              <a:spcBef>
                <a:spcPts val="1125"/>
              </a:spcBef>
              <a:buClr>
                <a:srgbClr val="ff3300"/>
              </a:buClr>
              <a:buSzPct val="75000"/>
              <a:buFont typeface="Monotype Sorts" charset="2"/>
              <a:buChar char="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urchgängige Nutzung von SAP-WM für die Lagerung dieser Gebinde, zumindest bis zum Verwendungsentscheid. (Dann Gruppierung der Gebinde in homogene Qualitäten = Chargensplitt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99"/>
                </a:solidFill>
                <a:latin typeface="Comic Sans MS"/>
              </a:rPr>
              <a:t>z.B. Anforderungen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800" spc="-1" strike="noStrike">
                <a:solidFill>
                  <a:srgbClr val="000099"/>
                </a:solidFill>
                <a:latin typeface="Comic Sans MS"/>
              </a:rPr>
              <a:t>(Groß-)Auftragsfertigung</a:t>
            </a:r>
            <a:endParaRPr b="1" lang="en-US" sz="28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1280" y="1143000"/>
            <a:ext cx="815184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buClr>
                <a:srgbClr val="ff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bsatzplan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buClr>
                <a:srgbClr val="ff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oduktionsplanung (operativ und dispositiv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buClr>
                <a:srgbClr val="ff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schaff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buClr>
                <a:srgbClr val="ff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oduktion und Rückmeld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buClr>
                <a:srgbClr val="ff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oduktionsabrechnung und -controll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buClr>
                <a:srgbClr val="ff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Qualitätssicher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buClr>
                <a:srgbClr val="ff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atensicherheit und Performa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99"/>
                </a:solidFill>
                <a:latin typeface="Comic Sans MS"/>
              </a:rPr>
              <a:t>Absatzplanung bei (Groß-)Auftragsfertigung</a:t>
            </a:r>
            <a:endParaRPr b="1" lang="en-US" sz="28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439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spcBef>
                <a:spcPts val="64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90 % des Absatzes mit 1 bis 3 planungsrelevanten Endverbraucher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spcBef>
                <a:spcPts val="649"/>
              </a:spcBef>
              <a:buClr>
                <a:srgbClr val="ff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as Handling der SAP-Funktionen wird als zu schwerfällig empfunden und meist durch eigene, wesentlich transparentere Exceltabellen oder ähnliches ersetz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99"/>
                </a:solidFill>
                <a:latin typeface="Comic Sans MS"/>
              </a:rPr>
              <a:t>Produktionsplanung (Groß-)Auftragsfertigung</a:t>
            </a:r>
            <a:endParaRPr b="1" lang="en-US" sz="28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439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nige Basisprodukte pro Anlag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spcBef>
                <a:spcPts val="649"/>
              </a:spcBef>
              <a:buClr>
                <a:srgbClr val="ff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as Handling der SAP-Funktionen wird als zu schwerfällig empfunden und meist durch eigene, wesentlich transparentere Exceltabellen oder ähnliches ersetz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7543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77777"/>
                </a:solidFill>
                <a:latin typeface="Arial"/>
              </a:rPr>
              <a:t>Daily Planning</a:t>
            </a:r>
            <a:endParaRPr b="1" lang="en-US" sz="2800" spc="-1" strike="noStrike">
              <a:solidFill>
                <a:srgbClr val="777777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Tagesabsatz- und Produktionsplan</a:t>
            </a: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3276720"/>
            <a:ext cx="358128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814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Die Produktions- und Abfüllplanmengen werden im System als SAP R/3 Standard Planaufträge des Typs „PE“ Produktionseinteilungen gespeichert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814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Die PE´s enthalten ebenfalls die Fertigungsversion und die zu verwendende Stückliste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814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Die Komponenten der Stückliste werden als Reservierungen in der SAP R/3 Standardtabelle „RESB“ gespeichert und können mit Standardmitteln eingesehen werden (z.B. Bedarfsplanung)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33520" y="1447920"/>
            <a:ext cx="2590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304920" y="1219320"/>
            <a:ext cx="2949480" cy="180648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5715000" y="198108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4067280" y="1557360"/>
            <a:ext cx="4724280" cy="454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2590920" y="2590920"/>
            <a:ext cx="144756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99"/>
                </a:solidFill>
                <a:latin typeface="Comic Sans MS"/>
              </a:rPr>
              <a:t>Produktionscontrolling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800" spc="-1" strike="noStrike">
                <a:solidFill>
                  <a:srgbClr val="000099"/>
                </a:solidFill>
                <a:latin typeface="Comic Sans MS"/>
              </a:rPr>
              <a:t>(Groß-)Auftragsfertigung</a:t>
            </a:r>
            <a:endParaRPr b="1" lang="en-US" sz="28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 relativ klaren Prozessablauf stehen komplex zu bedienende, aber in ihren Funktionen nur spärlich genutzte Fertigungs- oder Prozessaufträge zur Abrechnung gegenüb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nötigt wird eine einfache Maske zur Datenerfassung der Waren- und Leistungsbewegungen mit auf die eigentliche Funktion reduzierten Kostensammler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cc"/>
                </a:solidFill>
                <a:latin typeface="Comic Sans MS"/>
              </a:rPr>
              <a:t>Funktionsumfang Add-on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ff3300"/>
                </a:solidFill>
                <a:latin typeface="Braggadocio"/>
              </a:rPr>
              <a:t>jw</a:t>
            </a:r>
            <a:r>
              <a:rPr b="1" lang="de-DE" sz="2400" spc="-1" strike="noStrike">
                <a:solidFill>
                  <a:srgbClr val="3333cc"/>
                </a:solidFill>
                <a:latin typeface="Comic Sans MS"/>
              </a:rPr>
              <a:t>Serienfertigung</a:t>
            </a: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nitor zur Visualisierung der gesamten Arbeitsumgebung in der Produktion mit allen Umfeldfunktionen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gemeine und detaillierte Information über die Produktions- und Qualitätssituation aller Produktionslinien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meinsamer Arbeitsvorrat für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28760" indent="-279360">
              <a:buClr>
                <a:srgbClr val="00000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lanung + Chargenmanage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28760" indent="-279360">
              <a:buClr>
                <a:srgbClr val="00000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duktionsabrechn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28760" indent="-279360">
              <a:buClr>
                <a:srgbClr val="00000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alitätsprüfung inklusive Verwendungsentschei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28760" indent="-279360">
              <a:buClr>
                <a:srgbClr val="00000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mmdatenpfleg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28760" indent="0"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Comic Sans MS"/>
              </a:rPr>
              <a:t>Vorraussetzung - Produktionsverfahren</a:t>
            </a:r>
            <a:endParaRPr b="1" lang="en-US" sz="3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11280" y="1143000"/>
            <a:ext cx="815184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0000"/>
              </a:lnSpc>
              <a:buClr>
                <a:srgbClr val="ff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ontinuierliche Fertig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Kontinuierliche Ressourcenauslastung, stabile Produktionsbedingungen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lnSpc>
                <a:spcPct val="90000"/>
              </a:lnSpc>
              <a:buClr>
                <a:srgbClr val="ff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ampagnenfertig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zur Minimierung von Rüstzeiten und -kosten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lnSpc>
                <a:spcPct val="90000"/>
              </a:lnSpc>
              <a:buClr>
                <a:srgbClr val="ff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Chargenfertig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mit optimaler Ressourcenauslastung und bedarfsnaher Fertigung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lnSpc>
                <a:spcPct val="90000"/>
              </a:lnSpc>
              <a:buClr>
                <a:srgbClr val="ff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Lagerfertigung</a:t>
            </a:r>
            <a:r>
              <a:rPr b="1" lang="de-DE" sz="2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Anonym, Absatzplanung für konkrete Produktpalette liegt vor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lnSpc>
                <a:spcPct val="90000"/>
              </a:lnSpc>
              <a:buClr>
                <a:srgbClr val="ff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undenauftragsfertig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Produkte liegen in schwer vorplanbaren Varianten vor (z.B. Farben)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lnSpc>
                <a:spcPct val="90000"/>
              </a:lnSpc>
              <a:buClr>
                <a:srgbClr val="ff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(Groß-)Auftragsfertig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Zulieferer für wenige Produkte und an wenige Kunden 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11280" y="3645000"/>
            <a:ext cx="8064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99"/>
                </a:solidFill>
                <a:latin typeface="Comic Sans MS"/>
              </a:rPr>
              <a:t>Funktionsumfang Add-on </a:t>
            </a:r>
            <a:r>
              <a:rPr b="1" lang="de-DE" sz="2800" spc="-1" strike="noStrike">
                <a:solidFill>
                  <a:srgbClr val="ff3300"/>
                </a:solidFill>
                <a:latin typeface="Braggadocio"/>
              </a:rPr>
              <a:t>jw</a:t>
            </a:r>
            <a:r>
              <a:rPr b="1" lang="de-DE" sz="2800" spc="-1" strike="noStrike">
                <a:solidFill>
                  <a:srgbClr val="000099"/>
                </a:solidFill>
                <a:latin typeface="Comic Sans MS"/>
              </a:rPr>
              <a:t>Serienfertigung</a:t>
            </a:r>
            <a:endParaRPr b="1" lang="en-US" sz="28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0">
              <a:lnSpc>
                <a:spcPct val="12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terstützung der folgenden Prozess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beitsvorbereit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28760" indent="-279360">
              <a:lnSpc>
                <a:spcPct val="9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rgengenerieru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28760" indent="-279360">
              <a:lnSpc>
                <a:spcPct val="9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kumenten und Label Druc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28760" indent="-279360">
              <a:lnSpc>
                <a:spcPct val="9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terialbereitstellu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28760" indent="0">
              <a:lnSpc>
                <a:spcPct val="90000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lnSpc>
                <a:spcPct val="90000"/>
              </a:lnSpc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-Prozesskontrol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rfassung und Visualisierung von Prüfungen zu manuellen oder automatischen Prüfpunkten, abhängig von den verwendeten Einstellungen im Modul QM</a:t>
            </a: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lnSpc>
                <a:spcPct val="90000"/>
              </a:lnSpc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von Qualitätslag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einflusst durch Produktion und Q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lnSpc>
                <a:spcPct val="90000"/>
              </a:lnSpc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atenerfassung von Warenbewegung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lnSpc>
                <a:spcPct val="90000"/>
              </a:lnSpc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ontrolle von Produktionsstatus, Beständen und Qualitäten in einer Mas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8" name=""/>
          <p:cNvGraphicFramePr/>
          <p:nvPr/>
        </p:nvGraphicFramePr>
        <p:xfrm>
          <a:off x="250920" y="4221000"/>
          <a:ext cx="2847960" cy="1152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0920" y="4221000"/>
                    <a:ext cx="2847960" cy="115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0" name=""/>
          <p:cNvGraphicFramePr/>
          <p:nvPr/>
        </p:nvGraphicFramePr>
        <p:xfrm>
          <a:off x="755640" y="2492280"/>
          <a:ext cx="171360" cy="1620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55640" y="2492280"/>
                    <a:ext cx="171360" cy="16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2" name=""/>
          <p:cNvGraphicFramePr/>
          <p:nvPr/>
        </p:nvGraphicFramePr>
        <p:xfrm>
          <a:off x="539640" y="2349360"/>
          <a:ext cx="171720" cy="1620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9640" y="2349360"/>
                    <a:ext cx="171720" cy="16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395280" y="2205000"/>
          <a:ext cx="171360" cy="1620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95280" y="2205000"/>
                    <a:ext cx="171360" cy="16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6" name=""/>
          <p:cNvGraphicFramePr/>
          <p:nvPr/>
        </p:nvGraphicFramePr>
        <p:xfrm>
          <a:off x="755640" y="2708280"/>
          <a:ext cx="162000" cy="1620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755640" y="2708280"/>
                    <a:ext cx="162000" cy="16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228600" y="1219320"/>
            <a:ext cx="3325680" cy="261612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3733920" y="1413000"/>
            <a:ext cx="5257800" cy="470196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1828800" y="1523880"/>
            <a:ext cx="30481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04920" y="31896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mic Sans MS"/>
              </a:rPr>
              <a:t>Rückmelden von Warenbewegu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28600" y="4114800"/>
            <a:ext cx="3276720" cy="159516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5400" indent="-954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augruppenrückmeldung: Gutmenge + Komponenten + Leistu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95400" indent="-954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Komponentenrückmeldung: nur Komponenten (z.B. Mehrverbrauch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95400" indent="-954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Leistungsrückmeldung: (z.B. Ist-zeiterfassung Labor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Comic Sans MS"/>
              </a:rPr>
              <a:t>Qualitätssicherung</a:t>
            </a:r>
            <a:endParaRPr b="1" lang="en-US" sz="3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lnSpc>
                <a:spcPct val="90000"/>
              </a:lnSpc>
              <a:spcBef>
                <a:spcPts val="624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enerierung des Arbeitsvorrates (In-prozess- und Endkontroll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lnSpc>
                <a:spcPct val="90000"/>
              </a:lnSpc>
              <a:spcBef>
                <a:spcPts val="624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infache Maske zur Darstellung des Arbeitsvorrates (Produktionslinien, Probenahmestellen) sowie flexible Ergebniserfassung und -anzeig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lnSpc>
                <a:spcPct val="90000"/>
              </a:lnSpc>
              <a:spcBef>
                <a:spcPts val="624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rhöhung des Prüfrhythmusses bei schlechter Qualitätslag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lnSpc>
                <a:spcPct val="90000"/>
              </a:lnSpc>
              <a:spcBef>
                <a:spcPts val="624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Tabellarische oder graphische Anzeige der Ergebnisse (zur einfachen Darstellung des Prozessverlaufes oder der Qualitätsl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304920" y="32544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cc"/>
                </a:solidFill>
                <a:latin typeface="Comic Sans MS"/>
              </a:rPr>
              <a:t>In-Prozesskontrolle „Konti“-Produk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324000" y="836640"/>
            <a:ext cx="8459640" cy="58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304920" y="32544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mic Sans MS"/>
              </a:rPr>
              <a:t>In-Prozesskontrolle „Konti“-Produk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1371600" y="1066680"/>
            <a:ext cx="6705720" cy="520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mic Sans MS"/>
              </a:rPr>
              <a:t>Sonstige interne Logistikprozesse</a:t>
            </a: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spcBef>
                <a:spcPts val="499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hälterverwaltung / scannergestützte Warentransporte innerhalb der Produk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spcBef>
                <a:spcPts val="499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obenlogisti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spcBef>
                <a:spcPts val="499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chichtbuc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92320">
              <a:spcBef>
                <a:spcPts val="1001"/>
              </a:spcBef>
              <a:buClr>
                <a:srgbClr val="ff3300"/>
              </a:buClr>
              <a:buFont typeface="Wingding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Erfassen von Störmeldungen über SAP Modul PM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mic Sans MS"/>
              </a:rPr>
              <a:t>Sonstige interne Logistikprozesse</a:t>
            </a: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39640" y="1052640"/>
            <a:ext cx="7772400" cy="47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spcBef>
                <a:spcPts val="451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hälterverwaltu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93880" indent="-327240">
              <a:spcBef>
                <a:spcPts val="1001"/>
              </a:spcBef>
              <a:buClr>
                <a:srgbClr val="ff3300"/>
              </a:buClr>
              <a:buFont typeface="Wingding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der Prozessindustrie werden häufig Zwischenprodukte in Zwischenbehältern, Zwischentanks oder ähnlichem geführt, um von dort weiteren Veredlungsstufen zugeführt zu werden.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938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Proble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93880" indent="-327240">
              <a:spcBef>
                <a:spcPts val="1001"/>
              </a:spcBef>
              <a:buClr>
                <a:srgbClr val="ff3300"/>
              </a:buClr>
              <a:buFont typeface="Wingding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iese Prozesse werden häufig nur auf Papier oder in externen Systemen dokumentier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Vorteile für die Nutzung von SAP-W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93880" indent="-327240">
              <a:spcBef>
                <a:spcPts val="1001"/>
              </a:spcBef>
              <a:buClr>
                <a:srgbClr val="ff3300"/>
              </a:buClr>
              <a:buFont typeface="Wingding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utzung der SAP Standard Funktionen für scannergestützte Warenbewegungen im Modul WM, um produktionsinterne Bewegungen elektronisch zu erfassen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93880" indent="-327240">
              <a:spcBef>
                <a:spcPts val="1001"/>
              </a:spcBef>
              <a:buClr>
                <a:srgbClr val="ff3300"/>
              </a:buClr>
              <a:buFont typeface="Wingding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utzung der Kapazitätsverwaltung von Lagerplätze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93880" indent="-327240">
              <a:spcBef>
                <a:spcPts val="1001"/>
              </a:spcBef>
              <a:buClr>
                <a:srgbClr val="ff3300"/>
              </a:buClr>
              <a:buFont typeface="Wingding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utzung der Ein- und Auslagerstrategien für die Behälterfindu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938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mic Sans MS"/>
              </a:rPr>
              <a:t>Sonstige interne Logistikprozesse</a:t>
            </a: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4360" y="112536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41904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robenlogistik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9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11280" y="4292640"/>
            <a:ext cx="6264360" cy="19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robenahme (Auftrag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ingangsregistrierung (Quittierung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terne Zuordnung zu Prüfplätzen (Aufträge mit Quittierung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inlagerung in Rückstellmus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uslagerung Rückstellmus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ntsorgung von Proben und Rückstellmus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395280" y="1628640"/>
            <a:ext cx="8497800" cy="2592360"/>
            <a:chOff x="395280" y="1628640"/>
            <a:chExt cx="8497800" cy="2592360"/>
          </a:xfrm>
        </p:grpSpPr>
        <p:sp>
          <p:nvSpPr>
            <p:cNvPr id="177" name=""/>
            <p:cNvSpPr/>
            <p:nvPr/>
          </p:nvSpPr>
          <p:spPr>
            <a:xfrm>
              <a:off x="395280" y="1628640"/>
              <a:ext cx="8424720" cy="259236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39640" y="1844640"/>
              <a:ext cx="1008000" cy="631440"/>
            </a:xfrm>
            <a:prstGeom prst="rect">
              <a:avLst/>
            </a:pr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Produk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Lag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700360" y="1844640"/>
              <a:ext cx="5759280" cy="187308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427640" y="2276280"/>
              <a:ext cx="504720" cy="50328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076720" y="2997000"/>
              <a:ext cx="505080" cy="50328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80000" y="2205000"/>
              <a:ext cx="504720" cy="50328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203640" y="2205000"/>
              <a:ext cx="504720" cy="50328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851280" y="2997000"/>
              <a:ext cx="504720" cy="50328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V="1">
              <a:off x="2916360" y="2491920"/>
              <a:ext cx="287280" cy="28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708360" y="2492280"/>
              <a:ext cx="719280" cy="73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916360" y="2781360"/>
              <a:ext cx="934920" cy="360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4932360" y="2421000"/>
              <a:ext cx="647640" cy="71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4356000" y="3213000"/>
              <a:ext cx="720720" cy="71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916360" y="2781360"/>
              <a:ext cx="3887640" cy="144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084720" y="2565360"/>
              <a:ext cx="719280" cy="216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804000" y="2133360"/>
              <a:ext cx="1440000" cy="10796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948360" y="2781360"/>
              <a:ext cx="1008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948360" y="2997000"/>
              <a:ext cx="1008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093080" y="2636640"/>
              <a:ext cx="0" cy="505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308720" y="2636640"/>
              <a:ext cx="0" cy="505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524720" y="2636640"/>
              <a:ext cx="0" cy="505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740720" y="2636640"/>
              <a:ext cx="0" cy="505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956720" y="2636640"/>
              <a:ext cx="0" cy="505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804000" y="2133360"/>
              <a:ext cx="1368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Rückstellmuster Regallag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596360" y="3213000"/>
              <a:ext cx="0" cy="216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>
              <a:off x="6443640" y="3429000"/>
              <a:ext cx="1152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476360" y="2133360"/>
              <a:ext cx="36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547640" y="1989000"/>
              <a:ext cx="1152720" cy="432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484360" y="1989000"/>
              <a:ext cx="503280" cy="936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627280" y="2060640"/>
              <a:ext cx="36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700360" y="2421000"/>
              <a:ext cx="216000" cy="360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564000" y="2060640"/>
              <a:ext cx="36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716360" y="2060640"/>
              <a:ext cx="36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012000" y="2205000"/>
              <a:ext cx="36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356000" y="2925720"/>
              <a:ext cx="36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580000" y="3141720"/>
              <a:ext cx="36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300720" y="2636640"/>
              <a:ext cx="36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95280" y="3789360"/>
              <a:ext cx="842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cannergestützte Transport, Registrier- und Einlagerungsprozesse im Produktprüflab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020000" y="3141720"/>
              <a:ext cx="36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596360" y="3429000"/>
              <a:ext cx="1296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956720" y="3429000"/>
              <a:ext cx="36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mic Sans MS"/>
              </a:rPr>
              <a:t>Ergebnis</a:t>
            </a:r>
            <a:endParaRPr b="1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11280" y="1052640"/>
            <a:ext cx="777240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90000"/>
                </a:solidFill>
                <a:latin typeface="Arial"/>
              </a:rPr>
              <a:t>Die Erfahrung zeigt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7620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90000"/>
                </a:solidFill>
                <a:latin typeface="Arial"/>
              </a:rPr>
              <a:t> „</a:t>
            </a:r>
            <a:r>
              <a:rPr b="1" lang="en-US" sz="2600" spc="-1" strike="noStrike">
                <a:solidFill>
                  <a:srgbClr val="990000"/>
                </a:solidFill>
                <a:latin typeface="Arial"/>
              </a:rPr>
              <a:t>Große Potentiale Ihres R/3 Systems sind ungenutzt“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7620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Basis für die effiziente Abbildung der logistisch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Anforderungen im Umfeld von Produktion und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Qualitätsmanagement im SAP R/3 ist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lnSpc>
                <a:spcPct val="90000"/>
              </a:lnSpc>
              <a:spcBef>
                <a:spcPts val="451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ine bereichsübergreifende Prozessanalys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lnSpc>
                <a:spcPct val="90000"/>
              </a:lnSpc>
              <a:spcBef>
                <a:spcPts val="451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ine für den Gesamtprozess optimale Lösu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92320">
              <a:lnSpc>
                <a:spcPct val="90000"/>
              </a:lnSpc>
              <a:spcBef>
                <a:spcPts val="1001"/>
              </a:spcBef>
              <a:buClr>
                <a:srgbClr val="ff3300"/>
              </a:buClr>
              <a:buFont typeface="Wingding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urch effizienten Einsatz von SAP Standard Funktione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92320">
              <a:lnSpc>
                <a:spcPct val="90000"/>
              </a:lnSpc>
              <a:spcBef>
                <a:spcPts val="1001"/>
              </a:spcBef>
              <a:buClr>
                <a:srgbClr val="ff3300"/>
              </a:buClr>
              <a:buFont typeface="Wingding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entuell ergänzt um Erweiterungen / Metatransaktionen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Comic Sans MS"/>
              </a:rPr>
              <a:t>Realisierungsvarianten</a:t>
            </a:r>
            <a:endParaRPr b="1" lang="en-US" sz="3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11280" y="1143000"/>
            <a:ext cx="815184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9040" indent="-419040">
              <a:buClr>
                <a:srgbClr val="ff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ffiziente Nutzung der SAP R/3 Standard Module PP, PI, QM, CO, MM-WM, u.a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47880" indent="-381240"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ostenträgerrechnu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47880" indent="-381240"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argenmanageme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47880" indent="-381240"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lanungswerkzeug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47880" indent="-381240"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bzubildende interne Logistik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47880" indent="0"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9040" indent="-419040">
              <a:buClr>
                <a:srgbClr val="ff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tzung weiterer interner oder externer Lösunge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.B. SAP AP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47880" indent="-381240"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enstruktu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78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9040" indent="-419040">
              <a:buClr>
                <a:srgbClr val="ff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alisierung Maßgeschneiderte Lösung (auf Basis SAP R/3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47880" indent="-381240"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blemspezifische Masken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47880" indent="-381240"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Zusätzliche Funktionalität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9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1547640" y="1484280"/>
            <a:ext cx="6120000" cy="244332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99"/>
                </a:solidFill>
                <a:latin typeface="Comic Sans MS"/>
              </a:rPr>
              <a:t>Logistik in der Produktion</a:t>
            </a:r>
            <a:br>
              <a:rPr sz="3200"/>
            </a:br>
            <a:r>
              <a:rPr b="1" lang="de-DE" sz="3200" spc="-1" strike="noStrike">
                <a:solidFill>
                  <a:srgbClr val="000099"/>
                </a:solidFill>
                <a:latin typeface="Comic Sans MS"/>
              </a:rPr>
              <a:t> mit SAP R/3</a:t>
            </a:r>
            <a:endParaRPr b="1" lang="en-US" sz="3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52440" y="3908520"/>
            <a:ext cx="8439120" cy="21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777777"/>
                </a:solidFill>
                <a:latin typeface="Arial"/>
              </a:rPr>
              <a:t>Steffen Roschek</a:t>
            </a:r>
            <a:br>
              <a:rPr sz="2200"/>
            </a:br>
            <a:r>
              <a:rPr b="1" lang="en-US" sz="20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en-US" sz="2200" spc="-1" strike="noStrike">
                <a:solidFill>
                  <a:srgbClr val="777777"/>
                </a:solidFill>
                <a:latin typeface="Arial"/>
              </a:rPr>
              <a:t>Consulting GmbH</a:t>
            </a:r>
            <a:r>
              <a:rPr b="1" lang="en-US" sz="2900" spc="-1" strike="noStrike">
                <a:solidFill>
                  <a:srgbClr val="777777"/>
                </a:solidFill>
                <a:latin typeface="Arial"/>
              </a:rPr>
              <a:t> </a:t>
            </a:r>
            <a:br>
              <a:rPr sz="2200"/>
            </a:b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777777"/>
                </a:solidFill>
                <a:latin typeface="Arial"/>
              </a:rPr>
              <a:t>Marl, den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777777"/>
                </a:solidFill>
                <a:latin typeface="Arial"/>
              </a:rPr>
              <a:t>5. Februar 200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777777"/>
                </a:solidFill>
                <a:latin typeface="Arial"/>
              </a:rPr>
              <a:t>http://www.jwconsulting.d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Comic Sans MS"/>
              </a:rPr>
              <a:t>Produktionstypen mit SAP R/3 Standard</a:t>
            </a:r>
            <a:endParaRPr b="1" lang="en-US" sz="3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11280" y="1143000"/>
            <a:ext cx="792144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-355680">
              <a:lnSpc>
                <a:spcPct val="80000"/>
              </a:lnSpc>
              <a:buClr>
                <a:srgbClr val="ff0000"/>
              </a:buClr>
              <a:buFont typeface="Monotype Sorts" charset="2"/>
              <a:buChar char=""/>
              <a:tabLst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000000"/>
                </a:solidFill>
                <a:latin typeface="Arial"/>
              </a:rPr>
              <a:t>PP Fertigung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80000"/>
              </a:lnSpc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7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de-DE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700" spc="-1" strike="noStrike">
                <a:solidFill>
                  <a:srgbClr val="000000"/>
                </a:solidFill>
                <a:latin typeface="Arial"/>
              </a:rPr>
              <a:t>Fertigung mit oder ohne Chargen zum Fertigungsauftrag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80000"/>
              </a:lnSpc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7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de-DE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700" spc="-1" strike="noStrike">
                <a:solidFill>
                  <a:srgbClr val="000000"/>
                </a:solidFill>
                <a:latin typeface="Arial"/>
              </a:rPr>
              <a:t>Arbeitsplätze, Stücklisten, Arbeitspläne 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80000"/>
              </a:lnSpc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80000"/>
              </a:lnSpc>
              <a:buClr>
                <a:srgbClr val="ff0000"/>
              </a:buClr>
              <a:buFont typeface="Monotype Sorts" charset="2"/>
              <a:buChar char=""/>
              <a:tabLst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000000"/>
                </a:solidFill>
                <a:latin typeface="Arial"/>
              </a:rPr>
              <a:t>PP-PI Produktion in der Prozessindustri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80000"/>
              </a:lnSpc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7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de-DE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700" spc="-1" strike="noStrike">
                <a:solidFill>
                  <a:srgbClr val="000000"/>
                </a:solidFill>
                <a:latin typeface="Arial"/>
              </a:rPr>
              <a:t>Fertigung mit oder ohne Chargen zum Prozessauftrag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80000"/>
              </a:lnSpc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7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de-DE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700" spc="-1" strike="noStrike">
                <a:solidFill>
                  <a:srgbClr val="000000"/>
                </a:solidFill>
                <a:latin typeface="Arial"/>
              </a:rPr>
              <a:t>Fertigung in Produktionskampagnen (eingeschränkt)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80000"/>
              </a:lnSpc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7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de-DE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700" spc="-1" strike="noStrike">
                <a:solidFill>
                  <a:srgbClr val="000000"/>
                </a:solidFill>
                <a:latin typeface="Arial"/>
              </a:rPr>
              <a:t>Schnittstellen zu Prozessleitsystemen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80000"/>
              </a:lnSpc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7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de-DE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700" spc="-1" strike="noStrike">
                <a:solidFill>
                  <a:srgbClr val="000000"/>
                </a:solidFill>
                <a:latin typeface="Arial"/>
              </a:rPr>
              <a:t>Ressourcen, Stücklisten, Planungsrezepte 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80000"/>
              </a:lnSpc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80000"/>
              </a:lnSpc>
              <a:buClr>
                <a:srgbClr val="ff0000"/>
              </a:buClr>
              <a:buFont typeface="Monotype Sorts" charset="2"/>
              <a:buChar char=""/>
              <a:tabLst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000000"/>
                </a:solidFill>
                <a:latin typeface="Arial"/>
              </a:rPr>
              <a:t>PP Serienfertigung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80000"/>
              </a:lnSpc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7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de-DE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700" spc="-1" strike="noStrike">
                <a:solidFill>
                  <a:srgbClr val="000000"/>
                </a:solidFill>
                <a:latin typeface="Arial"/>
              </a:rPr>
              <a:t>Fertigung mit oder ohne Chargen zum (Serienauftrag) Produktkosten-  </a:t>
            </a:r>
            <a:r>
              <a:rPr b="1" lang="de-DE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700" spc="-1" strike="noStrike">
                <a:solidFill>
                  <a:srgbClr val="000000"/>
                </a:solidFill>
                <a:latin typeface="Arial"/>
              </a:rPr>
              <a:t>sammler 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80000"/>
              </a:lnSpc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7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de-DE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700" spc="-1" strike="noStrike">
                <a:solidFill>
                  <a:srgbClr val="000000"/>
                </a:solidFill>
                <a:latin typeface="Arial"/>
              </a:rPr>
              <a:t>Entkopplung der Fertigungslosgrößen vom Produktcontrolling 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80000"/>
              </a:lnSpc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7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de-DE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700" spc="-1" strike="noStrike">
                <a:solidFill>
                  <a:srgbClr val="000000"/>
                </a:solidFill>
                <a:latin typeface="Arial"/>
              </a:rPr>
              <a:t>Linien, Stücklisten, Linienplan 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80000"/>
              </a:lnSpc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80000"/>
              </a:lnSpc>
              <a:buNone/>
              <a:tabLst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60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Comic Sans MS"/>
              </a:rPr>
              <a:t>Die Kostenträgerrechnung im System R/3</a:t>
            </a:r>
            <a:endParaRPr b="1" lang="en-US" sz="3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24000" y="1197000"/>
            <a:ext cx="843912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00000"/>
                </a:solidFill>
                <a:latin typeface="Arial"/>
              </a:rPr>
              <a:t>Auftragsbezogenes Produkt-Controll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Fertigungsauftrag Prozessauftrag</a:t>
            </a:r>
            <a:r>
              <a:rPr b="1" lang="de-DE" sz="1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de-DE" sz="1900" spc="-1" strike="noStrike">
                <a:solidFill>
                  <a:srgbClr val="000000"/>
                </a:solidFill>
                <a:latin typeface="Arial"/>
              </a:rPr>
              <a:t>Das auftragsbezogene Produkt-Controlling steht vor allem für die Kostenkontrolle von einzelnen Produktionslosen zur Verfügung.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00000"/>
                </a:solidFill>
                <a:latin typeface="Arial"/>
              </a:rPr>
              <a:t>Periodisches Produkt-Controlling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Produktkostensammler /(Serienauftrag)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900" spc="-1" strike="noStrike">
                <a:solidFill>
                  <a:srgbClr val="000000"/>
                </a:solidFill>
                <a:latin typeface="Arial"/>
              </a:rPr>
              <a:t>Das periodische Produkt-Controlling steht für die regelmäßige, periodische Kostenkontrolle von Produkten zur Verfügung, die über längere Zeiträume hinweg auf die gleiche Art und Weise gefertigt werden.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60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Comic Sans MS"/>
              </a:rPr>
              <a:t>Die Kostenträgerrechnung im System R/3</a:t>
            </a:r>
            <a:endParaRPr b="1" lang="en-US" sz="3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24000" y="1196640"/>
            <a:ext cx="8439120" cy="15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200" spc="-1" strike="noStrike">
                <a:solidFill>
                  <a:srgbClr val="000000"/>
                </a:solidFill>
                <a:latin typeface="Arial"/>
              </a:rPr>
              <a:t>Auftragsbezogenes Produkt-Controll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de-DE" sz="1600" spc="-1" strike="noStrike">
                <a:solidFill>
                  <a:srgbClr val="000000"/>
                </a:solidFill>
                <a:latin typeface="Arial"/>
              </a:rPr>
              <a:t>Plan-, Soll- und Istkosten zu Fertigungslosen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26920" y="1989000"/>
            <a:ext cx="7417080" cy="410400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500720" y="2637000"/>
            <a:ext cx="0" cy="2592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403280" y="2781360"/>
            <a:ext cx="2519280" cy="2466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2520" indent="-18252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Logisti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rtterm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dterm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omponenten und Kapazitätsbedarf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omponentenverbrau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istungsempfän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619280" y="2133720"/>
            <a:ext cx="5977080" cy="3682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uftrag je Fertigungslos (z.B. Charge) anlegen und freigeb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003640" y="2781360"/>
            <a:ext cx="2519640" cy="2253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2520" indent="-18252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 u="sng">
                <a:solidFill>
                  <a:srgbClr val="000000"/>
                </a:solidFill>
                <a:uFillTx/>
                <a:latin typeface="Arial"/>
              </a:rPr>
              <a:t>Controll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lankosten zum L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ollkosten zum L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stkosten zum L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WIP Ermittlung zum L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bweichungen zum L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692360" y="5445000"/>
            <a:ext cx="5976720" cy="3988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ftrag je Fertigungslos abrechnen und abschließ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60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Comic Sans MS"/>
              </a:rPr>
              <a:t>Die Kostenträgerrechnung im System R/3</a:t>
            </a:r>
            <a:endParaRPr b="1" lang="en-US" sz="3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24000" y="1196640"/>
            <a:ext cx="8439120" cy="15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200" spc="-1" strike="noStrike">
                <a:solidFill>
                  <a:srgbClr val="000000"/>
                </a:solidFill>
                <a:latin typeface="Arial"/>
              </a:rPr>
              <a:t>Periodisches Produkt-Controlling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de-DE" sz="1600" spc="-1" strike="noStrike">
                <a:solidFill>
                  <a:srgbClr val="000000"/>
                </a:solidFill>
                <a:latin typeface="Arial"/>
              </a:rPr>
              <a:t>Plan-, Soll- und Istkosten werden periodisch gesammelt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716360" y="1989000"/>
            <a:ext cx="4248360" cy="410400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500720" y="2637000"/>
            <a:ext cx="0" cy="2592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4360" y="4005360"/>
            <a:ext cx="3238200" cy="1280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Logisti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omponentenverbrau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areneinga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39640" y="2060640"/>
            <a:ext cx="3745080" cy="1281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nauftrag aus der Bedarfsplanu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Typ 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tartterm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term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omponenten und   Kapazitätsbedarf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003640" y="3645000"/>
            <a:ext cx="2519640" cy="1928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 u="sng">
                <a:solidFill>
                  <a:srgbClr val="000000"/>
                </a:solidFill>
                <a:uFillTx/>
                <a:latin typeface="Times New Roman"/>
              </a:rPr>
              <a:t>Controll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Plankosten zur Peri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Sollkosten zur Peri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Istkosten zur Peri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Abweichungen zur Peri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859280" y="2205000"/>
            <a:ext cx="3097440" cy="133416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„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wiger“ Produktkostensammler zum Material und Fertigungsver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Stammdate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596360" y="4005360"/>
            <a:ext cx="1223640" cy="11689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Periodisch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Abweichungs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ermittlu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172360" y="378936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7524360" y="5300640"/>
            <a:ext cx="647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172360" y="4941720"/>
            <a:ext cx="0" cy="358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7524360" y="3789360"/>
            <a:ext cx="647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Comic Sans MS"/>
              </a:rPr>
              <a:t>Chargenmanagement</a:t>
            </a:r>
            <a:endParaRPr b="1" lang="en-US" sz="3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980640"/>
            <a:ext cx="8439120" cy="525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0">
              <a:lnSpc>
                <a:spcPct val="120000"/>
              </a:lnSpc>
              <a:spcBef>
                <a:spcPts val="774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100" spc="-1" strike="noStrike">
                <a:solidFill>
                  <a:srgbClr val="ff0000"/>
                </a:solidFill>
                <a:latin typeface="Arial"/>
              </a:rPr>
              <a:t>Durchgängiges Chargenmanagement ?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Arial"/>
              </a:rPr>
              <a:t>Nachteile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lnSpc>
                <a:spcPct val="120000"/>
              </a:lnSpc>
              <a:spcBef>
                <a:spcPts val="1125"/>
              </a:spcBef>
              <a:buClr>
                <a:srgbClr val="ff3300"/>
              </a:buClr>
              <a:buSzPct val="75000"/>
              <a:buFont typeface="Monotype Sorts" charset="2"/>
              <a:buChar char="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de Warenbewegung erfordert die Erfassung einer Chargennumm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120000"/>
              </a:lnSpc>
              <a:spcBef>
                <a:spcPts val="1125"/>
              </a:spcBef>
              <a:buNone/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Lösung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argenfindungsstrategi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Arial"/>
              </a:rPr>
              <a:t>Vorteile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lnSpc>
                <a:spcPct val="120000"/>
              </a:lnSpc>
              <a:spcBef>
                <a:spcPts val="1125"/>
              </a:spcBef>
              <a:buClr>
                <a:srgbClr val="ff3300"/>
              </a:buClr>
              <a:buSzPct val="75000"/>
              <a:buFont typeface="Monotype Sorts" charset="2"/>
              <a:buChar char="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ückenlose Ermittlung von Herkunfts- und Verarbeitungsdat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lnSpc>
                <a:spcPct val="120000"/>
              </a:lnSpc>
              <a:spcBef>
                <a:spcPts val="1125"/>
              </a:spcBef>
              <a:buClr>
                <a:srgbClr val="ff3300"/>
              </a:buClr>
              <a:buSzPct val="75000"/>
              <a:buFont typeface="Monotype Sorts" charset="2"/>
              <a:buChar char="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zielte Verwendungseinschränkungen / Sperrungen von Charg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lnSpc>
                <a:spcPct val="120000"/>
              </a:lnSpc>
              <a:spcBef>
                <a:spcPts val="1125"/>
              </a:spcBef>
              <a:buClr>
                <a:srgbClr val="ff3300"/>
              </a:buClr>
              <a:buSzPct val="75000"/>
              <a:buFont typeface="Monotype Sorts" charset="2"/>
              <a:buChar char="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zielte Rückholungen vom Kund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lnSpc>
                <a:spcPct val="120000"/>
              </a:lnSpc>
              <a:spcBef>
                <a:spcPts val="1125"/>
              </a:spcBef>
              <a:buClr>
                <a:srgbClr val="ff3300"/>
              </a:buClr>
              <a:buSzPct val="75000"/>
              <a:buFont typeface="Monotype Sorts" charset="2"/>
              <a:buChar char="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uswerte- und Statistikfunktionalität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Comic Sans MS"/>
              </a:rPr>
              <a:t>Chargenmanagement</a:t>
            </a:r>
            <a:endParaRPr b="1" lang="en-US" sz="3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80520" y="980640"/>
            <a:ext cx="8294760" cy="547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-380880">
              <a:lnSpc>
                <a:spcPct val="120000"/>
              </a:lnSpc>
              <a:spcBef>
                <a:spcPts val="649"/>
              </a:spcBef>
              <a:buClr>
                <a:srgbClr val="ff3300"/>
              </a:buClr>
              <a:buSzPct val="75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600" spc="-1" strike="noStrike">
                <a:solidFill>
                  <a:srgbClr val="000000"/>
                </a:solidFill>
                <a:latin typeface="Arial"/>
              </a:rPr>
              <a:t>Chargenrückverfolgbarkei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lnSpc>
                <a:spcPct val="120000"/>
              </a:lnSpc>
              <a:spcBef>
                <a:spcPts val="1500"/>
              </a:spcBef>
              <a:buClr>
                <a:srgbClr val="ff3300"/>
              </a:buClr>
              <a:buSzPct val="75000"/>
              <a:buFont typeface="Wingdings" charset="2"/>
              <a:buChar char="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Intern, für Verarbeitung und interne Distribu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lnSpc>
                <a:spcPct val="120000"/>
              </a:lnSpc>
              <a:spcBef>
                <a:spcPts val="1500"/>
              </a:spcBef>
              <a:buClr>
                <a:srgbClr val="ff3300"/>
              </a:buClr>
              <a:buSzPct val="75000"/>
              <a:buFont typeface="Wingdings" charset="2"/>
              <a:buChar char="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Upstream, Richtung Hersteller, Lieferanten inkl. Spediteu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lnSpc>
                <a:spcPct val="120000"/>
              </a:lnSpc>
              <a:spcBef>
                <a:spcPts val="1500"/>
              </a:spcBef>
              <a:buClr>
                <a:srgbClr val="ff3300"/>
              </a:buClr>
              <a:buSzPct val="75000"/>
              <a:buFont typeface="Wingdings" charset="2"/>
              <a:buChar char="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Downstream, Richtung Weiterverarbeiter, Konsumenten inkl. Spediteu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6T15:14:30Z</dcterms:created>
  <dc:creator>Roschek Steffen</dc:creator>
  <dc:description/>
  <dc:language>en-US</dc:language>
  <cp:lastModifiedBy>Dr. Jochen Winkler</cp:lastModifiedBy>
  <cp:lastPrinted>1999-11-17T11:38:50Z</cp:lastPrinted>
  <dcterms:modified xsi:type="dcterms:W3CDTF">2004-02-25T14:19:16Z</dcterms:modified>
  <cp:revision>428</cp:revision>
  <dc:subject/>
  <dc:title>Optimierte Planung und Produktion mit periodischem Produktcontrolling  in der </dc:title>
</cp:coreProperties>
</file>