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2292CD6C-6BA3-461B-AFDF-A04D18D6C67C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5.02.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9920" y="6391440"/>
            <a:ext cx="183492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Logistic Execution in Produktion und Lab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1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ogistic Execu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 Produktion und Labor</a:t>
            </a:r>
            <a:br>
              <a:rPr sz="36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efeld</a:t>
            </a:r>
            <a:br>
              <a:rPr sz="24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sansä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Nutzung der vorhandenen Standard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QM Modu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erer SAP Module (WM / LES / PS /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weiterungen des SAP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trans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ungen zum SAP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satz komplexer Erweiterungen und Business Add-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il 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ber Prozess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440" y="1901880"/>
            <a:ext cx="1143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üfauftra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sch oder manu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1901880"/>
            <a:ext cx="187308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Probeziehanweisung / Etiketten 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0160" y="1901880"/>
            <a:ext cx="12319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8520" y="1901880"/>
            <a:ext cx="14875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envertei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e nach Prüf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0480" y="3645000"/>
            <a:ext cx="157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gebniserfas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64520" y="1901880"/>
            <a:ext cx="136836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ufzetteldr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3645000"/>
            <a:ext cx="11448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32200" y="3645000"/>
            <a:ext cx="19130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wendungsentsch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32680" y="3645000"/>
            <a:ext cx="16034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/ Mailversand Analysenbe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16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48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124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0560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40160" y="3987360"/>
            <a:ext cx="591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75000" y="3987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645240" y="3987360"/>
            <a:ext cx="4874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732880" y="2387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61480" y="2387520"/>
            <a:ext cx="0" cy="79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8440" y="3186000"/>
            <a:ext cx="857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800" y="318600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800" y="398772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einga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e Erfassung von Lieferantenzertifikats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s Anlegen der Prüfaufträ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austausch mit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ung gegen alle Spezifikationen eines Mate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s Anlegen von periodischen 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i ungeplanten Proben sollen alle Prüfparameter bis zur Ergebniseingabe modifizierbar s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üfumfang ungeplanter Proben soll aus allen Prüfplänen und / oder Spezifikationen frei zusammengestellt werden kön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gration in die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634600" cy="49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lobales, harmonisiert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 und Buchungskreis übergreifend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lektronische Verwaltung und Versendung von 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sspezifikationen inkl. weltweit zentraler Verwaltung mit standort-spezifischen Anpassungsmöglichkeiten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PS = Additional plant specific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interne Spezifikation, incl. PDF-Versand per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95280" y="1197000"/>
            <a:ext cx="8510760" cy="5040000"/>
            <a:chOff x="395280" y="1197000"/>
            <a:chExt cx="8510760" cy="5040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95280" y="1197000"/>
              <a:ext cx="475308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987640" y="1631520"/>
              <a:ext cx="1152720" cy="25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19640" y="1282680"/>
              <a:ext cx="3686400" cy="4865400"/>
              <a:chOff x="5219640" y="1282680"/>
              <a:chExt cx="3686400" cy="4865400"/>
            </a:xfrm>
          </p:grpSpPr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19640" y="1282680"/>
                <a:ext cx="3686400" cy="48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093080" y="3715200"/>
                <a:ext cx="1152360" cy="17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bildung komplexer Laborstruk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 Statu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r zentraler Arbeitsvor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lierbar bis auf Arbeitsplatz- Bearbeiter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auslastung auf Schicht /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überga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: Arbeitsvorrat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8788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AP R/3 Workshop Logistik Execution im 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06668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an ein integrierte LIM-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blick Funktionsdefizite bestehender Systeme und Lösungsansä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sdefizite bestehender 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ösungsansä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beispi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sku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 1: Zentraler Arbeitsvorrat Trefferlis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83808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33360"/>
            <a:ext cx="83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1: Zentraler Arbeitsvorrat Bearbeiterzu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9628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lektion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76908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refferliste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2: Auftragsüberga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2000" cy="50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 Anstoß der Probenah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ck von Probenetiketten (mit Barc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rung von Proben (per Scan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 Rückstellmuster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sche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705800" cy="52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201080" cy="51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fische Ergebnisdarstell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Leistungs- und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spezifische Leistungsverzeichnisse auf Metho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echnung auf Basis der tatsächlich durchgeführten Prüfungen (Einzelwer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 Simulations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spezifisches Leistungsverzeich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1160640"/>
            <a:ext cx="7127640" cy="50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 -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054080"/>
            <a:ext cx="59356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3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9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es Infor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übersicht mit umfassenden Qualitäts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&lt;–&gt;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tstellen von „Realtime“ SPC-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afische Aufbereitung der Qualitätslage in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bor &lt;–&gt; Vertri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Retest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Ergänzungs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Stoffbestands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V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linien bezo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 direkt in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be nach MS-Excel zur weiteren 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95280" y="1044720"/>
            <a:ext cx="6697800" cy="5184720"/>
            <a:chOff x="395280" y="1044720"/>
            <a:chExt cx="6697800" cy="51847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rcRect l="0" t="0" r="47197" b="10038"/>
            <a:stretch/>
          </p:blipFill>
          <p:spPr>
            <a:xfrm>
              <a:off x="395280" y="1044720"/>
              <a:ext cx="669780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95280" y="1628640"/>
              <a:ext cx="863640" cy="144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0000" y="4257720"/>
              <a:ext cx="1224000" cy="108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8000" y="771480"/>
            <a:ext cx="89280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58920" y="4365720"/>
            <a:ext cx="6626160" cy="21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9280" y="981000"/>
            <a:ext cx="8785440" cy="5688000"/>
            <a:chOff x="179280" y="981000"/>
            <a:chExt cx="8785440" cy="56880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878544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148360" y="1773360"/>
              <a:ext cx="43164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0360" y="1773360"/>
              <a:ext cx="1366920" cy="142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lattformübergreifender,  offener Ansat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ierte zentrale Verwaltung von QM relevanten Dokumenten wie z. B. Methodenbeschreibungen oder QM Handbüc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griff und Pflege über Standardbrowser aus Inter- und Intr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rekter Zugriff aus S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llständiger Funktionsumfa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texts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inition von Suchbegriffen und Schlagwor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eck-In / Check-Out Funk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igabestrateg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kumentsig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- Q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3640" y="1052640"/>
            <a:ext cx="85071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LIMS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ERP-System realisierte,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67360" y="1916280"/>
            <a:ext cx="6128640" cy="4004640"/>
            <a:chOff x="1467360" y="1916280"/>
            <a:chExt cx="6128640" cy="4004640"/>
          </a:xfrm>
        </p:grpSpPr>
        <p:sp>
          <p:nvSpPr>
            <p:cNvPr id="161" name=""/>
            <p:cNvSpPr/>
            <p:nvPr/>
          </p:nvSpPr>
          <p:spPr>
            <a:xfrm>
              <a:off x="2693880" y="2833200"/>
              <a:ext cx="3368520" cy="21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54960" y="4025880"/>
              <a:ext cx="1203120" cy="641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8080" y="4025880"/>
              <a:ext cx="1202760" cy="64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4960" y="3475440"/>
              <a:ext cx="2405880" cy="550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34720" y="2925000"/>
              <a:ext cx="2766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Braggadocio"/>
                </a:rPr>
                <a:t>jw</a:t>
              </a:r>
              <a:r>
                <a:rPr b="0" lang="de-DE" sz="1000" spc="-1" strike="noStrike">
                  <a:solidFill>
                    <a:srgbClr val="ff9900"/>
                  </a:solidFill>
                  <a:latin typeface="Braggadocio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okumenten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4960" y="4209120"/>
              <a:ext cx="1082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8080" y="4209120"/>
              <a:ext cx="1202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iabl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6520" y="3659040"/>
              <a:ext cx="1203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467360" y="5034600"/>
              <a:ext cx="892080" cy="6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597680" y="2688120"/>
              <a:ext cx="5313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467360" y="1916280"/>
              <a:ext cx="105912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530400" y="5715000"/>
              <a:ext cx="10324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u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10680" y="2673000"/>
              <a:ext cx="7617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6520320" y="2007720"/>
              <a:ext cx="82404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6460200" y="4920120"/>
              <a:ext cx="11358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487520" y="5737680"/>
              <a:ext cx="7696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166600">
              <a:off x="2319120" y="2926800"/>
              <a:ext cx="1004400" cy="91440"/>
            </a:xfrm>
            <a:prstGeom prst="leftRightArrow">
              <a:avLst>
                <a:gd name="adj1" fmla="val 50000"/>
                <a:gd name="adj2" fmla="val 2186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8842400">
              <a:off x="2292480" y="4917960"/>
              <a:ext cx="690480" cy="111240"/>
            </a:xfrm>
            <a:prstGeom prst="leftRightArrow">
              <a:avLst>
                <a:gd name="adj1" fmla="val 50000"/>
                <a:gd name="adj2" fmla="val 1235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11400">
              <a:off x="5630040" y="2848680"/>
              <a:ext cx="962280" cy="91080"/>
            </a:xfrm>
            <a:prstGeom prst="leftRightArrow">
              <a:avLst>
                <a:gd name="adj1" fmla="val 50000"/>
                <a:gd name="adj2" fmla="val 2103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331600">
              <a:off x="5595120" y="4882320"/>
              <a:ext cx="920880" cy="90360"/>
            </a:xfrm>
            <a:prstGeom prst="leftRightArrow">
              <a:avLst>
                <a:gd name="adj1" fmla="val 50000"/>
                <a:gd name="adj2" fmla="val 2028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kturiert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unterstützung (Workflow-Szenari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z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reklamationen inkl.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s Problem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reklamationen inkl. Retourenab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icherung einer spezifikationsgerechten 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Spezifikationsebe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un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X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rantiezeiten für Produkt/Kunden-Kombin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unter Einbezug einer Garantiezeit je Kunde/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abwicklung für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Spezifikationsfindung im Kundenauftr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bezogene Verfügbarkeitsprüf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te Prüfung der Chargeneignung in der Lief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9185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br>
              <a:rPr sz="1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ogistic Execu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 Produktion und Labor</a:t>
            </a:r>
            <a:br>
              <a:rPr sz="3600"/>
            </a:br>
            <a:br>
              <a:rPr sz="20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05.02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refeld</a:t>
            </a:r>
            <a:br>
              <a:rPr sz="24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 (I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1280" y="980640"/>
            <a:ext cx="761976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stützung aller unternehmensweit anfallenden Anforderu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rzfristig verfüg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kunftssicheres 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zahlba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ienba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el und Erweiter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 Such- und Auswerte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en an ein integriertes SAP R/3 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klamations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391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eckung aller anfallenden Prüf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es, harmonisiertes Stamm- und Bewegungsdatenkonz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 (I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s Infor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sistente, zeitnahe Stammdatenpf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icherung einer spezifikationsgerechten 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Dr. Jochen Winkler</cp:lastModifiedBy>
  <cp:lastPrinted>2002-02-19T08:24:01Z</cp:lastPrinted>
  <dcterms:modified xsi:type="dcterms:W3CDTF">2004-02-25T14:21:26Z</dcterms:modified>
  <cp:revision>528</cp:revision>
  <dc:subject/>
  <dc:title>Intergriertes SAP R/3 LIMS</dc:title>
</cp:coreProperties>
</file>