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0580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5952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244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0580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5952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52440" y="380880"/>
            <a:ext cx="8439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190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990720"/>
            <a:ext cx="8391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19800" y="6391440"/>
            <a:ext cx="79416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eite </a:t>
            </a:r>
            <a:fld id="{ECFDF88C-E67B-4277-B9F5-96ED7ED118E8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19320" y="6391440"/>
            <a:ext cx="6066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5.02.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76600" y="6391440"/>
            <a:ext cx="62208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urt Fan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9920" y="6391440"/>
            <a:ext cx="183492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Logistic Execution in Produktion und Lab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78800" y="6183360"/>
            <a:ext cx="551880" cy="52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91856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28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R/3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orkshop</a:t>
            </a:r>
            <a:br>
              <a:rPr sz="3600"/>
            </a:br>
            <a:br>
              <a:rPr sz="18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Logistic Execution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in Produktion und Labor</a:t>
            </a:r>
            <a:br>
              <a:rPr sz="3600"/>
            </a:br>
            <a:br>
              <a:rPr sz="20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5.02.2004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refeld</a:t>
            </a:r>
            <a:br>
              <a:rPr sz="2400"/>
            </a:br>
            <a:br>
              <a:rPr sz="18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t Fantes</a:t>
            </a:r>
            <a:br>
              <a:rPr sz="2200"/>
            </a:br>
            <a:r>
              <a:rPr b="1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200"/>
            </a:b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br>
              <a:rPr sz="2200"/>
            </a:br>
            <a:br>
              <a:rPr sz="2200"/>
            </a:b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ösungsansät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Nutzung der vorhandenen Standardfunktio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QM Modu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erer SAP Module (WM / LES / PS /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Erweiterungen des SAP Stand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transa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weiterungen zum SAP Stand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satz komplexer Erweiterungen und Business Add-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il 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ber Prozessablau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3440" y="1901880"/>
            <a:ext cx="1143000" cy="8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üfauftra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omatisch oder manu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1901880"/>
            <a:ext cx="1873080" cy="8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uck Probeziehanweisung / Etiketten (option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80160" y="1901880"/>
            <a:ext cx="1231920" cy="8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08520" y="1901880"/>
            <a:ext cx="1487520" cy="8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envertei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je nach Prüfpl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60480" y="3645000"/>
            <a:ext cx="157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gebniserfass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64520" y="1901880"/>
            <a:ext cx="1368360" cy="8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ufzetteldru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32000" y="3645000"/>
            <a:ext cx="11448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Valid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32200" y="3645000"/>
            <a:ext cx="19130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wendungsentsche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32680" y="3645000"/>
            <a:ext cx="16034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uck / Mailversand Analysenbef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16160" y="240516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48160" y="240516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21240" y="240516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05600" y="240516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40160" y="3987360"/>
            <a:ext cx="59184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75000" y="39877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645240" y="3987360"/>
            <a:ext cx="48744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732880" y="2387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961480" y="2387520"/>
            <a:ext cx="0" cy="79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88440" y="3186000"/>
            <a:ext cx="8572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800" y="3186000"/>
            <a:ext cx="0" cy="80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800" y="398772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4391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wicklung aller anfallenden Prüfungen in einem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eneingangs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sierung des Prüfumfa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llele Erfassung von Lieferantenzertifikatsda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zessbegleitende 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s Anlegen der Prüfaufträ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saustausch mit der Produk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igabe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sierung des Prüfumfa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üfung gegen alle Spezifikationen eines Materi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4391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wicklung aller anfallenden Prüfungen in einem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elt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tomatisches Anlegen von periodischen Prob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rschungs- und Entwicklungs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i ungeplanten Proben sollen alle Prüfparameter bis zur Ergebniseingabe modifizierbar se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üfumfang ungeplanter Proben soll aus allen Prüfplänen und / oder Spezifikationen frei zusammengestellt werden könn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libri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 aller Stammdaten im QM Umfel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tomatischer, periodischer Prüfanstoß für Kalibrierprüfun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ventarlisten und Prüfrhythmenübersic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mdmust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gemeine Sonder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egration in die Logis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634600" cy="49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 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4391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lobales, harmonisiertes Stamm- und Bewegungsdaten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ort und Buchungskreis übergreifende Prozes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s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lektronische Verwaltung und Versendung von Spezifik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ür Standardspezifik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ür Kundenspezifik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ür Lieferantenspezifik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rksspezifikationen inkl. weltweit zentraler Verwaltung mit standort-spezifischen Anpassungsmöglichkeiten</a:t>
            </a:r>
            <a:br>
              <a:rPr sz="18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APS = Additional plant specifica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flege von Zusatzdaten zur Spezifik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784836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 interne Spezifikation, incl. PDF-Versand per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95280" y="1197000"/>
            <a:ext cx="8510760" cy="5040000"/>
            <a:chOff x="395280" y="1197000"/>
            <a:chExt cx="8510760" cy="504000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395280" y="1197000"/>
              <a:ext cx="4753080" cy="50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987640" y="1631520"/>
              <a:ext cx="1152720" cy="259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5219640" y="1282680"/>
              <a:ext cx="3686400" cy="4865400"/>
              <a:chOff x="5219640" y="1282680"/>
              <a:chExt cx="3686400" cy="4865400"/>
            </a:xfrm>
          </p:grpSpPr>
          <p:pic>
            <p:nvPicPr>
              <p:cNvPr id="1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219640" y="1282680"/>
                <a:ext cx="3686400" cy="48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7093080" y="3715200"/>
                <a:ext cx="1152360" cy="174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 (I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4391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ben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bildung komplexer Laborstruktu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enve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enregistr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le Status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beitsvorrä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fassender zentraler Arbeitsvorr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lierbar bis auf Arbeitsplatz- Bearbeitereb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sourcen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sourcenauslastung auf Schicht / Arbeitspl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tragsüberga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sti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1: Arbeitsvorrat Selek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687888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AP R/3 Workshop Logistik Execution im Lab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066680"/>
            <a:ext cx="80769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siskonfigurationen ERP-System - Q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forderungen an ein integrierte LIM-Syst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Funktionsdefizite bestehender Systeme und Lösungsansät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326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ktionsdefizite bestehender Syst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ösungsansät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beispi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skus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ispiel 1: Zentraler Arbeitsvorrat Trefferlis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838080"/>
            <a:ext cx="842472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769080" cy="3203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333360"/>
            <a:ext cx="8351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1: Zentraler Arbeitsvorrat Bearbeiterzu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9628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2: Zentraler Arbeitsvorra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elektion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6769080" cy="614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2: Zentraler Arbeitsvorra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refferliste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892800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2: Auftragsübergab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712000" cy="50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 (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nlogisti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scher Anstoß der Probenah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uck von Probenetiketten (mit Barcod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rierung von Proben (per Scann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ierte Rückstellmuster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ierte Prüfmittelverwal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lege aller Stammdaten im QM Umf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scher, periodischer Prüfanstoß für Kalibri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ntarlisten und Prüfrhythmen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stische Auswer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ventarlisten und Prüfrhythmenübersich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2080" y="1294920"/>
            <a:ext cx="414324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6364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7705800" cy="52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ventarlisten und Prüfrhythmenübersich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2080" y="1294920"/>
            <a:ext cx="414324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6364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201080" cy="51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rafische Ergebnisdarstellu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52080" y="1294920"/>
            <a:ext cx="414324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6364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 (V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sche detaillierte Leistungs- und Prüfkostenabrech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spezifische Leistungsverzeichnisse auf Methodeneb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rechnung auf Basis der tatsächlich durchgeführten Prüfungen (Einzelwer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 Simulations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scheidungsfaktoren für ERP-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ternehmensweite 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ernehmensweite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nkonsist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ine ungewollten Redunda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fügbarkeit und Qualität von Information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Über den gesamten Produktlebenszyk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lang des gesamten primären logistischen Proz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stenreduz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stige lfd. 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orspezifisches Leistungsverzeich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1160640"/>
            <a:ext cx="7127640" cy="50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istungsabrechnung und Statistik - Selek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7280" y="1054080"/>
            <a:ext cx="5935680" cy="52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39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istungsabrechnung und Statisti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569440" cy="59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 (V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ernes Informations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übersicht mit umfassenden Qualitätsinform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 &lt;–&gt; Lab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r Versand von Prüfergebnissen per Druck, Fax oder E-M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eitstellen von „Realtime“ SPC-Da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afische Aufbereitung der Qualitätslage in der Produk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bor &lt;–&gt; Vertri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r Versand von Prüfergebnissen per Druck, Fax oder E-M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r Anstoß von Retest-Prüfungen mit elektronischer Antw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r Anstoß von Ergänzungs-Prüfungen mit elektronischer Antw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Stoffbestandssic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647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 (V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C / Statistiken / Re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bez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rgen bez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ioden bez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slinien bezog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 direkt in S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gabe nach MS-Excel zur weiteren Be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stauswer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95280" y="1044720"/>
            <a:ext cx="6697800" cy="5184720"/>
            <a:chOff x="395280" y="1044720"/>
            <a:chExt cx="6697800" cy="518472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rcRect l="0" t="0" r="47197" b="10038"/>
            <a:stretch/>
          </p:blipFill>
          <p:spPr>
            <a:xfrm>
              <a:off x="395280" y="1044720"/>
              <a:ext cx="669780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95280" y="1628640"/>
              <a:ext cx="863640" cy="144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40000" y="4257720"/>
              <a:ext cx="1224000" cy="108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-Schnellgraf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8000" y="771480"/>
            <a:ext cx="8928000" cy="5977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258920" y="4365720"/>
            <a:ext cx="6626160" cy="2156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CEL-Graf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9280" y="981000"/>
            <a:ext cx="8785440" cy="5688000"/>
            <a:chOff x="179280" y="981000"/>
            <a:chExt cx="8785440" cy="568800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179280" y="981000"/>
              <a:ext cx="8785440" cy="56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148360" y="1773360"/>
              <a:ext cx="431640" cy="142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00360" y="1773360"/>
              <a:ext cx="1366920" cy="142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 (I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lattformübergreifender,  offener Ansat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grierte zentrale Verwaltung von QM relevanten Dokumenten wie z. B. Methodenbeschreibungen oder QM Handbücher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griff und Pflege über Standardbrowser aus Inter- und Intra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rekter Zugriff aus SA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llständiger Funktionsumfa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ltextsu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finition von Suchbegriffen und Schlagwor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sionier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heck-In / Check-Out Funktion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reigabestrategi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rechtigungsverwal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schlüsse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okumentsignier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konfigurationen ERP-System - Q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3640" y="1052640"/>
            <a:ext cx="85071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das ERP-System integrierte Standard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male Lösung, wenn die angebotenen Funktionen, das Systemhandling und die Flexibilität den Anforderungen genüg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xternes LIMS mit Schnittstellen zum ERP-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r dann zu empfehlen wenn keine integrierte Lösung verfügbar 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ierte Standardlösung + externes LI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r dann zu empfehlen wenn keine integrierte Lösung verfügbar 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m ERP-System realisierte, kundenoptimierte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male Lösung, wenn das Standard ERP-System den Anforderungen nicht genüg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467360" y="1916280"/>
            <a:ext cx="6128640" cy="4004640"/>
            <a:chOff x="1467360" y="1916280"/>
            <a:chExt cx="6128640" cy="4004640"/>
          </a:xfrm>
        </p:grpSpPr>
        <p:sp>
          <p:nvSpPr>
            <p:cNvPr id="161" name=""/>
            <p:cNvSpPr/>
            <p:nvPr/>
          </p:nvSpPr>
          <p:spPr>
            <a:xfrm>
              <a:off x="2693880" y="2833200"/>
              <a:ext cx="3368520" cy="210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54960" y="4025880"/>
              <a:ext cx="1203120" cy="641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58080" y="4025880"/>
              <a:ext cx="1202760" cy="64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54960" y="3475440"/>
              <a:ext cx="2405880" cy="5500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34720" y="2925000"/>
              <a:ext cx="27669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0000"/>
                  </a:solidFill>
                  <a:latin typeface="Braggadocio"/>
                </a:rPr>
                <a:t>jw</a:t>
              </a:r>
              <a:r>
                <a:rPr b="0" lang="de-DE" sz="1000" spc="-1" strike="noStrike">
                  <a:solidFill>
                    <a:srgbClr val="ff9900"/>
                  </a:solidFill>
                  <a:latin typeface="Braggadocio"/>
                </a:rPr>
                <a:t>e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Dokumenten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54960" y="4209120"/>
              <a:ext cx="1082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enba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58080" y="4209120"/>
              <a:ext cx="1202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eiabl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56520" y="3659040"/>
              <a:ext cx="120312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1467360" y="5034600"/>
              <a:ext cx="892080" cy="6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597680" y="2688120"/>
              <a:ext cx="531360" cy="18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1467360" y="1916280"/>
              <a:ext cx="105912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530400" y="5715000"/>
              <a:ext cx="1032480" cy="18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tu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10680" y="2673000"/>
              <a:ext cx="761760" cy="18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ra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3"/>
            <a:stretch/>
          </p:blipFill>
          <p:spPr>
            <a:xfrm>
              <a:off x="6520320" y="2007720"/>
              <a:ext cx="824040" cy="64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4"/>
            <a:stretch/>
          </p:blipFill>
          <p:spPr>
            <a:xfrm>
              <a:off x="6460200" y="4920120"/>
              <a:ext cx="1135800" cy="82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487520" y="5737680"/>
              <a:ext cx="769680" cy="18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2166600">
              <a:off x="2319120" y="2926800"/>
              <a:ext cx="1004400" cy="91440"/>
            </a:xfrm>
            <a:prstGeom prst="leftRightArrow">
              <a:avLst>
                <a:gd name="adj1" fmla="val 50000"/>
                <a:gd name="adj2" fmla="val 21866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8842400">
              <a:off x="2292480" y="4917960"/>
              <a:ext cx="690480" cy="111240"/>
            </a:xfrm>
            <a:prstGeom prst="leftRightArrow">
              <a:avLst>
                <a:gd name="adj1" fmla="val 50000"/>
                <a:gd name="adj2" fmla="val 1235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9211400">
              <a:off x="5630040" y="2848680"/>
              <a:ext cx="962280" cy="91080"/>
            </a:xfrm>
            <a:prstGeom prst="leftRightArrow">
              <a:avLst>
                <a:gd name="adj1" fmla="val 50000"/>
                <a:gd name="adj2" fmla="val 2103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331600">
              <a:off x="5595120" y="4882320"/>
              <a:ext cx="920880" cy="90360"/>
            </a:xfrm>
            <a:prstGeom prst="leftRightArrow">
              <a:avLst>
                <a:gd name="adj1" fmla="val 50000"/>
                <a:gd name="adj2" fmla="val 2028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 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mmdatenpfle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ukturierte Prozes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unterstützung (Workflow-Szenari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istenz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egriertes Reklamations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enreklamationen inkl. Lieferantenbeu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s Problem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reklamationen inkl. Retourenabwick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sicherung einer spezifikationsgerechten Auslief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Spezifikationsebe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Kundeneb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 (X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125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636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arantiezeiten für Produkt/Kunden-Kombin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 Chargenfindung unter Einbezug einer Garantiezeit je Kunde/Mater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derabwicklung für Inter-Company-Geschäf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icherung der spezifikationsgerechten Auslief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 Spezifikationsfindung im Kundenauftra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zifikationsbezogene Verfügbarkeitsprüf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 Chargenfindung zur Spezifik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te Prüfung der Chargeneignung in der Lief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91856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28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R/3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orkshop</a:t>
            </a:r>
            <a:br>
              <a:rPr sz="3600"/>
            </a:br>
            <a:br>
              <a:rPr sz="18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Logistic Execution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in Produktion und Labor</a:t>
            </a:r>
            <a:br>
              <a:rPr sz="3600"/>
            </a:br>
            <a:br>
              <a:rPr sz="20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5.02.2004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refeld</a:t>
            </a:r>
            <a:br>
              <a:rPr sz="2400"/>
            </a:br>
            <a:br>
              <a:rPr sz="18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t Fantes</a:t>
            </a:r>
            <a:br>
              <a:rPr sz="2200"/>
            </a:br>
            <a:r>
              <a:rPr b="1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200"/>
            </a:b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br>
              <a:rPr sz="2200"/>
            </a:br>
            <a:br>
              <a:rPr sz="2200"/>
            </a:b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 (I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11280" y="980640"/>
            <a:ext cx="7619760" cy="475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stützung aller unternehmensweit anfallenden Anforderunge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rzfristig verfügb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kunftssicheres Konz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zahlba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dienba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el und Erweiterb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4391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wicklung aller anfallenden Prüfungen in einem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igabe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zessbegleitende 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welt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schungs- und Entwicklungs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der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mdmust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nverwal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fassende Such- und Auswerte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391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sourcenpla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ierte Prüfmittelverwal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nlogisti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beitsvorrä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sche detaillierte Prüfkostenabrech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C / Statistiken / Re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klamationsverwal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3912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deckung aller anfallenden Prüf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es, harmonisiertes Stamm- und Bewegungsdatenkonz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n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sourcenpla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beitsvorrä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ierte Prüfmittelverwal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nlogisti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sche detaillierte Prüfkostenabrech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s Informations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sistente, zeitnahe Stammdatenpfle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zifikations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C / Statistiken / Re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iertes Reklamations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icherung einer spezifikationsgerechten Auslief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6:24:12Z</dcterms:created>
  <dc:creator>HISS-Nr.:62450</dc:creator>
  <dc:description/>
  <dc:language>en-US</dc:language>
  <cp:lastModifiedBy>Dr. Jochen Winkler</cp:lastModifiedBy>
  <cp:lastPrinted>2002-02-19T08:24:01Z</cp:lastPrinted>
  <dcterms:modified xsi:type="dcterms:W3CDTF">2004-02-25T14:21:26Z</dcterms:modified>
  <cp:revision>528</cp:revision>
  <dc:subject/>
  <dc:title>Intergriertes SAP R/3 LIMS</dc:title>
</cp:coreProperties>
</file>