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1E6F9-53C0-4B0B-ADE6-9BC577045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5D18B-237C-4A30-A9DF-C316A8397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030C1-E161-484A-B5B2-9136E3F68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7FB6B-96BA-43AF-9461-034861B84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64453-227F-4988-A0EE-31C324D94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F5C74-DEA0-4246-899B-07CF57B85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17400-E36E-4125-A11A-53EA4B868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04A2E-22B8-4E96-97CD-86A2B8AE9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58A94-5C42-4330-BDF4-F93DBFC7A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28240" y="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0277A-C8F4-4275-87F1-952E53F85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FE236-BFC4-4855-8877-AF9A335B6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44CA0-4C78-4AD1-B725-DB7820FCD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2EA14-BE78-49E0-A31D-CF35E9A47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D6BDD-80F2-46CE-8E10-4BC7FBE90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2DD60-C28A-4F32-9DEE-A65A4BCA5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BF79F-488B-4A8A-9B35-3B94CE606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48DF9-8980-457B-96BD-F2AB24006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73AC1-81BE-4A00-A48A-F06216495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98DDD-9B44-4E49-BCCF-7CE74E62B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B00F5-C481-40D6-90C9-9F6AD3030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240" y="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6F560-4F78-4567-BFBE-AD4EC3F5C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D8814-4EDD-4EFC-8935-67C44728C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74CF8-4786-443A-8DD4-1D6A1B10A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D9F89-07F2-467B-8C40-F26ACAF39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326880">
              <a:spcBef>
                <a:spcPts val="550"/>
              </a:spcBef>
              <a:buClr>
                <a:srgbClr val="ff33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320760">
              <a:spcBef>
                <a:spcPts val="55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90512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32416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32416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32416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28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800" spc="-1" strike="noStrike">
                <a:solidFill>
                  <a:srgbClr val="ff3300"/>
                </a:solidFill>
                <a:latin typeface="Braggadoci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Braggadocio"/>
              </a:rPr>
              <a:t>j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47760" y="6400440"/>
            <a:ext cx="2895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Seite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19F8E2D2-F54D-4FB7-837E-35C490AC4ACC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04920" y="685800"/>
            <a:ext cx="838188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800" spc="-1" strike="noStrike">
                <a:solidFill>
                  <a:srgbClr val="ff3300"/>
                </a:solidFill>
                <a:latin typeface="Braggadoci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Braggadocio"/>
              </a:rPr>
              <a:t>j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Seite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9E4D6918-4638-4EA9-A783-1F0DE62F9553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04920" y="685800"/>
            <a:ext cx="838188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S 05.02.200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80880" y="152388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9480" y="838080"/>
            <a:ext cx="8001000" cy="42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Herzlich Willkommen zum </a:t>
            </a:r>
            <a:br>
              <a:rPr sz="3200"/>
            </a:b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SAP R/3 Worksh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cc"/>
                </a:solidFill>
                <a:latin typeface="Arial"/>
              </a:rPr>
              <a:t>Logistic Execution in Produktion und Lab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marler congress hotel, </a:t>
            </a:r>
            <a:br>
              <a:rPr sz="3200"/>
            </a:b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Marl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xel Röthemei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01B3E-545F-48DC-9746-46D6E6E65179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w</a:t>
            </a:r>
          </a:p>
        </p:txBody>
      </p:sp>
    </p:spTree>
  </p:cSld>
  <p:transition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S 05.02.200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700" spc="-1" strike="noStrike">
                <a:solidFill>
                  <a:srgbClr val="000000"/>
                </a:solidFill>
                <a:latin typeface="Arial"/>
              </a:rPr>
              <a:t>Themen heute:</a:t>
            </a:r>
            <a:endParaRPr b="1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Integriertes Qualitätsmanagement mit SAP R/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326880"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Funktionelle Anforderungen an ein Qualitätsmanagement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326880"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bdeckung weiterer qualitätsbezogener Prozesse und Anforderung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326880"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Logistische Prozesse in einem Lab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xel Röthemei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C4191-4C25-4424-BD8E-F9DE8F17BCDF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w</a:t>
            </a:r>
          </a:p>
        </p:txBody>
      </p:sp>
    </p:spTree>
  </p:cSld>
  <p:transition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S 05.02.200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94920" y="907920"/>
            <a:ext cx="83818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men heute: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ogistik in der Produktion mit SAP R/3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326880"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duktionsumfeld SAP R/3 Standar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326880"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e Logistikprozes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xel Röthemei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7B04C-EF68-4B1D-BD54-F32D2B04AA1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w</a:t>
            </a:r>
          </a:p>
        </p:txBody>
      </p:sp>
    </p:spTree>
  </p:cSld>
  <p:transition>
    <p:randomBar dir="vert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S 05.02.200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120" y="1904760"/>
            <a:ext cx="80010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3433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Das Beratungsunternehmen </a:t>
            </a:r>
            <a:r>
              <a:rPr b="0" lang="de-DE" sz="2000" spc="-1" strike="noStrike">
                <a:solidFill>
                  <a:srgbClr val="ff3300"/>
                </a:solidFill>
                <a:latin typeface="Braggadocio"/>
              </a:rPr>
              <a:t>jw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Consulting wurde am </a:t>
            </a:r>
            <a:br>
              <a:rPr sz="2200"/>
            </a:b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1. Juli 1996 von Dr. Jochen Winkler gegründet und fir-miert seit Mai 2002 als </a:t>
            </a:r>
            <a:r>
              <a:rPr b="0" lang="de-DE" sz="2000" spc="-1" strike="noStrike">
                <a:solidFill>
                  <a:srgbClr val="ff3300"/>
                </a:solidFill>
                <a:latin typeface="Braggadocio"/>
              </a:rPr>
              <a:t>jw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Consulting GmbH.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3433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3433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Von Anfang an spezialisierte sich das Unternehmen auf die komplette Einführung von SAP R/3-Systemen in Unternehmen der Prozessindustrie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3433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3433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Produktspektrum heute:  Unternehmensausrichtung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3433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ff0000"/>
                </a:solidFill>
                <a:latin typeface="Arial"/>
              </a:rPr>
              <a:t>SAP R/3</a:t>
            </a:r>
            <a:r>
              <a:rPr b="1" lang="de-DE" sz="2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de-DE" sz="2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ff0000"/>
                </a:solidFill>
                <a:latin typeface="Wingdings"/>
                <a:ea typeface="Wingdings"/>
              </a:rPr>
              <a:t></a:t>
            </a:r>
            <a:r>
              <a:rPr b="1" lang="de-DE" sz="2200" spc="-1" strike="noStrike">
                <a:solidFill>
                  <a:srgbClr val="ff0000"/>
                </a:solidFill>
                <a:latin typeface="Arial"/>
              </a:rPr>
              <a:t> Chemische Industrie </a:t>
            </a:r>
            <a:r>
              <a:rPr b="1" lang="de-DE" sz="2200" spc="-1" strike="noStrike">
                <a:solidFill>
                  <a:srgbClr val="ff0000"/>
                </a:solidFill>
                <a:latin typeface="Arial"/>
              </a:rPr>
              <a:t>	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3433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ff0000"/>
                </a:solidFill>
                <a:latin typeface="Arial"/>
              </a:rPr>
              <a:t>Add-ons</a:t>
            </a:r>
            <a:r>
              <a:rPr b="1" lang="de-DE" sz="2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de-DE" sz="2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ff0000"/>
                </a:solidFill>
                <a:latin typeface="Wingdings"/>
                <a:ea typeface="Wingdings"/>
              </a:rPr>
              <a:t></a:t>
            </a:r>
            <a:r>
              <a:rPr b="1" lang="de-DE" sz="2200" spc="-1" strike="noStrike">
                <a:solidFill>
                  <a:srgbClr val="ff0000"/>
                </a:solidFill>
                <a:latin typeface="Arial"/>
              </a:rPr>
              <a:t> Pharmazeutische Industri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3433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ff0000"/>
                </a:solidFill>
                <a:latin typeface="Arial"/>
              </a:rPr>
              <a:t>Web-Applications </a:t>
            </a:r>
            <a:r>
              <a:rPr b="1" lang="de-DE" sz="2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de-DE" sz="2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ff0000"/>
                </a:solidFill>
                <a:latin typeface="Wingdings"/>
                <a:ea typeface="Wingdings"/>
              </a:rPr>
              <a:t></a:t>
            </a:r>
            <a:r>
              <a:rPr b="1" lang="de-DE" sz="2200" spc="-1" strike="noStrike">
                <a:solidFill>
                  <a:srgbClr val="ff0000"/>
                </a:solidFill>
                <a:latin typeface="Arial"/>
              </a:rPr>
              <a:t> Medizin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2120" y="99072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r Start von </a:t>
            </a:r>
            <a:r>
              <a:rPr b="0" lang="en-US" sz="3200" spc="-1" strike="noStrike">
                <a:solidFill>
                  <a:srgbClr val="ff3300"/>
                </a:solidFill>
                <a:latin typeface="Braggadocio"/>
              </a:rPr>
              <a:t>jw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sult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xel Röthemei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564BE-F0BB-4765-81C0-C5D355905B4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w</a:t>
            </a:r>
          </a:p>
        </p:txBody>
      </p:sp>
    </p:spTree>
  </p:cSld>
  <p:transition>
    <p:randomBa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S 05.02.200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SABIC Polyolefine GmbH, Gelsenkirch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Wacker Chemie GmbH, Nünchritz, Burghaus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Degussa AG / GB Aerosil &amp; Silanes, Frankfur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Degussa AG / GB Superabsorber, Krefel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Infracor GmbH, Mar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Industriepark Wolfgang GmbH, Hanau-Wolfga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INEOS Phenol GmbH &amp; Co. KG, Gladbeck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Stockhausen GmbH &amp; Co. KG, Krefel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Vinnolit GmbH &amp; Co. KG, Isman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OXENO Olefinchemie GmbH, Mar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Goldschmidt AG, Ess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62120" y="76212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uszug aus der Kundenlis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xel Röthemei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BECA6-3ED7-4B5E-81E5-966FCB5870D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w</a:t>
            </a:r>
          </a:p>
        </p:txBody>
      </p:sp>
    </p:spTree>
  </p:cSld>
  <p:transition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S 05.02.200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560" y="1412640"/>
            <a:ext cx="793908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Azupharma GmbH &amp; Co., Gerlingen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Aventis Pharma Deutschland GmbH, Frankfur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Degussa AG / GB Coatings &amp; Colorants, Mar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Degussa AG / GB High Performance Polymers, Mar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Asta Medica AG und Arzneimittelwerk Dresden GmbH (AWD), Radebeul, Künsebeck, Frankfur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Degussa AG, Frankfurt (Charme-Projekt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BASF IT Services GmbH, Ludwigshaf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BASF Pigment GmbH (Masterbatch), Köl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SKW Stickstoffwerke Piesteritz GmbH, Wittenber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PCI Augsburg GmbH, Augsbur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StoHaas Marl GmbH, Mar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09480" y="76212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uszug aus der Kundenlis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xel Röthemei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E5B5A-84EC-478C-A818-9DCE9A2D56F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w</a:t>
            </a:r>
          </a:p>
        </p:txBody>
      </p:sp>
    </p:spTree>
  </p:cSld>
  <p:transition>
    <p:randomBa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S 05.02.200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8487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8000" indent="-37800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hre direkten Ansprechpartner sind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895320" indent="-326880"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r. Jochen Winkl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95320" indent="-326880"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xel Röthemei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ttp://</a:t>
            </a:r>
            <a:r>
              <a:rPr b="1" lang="en-US" sz="2200" spc="-1" strike="noStrike">
                <a:solidFill>
                  <a:srgbClr val="3333cc"/>
                </a:solidFill>
                <a:latin typeface="Arial"/>
              </a:rPr>
              <a:t>www.jwconsulting.d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sere Homepage im Internet. Hier finden Sie alles Wissenswerte zu unserem Geschäft, lernen Referenzen und Standorte kennen - Mausklick genügt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xel Röthemei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117C3-3B55-4348-BEDB-5A3177CA94F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w</a:t>
            </a:r>
          </a:p>
        </p:txBody>
      </p:sp>
    </p:spTree>
  </p:cSld>
  <p:transition>
    <p:randomBa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S 05.02.200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80880" y="152388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9480" y="838080"/>
            <a:ext cx="8001000" cy="48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SAP R/3 Worksh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cc"/>
                </a:solidFill>
                <a:latin typeface="Arial"/>
              </a:rPr>
              <a:t>Logistic Execution in Produktion und Lab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marler congress hotel, </a:t>
            </a:r>
            <a:br>
              <a:rPr sz="3200"/>
            </a:b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Marl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xel Röthemei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646FA-DB29-4DB0-8039-D21F1328212A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w</a:t>
            </a:r>
          </a:p>
        </p:txBody>
      </p:sp>
    </p:spTree>
  </p:cSld>
  <p:transition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08:57:14Z</dcterms:created>
  <dc:creator>ARS</dc:creator>
  <dc:description/>
  <dc:language>en-US</dc:language>
  <cp:lastModifiedBy>Dr. Jochen Winkler</cp:lastModifiedBy>
  <cp:lastPrinted>2001-02-12T08:25:41Z</cp:lastPrinted>
  <dcterms:modified xsi:type="dcterms:W3CDTF">2004-02-25T14:22:31Z</dcterms:modified>
  <cp:revision>244</cp:revision>
  <dc:subject/>
  <dc:title>Kein Folientitel</dc:title>
</cp:coreProperties>
</file>