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6BE-0D17-4ACF-88A1-551E6D66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49F-769D-444A-95D0-0DE58DF4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861-62E4-4A9E-8E1B-173D1513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CD1-DF94-4335-A246-028A5860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EAE-6F80-4AFB-B30E-10AD694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9FC-1227-4F80-BBC9-DB9712B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575-DC98-42A5-BE0E-3FB1F314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8BD-4B80-451F-B5CA-7D44525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AD1A-F072-42BB-B2CD-F5451F7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E681-E17C-4629-8B67-4359E5EA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3005-9BD5-4263-B917-7D8CAC7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9B2-E752-4513-BE13-2057319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AF6-D248-4640-972E-7ECCAE6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BAAC-EB07-4D55-8C5C-593E228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341A-8216-45D9-A5F0-492C9AF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11A7-4DB9-4D87-8E6F-E64E588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B711-4D3C-42F0-BB7B-29E8FBF1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010-29D6-4F4B-B148-DC6CBDDC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299-9061-48B7-A95E-B607A620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675-E6E6-4E1A-B646-9892AC8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3EF-8595-4E00-AF7E-2D7C2D6C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8E4-D871-4555-927C-AA4F844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E8D-7965-4871-A49E-5DABC33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45A-EA96-4DD4-BBCD-9E26B244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97E24AE-CAD9-46A7-BE3A-548F8BBFBD7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BE90B7C-137E-4FB2-82CA-66A7E591EC8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Logistic Execution in Produktion un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ADE-3224-438E-8ADC-8EB0C103DD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Qualitätsmanagement mit SAP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elle Anforderungen an ein Qualitätsmanagement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weiterer qualitätsbezogener Prozesse und 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gistische Prozesse in einem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1C3-2CB7-4A73-A444-C2CDD219BF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istik in der Produktion mit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umfeld SAP R/3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 Logistik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080-EE3A-4098-A349-797860CA01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r Start von </a:t>
            </a: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2D-6DD1-42DC-B44F-318846DA29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EDB-ED25-44B6-BE66-F0281099D3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793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Haas Marl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E7B-3CEB-4A14-9F03-49AD48E4E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272-11FB-44B2-878C-9EDAA9D273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05.02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838080"/>
            <a:ext cx="800100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Logistic Execution in Produktion und La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10B-2895-4E25-B592-5F0C5D5F59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Dr. Jochen Winkler</cp:lastModifiedBy>
  <cp:lastPrinted>2001-02-12T08:25:41Z</cp:lastPrinted>
  <dcterms:modified xsi:type="dcterms:W3CDTF">2004-02-25T14:22:31Z</dcterms:modified>
  <cp:revision>244</cp:revision>
  <dc:subject/>
  <dc:title>Kein Folientitel</dc:title>
</cp:coreProperties>
</file>