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668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8212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668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08212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2200" y="1523880"/>
            <a:ext cx="6172200" cy="91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668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8212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668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08212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2200" y="1523880"/>
            <a:ext cx="6172200" cy="91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spcBef>
                <a:spcPts val="5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198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69600" y="6477120"/>
            <a:ext cx="71388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lie </a:t>
            </a:r>
            <a:fld id="{50136C14-EC18-4C3D-AB4F-0470CC78808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32400" y="6405480"/>
            <a:ext cx="360" cy="1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4840" y="70488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990720"/>
            <a:ext cx="84582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137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5360" y="6095880"/>
            <a:ext cx="6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132000" y="6381720"/>
            <a:ext cx="280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teffen Roschek / Dr. Jochen Wink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53400" y="70488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 algn="ctr">
              <a:spcBef>
                <a:spcPts val="12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66852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60320" indent="75888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7972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79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79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120000" cy="24429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Arial"/>
              </a:rPr>
              <a:t>Die optimierte Produktion und Produktionsplanung im Bereich der Serienfertigung in der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Dipl.-Phys. Steffen Roschek / Dr. Jochen Winkler</a:t>
            </a:r>
            <a:br>
              <a:rPr sz="2200"/>
            </a:b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Consulting GmbH</a:t>
            </a:r>
            <a:r>
              <a:rPr b="1" lang="de-DE" sz="2900" spc="-1" strike="noStrike">
                <a:solidFill>
                  <a:srgbClr val="777777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Wiesbaden, de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22. Januar 20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777777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ösung Superabsorber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143000"/>
            <a:ext cx="81518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atzplanung (Jahresplan, Tagespla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splanung (Jahresplan, Tagespla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srückmeld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sabrechnung und -control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ätssich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hresplan (2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25000"/>
            <a:ext cx="7772400" cy="9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3" marL="1717560" indent="-19836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sionsmanage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f Jahresbas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19836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 Version A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19836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ernative Versionen A01 bis A9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2590920"/>
            <a:ext cx="6858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658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hresplan (3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0556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plant werden vorher definierte Planungshierarchien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19836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terial (Verkaufsmateria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19836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unde (der Kunde </a:t>
            </a:r>
            <a:r>
              <a:rPr b="1" lang="de-DE" sz="1600" spc="-1" strike="noStrike">
                <a:solidFill>
                  <a:srgbClr val="00cc99"/>
                </a:solidFill>
                <a:latin typeface="Arial"/>
              </a:rPr>
              <a:t>Sonstige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=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##########“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19836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Linie (Arbeitsplatzhierarchie für Kapazitätsbetrachtun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19836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Lieferkalender (zur automatischen Disaggregation auf mögliche Liefertag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19836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Losgröße (für die Disaggregation des Monatsabsatzes auf ganzzahlige Vielfache dieser Losgröße (z.B. ganze Tankzüg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19051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29400" y="3886200"/>
            <a:ext cx="2209680" cy="1069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5800" y="4343400"/>
            <a:ext cx="762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61722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hresplan (4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589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ulation der Tagesplanung aufgrund von Monats-Planzah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2971800"/>
            <a:ext cx="243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446720" cy="2046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324480" y="3048120"/>
            <a:ext cx="1067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829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hresplan (5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atliche Verteilung von Jahres-Planzahlen nach Liefertag und Lieferlosgröß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28600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6378840" cy="3222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257800" y="5257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343400" y="4114800"/>
            <a:ext cx="416088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gesabsatz- und Produktionsplan (1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Planung startet immer zum aktuellen Datum + die folgenden Tage. Von da ab kann in die folgenden Wochen, die immer montags beginnen, gesprungen werd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monatlichen Absatzahlen (der aktiven Version) dienen als Grundlage für eine automatische Disaggregation in einen Tagesabsatzplan nach Lieferkalender und Losgröß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den Tagesabsatzzahlen werden bereits erfasste Kunden-aufträge (zum Materialbereitstellungsdatum) angezeigt und (vorerst nur) mit den Planzahlen des selben Tages verrechnet (größter Wert zählt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Arial"/>
              </a:rPr>
              <a:t>Daily Planning</a:t>
            </a:r>
            <a:endParaRPr b="1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7189920" cy="3124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8600" y="3049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agesabsatz- und Produktionsplan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990720"/>
            <a:ext cx="822960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cht WA gebuchte vergangene Kundenaufträge werden als rückständiger Bedarf angezeigt (nicht mit Kundenaufträgen verrechnete vergangene Tagesabsatzzahlen verfall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wohl rückständige als auch zukünftige Bedarfe werden je Materialnummer verdichtet und die sich daraus ergebende Bestandssituation simuli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gen den Bestandsabbau wirkt ein editierbarer Produktions- und Abfüll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cht abgerechnete vergangene Produktionen bzw. Abfüllungen werden als rückständig angezeig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362320" y="4800600"/>
            <a:ext cx="5257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gesabsatz- und Produktionsplan (4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3276720"/>
            <a:ext cx="35812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e Produktions- und Abfüllplanmengen werden im System als SAP R/3 Standard Planaufträge des Typs „PE“ Produktionseinteilungen gespeichert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e PE´s enthalten ebenfalls die Fertigungsversion und die zu verwendende Stückliste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e Komponenten der Stückliste werden als Reservierungen in der SAP R/3 Standardtabelle „RESB“ gespeichert und können mit Standardmitteln eingesehen werden (z.B. Bedarfsplanung)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4479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2949480" cy="1806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715000" y="198108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067280" y="1557360"/>
            <a:ext cx="4724280" cy="4543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590920" y="2590920"/>
            <a:ext cx="144756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rtigungsarte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1280" y="1143000"/>
            <a:ext cx="81518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rienfertigu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ontinuierliche Ressourcenauslastung, stabile Produktionsbedingunge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Kampagnenferti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b2b2b2"/>
                </a:solidFill>
                <a:latin typeface="Arial"/>
              </a:rPr>
              <a:t>zur Minimierung von Rüstzeiten und -koste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Chargenferti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b2b2b2"/>
                </a:solidFill>
                <a:latin typeface="Arial"/>
              </a:rPr>
              <a:t>mit optimaler Ressourcenauslastung und bedarfsnaher Fertigu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Lagerferti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Groß-)Auftragsferti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unktionsumfang Add-on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rienfertigung (1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itor zur Visualisierung der gesamten Arbeitsumgebung in der Produktion mit allen Umfeldfunktion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gemeine und detaillierte Information über die Produktions- und Qualitätssituation aller Produktionslinie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meinsamer Arbeitsvorrat fü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ung + Chargen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sab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ätsprüfung inklusive Verwendungsentsche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mmdatenpfle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unktionsumfang Add-on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erienfertigung (2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lnSpc>
                <a:spcPct val="12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erstützung der folgenden Prozes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beitsvorberei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gengenerier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kumenten und Label Dru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albereitstel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-Prozesskontro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fassung und Visualisierung von Prüfungen zu manuellen oder automatischen Prüfpunkten, abhängig von den verwendeten Einstellungen im Modul QM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von Qualitätsla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einflusst durch Produktion und Q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nerfassung von Warenbewe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trolle von Produktionsstatus, Beständen und Qualitäten in einer Mas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250920" y="4221000"/>
          <a:ext cx="2847960" cy="11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221000"/>
                    <a:ext cx="28479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755640" y="2492280"/>
          <a:ext cx="171360" cy="16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2492280"/>
                    <a:ext cx="1713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9640" y="2349360"/>
          <a:ext cx="171720" cy="16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2349360"/>
                    <a:ext cx="17172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95280" y="2205000"/>
          <a:ext cx="171360" cy="162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2205000"/>
                    <a:ext cx="1713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755640" y="2708280"/>
          <a:ext cx="162000" cy="162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2708280"/>
                    <a:ext cx="16200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genübersich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2514600"/>
            <a:ext cx="7315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24000" y="1125360"/>
            <a:ext cx="8529120" cy="5040360"/>
            <a:chOff x="324000" y="1125360"/>
            <a:chExt cx="8529120" cy="5040360"/>
          </a:xfrm>
        </p:grpSpPr>
        <p:sp>
          <p:nvSpPr>
            <p:cNvPr id="161" name=""/>
            <p:cNvSpPr/>
            <p:nvPr/>
          </p:nvSpPr>
          <p:spPr>
            <a:xfrm>
              <a:off x="1859400" y="5896800"/>
              <a:ext cx="699372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361080" indent="-361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zahl der bereits gedruckten LVS Etiket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4000" y="5896800"/>
              <a:ext cx="15354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274320" indent="-27432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VS-Etiket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59400" y="5412960"/>
              <a:ext cx="699372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rbliche Darstellung des VE-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4000" y="5412960"/>
              <a:ext cx="15354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alitä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59400" y="5131800"/>
              <a:ext cx="69937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E-Code im Prüf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4000" y="5131800"/>
              <a:ext cx="153540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-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59400" y="4816800"/>
              <a:ext cx="699372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üflosnummer falls Material prüfpflichti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59400" y="3327840"/>
              <a:ext cx="6993720" cy="14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ün: freier Best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lb: nicht freier Best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t: gesperrter Best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rblos: Qualitätsprüfbestand oder Bestand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59400" y="3058920"/>
              <a:ext cx="699372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361080" indent="-361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genwärtiger Chargenbestand (alle Bestandsarte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59400" y="1964880"/>
              <a:ext cx="6993720" cy="10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64680" indent="-3646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ün: Charge ist neu und kann bebucht werd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64680" indent="-3646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lb: Charge wurde bereits bearbeitet - Zubuchen mögli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64680" indent="-3646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t: Charge wurde abgeschlossen - kein Zubuchen mehr mögli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64680" indent="-3646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nweis: Chargen mit rotem Produktionsstatus und evtl. uneingeschränkt freiem Bestand (oder kein Bestand mehr) werden ausgeblend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59400" y="1662120"/>
              <a:ext cx="699372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76200" indent="-37620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um des letzten Wareneingangs in der 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59400" y="1393560"/>
              <a:ext cx="699372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361080" indent="-36108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reits zugebuchte Men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59400" y="1125360"/>
              <a:ext cx="69937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357120" indent="-35712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rgennummer Sortierkriterium - jüngste Charge ganz ob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4000" y="4816800"/>
              <a:ext cx="153540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rüfl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4000" y="3327840"/>
              <a:ext cx="1535400" cy="14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stands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4000" y="3058920"/>
              <a:ext cx="15354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274320" indent="-27432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st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4000" y="1964880"/>
              <a:ext cx="1535400" cy="10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tus 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4000" y="1662120"/>
              <a:ext cx="15354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tzter W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4000" y="1393560"/>
              <a:ext cx="15354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274320" indent="-27432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duk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4000" y="1125360"/>
              <a:ext cx="15354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271440" indent="-271440">
                <a:lnSpc>
                  <a:spcPct val="100000"/>
                </a:lnSpc>
                <a:spcBef>
                  <a:spcPts val="300"/>
                </a:spcBef>
                <a:buClr>
                  <a:srgbClr val="ff33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r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4000" y="1125360"/>
              <a:ext cx="8529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4000" y="6165720"/>
              <a:ext cx="8529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4000" y="1125360"/>
              <a:ext cx="0" cy="5040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853120" y="1125360"/>
              <a:ext cx="0" cy="5040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4000" y="139356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4000" y="166212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4000" y="196488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4000" y="305892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4000" y="332784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4000" y="481680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59400" y="1125360"/>
              <a:ext cx="0" cy="504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4000" y="513180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4000" y="541296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4000" y="5896800"/>
              <a:ext cx="852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325680" cy="2616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733920" y="1413000"/>
            <a:ext cx="5257800" cy="4701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828800" y="1523880"/>
            <a:ext cx="30481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3189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ückmelden von Warenbewe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4114800"/>
            <a:ext cx="3276720" cy="1595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augruppenrückmeldung: Gutmenge + Komponenten + Leis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ponentenrückmeldung: nur Komponenten (z.B. Mehrverbrau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stungsrückmeldung (z.B. Ist-zeiterfassung Lab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920" y="325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-Prozesskontrolle „Konti“-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70572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04920" y="325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-Prozesskontrolle „Konti“-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775640" cy="25048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28600" y="4114800"/>
            <a:ext cx="2830680" cy="1057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sicht nach Probenahmeste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gebnisse und Verlauf nach Probenahmest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3810240" cy="7779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851280" y="3789360"/>
            <a:ext cx="4537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325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-Prozesskontrolle „Konti“-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5964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 kundenindividuelles PPS in der kontinuierlichen Produktion (1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chere Produktionsstarts durch Aufbau auf Prototy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 Erfah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rze Einführungsz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viduelle Funktionalitä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meidung von 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ine Datenredunda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heitliche Datenba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teile des integrierten kundenindividuelles PPS in der kontinuierlichen Produktion (2)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ine zusätzliche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ine zusätzliche Hard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viduelle Masken, aber Standard SAP Ober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viduelle Bedie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weiterbark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isierungsvariante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143000"/>
            <a:ext cx="81518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SAP R/3 Module PP, PI, QM, CO, u.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SAP AP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ßgeschneiderte Lösung (auf Basis SAP R/3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gebni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 an die individuellen Prozesse und Bedürfnisse des Kunden angepaßtes flexibles System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499"/>
              </a:spcBef>
              <a:buClr>
                <a:srgbClr val="ff33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tel- und langfristig erheblichen Kostenvorteilen gegenüber einer externen Lös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120000" cy="24429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Arial"/>
              </a:rPr>
              <a:t>Die optimierte Produktion und Produktionsplanung im Bereich der Serienfertigung in der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Dipl.-Phys. Steffen Roschek / Dr. Jochen Winkler</a:t>
            </a:r>
            <a:br>
              <a:rPr sz="2200"/>
            </a:br>
            <a:r>
              <a:rPr b="1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Consulting GmbH</a:t>
            </a:r>
            <a:r>
              <a:rPr b="1" lang="en-US" sz="2900" spc="-1" strike="noStrike">
                <a:solidFill>
                  <a:srgbClr val="777777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Wiesbaden, de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22. Januar 20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Superabsorber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1280" y="1143000"/>
            <a:ext cx="81518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satzpla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splanung (operativ und dispositiv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 und Rückmeld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sabrechnung und -control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alitätssich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 und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atzplan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 % des Absatzes mit 1 bis 3 planungsrelevanten Endverbraucher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649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 Handling der SAP-Funktionen wird als zu schwerfällig empfunden und meist durch eigene, wesentlich transparentere Exceltabellen oder ähnliches ersetz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ionsplan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nige Basisprodukte pro Anl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649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 Handling der SAP-Funktionen wird als zu schwerfällig empfunden und meist durch eigene, wesentlich transparentere Exceltabellen oder ähnliches ersetz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ion und Produktionscontrolli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 relativ klaren Prozessablauf stehen komplex zu bedienende, aber in ihren Funktionen nur spärlich genutzte Fertigungs- oder Prozessaufträge zur Abrechnung gegenü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ötigt wird eine einfache Maske zur Datenerfassung der Waren- und Leistungsbewegungen mit auf die eigentliche Funktion reduzierten Kostensammler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ätssicher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nerierung des Arbeitsvorrates ( In-process- und Endkontrol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Maske zur Darstellung des Arbeitsvorrates (Produktionslinien, Probennahmestellen) sowie flexible Ergebniserfassung und -anzei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höhung des Prüfrhythmuses bei schlechter Qualitätsl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abellarische oder graphische Anzeige der Ergebnisse (zur einfachen Darstellung des Prozessverlaufes oder der Qualitätsl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aspekt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chiv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griffsschutz / Berechti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dit-Trail-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15:14:30Z</dcterms:created>
  <dc:creator>Roschek Steffen</dc:creator>
  <dc:description/>
  <dc:language>en-US</dc:language>
  <cp:lastModifiedBy>Dr. Jochen Winkler</cp:lastModifiedBy>
  <cp:lastPrinted>1999-11-17T11:38:50Z</cp:lastPrinted>
  <dcterms:modified xsi:type="dcterms:W3CDTF">2004-01-20T12:58:19Z</dcterms:modified>
  <cp:revision>388</cp:revision>
  <dc:subject/>
  <dc:title>Optimierte Planung und Produktion mit periodischem Produktcontrolling  in der </dc:title>
</cp:coreProperties>
</file>