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D5CA675-9A72-4D53-95B2-BAB6A56D52C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32000" y="6381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 / Dr. Jochen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-Phys. Steffen Roschek / Dr. Jochen Winkler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Superabsorbe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planung (Jahresplan, Tagespl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ung (Jahresplan, Tagespl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rückmel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brechnung und -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2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2500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3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 (Verkaufsmateri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unde (der Kunde </a:t>
            </a:r>
            <a:r>
              <a:rPr b="1" lang="de-DE" sz="1600" spc="-1" strike="noStrike">
                <a:solidFill>
                  <a:srgbClr val="00cc99"/>
                </a:solidFill>
                <a:latin typeface="Arial"/>
              </a:rPr>
              <a:t>Sonstig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=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inie (Arbeitsplatzhierarchie für Kapazitätsbetracht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ieferkalender (zur automatischen Disaggregation auf mögliche Liefertag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osgröße (für die Disaggregation des Monatsabsatzes auf ganzzahlige Vielfache dieser Losgröße (z.B. ganze Tankzü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4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5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 und Lieferlosgröß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esabsatz- und Produktionsplan (1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. Von da ab kann in die folgenden Wochen, die immer montags beginnen, gesprung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rechnet (größter Wert zähl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gesabsatz- und Produktionspl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esabsatz- und Produktionsplan (4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tigungsar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rienfertig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tinuierliche Ressourcenauslastung, stabile Produktionsbedingung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Kampagn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zur Minimierung von Rüstzeiten und -kost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Charg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mit optimaler Ressourcenauslastung und bedarfsnaher Fertigu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Lager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roß-)Auftrags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 (1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zur Visualisierung der gesamten Arbeitsumgebung in der Produktion mit allen Umfeldfunktion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gemeine und detaillierte Information über die Produktions- und Qualitätssituation aller Produktionslini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einsamer Arbeitsvorrat 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 (2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eitsvorberei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gener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en und Label D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Prozess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fassung und Visualisierung von Prüfungen zu manuellen oder automatischen Prüfpunkten, abhängig von den verwendeten Einstellungen im Modul QM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von Qualitäts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einflusst durch Produktion und Q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erfassung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rolle von Produktionsstatus,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1125360"/>
            <a:ext cx="8529120" cy="5040360"/>
            <a:chOff x="324000" y="1125360"/>
            <a:chExt cx="8529120" cy="5040360"/>
          </a:xfrm>
        </p:grpSpPr>
        <p:sp>
          <p:nvSpPr>
            <p:cNvPr id="161" name=""/>
            <p:cNvSpPr/>
            <p:nvPr/>
          </p:nvSpPr>
          <p:spPr>
            <a:xfrm>
              <a:off x="1859400" y="589680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589680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412960"/>
              <a:ext cx="69937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5412960"/>
              <a:ext cx="1535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9400" y="5131800"/>
              <a:ext cx="6993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000" y="5131800"/>
              <a:ext cx="15354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59400" y="4816800"/>
              <a:ext cx="69937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59400" y="3327840"/>
              <a:ext cx="699372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59400" y="305892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9400" y="1964880"/>
              <a:ext cx="699372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9400" y="1662120"/>
              <a:ext cx="6993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9400" y="139356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59400" y="1125360"/>
              <a:ext cx="6993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57120" indent="-3571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4816800"/>
              <a:ext cx="15354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3327840"/>
              <a:ext cx="153540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000" y="305892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1964880"/>
              <a:ext cx="153540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1662120"/>
              <a:ext cx="15354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000" y="139356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125360"/>
              <a:ext cx="1535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271440" indent="-2714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000" y="112536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616572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00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5312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000" y="13935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000" y="16621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196488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00" y="30589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00" y="332784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81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9400" y="1125360"/>
              <a:ext cx="0" cy="50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5131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54129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00" y="589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icht nach Probenah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se und Verlauf nach Probenah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10240" cy="777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53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1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 Erfa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2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sierungsvarian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SAP R/3 Module PP, PI, QM, CO, u.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SAP A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ßgeschneiderte Lösung (auf Basis SAP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Dipl.-Phys. Steffen Roschek / Dr. Jochen Winkler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Superabsorbe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 (operativ und dispositi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und Rückmel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abrechnung und -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u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 % des Absatzes mit 1 bis 3 planungsrelevanten Endverbrauch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splan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ige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 und Produktionscontrolli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komplex zu bedienende,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ierung des Arbeitsvorrates ( In-process- und Endkontro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Maske zur Darstellung des Arbeitsvorrates (Produktionslinien, Proben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es bei schlechter Qualitäts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aspekt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4-01-20T12:58:19Z</dcterms:modified>
  <cp:revision>388</cp:revision>
  <dc:subject/>
  <dc:title>Optimierte Planung und Produktion mit periodischem Produktcontrolling  in der </dc:title>
</cp:coreProperties>
</file>