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15F-751F-4EF2-B611-1B04C84A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082-AD44-4FC5-83CE-95F11C16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F09-E0C9-4A09-8668-BFBCEF56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7BF-A389-4514-AC0F-206FEE40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C54-365B-46D7-A706-2E5A36FA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58D-095B-479A-A416-89B0FB53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4B3-87B8-4632-A88B-789F098C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A60-120B-48D0-A71B-619597E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C9A-66F9-4066-A7AA-A0D7EC64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9A0-ECCE-4130-B99C-F5CC240F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AD0-CDCA-434A-8819-54CD3F21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8C8-DF51-46A5-9E63-E23E9957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1C9E883B-EAC5-4DEB-A885-024FE90510F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203640" y="6381720"/>
            <a:ext cx="285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nd Gebert / Dr. Jochen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03B2-6C14-4728-A1A4-3CAFDC3CB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Plankalkulation, Nachkalkulation und ableitbare Kalkulationen für d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Arnd Gebert / Dr. Jochen Winkler</a:t>
            </a:r>
            <a:br>
              <a:rPr sz="2200"/>
            </a:br>
            <a:r>
              <a:rPr b="1" lang="de-DE" sz="2000" spc="-1" strike="noStrike">
                <a:solidFill>
                  <a:srgbClr val="80808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Wiesbaden, den 22. Jan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aussetzungen zur Anwendung des Add-on‘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86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legen und Füllen einer projektspezifischen Informationsstruktur für Materialbuch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 Performancegründen werden die Materialbuchungen nicht der SAP-Tabelle MSEG, sondern einer Informationsstruktur entnommen, die kumulierte Daten enthäl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kalkulation und abgeleitete Kalkul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wendung des Add-on‘s </a:t>
            </a:r>
            <a:r>
              <a:rPr b="0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Mengenbil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geplanten Mengen pro Erzeugnis werden der Mengenbilanz entnom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alls vorhersehbare Änderungen von Rohstoffpreisen berücksichtigt werden sollen, muß der Bedarf für die entsprechenden Zeiträume und Rohstoffe in der Mengenbilanz bereitgestellt werd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zu sind die betreffenden Rohstoffe in den Materialstammdaten als ‚bilanzrelevant‘ (projektspezifisches Kennzeichen) zu kennzeich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sätzlich ist eine Tabelle der benötigten Rohstoffpreise zu pfleg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e Stücklisten in der 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37159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lIns="54000" rIns="18000" tIns="46800" bIns="46800" anchor="t">
            <a:normAutofit/>
          </a:bodyPr>
          <a:p>
            <a:pPr marL="38088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raussetzung: Markierung der Stücklisten als ‚rekursiv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tufig rekursive Stücklisten führen zu einer korrekten Kalkulation, die jedoch als fehlerhaft gekennzeichnet ist (-&gt; Sondermaßnahm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Kalkulation im Add-on </a:t>
            </a:r>
            <a:r>
              <a:rPr b="0" lang="en-US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ederholung der Kalkulation für alle Erzeugnisse unter Berücksichtigung der im vorherigen Zyklus berechneten Erzeugnispreise, b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Zwischen zwei aufeinanderfolgenden Zyklen die Preisabweichung pro Erzeugnis einen vorgegebenen Grenzwert unterschreitet od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ine vorgegebene maximale Zyklusanzahl erreicht wird (Ausnahme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49480" y="121932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2127240"/>
            <a:ext cx="144000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wischen-Produk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21337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wischen-Produk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304812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hstoff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041640"/>
            <a:ext cx="1439640" cy="539640"/>
          </a:xfrm>
          <a:prstGeom prst="flowChartProcess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zeug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887560" y="1752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182840" y="266652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01760" y="2666520"/>
            <a:ext cx="12193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897200" y="1752120"/>
            <a:ext cx="8380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801960" y="26665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1905120"/>
            <a:ext cx="2251080" cy="47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41760" bIns="41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lge des Einsatzes von Chargen, Verschnitt usw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4479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1447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95880" y="32767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kter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nperiode liegt in vergangenen Period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periode liegt in aktueller oder zukünftiger Peri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eitraum für Ist- und Plan-Berechnung: jeweils max. 1 Jah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Jahreswechsel ist zwischen Ist- und Planberechnung möglich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chung zwischen Nachkalkulation und Hoch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86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ücksichtigung der tatsächlichen Buchungen pro Erzeugnis v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verbrau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preiskorrekture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rative Material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Materialkalkulation wird solange wiederholt (mit Einsetzen der berechneten Erzeugnispreise), bis die Ergebnisse stabil si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stell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uflösungstermins u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ewertungstermins werden die tatsächliche Entwicklung der Verbräuche und Preise bewert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 und abgeleitete Kalkulation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ücksichtigung einer voraussehbaren Preisentwicklung für ausgewählte Rohstof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echnung wahlweise für einen oder mehrere Mon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Plankalkulation, Nachkalkulation und ableitbare Kalkulationen für d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Arnd Gebert / Dr. Jochen Winkler</a:t>
            </a:r>
            <a:br>
              <a:rPr sz="2200"/>
            </a:br>
            <a:r>
              <a:rPr b="1" lang="de-DE" sz="2000" spc="-1" strike="noStrike">
                <a:solidFill>
                  <a:srgbClr val="80808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Wiesbaden, den 22. Jan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808080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lisierung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379600" y="1295280"/>
          <a:ext cx="4383000" cy="31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0" y="1295280"/>
                    <a:ext cx="4383000" cy="31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36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port 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hreren Kalkulationsmöglichkeiten (Kalkulationsvariante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öglichkeit zur Auswahl und Anzeige der Protoko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zeugung von Stücklisten und Planungsrezepten sowie Durch-führung von additiver u. Materialkalkulation als Funktionsbauste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koll einer Produkt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 Beispiel zeigt eine Nach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e Darstellung von Fehlerwarnungen erfolgt orange bzw. violett unterleg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hler werden rot unterleg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s Protokoll wird in einer projektspezifischen Tabelle gespeichert und ist jederzeit abrufb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95320" y="1143000"/>
          <a:ext cx="7354800" cy="303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143000"/>
                    <a:ext cx="735480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lkulationsarten - Produktkalkul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angsdaten für Kalkula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ponentenverbrauch (Stücklist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 (retrograd) od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trückmeldung (plus Monatsabschlus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hstoffprei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hätzung / Hochrechnung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verbrauch (Planungsrezep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 (retrograd)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trückmeldung (plus Monatsabschluss)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mdleis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star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litische Tari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iteration (Leistungsbilanz, Kostenstelleniterat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lagenberechnung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ttarif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innperiode liegt in aktueller oder künftiger Peri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dperiode liegt in zukünftiger Peri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kulationszeitraum: 1 Jah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kulations-Stücklis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onatsbilanz für Erzeugnis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plante Rohstoffprei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uelle additive Kalkulation (CK74) nach manuellen Vorgab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Berücksichtigung geplanter Leistungen, Verrechnungen und Umlag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Kalkulationsergebnisse werden freigegeben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.h., der kalkulierte Preis wird in einem separaten Arbeitsgang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die Materialstammdaten eingetr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Produktkalkulation im SAP-Standard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lös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Stücklisten und Planungsrezepte (Arbeitsplä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wertungsterm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4680" indent="-36180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ültigkeit der Rohstoffpreise (u.a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836640"/>
          <a:ext cx="3287520" cy="343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328752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012000" y="981000"/>
          <a:ext cx="2523960" cy="2625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981000"/>
                    <a:ext cx="252396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lagen der Produktkalkulation im SAP-Standard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42210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stammdaten / Kalkulationssicht 2 - für Planungszweck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künftiger Pre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Planpreise mit Gültigkeitsdat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-on </a:t>
            </a:r>
            <a:r>
              <a:rPr b="0" lang="en-US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. 12 Planpreise (monatliche Prei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03280" y="907920"/>
          <a:ext cx="5988240" cy="31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5988240" cy="31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chied zur 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ere Kalkulationsvarian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n werden nicht in Materialstamm übernom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kalkulation (Ist-Kalkul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akter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ginn- und Endperiode liegen in vergangenen Period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lkulationszeitraum: max. 1 Jahr, ohne Jahreswechs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buchte Materialbeweg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buchte Ressourcenverbräuche (Theorie), stattdesse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287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teilung der Istkosten pro Produktionskostenstelle auf die Erzeugniss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uf der Grundlage der durch die Herstellung jedes Erzeugnisses verursachten Anlagenauslastung o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28760" indent="-34272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buchte Leistungen, Verrechnungen und Umlagen pro Erzeugn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additive Kalkulation (Standard-Transaktion CK74) für Leistungen, Verrechnungen und Umla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00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h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Kalkulationsergebnisse werden nur gesichert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edoch nicht freigege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00"/>
              </a:spcBef>
              <a:buNone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undidee des Add-on‘s </a:t>
            </a: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kalkulation auf der Basis der Standard-Transaktion CK11 (Materialkalkul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Add-on </a:t>
            </a:r>
            <a:r>
              <a:rPr b="0" lang="en-US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ktkalku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llt die notwendigen Daten bere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bereitete Stücklis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bereitete Planungsrezep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bereitete Rohstoffpre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0">
              <a:spcBef>
                <a:spcPts val="45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ebnis der Standardtransaktion CK1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ate werden in SAP-Standard-Tabellen gespeiche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95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gebnisse sind mit SAP-Standard-Werkzeugen und Eigenentwicklungen des Anwenders auswert- und weiterverarbeitb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nd Gebert</dc:creator>
  <dc:description/>
  <dc:language>en-US</dc:language>
  <cp:lastModifiedBy>Dr. Jochen Winkler</cp:lastModifiedBy>
  <cp:lastPrinted>2003-01-28T09:42:42Z</cp:lastPrinted>
  <dcterms:modified xsi:type="dcterms:W3CDTF">2004-01-22T11:27:58Z</dcterms:modified>
  <cp:revision>200</cp:revision>
  <dc:subject/>
  <dc:title>Monatsabschluß BASF</dc:title>
</cp:coreProperties>
</file>