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445-5562-4FB6-AE95-7D2E10E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2D1-B01E-4617-90BC-4CED4419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71F-C29B-46A6-BCAD-70ED9D72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3C4-76DF-4BA5-B814-96435EB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95D-9E81-498C-975B-E537DF5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F79-15C8-4703-A554-3261410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C48-2ED2-4DB8-97B4-45CD392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87F-7F16-4997-857F-FF28E15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A6F-979C-4FA4-AD58-9FE2518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5F4-14BC-4293-A39D-77EE2A5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978-86EE-4772-8906-2630BB7A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624-FEBE-4096-B150-1D9DA4BE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B47B69C-7B95-4685-9DB8-EE04E8185A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03640" y="6381720"/>
            <a:ext cx="285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nd Gebert / Dr. Jochen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8A3-22A2-4F57-A589-1B4213D2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Plankalkulation, Nach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Arnd Gebert / Dr. Jochen Winkler</a:t>
            </a:r>
            <a:br>
              <a:rPr sz="2200"/>
            </a:br>
            <a:r>
              <a:rPr b="1" lang="de-DE" sz="2000" spc="-1" strike="noStrike">
                <a:solidFill>
                  <a:srgbClr val="80808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Wiesbaden, den 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159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raussetzung: Markierung der Stücklisten als ‚rekursiv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Kalkulation im 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 o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ine vorgegebene maximale Zyklusanzahl erreicht wird (Ausnahme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1905120"/>
            <a:ext cx="2251080" cy="47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lge des Einsatzes von Chargen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nperiode liegt in vergangenen Period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periode liegt in aktueller oder zu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86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ewertungstermins werden die tatsächliche Entwicklung der Verbräuche und Preise bewer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Plankalkulation, Nach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Arnd Gebert / Dr. Jochen Winkler</a:t>
            </a:r>
            <a:br>
              <a:rPr sz="2200"/>
            </a:br>
            <a:r>
              <a:rPr b="1" lang="de-DE" sz="2000" spc="-1" strike="noStrike">
                <a:solidFill>
                  <a:srgbClr val="80808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Wiesbaden, den 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hreren Kalkulationsmöglichkeiten (Kalkulationsvariante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Beispiel zeigt eine Nach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hler werden rot unterleg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lkulationsarten - Produktkalkul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ngsdaten für Kalkula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onentenverbrauch (Stücklist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 (retrograd) od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rückmeldung (plus Monatsabschlu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hstoffprei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ätzung / Hochrechnung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verbrauch (Planungsrezep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 (retrograd)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rückmeldung (plus Monatsabschluss)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mdleis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tar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litische Tari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iteration (Leistungsbilanz, Kostenstelleniter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lagenberechnung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tari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innperiode liegt in aktueller oder 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periode liegt in zu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plante Rohstoffprei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uelle additive Kalkulation (CK74) nach manuellen Vorgab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ie Materialstammdaten eingetr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Produktkalkulation im SAP-Standard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836640"/>
          <a:ext cx="32875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32875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12000" y="98100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98100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Produktkalkulation im SAP-Standard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4221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03280" y="907920"/>
          <a:ext cx="5988240" cy="31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59882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chied zur 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ere Kalkulationsvaria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n werden nicht in Materialstamm über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Material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287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eilung der Istkosten pro Produktionskostenstelle auf die Erzeugniss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o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287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 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edoch nicht freigege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 der Standardtransaktion CK1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te werden in SAP-Standard-Tabellen gespeich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ebnisse sind mit SAP-Standard-Werkzeugen und Eigenentwicklungen des Anwenders auswert- und weiterverarbeitb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4-01-22T11:27:58Z</dcterms:modified>
  <cp:revision>200</cp:revision>
  <dc:subject/>
  <dc:title>Monatsabschluß BASF</dc:title>
</cp:coreProperties>
</file>