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F55ABD5-AA15-4B5E-99FC-C628566949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.01.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twicklungen von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sul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sbaden, den 22.01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82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assung aller gängigen Bar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tzeitdarstellung der Materialbezeichnung beim Scannen (bis ca. 20.000 Materialien handhab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Funktionalität mit Belegdru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nden der Daten über lokale Arbeitsplatz-PC‘s oder direkt über das Netz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lständige Integration in andere </a:t>
            </a:r>
            <a:r>
              <a:rPr b="0" lang="en-US" sz="16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der direkt in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76520" y="5249880"/>
            <a:ext cx="1905120" cy="148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0" y="2514600"/>
          <a:ext cx="13716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0" y="2514600"/>
                    <a:ext cx="13716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1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l geeigneter Datei - Idente, z.B. eineindeutige Nummern und zusätzlich aussagefähige (ASCII) Beschreib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87600" y="1217520"/>
          <a:ext cx="391968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217520"/>
                    <a:ext cx="391968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gründung der Analytischen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5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BU Superabsorber, Krefeld / Greensboro N.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agenbuchhaltung (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ogistikoptimi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nverwaltu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andh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ierung Control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–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onten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Windows oder Linux,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bserv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Linux, Unix oder Window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ache, Java, J2E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MS (z.B. MySQL, Oracle, Microsoft SQ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vtl. Verzeichnisserver (z.B. LD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nterprisesyst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536436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ein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nein- und -ausgä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zugänge / -verbrä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- und Haltbarkeits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ger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u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fache Phasen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‘s (z.B. Palm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 Scanner (Kabel, WLAN oder GS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line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erver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kt an SAP R/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168880" y="1433520"/>
          <a:ext cx="92412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433520"/>
                    <a:ext cx="9241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44880" y="5178600"/>
          <a:ext cx="1513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4880" y="5178600"/>
                    <a:ext cx="1513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889600" y="3017880"/>
          <a:ext cx="1208160" cy="20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0" y="3017880"/>
                    <a:ext cx="120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4-01-20T13:10:30Z</dcterms:modified>
  <cp:revision>466</cp:revision>
  <dc:subject/>
  <dc:title>Kein Folientitel</dc:title>
</cp:coreProperties>
</file>