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338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86C49ABB-894D-41FE-BCB3-A05F45BF290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7860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.01.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78680"/>
            <a:ext cx="12193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. J. Wink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181480" y="70866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7086600"/>
            <a:ext cx="1904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twicklungen von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sul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esbaden, den 22.01.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Scannersoftware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82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fassung aller gängigen Barc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htzeitdarstellung der Materialbezeichnung beim Scannen (bis ca. 20.000 Materialien handhabba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 Funktionalität mit Belegdru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enden der Daten über lokale Arbeitsplatz-PC‘s oder direkt über das Netzwe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lständige Integration in andere </a:t>
            </a:r>
            <a:r>
              <a:rPr b="0" lang="en-US" sz="16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oder direkt in SAP R/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76520" y="5249880"/>
            <a:ext cx="1905120" cy="1485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113600" y="2514600"/>
          <a:ext cx="1371600" cy="118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13600" y="2514600"/>
                    <a:ext cx="13716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3 / 2004 (Chemi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6618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Sonderprob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Auftragslab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splan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onatsab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IstHerstellkosten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kalk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engenbilan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aterialanforder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cannersoftware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Be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RezepturVerwal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jek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okumentenverwaltu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törungsmeld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Dokumentenverwaltung (1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riebssystem Windows oder Linu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richtung eines hierarchischen Fileverzeichnisses, z.B. periodisch geord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hl geeigneter Datei - Idente, z.B. eineindeutige Nummern und zusätzlich aussagefähige (ASCII) Beschreibung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fügbarkeit des Dokumentenservers im LAN für R/3, Webserver und Dokumentenquellen, z.B. Laborgerä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Verknüpfung der Dokumente zu den Geschäftsprozessen erfolgt im R/3 oder auf dem Webserver. Zur Wiederauffindbarkeit werden die Informationen auf beiden Systemen synchron gehalt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Dokumentenverwalt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ngzeitspe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 Generationswechsel des Betriebssystems ist der Dokumentenserver upzudat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bei sollte nach längerer Zeit auch eine Umspeicherung der Dokumente auf eine neue Hardware vorgenommen we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größeren Abständen sind die Formate der Dokumente zu prüfen und gegebenenfalls auch upzudat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81160" y="17812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ministration in Exc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513240" y="3594240"/>
            <a:ext cx="5713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45240" y="3594240"/>
            <a:ext cx="5713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von Web, R/3 und Dokumenten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31800" y="5754600"/>
            <a:ext cx="1008000" cy="954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44520" y="3594240"/>
            <a:ext cx="847800" cy="863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089240" y="2801880"/>
            <a:ext cx="1503360" cy="24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16160" y="3089160"/>
            <a:ext cx="1143000" cy="20811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2160" y="3738600"/>
            <a:ext cx="57132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32160" y="3665520"/>
            <a:ext cx="1225800" cy="647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kumen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40160" y="3809880"/>
            <a:ext cx="609480" cy="228600"/>
          </a:xfrm>
          <a:prstGeom prst="leftRight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65960" y="22255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1600" y="3089160"/>
            <a:ext cx="1143000" cy="2081160"/>
          </a:xfrm>
          <a:prstGeom prst="rect">
            <a:avLst/>
          </a:prstGeom>
          <a:solidFill>
            <a:srgbClr val="b6fd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37240" y="3736800"/>
            <a:ext cx="72072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73600" y="3809880"/>
            <a:ext cx="609840" cy="228600"/>
          </a:xfrm>
          <a:prstGeom prst="leftRightArrow">
            <a:avLst>
              <a:gd name="adj1" fmla="val 50000"/>
              <a:gd name="adj2" fmla="val 531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0520" y="23702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2880" y="4025880"/>
            <a:ext cx="21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408880" y="1433520"/>
            <a:ext cx="782640" cy="798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8553600" y="3449520"/>
            <a:ext cx="1079280" cy="1024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88880" y="1433520"/>
            <a:ext cx="1008000" cy="955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8337600" y="5897520"/>
            <a:ext cx="776160" cy="792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2166600">
            <a:off x="1568160" y="2585880"/>
            <a:ext cx="609480" cy="144720"/>
          </a:xfrm>
          <a:prstGeom prst="leftRightArrow">
            <a:avLst>
              <a:gd name="adj1" fmla="val 50000"/>
              <a:gd name="adj2" fmla="val 838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52520" y="388152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8842400">
            <a:off x="1624680" y="5481720"/>
            <a:ext cx="609480" cy="144720"/>
          </a:xfrm>
          <a:prstGeom prst="leftRightArrow">
            <a:avLst>
              <a:gd name="adj1" fmla="val 50000"/>
              <a:gd name="adj2" fmla="val 838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9211400">
            <a:off x="7689960" y="244116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331600">
            <a:off x="7616520" y="553896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61240" y="402588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4520" y="453060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1800" y="65469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553600" y="43862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93240" y="65469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Webserver – Dokumente hinzufü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SAP R/3 – Hinzufügen neuer 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774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Dokumentenverwaltung (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487600" y="1217520"/>
          <a:ext cx="3919680" cy="576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7600" y="1217520"/>
                    <a:ext cx="3919680" cy="576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e 2004 (Chemi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gründung der Analytischen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BU Superabsorber, Krefeld / Greensboro N.C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lagenbuchhaltung (U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ogistikoptimi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kumentenverwaltu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bic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tandh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mierung Contro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3 / 2004 (Chemi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6618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Sonderprob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Auftragslab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splan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onatsab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IstHerstellkosten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kalk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engenbilan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aterialanforderu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cannersoftware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b2b2b2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Be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RezepturVerwal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jek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okumentenverwaltu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törungsmeld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3 – 2004 (Chemi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6618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Sonderprob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Auftragslab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splan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onatsab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IstHerstellkosten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kalk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engenbilan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aterialanforderu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cannersoftware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Be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RezepturVerwal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jek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Dokumentenverwalt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törungsmeld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Materialanforder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über Brows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ronten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Windows oder Linux,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Webserv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Linux, Unix oder Window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ache, Java, J2EE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MS (z.B. MySQL, Oracle, Microsoft SQL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vtl. Verzeichnisserver (z.B. LDA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nterprisesyste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SAP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ssung der benötigten Materialien (Scanner oder manuel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gabe der Materialanford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lage der Materialanforderungen auf dem Web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llung / Druck von Re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. Übergabe der Materialanforderungen an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nchronisation der Materialstämme, User und Kostenstellen zwischen R/3 (Master) und Webserver (Sla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3 / 2004 (Chemi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6618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Sonderprob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Auftragslab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splan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onatsab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IstHerstellkosten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kalk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engenbilan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aterialanforder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cannersoftware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Be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RezepturVerwal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jek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Dokumentenverwaltu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törungsmeld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Scannersoftware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536436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stikeins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renein- und -ausgän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ktionszugänge / -verbräu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gen- und Haltbarkeitsda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gerbeweg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ntur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0"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Techn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fache Phasenscan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A‘s (z.B. PalmO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ine Scanner (Kabel, WLAN oder GS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line Scan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0"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bind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erver o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kt an SAP R/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168880" y="1433520"/>
          <a:ext cx="924120" cy="14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1433520"/>
                    <a:ext cx="92412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944880" y="5178600"/>
          <a:ext cx="151308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4880" y="5178600"/>
                    <a:ext cx="151308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889600" y="3017880"/>
          <a:ext cx="1208160" cy="201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0" y="3017880"/>
                    <a:ext cx="120816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4-01-20T13:10:30Z</dcterms:modified>
  <cp:revision>466</cp:revision>
  <dc:subject/>
  <dc:title>Kein Folientitel</dc:title>
</cp:coreProperties>
</file>