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10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24F-0BD4-4F3B-85B7-00F8E6C3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576-414C-4496-A2BE-1A4CDC3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8C1-DFAB-4498-AA49-F52470EF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67F-EF8D-45EA-80F8-C4842811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E8F-AB88-4E0A-A321-C600A6CE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90C-E083-4449-879C-C0A204A2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E90-8504-463E-948B-CFC9E697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6D7-04A8-4E7E-B433-B7AE2955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676-0D9A-4AA5-8853-0A4EDAF8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F5E-D851-4F03-88C9-7D1A4DF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D30-3A79-4164-B378-7DE2F5E5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099-6F80-443D-90B3-410FC4FB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28584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10164ABE-FCD0-4227-938A-8BCD4BE731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Wiesbaden, 22.01.200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load für Plan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 Produkt: Tägliche und monatliche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oduktion,  Versand, Sekundärbedarf, Eigenbedarf, Zukauf und Bestand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, pro Monat: Monatliche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 Planungshierarchien, Produkt, Kunde und Kennziffer wie Menge Inland, Menge Export, Erlöse, Menge Transportweg, …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nd monatlich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139-6AFA-45A7-8FD7-69E5560ED3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7667" r="48684" b="14911"/>
          <a:stretch/>
        </p:blipFill>
        <p:spPr>
          <a:xfrm>
            <a:off x="380880" y="620640"/>
            <a:ext cx="822960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297-F917-425C-A23E-D0FB1EA23D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176-CA6B-44AF-8E8A-732DF5895B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der Bilanzgleich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557360"/>
            <a:ext cx="194472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1557360"/>
            <a:ext cx="259236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7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17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kundärbedar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1844640"/>
            <a:ext cx="1944720" cy="716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292640"/>
            <a:ext cx="194472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437000"/>
            <a:ext cx="16574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k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4292640"/>
            <a:ext cx="2664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4365720"/>
            <a:ext cx="1944720" cy="718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gen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3716280"/>
            <a:ext cx="0" cy="576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544500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ne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=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  P   +   Z   –   A   –   S   –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2852640"/>
            <a:ext cx="1944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1413000"/>
            <a:ext cx="934920" cy="792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2736000" y="2816280"/>
            <a:ext cx="647640" cy="7192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2852640"/>
            <a:ext cx="720720" cy="647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419280" y="2204640"/>
            <a:ext cx="1944360" cy="647640"/>
          </a:xfrm>
          <a:custGeom>
            <a:avLst/>
            <a:gdLst>
              <a:gd name="textAreaLeft" fmla="*/ 427320 w 1944360"/>
              <a:gd name="textAreaRight" fmla="*/ 1517040 w 194436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1116000" y="3499560"/>
            <a:ext cx="6696000" cy="360360"/>
          </a:xfrm>
          <a:custGeom>
            <a:avLst/>
            <a:gdLst>
              <a:gd name="textAreaLeft" fmla="*/ 1472400 w 6696000"/>
              <a:gd name="textAreaRight" fmla="*/ 5223600 w 6696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29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19280" y="3212640"/>
            <a:ext cx="1512720" cy="10796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3357720"/>
            <a:ext cx="1727280" cy="93492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1557360"/>
            <a:ext cx="9349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1844640"/>
            <a:ext cx="1152720" cy="576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EE8-4442-426E-A384-DD98AA35DC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ne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+    P   +   Z   –   A   –   S   –   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Ist-Daten erfolgt keine Berechnung 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Plandaten kann 1 Term immer berechnet werden. Folgende Vorgehensweise ist sinnvoll, falls der Absatz vorgegeben ist:</a:t>
            </a:r>
            <a:br>
              <a:rPr sz="2200"/>
            </a:b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kundärbedarf berechnen</a:t>
            </a:r>
            <a:br>
              <a:rPr sz="2200"/>
            </a:b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oduktion berechnen (falls P sich aus Absatz ergibt;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nst P unverändert aus Schnittstel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 = A + S + E – 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 berechnen      B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 P + Z – A – S – 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3AA-C631-4B68-9F99-20CE43D30A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druckdamp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ederdruckdamp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mpfbilanzket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spezielle Bilanz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FA8-2A0A-4F11-A523-58B59FC57B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tel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gesamte Anfall von MD-Dampf soll einem Produkt X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eführt werden, dafür ist der Verbrauch von MD-Dampf bei diesen Produkt um die Menge des Anfalls zu reduzier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48360" y="2852640"/>
          <a:ext cx="3246480" cy="3003480"/>
        </p:xfrm>
        <a:graphic>
          <a:graphicData uri="http://schemas.openxmlformats.org/drawingml/2006/table">
            <a:tbl>
              <a:tblPr/>
              <a:tblGrid>
                <a:gridCol w="2163960"/>
                <a:gridCol w="108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ück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rauch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zierung v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0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tsächlicher Verbrauch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826920" y="3284640"/>
            <a:ext cx="25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422520"/>
            <a:ext cx="302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2997360"/>
          <a:ext cx="2592360" cy="104760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fall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11280" y="4508640"/>
          <a:ext cx="2592360" cy="104760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fall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132000" y="3645000"/>
            <a:ext cx="2016360" cy="7920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32000" y="4508640"/>
            <a:ext cx="2016360" cy="5760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95840" y="3351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019-6666-4E10-BDD8-24D35C08FB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Produktion MD-Dampf 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603520"/>
          <a:ext cx="4038480" cy="25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3520"/>
                    <a:ext cx="403848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003640" y="1557360"/>
          <a:ext cx="3384720" cy="3247920"/>
        </p:xfrm>
        <a:graphic>
          <a:graphicData uri="http://schemas.openxmlformats.org/drawingml/2006/table">
            <a:tbl>
              <a:tblPr/>
              <a:tblGrid>
                <a:gridCol w="1871640"/>
                <a:gridCol w="15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 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1628640"/>
          <a:ext cx="3240000" cy="4538520"/>
        </p:xfrm>
        <a:graphic>
          <a:graphicData uri="http://schemas.openxmlformats.org/drawingml/2006/table">
            <a:tbl>
              <a:tblPr/>
              <a:tblGrid>
                <a:gridCol w="1873080"/>
                <a:gridCol w="136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 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 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851280" y="2924280"/>
            <a:ext cx="360360" cy="2089080"/>
          </a:xfrm>
          <a:custGeom>
            <a:avLst/>
            <a:gdLst>
              <a:gd name="textAreaLeft" fmla="*/ 0 w 360360"/>
              <a:gd name="textAreaRight" fmla="*/ 129960 w 360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84720" y="3429000"/>
            <a:ext cx="72072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1125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12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AF8-E641-4F18-8685-8207EBD423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 der MD-Bilanz kann eine ND-Bilanz aufgebaut werden. Beim Einsatz von MD-Dampf fällt ND-Dampf an. Der Anfall von ND-Dampf kann in einem anderen Produkt eingesetzt werd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der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5013360"/>
            <a:ext cx="3457800" cy="72072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Herste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3716280"/>
            <a:ext cx="2881440" cy="647640"/>
          </a:xfrm>
          <a:prstGeom prst="flowChartAlternateProcess">
            <a:avLst/>
          </a:prstGeom>
          <a:gradFill rotWithShape="0">
            <a:gsLst>
              <a:gs pos="0">
                <a:srgbClr val="bbe0e3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&gt; Anfall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2349360"/>
            <a:ext cx="3095640" cy="71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abbla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23640" y="4005360"/>
            <a:ext cx="647640" cy="115236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356000" y="2924280"/>
            <a:ext cx="2303640" cy="79200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400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DA3-3B5E-461E-ABC7-ADDBE8E31C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pfbilanz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484280"/>
            <a:ext cx="561672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1844640"/>
            <a:ext cx="16574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2133720"/>
            <a:ext cx="165564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700280"/>
            <a:ext cx="1655640" cy="28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3141720"/>
            <a:ext cx="5616720" cy="122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3284640"/>
            <a:ext cx="16556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4869000"/>
            <a:ext cx="5616720" cy="1152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5013360"/>
            <a:ext cx="1656000" cy="287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112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D-Dam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2781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5445000"/>
            <a:ext cx="1656000" cy="287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860640"/>
            <a:ext cx="1655640" cy="287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3573360"/>
            <a:ext cx="1657440" cy="289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5229360"/>
            <a:ext cx="1657080" cy="288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450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de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170028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335772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501336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24210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42210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26D-7075-44DC-AB7E-0539FE272D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PP-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zu jwMengenbilanz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atzplan und Produktions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gemeine Bilanzglei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07D-35E4-47D7-853C-2A122AE7F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wachsäu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Zukauf von Salpetersäure wird berech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ktroenergi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Zukauf wird berechnet aus der fehlenden Men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erbrauch - Anfal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mentenluf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Verteilung der Instrumentenluft wird berech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üssiger Stickstof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Zukauf wird berech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dg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eingesetzte Erdgas beeinflusst den Preis von Ammoniak. Hier erfolgt eine Bilanz für einen wichtigen Rohstoff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4EE-0A4B-4BE5-9ACF-A70B6B09D8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B9A-ABB1-41AC-BC69-32E4F4A38D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B     10 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A      1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Jeweils 100 to von A und B sollen verkauf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Ein Initialbestand von B  (10 to) sei vorhande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rekursive Stück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771640" y="220500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492360" y="299736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922200" y="1700280"/>
            <a:ext cx="1800" cy="129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1700280"/>
            <a:ext cx="576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AFD-E8C0-4F1D-929E-F8CD7D8E81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147160" cy="3405240"/>
        </p:xfrm>
        <a:graphic>
          <a:graphicData uri="http://schemas.openxmlformats.org/drawingml/2006/table">
            <a:tbl>
              <a:tblPr/>
              <a:tblGrid>
                <a:gridCol w="723960"/>
                <a:gridCol w="1285920"/>
                <a:gridCol w="1498320"/>
                <a:gridCol w="1428840"/>
                <a:gridCol w="1625760"/>
                <a:gridCol w="15843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/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/2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/222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452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45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826920" y="5516640"/>
            <a:ext cx="777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s =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/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0,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00360" y="2565360"/>
            <a:ext cx="431640" cy="719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126-6062-44F2-80D6-B764E9D8DB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Iteration erfolgt also in der Fol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Sekundärbedarf </a:t>
            </a:r>
            <a:r>
              <a:rPr b="1" lang="en-US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Produktion </a:t>
            </a:r>
            <a:r>
              <a:rPr b="1" lang="en-US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Spec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spcAft>
                <a:spcPts val="13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Konvergenzkonstante  Epsil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-  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+ 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rd in einer Customizing Table gesetzt.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Beispiel  auf 0,00001, also auf 0,001 %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A3B-DFA5-4F77-8C97-797E8BF42F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maximale Anzahl der Iterationen wird in einer Customizing Tabelle gesetzt. Sie beträgt gegenwärtig 5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Nichterreichen der Konvergenz wird gemeldet (Monat, Material-Nr., berechnetes Epsilon).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FD4-862F-414D-BB2A-644C40DF72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 erfolgt in den Schritten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16360" y="2276640"/>
            <a:ext cx="2232000" cy="187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2349360"/>
            <a:ext cx="223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4581360"/>
            <a:ext cx="2448000" cy="863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479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268360" y="5013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328464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3284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4365720"/>
            <a:ext cx="79200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501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43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E26-A393-4364-98EE-32D538515F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 Monat werden 100 Produkte berechnet. Dafür werden im Durchschnitt 15 Iterationen benöti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 die Bilanz immer für 12 Monate benötigt wird, ergeben si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 x 15 x 12 = 18.000 Berechnung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ungswert 5-7 Min. für 12 Mon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szeit sinkt bei Mischversione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E01-BEE2-442D-88EF-2AC7BA7D5A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58B-AA84-4162-8968-7B48717A53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5280" y="1268280"/>
            <a:ext cx="5614920" cy="1979640"/>
            <a:chOff x="395280" y="1268280"/>
            <a:chExt cx="5614920" cy="19796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rcRect l="0" t="6989" r="57699" b="65955"/>
            <a:stretch/>
          </p:blipFill>
          <p:spPr>
            <a:xfrm>
              <a:off x="395280" y="1268280"/>
              <a:ext cx="561492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 txBox="1"/>
            <p:nvPr/>
          </p:nvSpPr>
          <p:spPr>
            <a:xfrm>
              <a:off x="395280" y="1268280"/>
              <a:ext cx="5614920" cy="19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39640" y="3789360"/>
            <a:ext cx="770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-Daten aktualisieren 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Analysiert alle IST - Buc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daten aktualisiere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tellt alle Plandaten einer   Planversion ber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2060640"/>
            <a:ext cx="3313080" cy="288720"/>
          </a:xfrm>
          <a:prstGeom prst="wedgeRoundRectCallout">
            <a:avLst>
              <a:gd name="adj1" fmla="val -60495"/>
              <a:gd name="adj2" fmla="val 67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1989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nz Jahr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708280"/>
            <a:ext cx="3456000" cy="360360"/>
          </a:xfrm>
          <a:prstGeom prst="wedgeRoundRectCallout">
            <a:avLst>
              <a:gd name="adj1" fmla="val -67777"/>
              <a:gd name="adj2" fmla="val -57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2708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573-BD69-4AF0-8C7E-8259A16550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zu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sicht der exakten Mengenflüsse in einer Zeitein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ücksichtigung von Rekursivitäten und Specials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affung der Voraussetzung zur Ermittlung der exakten Produktkos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7DF-A4C5-4DB3-959D-A5ADBD968A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000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Ist-Da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Ax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Plan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Cxx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 nach Version kann eine Bilanz aus Ist-Daten, Plandaten oder eine gemischte Version aus Ist- und Plandaten erstellt werde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753-CBD3-4258-93E1-036F46124B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2752560"/>
          <a:ext cx="4038480" cy="22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914400" y="1219320"/>
            <a:ext cx="7112160" cy="598320"/>
            <a:chOff x="914400" y="1219320"/>
            <a:chExt cx="7112160" cy="598320"/>
          </a:xfrm>
        </p:grpSpPr>
        <p:pic>
          <p:nvPicPr>
            <p:cNvPr id="218" name="" descr=""/>
            <p:cNvPicPr/>
            <p:nvPr/>
          </p:nvPicPr>
          <p:blipFill>
            <a:blip r:embed="rId3"/>
            <a:srcRect l="42120" t="10676" r="13253" b="82492"/>
            <a:stretch/>
          </p:blipFill>
          <p:spPr>
            <a:xfrm>
              <a:off x="914400" y="1219320"/>
              <a:ext cx="71121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 txBox="1"/>
            <p:nvPr/>
          </p:nvSpPr>
          <p:spPr>
            <a:xfrm>
              <a:off x="914400" y="1219320"/>
              <a:ext cx="7112160" cy="59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4"/>
          <a:srcRect l="19602" t="16686" r="25102" b="38145"/>
          <a:stretch/>
        </p:blipFill>
        <p:spPr>
          <a:xfrm>
            <a:off x="1476360" y="1916280"/>
            <a:ext cx="5923080" cy="3630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47640" y="57340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aktuelle Controlling Bilanz wird erzeug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FB0-6B1E-4887-8423-F3ECCDAF68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4360" y="1125360"/>
          <a:ext cx="744984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4498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826920" y="4437000"/>
            <a:ext cx="11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4292640"/>
            <a:ext cx="1079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87480" y="2343240"/>
            <a:ext cx="390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4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00815 Dünger 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225-1951-48F6-8A08-0389BA614C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mplette Mengenübersicht über die Planung aller Produkte (IST - Bilanz, Mischbilanz, Planbilanz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genübersicht über die Special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Medien, Zukauf, Rohstoff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aussetzung für die monatliche Produktkalkul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7B5-2905-4A75-B107-F90A2DD4A5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- und Produktions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lanung gilt für die Mengenbilanz als Voraussetzung,  da man auch Bilanzen für zukünftige Zeiträume betrachten möch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 gibt folgende Möglichkeit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 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 Lösung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chnittste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314-868D-49EB-8B53-C2B14D0AC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Produktion für einige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Hauptproduk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rfolgt kontinuierlich nach Kundenaufträgen und Erfahrungswerten. Sie ist planungsintensiv, weil sie abhängig ist von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lagenauslastung (kontinuierlich, möglichst 100%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verflechtu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erbrauch für nachfolgende Produktio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gerkapazitä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ximale Lagerkapazität, Mindestlagerbestand, Mindestlagerze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and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bsatz, Transportwege, Außenlag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lagenkapazität (Wartung, Reparatur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ison (Kundenbedarf) 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den im Excel gepl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162-54FD-4406-AE00-DAE122F6D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roduktion 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übrigen  Produk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t nicht planungsrelevant. Sie erfolgt diskontinuierlich nach Kundenaufträgen und Erfahrungswerte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geplanter 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l der Verbrauch der Hauptprodukte an der Gesamtproduktion gering is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rd im SAP gepla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897-C161-4C22-A5BF-6CC4DE40D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s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1197000"/>
            <a:ext cx="7416720" cy="216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1341360"/>
            <a:ext cx="5977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AP ist das Master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Daten sind auf einer Datenbank 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betriebswirtschaftlichen Erfordernisse erfolgen im SAP Standard und/oder individuellen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005360"/>
            <a:ext cx="7489800" cy="2232000"/>
          </a:xfrm>
          <a:prstGeom prst="rect">
            <a:avLst/>
          </a:prstGeom>
          <a:gradFill rotWithShape="0">
            <a:gsLst>
              <a:gs pos="0">
                <a:srgbClr val="bbe0e3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149720"/>
            <a:ext cx="741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xcel ist ein Operator zur Bestimmung der Abhängigkeiten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des Absatzes, der Produktion, Störungen, Nebenbedingungen, An- und Abfahrprozesse, Wetter, Erfahrungen, Kopf des Mens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rvorragendes Layout und flexible Zellreferenz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003640" y="3357360"/>
            <a:ext cx="0" cy="647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335772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50028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Ist-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0" y="2637000"/>
            <a:ext cx="2052720" cy="647640"/>
          </a:xfrm>
          <a:prstGeom prst="wedgeRoundRectCallout">
            <a:avLst>
              <a:gd name="adj1" fmla="val -186351"/>
              <a:gd name="adj2" fmla="val 120587"/>
              <a:gd name="adj3" fmla="val 16667"/>
            </a:avLst>
          </a:prstGeom>
          <a:solidFill>
            <a:srgbClr val="e6c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27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ittstel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la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745-45D1-4E33-8D3F-538723F73A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load für Ist-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 pro Produkt: Tägliche und monatliche Ist-Daten (Produktion, Versand, Sekundärbedarf, Eigenbedarf, Zukauf und Besta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, pro Monat: Monatliche Ist-Daten (bis     Monatsabschluss), Plandaten für Rest des Jahres (variabel kumuliert nach 3 Planungshierarchien, Produkt,      Kunde und Kennziffer wie Inland, Export, Erlöse,       Transportweg, …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: Ausgewählter Verbrauch von Zwischenproduk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713-F891-4B70-A167-D08E192A32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26" r="56066" b="10039"/>
          <a:stretch/>
        </p:blipFill>
        <p:spPr>
          <a:xfrm>
            <a:off x="380880" y="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7E3-DB9A-4A05-A5CE-7B23B02268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6:02:42Z</dcterms:created>
  <dc:creator>PC 01</dc:creator>
  <dc:description/>
  <dc:language>en-US</dc:language>
  <cp:lastModifiedBy>Dr. Jochen Winkler</cp:lastModifiedBy>
  <dcterms:modified xsi:type="dcterms:W3CDTF">2004-01-15T12:00:02Z</dcterms:modified>
  <cp:revision>161</cp:revision>
  <dc:subject/>
  <dc:title>Bernd Mickley  jwConsulting   http:// www.jwconsulting.de</dc:title>
</cp:coreProperties>
</file>