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10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098-238A-4CB0-8252-0A8A340B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C78-8077-410C-93CB-CDD91113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8E6-C07D-4DE2-8540-67C6D6F0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85E-8EBE-4D91-9A9A-6635F615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AAA-387F-495D-8E6C-FB9B1A52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BEE-CE71-46FF-A513-E68D707A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B58-A4D4-4694-8AA7-615667F1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1D0-346F-4958-8DFA-B433D112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E17-DE67-4FC6-BCB1-65C3FCF4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0F4-98C8-424E-AD43-6815A3F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772-BD4E-4933-A9EC-2AC72F9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C39-4AC6-40D8-820B-B629FF0E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54080" indent="-28584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115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rnd Mick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8B17591-9CC3-44CB-8E64-511319BF7DF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16000" y="5013360"/>
            <a:ext cx="6472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2b2b2"/>
                </a:solidFill>
                <a:latin typeface="Arial"/>
              </a:rPr>
              <a:t>Wiesbaden, 22.01.200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cc00"/>
                </a:solidFill>
                <a:latin typeface="Arial"/>
              </a:rPr>
              <a:t>http:// www.jwconsulting.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7628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in der chemischen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197000"/>
            <a:ext cx="56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1197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Bernd Mickley 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Consulting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load für Plan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 Produkt: Tägliche und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duktion,  Versand, Sekundärbedarf, Eigenbedarf, Zukauf und Bestand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, pro Monat: Monatliche Pland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 Planungshierarchien, Produkt, Kunde und Kennziffer wie Menge Inland, Menge Export, Erlöse, Menge Transportweg, …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nd monatlich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B32F-06DC-44F6-9344-BE0682B1EF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7667" r="48684" b="14911"/>
          <a:stretch/>
        </p:blipFill>
        <p:spPr>
          <a:xfrm>
            <a:off x="380880" y="620640"/>
            <a:ext cx="8229600" cy="54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447-591A-467B-B64C-D201E6E98B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allgemeine Bilanzgleich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9ED-A291-4B48-ABE5-D0F3782BE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der Bilanzgleich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557360"/>
            <a:ext cx="1944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6360" y="1557360"/>
            <a:ext cx="2592360" cy="93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17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1773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kundärbedar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1844640"/>
            <a:ext cx="1944720" cy="71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292640"/>
            <a:ext cx="1944720" cy="79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4437000"/>
            <a:ext cx="16574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k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4292640"/>
            <a:ext cx="2664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4365720"/>
            <a:ext cx="1944720" cy="718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en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716280"/>
            <a:ext cx="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5445000"/>
            <a:ext cx="792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ne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=   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  P   +   Z   –   A   –   S   –  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2852640"/>
            <a:ext cx="194436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1413000"/>
            <a:ext cx="934920" cy="792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2736000" y="2816280"/>
            <a:ext cx="647640" cy="719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852640"/>
            <a:ext cx="720720" cy="6476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419280" y="2204640"/>
            <a:ext cx="1944360" cy="647640"/>
          </a:xfrm>
          <a:custGeom>
            <a:avLst/>
            <a:gdLst>
              <a:gd name="textAreaLeft" fmla="*/ 427320 w 1944360"/>
              <a:gd name="textAreaRight" fmla="*/ 1517040 w 194436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1116000" y="3499560"/>
            <a:ext cx="6696000" cy="360360"/>
          </a:xfrm>
          <a:custGeom>
            <a:avLst/>
            <a:gdLst>
              <a:gd name="textAreaLeft" fmla="*/ 1472400 w 6696000"/>
              <a:gd name="textAreaRight" fmla="*/ 5223600 w 6696000"/>
              <a:gd name="textAreaTop" fmla="*/ 79200 h 360360"/>
              <a:gd name="textAreaBottom" fmla="*/ 2811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29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619280" y="3212640"/>
            <a:ext cx="1512720" cy="10796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3357720"/>
            <a:ext cx="1727280" cy="93492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1557360"/>
            <a:ext cx="9349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1844640"/>
            <a:ext cx="1152720" cy="5763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A98-A432-4B50-8E65-ABAB6B9C41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chnung von Termen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ne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+    P   +   Z   –   A   –   S   –   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Ist-Daten erfolgt keine Berechnung 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 Plandaten kann 1 Term immer berechnet werden. Folgende Vorgehensweise ist sinnvoll, falls der Absatz vorgegeben ist: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kundärbedarf berechnen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duktion berechnen (falls P sich aus Absatz ergibt;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nst P unverändert aus Schnittstel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 = A + S + E – 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and berechnen      B = 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(alt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  P + Z – A – S – 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3778-FC42-4052-98BD-B64EA1F28F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teldruckdampf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tere spezielle Bilan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9A5-34FC-4262-97CE-76B0D3601D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tel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643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gesamte Anfall von MD-Dampf soll einem Produkt X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geführt werden, dafür ist der Verbrauch von MD-Dampf bei diesen Produkt um die Menge des Anfalls zu reduzier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48360" y="2852640"/>
          <a:ext cx="3246480" cy="3003480"/>
        </p:xfrm>
        <a:graphic>
          <a:graphicData uri="http://schemas.openxmlformats.org/drawingml/2006/table">
            <a:tbl>
              <a:tblPr/>
              <a:tblGrid>
                <a:gridCol w="2163960"/>
                <a:gridCol w="1082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ückl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zierung v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sächlicher Verbrauch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826920" y="3284640"/>
            <a:ext cx="25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422520"/>
            <a:ext cx="302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299736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280" y="4508640"/>
          <a:ext cx="2592360" cy="1047600"/>
        </p:xfrm>
        <a:graphic>
          <a:graphicData uri="http://schemas.openxmlformats.org/drawingml/2006/table">
            <a:tbl>
              <a:tblPr/>
              <a:tblGrid>
                <a:gridCol w="1512720"/>
                <a:gridCol w="107964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fall von MD-Damp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132000" y="3645000"/>
            <a:ext cx="2016360" cy="792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32000" y="4508640"/>
            <a:ext cx="2016360" cy="5760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95840" y="3351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312-6FBF-4C47-876B-BDCB980DBA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Produktion MD-Dampf 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603520"/>
          <a:ext cx="4038480" cy="25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3520"/>
                    <a:ext cx="403848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003640" y="1557360"/>
          <a:ext cx="3384720" cy="3247920"/>
        </p:xfrm>
        <a:graphic>
          <a:graphicData uri="http://schemas.openxmlformats.org/drawingml/2006/table">
            <a:tbl>
              <a:tblPr/>
              <a:tblGrid>
                <a:gridCol w="1871640"/>
                <a:gridCol w="151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1628640"/>
          <a:ext cx="3240000" cy="4538520"/>
        </p:xfrm>
        <a:graphic>
          <a:graphicData uri="http://schemas.openxmlformats.org/drawingml/2006/table">
            <a:tbl>
              <a:tblPr/>
              <a:tblGrid>
                <a:gridCol w="1873080"/>
                <a:gridCol w="136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at 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a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 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k.Beda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851280" y="2924280"/>
            <a:ext cx="360360" cy="2089080"/>
          </a:xfrm>
          <a:custGeom>
            <a:avLst/>
            <a:gdLst>
              <a:gd name="textAreaLeft" fmla="*/ 0 w 360360"/>
              <a:gd name="textAreaRight" fmla="*/ 129960 w 36036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284720" y="3429000"/>
            <a:ext cx="72072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1125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112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B03-3A1E-4055-A597-1FB150089F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der MD-Bilanz kann eine ND-Bilanz aufgebaut werden. Beim Einsatz von MD-Dampf fällt ND-Dampf an. Der Anfall von ND-Dampf kann in einem anderen Produkt eingesetzt werd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derdruckdamp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5013360"/>
            <a:ext cx="3457800" cy="72072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Herste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3716280"/>
            <a:ext cx="2881440" cy="647640"/>
          </a:xfrm>
          <a:prstGeom prst="flowChartAlternateProcess">
            <a:avLst/>
          </a:prstGeom>
          <a:gradFill rotWithShape="0">
            <a:gsLst>
              <a:gs pos="0">
                <a:srgbClr val="bbe0e3"/>
              </a:gs>
              <a:gs pos="100000">
                <a:srgbClr val="66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&gt; Anfall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2349360"/>
            <a:ext cx="3095640" cy="719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 abbla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23640" y="4005360"/>
            <a:ext cx="647640" cy="11523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356000" y="2924280"/>
            <a:ext cx="2303640" cy="79200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400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3500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69F-8B26-4B3B-82A5-C7DCA7E199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pfbilanz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484280"/>
            <a:ext cx="561672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1844640"/>
            <a:ext cx="1657440" cy="289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2133720"/>
            <a:ext cx="165564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1700280"/>
            <a:ext cx="165564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3141720"/>
            <a:ext cx="5616720" cy="122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3284640"/>
            <a:ext cx="16556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4869000"/>
            <a:ext cx="5616720" cy="1152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5013360"/>
            <a:ext cx="165600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1125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2781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-Dam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5445000"/>
            <a:ext cx="1656000" cy="287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3860640"/>
            <a:ext cx="1655640" cy="287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ra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3573360"/>
            <a:ext cx="1657440" cy="289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5229360"/>
            <a:ext cx="1657080" cy="288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5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den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170028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35772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501336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24210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4221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335-EBE4-492B-93B5-8E8D52157E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PP-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zu jwMengenbilanz 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atzplan und Produktionspl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gemeine Bilanzgleich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FA9-0AFD-47E0-98C0-B294769F89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tere spezielle Bilan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wachsäu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Zukauf von Salpetersäure wird b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ktroenergi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Zukauf wird berechnet aus der fehlenden Meng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erbrauch - Anfal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mentenluf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teilung der Instrumentenluft wird b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üssiger Stickstof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Zukauf wird berech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dg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eingesetzte Erdgas beeinflusst den Preis von Ammoniak. Hier erfolgt eine Bilanz für einen wichtigen Rohstoff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C4A-E0B5-4A46-A935-84EEF69F30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ursivitä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C94-8131-491A-B1DD-EDF8907283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B     10 t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dukt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10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rauch A      10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Jeweils 100 to von A und B sollen verkauft werd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Ein Initialbestand von B  (10 to) sei vorhande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rekursive Stück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771640" y="220500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492360" y="299736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922200" y="1700280"/>
            <a:ext cx="1800" cy="129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1700280"/>
            <a:ext cx="576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AFB-A9B3-427D-B143-2620A7FB1F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147160" cy="3405240"/>
        </p:xfrm>
        <a:graphic>
          <a:graphicData uri="http://schemas.openxmlformats.org/drawingml/2006/table">
            <a:tbl>
              <a:tblPr/>
              <a:tblGrid>
                <a:gridCol w="723960"/>
                <a:gridCol w="1285920"/>
                <a:gridCol w="1498320"/>
                <a:gridCol w="1428840"/>
                <a:gridCol w="1625760"/>
                <a:gridCol w="15843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/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/22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/222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452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45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26920" y="5516640"/>
            <a:ext cx="777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s =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Abs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0,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00360" y="2565360"/>
            <a:ext cx="431640" cy="719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2708280"/>
            <a:ext cx="216000" cy="1152360"/>
          </a:xfrm>
          <a:custGeom>
            <a:avLst/>
            <a:gdLst>
              <a:gd name="textAreaLeft" fmla="*/ 0 w 216000"/>
              <a:gd name="textAreaRight" fmla="*/ 7812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549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durc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20A-A653-420D-99CC-C76D152DE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eration erfolgt also in der Fol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Sekundärbedarf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Produktion </a:t>
            </a:r>
            <a:r>
              <a:rPr b="1" lang="en-US" sz="2200" spc="-1" strike="noStrike">
                <a:solidFill>
                  <a:srgbClr val="6666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Spec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spcAft>
                <a:spcPts val="139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Konvergenzkonstante  Epsil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- 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+  P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d in einer Customizing Table gesetzt.     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 Beispiel  auf 0,00001, also auf 0,001 %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282-B845-453D-A8C8-4901BBFDE8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vergenz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maximale Anzahl der Iterationen wird in einer Customizing Tabelle gesetzt. Sie beträgt gegenwärtig 5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Nichterreichen der Konvergenz wird gemeldet (Monat, Material-Nr., berechnetes Epsilon).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D2A6-6DD1-4686-842E-87B95CD457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 erfolgt in den Schritten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16360" y="2276640"/>
            <a:ext cx="2232000" cy="1871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2349360"/>
            <a:ext cx="223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Be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4581360"/>
            <a:ext cx="2448000" cy="863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479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rg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68360" y="50133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3284640"/>
            <a:ext cx="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284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4365720"/>
            <a:ext cx="792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501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19640" y="4437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616-CA32-40E2-8465-33DB5A26AC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 Monat werden 100 Produkte berechnet. Dafür werden im Durchschnitt 15 Iterationen benöti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 die Bilanz immer für 12 Monate benötigt wird, ergeben sich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 x 15 x 12 = 18.000 Berechnung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fahrungswert 5-7 Min. für 12 Mona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Berechnungszeit sinkt bei Mischversione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1C1-FBEE-450D-AF68-68349C1AAC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s Add-on Mengenbilan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20000"/>
              </a:lnSpc>
              <a:spcBef>
                <a:spcPts val="7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617-1E37-47B2-B5C0-FAB493AE32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nbereitstellung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95280" y="1268280"/>
            <a:ext cx="5614920" cy="1979640"/>
            <a:chOff x="395280" y="1268280"/>
            <a:chExt cx="5614920" cy="19796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rcRect l="0" t="6989" r="57699" b="65955"/>
            <a:stretch/>
          </p:blipFill>
          <p:spPr>
            <a:xfrm>
              <a:off x="395280" y="1268280"/>
              <a:ext cx="561492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 txBox="1"/>
            <p:nvPr/>
          </p:nvSpPr>
          <p:spPr>
            <a:xfrm>
              <a:off x="395280" y="1268280"/>
              <a:ext cx="5614920" cy="19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39640" y="3789360"/>
            <a:ext cx="770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-Daten aktualisieren 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Analysiert alle IST - Buc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0" indent="-30528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daten aktualisiere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tellt alle Plandaten einer   Planversion be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2060640"/>
            <a:ext cx="3313080" cy="288720"/>
          </a:xfrm>
          <a:prstGeom prst="wedgeRoundRectCallout">
            <a:avLst>
              <a:gd name="adj1" fmla="val -60495"/>
              <a:gd name="adj2" fmla="val 670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1989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nz Jahr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2708280"/>
            <a:ext cx="3456000" cy="360360"/>
          </a:xfrm>
          <a:prstGeom prst="wedgeRoundRectCallout">
            <a:avLst>
              <a:gd name="adj1" fmla="val -67777"/>
              <a:gd name="adj2" fmla="val -5749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 auswä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ECD-643A-44F4-9977-A80860DB22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zu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nbilanz ?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Übersicht der exakten Mengenflüsse in einer Zeiteinhe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rücksichtigung von Rekursivitäten und Specials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affung der Voraussetzung zur Ermittlung der exakten Produktkos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7FA-EFDE-4756-8604-DE944D812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000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Ist-Dat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Ax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Plan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Version Cxx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nach Version kann eine Bilanz aus Ist-Daten, Plandaten oder eine gemischte Version aus Ist- und Plandaten erstellt werde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ADC-346A-4A92-892A-2BD74C83C1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ing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2752560"/>
          <a:ext cx="4038480" cy="22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52560"/>
                    <a:ext cx="4038480" cy="22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914400" y="1219320"/>
            <a:ext cx="7112160" cy="598320"/>
            <a:chOff x="914400" y="1219320"/>
            <a:chExt cx="7112160" cy="598320"/>
          </a:xfrm>
        </p:grpSpPr>
        <p:pic>
          <p:nvPicPr>
            <p:cNvPr id="218" name="" descr=""/>
            <p:cNvPicPr/>
            <p:nvPr/>
          </p:nvPicPr>
          <p:blipFill>
            <a:blip r:embed="rId3"/>
            <a:srcRect l="42120" t="10676" r="13253" b="82492"/>
            <a:stretch/>
          </p:blipFill>
          <p:spPr>
            <a:xfrm>
              <a:off x="914400" y="1219320"/>
              <a:ext cx="71121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914400" y="1219320"/>
              <a:ext cx="7112160" cy="5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78000" indent="-37800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4"/>
          <a:srcRect l="19602" t="16686" r="25102" b="38145"/>
          <a:stretch/>
        </p:blipFill>
        <p:spPr>
          <a:xfrm>
            <a:off x="1476360" y="1916280"/>
            <a:ext cx="5923080" cy="3630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47640" y="57340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aktuelle Controlling Bilanz wird erzeug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85B-BADF-4AB6-8D94-B46F4377D7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 / Be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84360" y="1125360"/>
          <a:ext cx="744984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4498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826920" y="4437000"/>
            <a:ext cx="11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4292640"/>
            <a:ext cx="1079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50004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87480" y="2343240"/>
            <a:ext cx="3908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0920" y="24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00815 Dünger 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8D3-AE16-44D0-8249-45975E925D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mplette Mengenübersicht über die Planung aller Produkte (IST - Bilanz, Mischbilanz, Planbilanz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genübersicht über die Special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Medien, Zukauf, Rohstoff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aussetzung für die monatliche Produktkalkul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52F-5754-480B-8C89-F02CDB737B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- und 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lanung gilt für die Mengenbilanz als Voraussetzung,  da man auch Bilanzen für zukünftige Zeiträume betrachten möch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 gibt folgende Möglichkeit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 Standa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ung</a:t>
            </a:r>
            <a:r>
              <a:rPr b="1" lang="en-US" sz="20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90000"/>
              </a:lnSpc>
              <a:spcBef>
                <a:spcPts val="689"/>
              </a:spcBef>
              <a:spcAft>
                <a:spcPts val="550"/>
              </a:spcAft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rne Lösung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chnittstel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005-B8AB-4748-8E41-992671F25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 Produktion für einige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Hauptproduk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rfolgt kontinuierlich nach Kundenaufträgen und Erfahrungswerten. Sie ist planungsintensiv, weil sie abhängig ist von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lagenauslastung (kontinuierlich, möglichst 100%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verflechtu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erbrauch für nachfolgende Produktio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gerkapazitä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ximale Lagerkapazität, Mindestlagerbestand, Mindestlagerze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and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bsatz, Transportwege, Außenlag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lagenkapazität (Wartung, Reparatur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ison (Kundenbedarf) 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den im Excel gepla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F49-E154-4BA6-BB00-E268EF0FE0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zenario einer individuellen Absatz- und Produktions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Produktion 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übrigen  Produkt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t nicht planungsrelevant. Sie erfolgt diskontinuierlich nach Kundenaufträgen und Erfahrungswerte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Produktion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geplanter 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il der Verbrauch der Hauptprodukte an der Gesamtproduktion gering is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Absatz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ird im SAP gepla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075-2B22-42B0-9199-CD315B967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99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s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1197000"/>
            <a:ext cx="7416720" cy="2160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1341360"/>
            <a:ext cx="5977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SAP ist das Master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Daten sind auf einer Datenbank gespeich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e betriebswirtschaftlichen Erfordernisse erfolgen im SAP Standard und/oder individuellen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005360"/>
            <a:ext cx="7489800" cy="2232000"/>
          </a:xfrm>
          <a:prstGeom prst="rect">
            <a:avLst/>
          </a:prstGeom>
          <a:gradFill rotWithShape="0">
            <a:gsLst>
              <a:gs pos="0">
                <a:srgbClr val="bbe0e3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4149720"/>
            <a:ext cx="7416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xcel ist ein Operator zur Bestimmung der Abhängigkeiten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ulation des Absatzes, der Produktion, Störungen, Nebenbedingungen, An- und Abfahrprozesse, Wetter, Erfahrungen, Kopf des Mens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rvorragendes Layout und flexible Zellreferenz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03640" y="3357360"/>
            <a:ext cx="0" cy="6476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3357720"/>
            <a:ext cx="0" cy="6476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50028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Ist-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2637000"/>
            <a:ext cx="2052720" cy="647640"/>
          </a:xfrm>
          <a:prstGeom prst="wedgeRoundRectCallout">
            <a:avLst>
              <a:gd name="adj1" fmla="val -186351"/>
              <a:gd name="adj2" fmla="val 120587"/>
              <a:gd name="adj3" fmla="val 16667"/>
            </a:avLst>
          </a:prstGeom>
          <a:solidFill>
            <a:srgbClr val="e6c0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278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350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Plan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BBE1-7962-454B-B721-4FFFD382B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nittstelle für die Datenbereitstellu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t OLE2 wegen der Zellreferenz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load für Ist-Daten (Exceldatei mit 4 Mappe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 pro Produkt: Tägliche und monatliche Ist-Daten (Produktion, Versand, Sekundärbedarf, Eigenbedarf, Zukauf und Bestan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 pro Produkt, pro Monat: Monatliche Ist-Daten (bis     Monatsabschluss), Plandaten für Rest des Jahres (variabel kumuliert nach 3 Planungshierarchien, Produkt,      Kunde und Kennziffer wie Inland, Export, Erlöse,       Transportweg, …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4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: Ausgewählter Verbrauch von Zwischenproduk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ff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4C7-1AA0-4B6D-9134-F7FE8379D7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26" r="56066" b="10039"/>
          <a:stretch/>
        </p:blipFill>
        <p:spPr>
          <a:xfrm>
            <a:off x="380880" y="0"/>
            <a:ext cx="8229600" cy="61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0D5-5A9B-4130-8AD8-A28C668A1B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6:02:42Z</dcterms:created>
  <dc:creator>PC 01</dc:creator>
  <dc:description/>
  <dc:language>en-US</dc:language>
  <cp:lastModifiedBy>Dr. Jochen Winkler</cp:lastModifiedBy>
  <dcterms:modified xsi:type="dcterms:W3CDTF">2004-01-15T12:00:02Z</dcterms:modified>
  <cp:revision>161</cp:revision>
  <dc:subject/>
  <dc:title>Bernd Mickley  jwConsulting   http:// www.jwconsulting.de</dc:title>
</cp:coreProperties>
</file>